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B21-0BB4-49E8-BACE-6C6C8B77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4DF-8636-4A17-BFD2-ADF1DEAC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2D7-1D47-490F-8204-7912AED5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632-6E5C-419E-8370-0B4CE106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A05AD-8697-4B35-BC59-61D5EE89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90D6F-2F94-416C-8878-23B58923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01CDD-0E75-424A-99BD-BCE32D12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B04A4-AE46-4E12-8C1E-DC1FA7F8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55A21-1C92-4F47-B89A-B2FAF552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33396-D512-4F27-9407-18B93ED0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1907E-E2B8-4506-877D-5B9A63F5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3BC-D119-4F9C-B65E-56D0541E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6F441-9F1A-40CA-A3A3-0AB6CCB9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8978C-32F6-47DA-84A1-31766D73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6EE51-E7BA-4CA9-9B7A-1557213D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0DDA9-0B1A-4342-BE05-55A2CF3E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DC613-8D12-42B3-ADED-98A01E8B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25A-D868-4999-9365-72358204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010-1950-4C46-BA96-89E2BFAF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D56-D9F8-48A0-9686-F8CB1A9A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994-904E-4F9F-ADA8-3C804FDA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11B-8CE1-4A3F-9F05-34B54359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4A7-B702-47ED-A3AC-10B6047B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FFA-6D5D-456A-A8C2-9BED2909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8150-1409-4ECC-A6E9-7B7FBF405C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74E8-04C6-4D0B-881B-47C33626A3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703840" y="5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8960" y="714240"/>
            <a:ext cx="499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Monotype Corsiva"/>
              </a:rPr>
              <a:t>Ministero della Pubblica Istruzi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Monotype Corsiva"/>
              </a:rPr>
              <a:t>Ufficio Scolastico Regionale per la Campan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Monotype Corsiva"/>
              </a:rPr>
              <a:t>Ufficio Scolastico Provinciale di Casert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24415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6400"/>
                <a:tab algn="l" pos="296388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바탕"/>
              </a:rPr>
              <a:t>INAUGURAZIONE  della POLISPOR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9120" y="50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3068640"/>
            <a:ext cx="773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Monotype Corsiva"/>
              </a:rPr>
              <a:t>ENSI APD  DOS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2800" y="588816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Garamond"/>
              </a:rPr>
              <a:t>Caserta, 13 aprile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6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Monotype Corsiva"/>
              </a:rPr>
              <a:t>ENSI VOLONTARIATO NAZIO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440" y="4659480"/>
            <a:ext cx="3309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Monotype Corsiva"/>
              </a:rPr>
              <a:t>I.S.I.S.S. “Don Gnocch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3300"/>
                </a:solidFill>
                <a:latin typeface="Monotype Corsiva"/>
              </a:rPr>
              <a:t>Maddal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5413320"/>
            <a:ext cx="33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Monotype Corsiva"/>
              </a:rPr>
              <a:t>I.T.C. “Carl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3300"/>
                </a:solidFill>
                <a:latin typeface="Monotype Corsiva"/>
              </a:rPr>
              <a:t>Casal di Princi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4520" y="4724280"/>
            <a:ext cx="33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Monotype Corsiva"/>
              </a:rPr>
              <a:t>Liceo Scienti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3300"/>
                </a:solidFill>
                <a:latin typeface="Monotype Corsiva"/>
              </a:rPr>
              <a:t>S.Cipriano d’Aver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687240" cy="79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740720" y="115920"/>
            <a:ext cx="1125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2995560"/>
            <a:ext cx="4752720" cy="1513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man Old Style"/>
              </a:rPr>
              <a:t>Comitato Tecnico Provinc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Bookman Old Style"/>
              </a:rPr>
              <a:t>Educazione alla Sal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1413000"/>
            <a:ext cx="2520720" cy="129528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Angelo Marcuc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Dirigente Te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5086440"/>
            <a:ext cx="2521080" cy="129528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ff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M.Grazia Guar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Referente Provinci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60280"/>
            <a:ext cx="2520720" cy="129564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Giovanni Chir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Psico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117360"/>
            <a:ext cx="2520720" cy="12956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lessandra Malte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Biolo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1989000"/>
            <a:ext cx="2521080" cy="1295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Salvatore Fal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Dirigente Scolas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7640" y="1989000"/>
            <a:ext cx="2521080" cy="12956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Giovanni Mesol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Referente Nuove tecnologi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applicate alla Didat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4078440"/>
            <a:ext cx="2521080" cy="129528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Giuseppe Os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Presidente Naziona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Bookman Old Style"/>
              </a:rPr>
              <a:t>ENSI Volontari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5280" y="4221000"/>
            <a:ext cx="2520720" cy="12956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Consul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lfredo Stel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Socio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4856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481880" y="5621400"/>
            <a:ext cx="12668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0" y="87480"/>
            <a:ext cx="9144000" cy="6770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916760" y="476280"/>
            <a:ext cx="687600" cy="792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4680" y="795240"/>
            <a:ext cx="50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Monotype Corsiva"/>
              </a:rPr>
              <a:t>Ministero della Pubblica Istruzi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Monotype Corsiva"/>
              </a:rPr>
              <a:t>Ufficio Scolastico Regionale per la Campa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Monotype Corsiva"/>
              </a:rPr>
              <a:t>Ufficio Scolastico Provinciale di Caserta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370800" y="220176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993300"/>
                </a:solidFill>
                <a:latin typeface="Monotype Corsiva"/>
              </a:rPr>
              <a:t>Info Point Sportivo</a:t>
            </a:r>
            <a:r>
              <a:rPr b="1" lang="it-IT" sz="3600" spc="-1" strike="noStrike">
                <a:solidFill>
                  <a:srgbClr val="993300"/>
                </a:solidFill>
                <a:latin typeface="Monotype Corsiv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2924280"/>
            <a:ext cx="49849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3300"/>
                </a:solidFill>
                <a:latin typeface="Monotype Corsiva"/>
              </a:rPr>
              <a:t>M.Grazia Guarin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3300"/>
                </a:solidFill>
                <a:latin typeface="Monotype Corsiva"/>
              </a:rPr>
              <a:t>referente Educazione alla Salute U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005360"/>
            <a:ext cx="606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3300"/>
                </a:solidFill>
                <a:latin typeface="Monotype Corsiva"/>
              </a:rPr>
              <a:t>Giuseppe Osc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3300"/>
                </a:solidFill>
                <a:latin typeface="Monotype Corsiva"/>
              </a:rPr>
              <a:t>Presidente nazionale ENSI volontari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75440" y="4005360"/>
            <a:ext cx="498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3300"/>
                </a:solidFill>
                <a:latin typeface="Monotype Corsiva"/>
              </a:rPr>
              <a:t>Giovanni Caiaz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3300"/>
                </a:solidFill>
                <a:latin typeface="Monotype Corsiva"/>
              </a:rPr>
              <a:t>Presidente Provinciale ENSI</a:t>
            </a:r>
            <a:r>
              <a:rPr b="0" lang="it-IT" sz="2400" spc="-1" strike="noStrike">
                <a:solidFill>
                  <a:srgbClr val="993300"/>
                </a:solidFill>
                <a:latin typeface="Harlow Solid Ital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75440" y="2924280"/>
            <a:ext cx="498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3300"/>
                </a:solidFill>
                <a:latin typeface="Monotype Corsiva"/>
              </a:rPr>
              <a:t>Giovanni Mesolella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3300"/>
                </a:solidFill>
                <a:latin typeface="Monotype Corsiva"/>
              </a:rPr>
              <a:t>Web master U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5159520"/>
            <a:ext cx="498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Monotype Corsiva"/>
              </a:rPr>
              <a:t>Anna Dello Buo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Monotype Corsiva"/>
              </a:rPr>
              <a:t>Componente ENSI  provinc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0" y="87480"/>
            <a:ext cx="9144000" cy="677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6:49:31Z</dcterms:created>
  <dc:creator>handicap</dc:creator>
  <dc:description/>
  <dc:language>en-US</dc:language>
  <cp:lastModifiedBy>handicap</cp:lastModifiedBy>
  <dcterms:modified xsi:type="dcterms:W3CDTF">2007-04-12T20:07:45Z</dcterms:modified>
  <cp:revision>9</cp:revision>
  <dc:subject/>
  <dc:title>Diapositiva 1</dc:title>
</cp:coreProperties>
</file>