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99B-0468-4FD5-B7F0-FF287B07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E4C-20B4-4B82-907D-41D3DB6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F9B-5B26-4F79-AC00-596B3915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816-8FEC-48F3-85DE-1779DA9F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5AE-DBD6-4055-BB2B-BFD7A89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8CA-9F78-47DE-8D10-B592F0F7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5E9-D3F1-44E7-8D28-A637E569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6E4-E052-4068-AB89-AD0A4F7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0F3-3EAD-47CB-8A34-4692787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B9D-4CE3-4A5D-8CDE-2C26132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CAE-922B-4F8E-A7E3-DD5CC6D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8F7-F973-41C6-BE34-9F16A1C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C36-04EB-49C5-9DE7-C8A7B9628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7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8120" y="304920"/>
            <a:ext cx="49528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Attenzione!!  Sono arrivate le due emai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8385000">
            <a:off x="2057400" y="9903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869800">
            <a:off x="3428640" y="9903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00200"/>
            <a:ext cx="48006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No?  Allora controlla i tuoi dati: l’email potrebbe essere err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112000">
            <a:off x="5562720" y="52574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943600"/>
            <a:ext cx="373356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o contatta il tutor di rete che ha ricevuto le tue ema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8283600">
            <a:off x="6781320" y="2057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1447920"/>
            <a:ext cx="403848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 porta di accesso all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666880"/>
            <a:ext cx="33530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Cerca/immetti seperi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1834400">
            <a:off x="3581280" y="40384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886200"/>
            <a:ext cx="35053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Raggiungi i materieli di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276720"/>
            <a:ext cx="35053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ntra nei forum provinc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686000">
            <a:off x="3657240" y="3276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9453000">
            <a:off x="3504960" y="25909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0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82800">
            <a:off x="1905120" y="4343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1926800">
            <a:off x="6476760" y="22096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1926800">
            <a:off x="6629040" y="37339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1926800">
            <a:off x="6781320" y="5105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1926800">
            <a:off x="6857640" y="60958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276720"/>
            <a:ext cx="29718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cegli l’opzione che ti intere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9630600">
            <a:off x="3962160" y="1219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609480"/>
            <a:ext cx="358128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inserire i tuoi doc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2344400">
            <a:off x="4647960" y="35812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2344400">
            <a:off x="4723920" y="48769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2344400">
            <a:off x="4800240" y="5943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800600"/>
            <a:ext cx="23623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ispondi alle richieste dei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0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20721600">
            <a:off x="1752480" y="29718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482400">
            <a:off x="2971440" y="45720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9577200">
            <a:off x="5257800" y="57150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05120"/>
            <a:ext cx="23623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ispondi alle richieste dei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0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rot="13321800">
            <a:off x="6400440" y="18288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514600"/>
            <a:ext cx="403848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’Indice dei materiali per A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200400"/>
            <a:ext cx="35812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accedere ai documenti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006600">
            <a:off x="5943600" y="3885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006600">
            <a:off x="4572000" y="3885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3006600">
            <a:off x="3124080" y="3885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006600">
            <a:off x="7162920" y="39621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3006600">
            <a:off x="228600" y="3885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006600">
            <a:off x="1676520" y="3885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0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06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7390200">
            <a:off x="3580920" y="1599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85800"/>
            <a:ext cx="2286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 Aree disponib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048120"/>
            <a:ext cx="29718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 capitoli e i paragra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8793000">
            <a:off x="7620120" y="3962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7390200">
            <a:off x="4800240" y="1599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7390200">
            <a:off x="6019560" y="1599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7390200">
            <a:off x="7238520" y="1599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7390200">
            <a:off x="2437920" y="15998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581280"/>
            <a:ext cx="25905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rticoli ed Archiv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8793000">
            <a:off x="1828800" y="4191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5638680"/>
            <a:ext cx="64771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Scarica i file in formato RTF da leggere fuori ret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0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9287400">
            <a:off x="5105520" y="17524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1600200"/>
            <a:ext cx="213372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itolo dell’A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666880"/>
            <a:ext cx="49532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rticoli e pubblicazioni per approfond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8705400">
            <a:off x="2133720" y="3200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648320"/>
            <a:ext cx="43434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 documenti da scaricare dell’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8705400">
            <a:off x="5181480" y="5334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078800">
            <a:off x="3276360" y="39621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3124080"/>
            <a:ext cx="13716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Link ut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437800">
            <a:off x="6781680" y="3809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0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2954600">
            <a:off x="5181120" y="609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1219320"/>
            <a:ext cx="29718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raggiungere i for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572000"/>
            <a:ext cx="167616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cegliere i forum per l’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854000">
            <a:off x="2819160" y="57150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54000">
            <a:off x="2819160" y="42670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0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8444400">
            <a:off x="7467120" y="27432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2133720"/>
            <a:ext cx="259092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la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regist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5867280"/>
            <a:ext cx="28195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rea propria provincia: Nuovo u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8444400">
            <a:off x="4647960" y="5105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2411000">
            <a:off x="4876560" y="6095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724280"/>
            <a:ext cx="281916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rea altra provincia: Os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10080" y="1600200"/>
            <a:ext cx="3429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Il nostro punto di partenza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8961600">
            <a:off x="7619760" y="2209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867280"/>
            <a:ext cx="2666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Entrare nella Sezione Funzioni obi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099600">
            <a:off x="5181120" y="5943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895480"/>
            <a:ext cx="30477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www.bdp.it/provv.caser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334120"/>
            <a:ext cx="2666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Entrare nella B.D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865400">
            <a:off x="4952520" y="51051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505320"/>
            <a:ext cx="3352680" cy="368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Le informazioni per set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2892800">
            <a:off x="1828800" y="2666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13228200">
            <a:off x="380520" y="12189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04920"/>
            <a:ext cx="281952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l Forum provin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6095880"/>
            <a:ext cx="2895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Il testo del mess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3012800">
            <a:off x="6781680" y="51811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523880"/>
            <a:ext cx="167652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sped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9078800">
            <a:off x="3657240" y="25905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971800"/>
            <a:ext cx="28954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scrivere all’au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1784600">
            <a:off x="4191120" y="14479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676520"/>
            <a:ext cx="25146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replicare al messaggio nel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971800"/>
            <a:ext cx="1600200" cy="6426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 Aree da selezion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3481400">
            <a:off x="304560" y="27432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8143800">
            <a:off x="0" y="16761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04920"/>
            <a:ext cx="3429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spedire un  mess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523880"/>
            <a:ext cx="236196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ezionare l’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1559000">
            <a:off x="7086240" y="2819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429000"/>
            <a:ext cx="29718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inviare un alle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2721800">
            <a:off x="6019560" y="49528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5867280"/>
            <a:ext cx="380988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crivere il testo del messaggio e premere “post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19459800">
            <a:off x="3352680" y="5943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04920"/>
            <a:ext cx="403848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er allegare un  file al mess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6019920"/>
            <a:ext cx="266724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edire il doc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8784600">
            <a:off x="4723920" y="25905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057400"/>
            <a:ext cx="26668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cegliere un’ic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5257800"/>
            <a:ext cx="24382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ezionare i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0238000">
            <a:off x="7238520" y="45716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791320" y="304920"/>
            <a:ext cx="281916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l Forum  Provin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307400">
            <a:off x="5181480" y="35049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429000"/>
            <a:ext cx="18288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…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egli ut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981080"/>
            <a:ext cx="38862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nformazioni utili per 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447920"/>
            <a:ext cx="1600200" cy="6426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 Aree da selezion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8143800">
            <a:off x="838080" y="18284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5334120"/>
            <a:ext cx="1981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…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ei messa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0307400">
            <a:off x="5257800" y="54860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2797400">
            <a:off x="6324120" y="1371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21051600">
            <a:off x="4495320" y="1219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609480"/>
            <a:ext cx="2361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L’accesso al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2346800">
            <a:off x="3276360" y="43430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819520"/>
            <a:ext cx="2362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L’accesso al 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051600">
            <a:off x="4571640" y="34290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105520"/>
            <a:ext cx="3047760" cy="916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Gli aggiornamenti normativi e i riferimenti utili per la 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762120"/>
            <a:ext cx="2590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Per l’accesso di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1784600">
            <a:off x="3809880" y="12952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57000">
            <a:off x="5790960" y="45720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962520"/>
            <a:ext cx="2590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Dopo la regist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962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Per registra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56800">
            <a:off x="1599840" y="4495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8118000">
            <a:off x="1371240" y="25142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828800"/>
            <a:ext cx="2971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Inserendo i propr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54100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Specificando le Aree di competenza e quanto richi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3590400">
            <a:off x="2438280" y="2514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925800">
            <a:off x="4952520" y="25146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05120"/>
            <a:ext cx="2971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e quelli e del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540400">
            <a:off x="3048120" y="50292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2825600">
            <a:off x="1600200" y="40384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4191120"/>
            <a:ext cx="25905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00"/>
                </a:solidFill>
                <a:latin typeface="Comic Sans MS"/>
              </a:rPr>
              <a:t>Attenzione all’emai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814400">
            <a:off x="3505320" y="52578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819520"/>
            <a:ext cx="228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…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in particol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118000">
            <a:off x="6933960" y="350496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5257800"/>
            <a:ext cx="228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Per chiuder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8722800">
            <a:off x="6781680" y="342864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209680"/>
            <a:ext cx="27432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A questo punto non ci resta che controllare i dati inseriti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2666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 …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premere Back se c’è qualche error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3698600">
            <a:off x="304560" y="10666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1048800">
            <a:off x="3733560" y="2819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19810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…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ed inserire la password per abilitare l’accesso al server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486400"/>
            <a:ext cx="5181480" cy="916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Comic Sans MS"/>
              </a:rPr>
              <a:t>Chiama il Responsabile di Rete (Caserta): Prof. Giovanni Mesolella tel. 0823/248268 giovanni.mesolella@tin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419720"/>
            <a:ext cx="33530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ncora qualche proble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719000">
            <a:off x="1523880" y="50292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8721600">
            <a:off x="7238880" y="51055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4648320"/>
            <a:ext cx="3124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ora sì che sono esatti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276720"/>
            <a:ext cx="38102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 dati non sono ancora esat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9013800">
            <a:off x="1828800" y="38862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685800"/>
            <a:ext cx="4724640" cy="785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i siamo: la registrazione è comple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 meno che, controllando 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03:15:41Z</dcterms:created>
  <dc:creator>Mesolella</dc:creator>
  <dc:description/>
  <dc:language>en-US</dc:language>
  <cp:lastModifiedBy>Mesolella</cp:lastModifiedBy>
  <dcterms:modified xsi:type="dcterms:W3CDTF">2001-02-22T21:50:10Z</dcterms:modified>
  <cp:revision>85</cp:revision>
  <dc:subject/>
  <dc:title>Presentazione di PowerPoint</dc:title>
</cp:coreProperties>
</file>