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47F-F33F-431A-926D-446C1D0D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00C-37A8-4395-B67E-BF526B4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AF4-01BC-487C-A508-ABDDF186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7D8-3545-434B-B048-730F051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9CE6-5E3C-489C-8E5D-E965BB4C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685E-D6E4-44AD-8B95-BDF8FD28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450B-A65E-49C7-8857-F7B5B25E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1FF7-2B64-4187-97BC-2579A6A0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BE3-7E27-4D6E-A4FF-B6D31EB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CADF-CD07-4D04-A6D5-971D9A31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F9D-5254-40A1-8574-A473FDC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653-46E6-4869-9BEE-FB51525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BFF-1723-4748-AE32-7ABE9A5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A8F2-7FE5-43EA-A218-BD0C120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3EFB-08E3-4C39-BA47-01289D45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5A4D-87E4-4EFF-9B2B-1C75ACDD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0BC-A27C-4BB6-84B4-05B071A5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041-DE7B-408C-A0ED-72B94FD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FAA-70C3-4D5B-872D-2543E0D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64E-CF51-44BC-A30A-C914493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544-71F6-446A-9165-B945E776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6F9-B6E7-431B-B820-B874A6B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155-2E6F-42CE-ABC2-7C57788B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3C6-55E2-4FE5-BD60-F0EE0B2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824-A6A1-4946-B165-7B51D812CE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0D8-B3DD-40D6-89B4-E3F404E8C8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PPUNT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199280" cy="4794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INTEGRAZIONE DISAB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Facilitazione ed organizzazione di iniziative tese a favorire lo sport integrato attraverso attività adat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mic Sans MS"/>
              </a:rPr>
              <a:t>IMPLEMENTARE LE ORE DI ED. MOTOR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er rafforzare il ruolo fondamentale che “la cultura del sapere motorio assume come prerequisito fondamentale per l’acquisizione di corretti stili di vita e di una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ana e permanent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EDUCAZIONE SPOR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6981840" cy="4937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0"/>
                </a:solidFill>
                <a:latin typeface="Comic Sans MS"/>
              </a:rPr>
              <a:t>ATTIVITA’ CULTURALI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Organizzazione di attività connesse alla sensibilizzazione e diffusione ai vari livelli dei valori fondamentali dello spor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7126200" cy="4794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MBIENTE E TERRITO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iziative ed attività mirate e caratterizzate alla conoscenza ed al rapporto con la natura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Valorizzazione delle specificità del territori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907920"/>
            <a:ext cx="7126200" cy="457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OINVOLGIMENTO FAMIGL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Iniziative volte al coinvolgimento più diretto delle famigli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EDUCARE ALLA LEGALITA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traverso il rispetto delle regole e bandendo la violenza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muovendo lo spirito di sana competizion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vitando fenomeni di fanatismo e di razzism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71ff7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MOZIONE DELLA SCU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ome centro di aggregazione culturale, sociale e civile del terri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CERCANDO LA COLLABOR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l CO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gli EE. 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gli EE. T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lle altre Scuole (re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lle Agenzie di Volontaria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A CHI SONO SVOLTE LE ATTIVITA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l personale della Scuola con competenze specifiche legate all’educazione motoria, fisica e spor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056720" cy="488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Dal docente di Ed. Fisica in servizio all’interno dell’Istituto Comprensi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L BAMBINO AL CEN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dff"/>
                </a:solidFill>
                <a:latin typeface="Comic Sans MS"/>
              </a:rPr>
              <a:t>Il </a:t>
            </a: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BAMBINO</a:t>
            </a:r>
            <a:r>
              <a:rPr b="1" lang="it-IT" sz="3200" spc="-1" strike="noStrike">
                <a:solidFill>
                  <a:srgbClr val="703dff"/>
                </a:solidFill>
                <a:latin typeface="Comic Sans MS"/>
              </a:rPr>
              <a:t> visto nella sua interezza di crescita fisico-motoria, intellettiva, emotiva e sociale </a:t>
            </a: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VA POSTO AL CENTRO DELL’INTERVENTO EDUCATIV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6838920" cy="49370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3) Dal docente di Ed. Fisica di altra Scuola collegata in r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 laureati in Scienze Motorie operanti i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rgani territoriali del CON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Federazioni Sportive, Enti di promozione sportiva, Associazioni sportiv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sperti a contratto presso le Istituzioni scolastich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Per “esperto” si intende persona con specifiche esperienze, professionalità e competenze in ordine alla progettazione, programmazione e realizzazione delle attività ludico-motorie e presportive nell’ambito della Scuola Primar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1371600"/>
            <a:ext cx="18288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re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apac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l’alu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1295280"/>
            <a:ext cx="2895480" cy="16765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oscenze e 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191120"/>
            <a:ext cx="2667240" cy="1295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oscenze e 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alore strumental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191120"/>
            <a:ext cx="19051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apa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4956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457200"/>
            <a:ext cx="17715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des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3124080"/>
            <a:ext cx="337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 la rifor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533412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791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1752480"/>
            <a:ext cx="1981440" cy="60984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ecessità di una continuità progettuale ed organizzativ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13ff13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Studi capillari dell’OMS ci dicono che una serie di patologie, caratteristiche dell’età adulta, stanno aumentando progressivamente negli adolescenti e nei giovan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126200" cy="493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Insufficienza respiratoria, disturbi cardio-circolatori, obesità, stanno progressivamente attaccando fasce d’età sempre più giovani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486560" cy="3929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principale causa di ciò è la sedentarietà, la carenza di movimento, l’ipocines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gue l’alimentazion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199280" cy="4937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4200"/>
                </a:solidFill>
                <a:latin typeface="Comic Sans MS"/>
              </a:rPr>
              <a:t>L’osservazione sistematica dei giovani, del loro stile di vita, delle loro problematiche, dei loro bisogni, ha evidenziato quanto l’E.M.F.S. contribuisca in modo significativo, quando praticata con continuità e con finalità educative, al “ben essere” dei giovan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7054920" cy="50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Ben essere” inteso non solo sotto l’aspetto della tutela dell’integrità fisica e della salute, già di per sé un importante obiettivo, ma anche sotto l’aspetto psicologico, aggregativo, sociale della convivenza civ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50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SA CI CHIEDE,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OLTRE,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L PROGET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1:39Z</dcterms:created>
  <dc:creator>csa educazione fisica</dc:creator>
  <dc:description/>
  <dc:language>en-US</dc:language>
  <cp:lastModifiedBy>csa educazione fisica</cp:lastModifiedBy>
  <dcterms:modified xsi:type="dcterms:W3CDTF">2005-10-19T05:49:25Z</dcterms:modified>
  <cp:revision>15</cp:revision>
  <dc:subject/>
  <dc:title>APPUNTI</dc:title>
</cp:coreProperties>
</file>