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01005-FA94-4C94-BB3F-217FA2E94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6447E-26FC-480C-BA39-71D966519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E2BCC-F864-4340-866A-9521B0972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40862-8ED0-4371-97A2-53C45EAAE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10E90-9D62-4052-8564-92AB4FF53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62796-F1DC-40BB-AD6B-F6244F7EA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DF940-4D3E-495E-A512-D0656AE13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67CB3-5098-441E-8296-B2C603959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3BEE5-CDE6-4B13-9997-1AC96D625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A7071-200F-4027-A381-055FFF8D5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6DEEF-5620-452C-86C9-F60A29DE7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D1DC7-539C-4D75-8B7E-AAA05EE53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E995C-551B-4727-B38F-AF6D81864D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2.wmf"/><Relationship Id="rId4" Type="http://schemas.openxmlformats.org/officeDocument/2006/relationships/hyperlink" Target="file:///tmp/home/.config/libreoffice/4/user/gallery/XILOFONO.WAV" TargetMode="External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5.xm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5.xml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5.xml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tmp/home/.config/libreoffice/4/user/gallery/XILOFONO.WAV" TargetMode="External"/><Relationship Id="rId3" Type="http://schemas.openxmlformats.org/officeDocument/2006/relationships/slide" Target="slide21.xml"/><Relationship Id="rId4" Type="http://schemas.openxmlformats.org/officeDocument/2006/relationships/slide" Target="slide3.xml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5.xml"/><Relationship Id="rId3" Type="http://schemas.openxmlformats.org/officeDocument/2006/relationships/slide" Target="slide16.xml"/><Relationship Id="rId4" Type="http://schemas.openxmlformats.org/officeDocument/2006/relationships/slide" Target="slide17.xml"/><Relationship Id="rId5" Type="http://schemas.openxmlformats.org/officeDocument/2006/relationships/slide" Target="slide18.xml"/><Relationship Id="rId6" Type="http://schemas.openxmlformats.org/officeDocument/2006/relationships/slide" Target="slide18.xml"/><Relationship Id="rId7" Type="http://schemas.openxmlformats.org/officeDocument/2006/relationships/slide" Target="slide19.xml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tmp/home/.config/libreoffice/4/user/gallery/XILOFONO.WAV" TargetMode="External"/><Relationship Id="rId3" Type="http://schemas.openxmlformats.org/officeDocument/2006/relationships/hyperlink" Target="file:///tmp/home/.config/libreoffice/4/user/gallery/XILOFONO.WAV" TargetMode="External"/><Relationship Id="rId4" Type="http://schemas.openxmlformats.org/officeDocument/2006/relationships/slide" Target="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4.xml"/><Relationship Id="rId3" Type="http://schemas.openxmlformats.org/officeDocument/2006/relationships/hyperlink" Target="file:///tmp/home/.config/libreoffice/4/user/gallery/XILOFONO.WAV" TargetMode="External"/><Relationship Id="rId4" Type="http://schemas.openxmlformats.org/officeDocument/2006/relationships/slide" Target="slide3.xml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2.xml"/><Relationship Id="rId3" Type="http://schemas.openxmlformats.org/officeDocument/2006/relationships/slide" Target="slide23.xml"/><Relationship Id="rId4" Type="http://schemas.openxmlformats.org/officeDocument/2006/relationships/slide" Target="slide24.xml"/><Relationship Id="rId5" Type="http://schemas.openxmlformats.org/officeDocument/2006/relationships/slide" Target="slide26.xml"/><Relationship Id="rId6" Type="http://schemas.openxmlformats.org/officeDocument/2006/relationships/slide" Target="slide2.xml"/><Relationship Id="rId7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1.xml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1.xml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1.xml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1.xml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1.xml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1.xml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1.xml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1.xm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4.xml"/><Relationship Id="rId3" Type="http://schemas.openxmlformats.org/officeDocument/2006/relationships/slide" Target="slide21.xml"/><Relationship Id="rId4" Type="http://schemas.openxmlformats.org/officeDocument/2006/relationships/hyperlink" Target="file:///tmp/home/.config/libreoffice/4/user/gallery/XILOFONO.WAV" TargetMode="External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1.xml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1.xml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tmp/home/.config/libreoffice/4/user/gallery/XILOFONO.WAV" TargetMode="Externa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tmp/home/.config/libreoffice/4/user/gallery/XILOFONO.WAV" TargetMode="External"/><Relationship Id="rId3" Type="http://schemas.openxmlformats.org/officeDocument/2006/relationships/hyperlink" Target="file:///tmp/home/.config/libreoffice/4/user/gallery/XILOFONO.WAV" TargetMode="External"/><Relationship Id="rId4" Type="http://schemas.openxmlformats.org/officeDocument/2006/relationships/hyperlink" Target="file:///tmp/home/.config/libreoffice/4/user/gallery/XILOFONO.WAV" TargetMode="External"/><Relationship Id="rId5" Type="http://schemas.openxmlformats.org/officeDocument/2006/relationships/hyperlink" Target="file:///tmp/home/.config/libreoffice/4/user/gallery/XILOFONO.WAV" TargetMode="External"/><Relationship Id="rId6" Type="http://schemas.openxmlformats.org/officeDocument/2006/relationships/hyperlink" Target="file:///tmp/home/.config/libreoffice/4/user/gallery/XILOFONO.WAV" TargetMode="External"/><Relationship Id="rId7" Type="http://schemas.openxmlformats.org/officeDocument/2006/relationships/hyperlink" Target="file:///tmp/home/.config/libreoffice/4/user/gallery/XILOFONO.WAV" TargetMode="External"/><Relationship Id="rId8" Type="http://schemas.openxmlformats.org/officeDocument/2006/relationships/hyperlink" Target="file:///tmp/home/.config/libreoffice/4/user/gallery/XILOFONO.WAV" TargetMode="External"/><Relationship Id="rId9" Type="http://schemas.openxmlformats.org/officeDocument/2006/relationships/slide" Target="slide2.xml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5.xm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5.xm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5.xm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5.xm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4184640" y="442800"/>
          <a:ext cx="738360" cy="8114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84640" y="442800"/>
                    <a:ext cx="738360" cy="81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073160" y="143676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Elephant"/>
              </a:rPr>
              <a:t>MI</a:t>
            </a:r>
            <a:r>
              <a:rPr b="1" lang="en-US" sz="2400" spc="-1" strike="noStrike">
                <a:solidFill>
                  <a:srgbClr val="3333cc"/>
                </a:solidFill>
                <a:latin typeface="Elephant"/>
              </a:rPr>
              <a:t>NISTERO DELLA PUBBLICA ISTRUZI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274760" y="2585880"/>
            <a:ext cx="6603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Arial Black"/>
              </a:rPr>
              <a:t>UFFICIO SCOLASTICO REGIONA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Arial Black"/>
              </a:rPr>
              <a:t>PER LA CAMPA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041480" y="3994200"/>
            <a:ext cx="711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Eras Ultra ITC"/>
              </a:rPr>
              <a:t>Direzione Gener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930320" y="4915080"/>
            <a:ext cx="52833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Piano per l’articolazi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di uffici e funzio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>
            <a:hlinkClick r:id="" action="ppaction://hlinkshowjump?jump=nextslide"/>
          </p:cNvPr>
          <p:cNvSpPr/>
          <p:nvPr/>
        </p:nvSpPr>
        <p:spPr>
          <a:xfrm>
            <a:off x="7315200" y="6572160"/>
            <a:ext cx="812880" cy="228600"/>
          </a:xfrm>
          <a:custGeom>
            <a:avLst/>
            <a:gdLst>
              <a:gd name="textAreaLeft" fmla="*/ 14760 w 812880"/>
              <a:gd name="textAreaRight" fmla="*/ 798120 w 81288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76721" h="21600">
                <a:moveTo>
                  <a:pt x="0" y="0"/>
                </a:moveTo>
                <a:lnTo>
                  <a:pt x="76721" y="0"/>
                </a:lnTo>
                <a:lnTo>
                  <a:pt x="76721" y="21600"/>
                </a:lnTo>
                <a:lnTo>
                  <a:pt x="0" y="21600"/>
                </a:lnTo>
                <a:close/>
              </a:path>
              <a:path fill="lightenLess" w="76721" h="21600">
                <a:moveTo>
                  <a:pt x="0" y="0"/>
                </a:moveTo>
                <a:lnTo>
                  <a:pt x="76721" y="0"/>
                </a:lnTo>
                <a:lnTo>
                  <a:pt x="75321" y="1400"/>
                </a:lnTo>
                <a:lnTo>
                  <a:pt x="1400" y="1400"/>
                </a:lnTo>
                <a:close/>
              </a:path>
              <a:path fill="darken" w="76721" h="21600">
                <a:moveTo>
                  <a:pt x="76721" y="0"/>
                </a:moveTo>
                <a:lnTo>
                  <a:pt x="76721" y="21600"/>
                </a:lnTo>
                <a:lnTo>
                  <a:pt x="75321" y="20200"/>
                </a:lnTo>
                <a:lnTo>
                  <a:pt x="75321" y="1400"/>
                </a:lnTo>
                <a:close/>
              </a:path>
              <a:path fill="darkenLess" w="76721" h="21600">
                <a:moveTo>
                  <a:pt x="767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5321" y="20200"/>
                </a:lnTo>
                <a:close/>
              </a:path>
              <a:path fill="lighten" w="767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6721" h="21600">
                <a:moveTo>
                  <a:pt x="31354" y="3794"/>
                </a:moveTo>
                <a:lnTo>
                  <a:pt x="45367" y="10800"/>
                </a:lnTo>
                <a:lnTo>
                  <a:pt x="3135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84240" y="6246720"/>
            <a:ext cx="2106720" cy="520560"/>
          </a:xfrm>
          <a:prstGeom prst="rect">
            <a:avLst/>
          </a:prstGeom>
          <a:solidFill>
            <a:srgbClr val="66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Elephant"/>
              </a:rPr>
              <a:t>esc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>
            <a:hlinkClick r:id="rId4"/>
          </p:cNvPr>
          <p:cNvSpPr/>
          <p:nvPr/>
        </p:nvSpPr>
        <p:spPr>
          <a:xfrm>
            <a:off x="1819440" y="6243480"/>
            <a:ext cx="1274760" cy="541440"/>
          </a:xfrm>
          <a:custGeom>
            <a:avLst/>
            <a:gdLst>
              <a:gd name="textAreaLeft" fmla="*/ 34920 w 1274760"/>
              <a:gd name="textAreaRight" fmla="*/ 1239840 w 1274760"/>
              <a:gd name="textAreaTop" fmla="*/ 34920 h 541440"/>
              <a:gd name="textAreaBottom" fmla="*/ 506520 h 541440"/>
            </a:gdLst>
            <a:ahLst/>
            <a:rect l="textAreaLeft" t="textAreaTop" r="textAreaRight" b="textAreaBottom"/>
            <a:pathLst>
              <a:path w="50835" h="21600">
                <a:moveTo>
                  <a:pt x="0" y="0"/>
                </a:moveTo>
                <a:lnTo>
                  <a:pt x="50835" y="0"/>
                </a:lnTo>
                <a:lnTo>
                  <a:pt x="50835" y="21600"/>
                </a:lnTo>
                <a:lnTo>
                  <a:pt x="0" y="21600"/>
                </a:lnTo>
                <a:close/>
              </a:path>
              <a:path fill="lightenLess" w="50835" h="21600">
                <a:moveTo>
                  <a:pt x="0" y="0"/>
                </a:moveTo>
                <a:lnTo>
                  <a:pt x="50835" y="0"/>
                </a:lnTo>
                <a:lnTo>
                  <a:pt x="49435" y="1400"/>
                </a:lnTo>
                <a:lnTo>
                  <a:pt x="1400" y="1400"/>
                </a:lnTo>
                <a:close/>
              </a:path>
              <a:path fill="darken" w="50835" h="21600">
                <a:moveTo>
                  <a:pt x="50835" y="0"/>
                </a:moveTo>
                <a:lnTo>
                  <a:pt x="50835" y="21600"/>
                </a:lnTo>
                <a:lnTo>
                  <a:pt x="49435" y="20200"/>
                </a:lnTo>
                <a:lnTo>
                  <a:pt x="49435" y="1400"/>
                </a:lnTo>
                <a:close/>
              </a:path>
              <a:path fill="darkenLess" w="50835" h="21600">
                <a:moveTo>
                  <a:pt x="508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9435" y="20200"/>
                </a:lnTo>
                <a:close/>
              </a:path>
              <a:path fill="lighten" w="508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0835" h="21600">
                <a:moveTo>
                  <a:pt x="28917" y="10800"/>
                </a:moveTo>
                <a:lnTo>
                  <a:pt x="18411" y="17806"/>
                </a:lnTo>
                <a:lnTo>
                  <a:pt x="18411" y="3794"/>
                </a:lnTo>
                <a:close/>
              </a:path>
              <a:path fill="darken" w="50835" h="21600">
                <a:moveTo>
                  <a:pt x="30762" y="3794"/>
                </a:moveTo>
                <a:lnTo>
                  <a:pt x="30762" y="17806"/>
                </a:lnTo>
                <a:lnTo>
                  <a:pt x="32424" y="17806"/>
                </a:lnTo>
                <a:lnTo>
                  <a:pt x="32424" y="3794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ACAEC-C1B2-44A1-97FF-712106AFC86E}" type="slidenum">
              <a:t>1</a:t>
            </a:fld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423720" y="1871640"/>
            <a:ext cx="75186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Organizzazione e Gestione delle Risorse uman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Formazione continua e aggiornamento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Relazioni Sindacali e Contrattazion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Supporto per l’Innovazione. Organizzazione del Lavoro e semplificazione dei procedimenti.</a:t>
            </a:r>
            <a:r>
              <a:rPr b="1" i="1" lang="en-US" sz="20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Servizi di economato, logistici ed infrastrutturali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222200" y="4365720"/>
            <a:ext cx="6705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Monitoraggio dei Servizi della Direzione e valutazione della soddisfazione dell’utenz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117440" y="457200"/>
            <a:ext cx="701064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mic Sans MS"/>
              </a:rPr>
              <a:t>E. AREA GESTIONE RISORSE E SERVIZI DELLA DIREZIONE GENER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mic Sans MS"/>
              </a:rPr>
              <a:t>UFFICIO UN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>
            <a:hlinkClick r:id="" action="ppaction://hlinkshowjump?jump=nextslide"/>
          </p:cNvPr>
          <p:cNvSpPr/>
          <p:nvPr/>
        </p:nvSpPr>
        <p:spPr>
          <a:xfrm>
            <a:off x="7315200" y="6572160"/>
            <a:ext cx="812880" cy="228600"/>
          </a:xfrm>
          <a:custGeom>
            <a:avLst/>
            <a:gdLst>
              <a:gd name="textAreaLeft" fmla="*/ 14760 w 812880"/>
              <a:gd name="textAreaRight" fmla="*/ 798120 w 81288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76721" h="21600">
                <a:moveTo>
                  <a:pt x="0" y="0"/>
                </a:moveTo>
                <a:lnTo>
                  <a:pt x="76721" y="0"/>
                </a:lnTo>
                <a:lnTo>
                  <a:pt x="76721" y="21600"/>
                </a:lnTo>
                <a:lnTo>
                  <a:pt x="0" y="21600"/>
                </a:lnTo>
                <a:close/>
              </a:path>
              <a:path fill="lightenLess" w="76721" h="21600">
                <a:moveTo>
                  <a:pt x="0" y="0"/>
                </a:moveTo>
                <a:lnTo>
                  <a:pt x="76721" y="0"/>
                </a:lnTo>
                <a:lnTo>
                  <a:pt x="75321" y="1400"/>
                </a:lnTo>
                <a:lnTo>
                  <a:pt x="1400" y="1400"/>
                </a:lnTo>
                <a:close/>
              </a:path>
              <a:path fill="darken" w="76721" h="21600">
                <a:moveTo>
                  <a:pt x="76721" y="0"/>
                </a:moveTo>
                <a:lnTo>
                  <a:pt x="76721" y="21600"/>
                </a:lnTo>
                <a:lnTo>
                  <a:pt x="75321" y="20200"/>
                </a:lnTo>
                <a:lnTo>
                  <a:pt x="75321" y="1400"/>
                </a:lnTo>
                <a:close/>
              </a:path>
              <a:path fill="darkenLess" w="76721" h="21600">
                <a:moveTo>
                  <a:pt x="767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5321" y="20200"/>
                </a:lnTo>
                <a:close/>
              </a:path>
              <a:path fill="lighten" w="767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6721" h="21600">
                <a:moveTo>
                  <a:pt x="31354" y="3794"/>
                </a:moveTo>
                <a:lnTo>
                  <a:pt x="45367" y="10800"/>
                </a:lnTo>
                <a:lnTo>
                  <a:pt x="3135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>
            <a:hlinkClick r:id="rId2" action="ppaction://hlinksldjump"/>
          </p:cNvPr>
          <p:cNvSpPr/>
          <p:nvPr/>
        </p:nvSpPr>
        <p:spPr>
          <a:xfrm>
            <a:off x="4025880" y="6559560"/>
            <a:ext cx="1117800" cy="228600"/>
          </a:xfrm>
          <a:custGeom>
            <a:avLst/>
            <a:gdLst>
              <a:gd name="textAreaLeft" fmla="*/ 14760 w 1117800"/>
              <a:gd name="textAreaRight" fmla="*/ 1103040 w 11178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5487" h="21600">
                <a:moveTo>
                  <a:pt x="0" y="0"/>
                </a:moveTo>
                <a:lnTo>
                  <a:pt x="105487" y="0"/>
                </a:lnTo>
                <a:lnTo>
                  <a:pt x="105487" y="21600"/>
                </a:lnTo>
                <a:lnTo>
                  <a:pt x="0" y="21600"/>
                </a:lnTo>
                <a:close/>
              </a:path>
              <a:path fill="lightenLess" w="105487" h="21600">
                <a:moveTo>
                  <a:pt x="0" y="0"/>
                </a:moveTo>
                <a:lnTo>
                  <a:pt x="105487" y="0"/>
                </a:lnTo>
                <a:lnTo>
                  <a:pt x="104087" y="1400"/>
                </a:lnTo>
                <a:lnTo>
                  <a:pt x="1400" y="1400"/>
                </a:lnTo>
                <a:close/>
              </a:path>
              <a:path fill="darken" w="105487" h="21600">
                <a:moveTo>
                  <a:pt x="105487" y="0"/>
                </a:moveTo>
                <a:lnTo>
                  <a:pt x="105487" y="21600"/>
                </a:lnTo>
                <a:lnTo>
                  <a:pt x="104087" y="20200"/>
                </a:lnTo>
                <a:lnTo>
                  <a:pt x="104087" y="1400"/>
                </a:lnTo>
                <a:close/>
              </a:path>
              <a:path fill="darkenLess" w="105487" h="21600">
                <a:moveTo>
                  <a:pt x="1054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4087" y="20200"/>
                </a:lnTo>
                <a:close/>
              </a:path>
              <a:path fill="lighten" w="1054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05487" h="21600">
                <a:moveTo>
                  <a:pt x="45737" y="7493"/>
                </a:moveTo>
                <a:lnTo>
                  <a:pt x="49245" y="7493"/>
                </a:lnTo>
                <a:lnTo>
                  <a:pt x="49245" y="12828"/>
                </a:lnTo>
                <a:cubicBezTo>
                  <a:pt x="49245" y="13751"/>
                  <a:pt x="50045" y="14482"/>
                  <a:pt x="51081" y="14482"/>
                </a:cubicBezTo>
                <a:lnTo>
                  <a:pt x="52743" y="14482"/>
                </a:lnTo>
                <a:cubicBezTo>
                  <a:pt x="53779" y="14482"/>
                  <a:pt x="54580" y="13751"/>
                  <a:pt x="54580" y="12828"/>
                </a:cubicBezTo>
                <a:lnTo>
                  <a:pt x="54580" y="7493"/>
                </a:lnTo>
                <a:lnTo>
                  <a:pt x="52743" y="7493"/>
                </a:lnTo>
                <a:lnTo>
                  <a:pt x="56251" y="3985"/>
                </a:lnTo>
                <a:lnTo>
                  <a:pt x="59924" y="7493"/>
                </a:lnTo>
                <a:lnTo>
                  <a:pt x="58087" y="7493"/>
                </a:lnTo>
                <a:lnTo>
                  <a:pt x="58087" y="12828"/>
                </a:lnTo>
                <a:cubicBezTo>
                  <a:pt x="58087" y="15596"/>
                  <a:pt x="55511" y="18155"/>
                  <a:pt x="52743" y="18155"/>
                </a:cubicBezTo>
                <a:lnTo>
                  <a:pt x="51081" y="18155"/>
                </a:lnTo>
                <a:cubicBezTo>
                  <a:pt x="48313" y="18155"/>
                  <a:pt x="45737" y="15596"/>
                  <a:pt x="45737" y="12828"/>
                </a:cubicBez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>
            <a:hlinkClick r:id="" action="ppaction://hlinkshowjump?jump=previousslide"/>
          </p:cNvPr>
          <p:cNvSpPr/>
          <p:nvPr/>
        </p:nvSpPr>
        <p:spPr>
          <a:xfrm>
            <a:off x="6502320" y="6572160"/>
            <a:ext cx="812880" cy="228600"/>
          </a:xfrm>
          <a:custGeom>
            <a:avLst/>
            <a:gdLst>
              <a:gd name="textAreaLeft" fmla="*/ 14760 w 812880"/>
              <a:gd name="textAreaRight" fmla="*/ 798120 w 81288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76721" h="21600">
                <a:moveTo>
                  <a:pt x="0" y="0"/>
                </a:moveTo>
                <a:lnTo>
                  <a:pt x="76721" y="0"/>
                </a:lnTo>
                <a:lnTo>
                  <a:pt x="76721" y="21600"/>
                </a:lnTo>
                <a:lnTo>
                  <a:pt x="0" y="21600"/>
                </a:lnTo>
                <a:close/>
              </a:path>
              <a:path fill="lightenLess" w="76721" h="21600">
                <a:moveTo>
                  <a:pt x="0" y="0"/>
                </a:moveTo>
                <a:lnTo>
                  <a:pt x="76721" y="0"/>
                </a:lnTo>
                <a:lnTo>
                  <a:pt x="75321" y="1400"/>
                </a:lnTo>
                <a:lnTo>
                  <a:pt x="1400" y="1400"/>
                </a:lnTo>
                <a:close/>
              </a:path>
              <a:path fill="darken" w="76721" h="21600">
                <a:moveTo>
                  <a:pt x="76721" y="0"/>
                </a:moveTo>
                <a:lnTo>
                  <a:pt x="76721" y="21600"/>
                </a:lnTo>
                <a:lnTo>
                  <a:pt x="75321" y="20200"/>
                </a:lnTo>
                <a:lnTo>
                  <a:pt x="75321" y="1400"/>
                </a:lnTo>
                <a:close/>
              </a:path>
              <a:path fill="darkenLess" w="76721" h="21600">
                <a:moveTo>
                  <a:pt x="767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5321" y="20200"/>
                </a:lnTo>
                <a:close/>
              </a:path>
              <a:path fill="lighten" w="767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6721" h="21600">
                <a:moveTo>
                  <a:pt x="31354" y="10800"/>
                </a:moveTo>
                <a:lnTo>
                  <a:pt x="45367" y="3794"/>
                </a:lnTo>
                <a:lnTo>
                  <a:pt x="45367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>
            <a:hlinkClick r:id="" action="ppaction://hlinkshowjump?jump=firstslide"/>
          </p:cNvPr>
          <p:cNvSpPr/>
          <p:nvPr/>
        </p:nvSpPr>
        <p:spPr>
          <a:xfrm>
            <a:off x="1011240" y="6559560"/>
            <a:ext cx="1631880" cy="241200"/>
          </a:xfrm>
          <a:custGeom>
            <a:avLst/>
            <a:gdLst>
              <a:gd name="textAreaLeft" fmla="*/ 15480 w 1631880"/>
              <a:gd name="textAreaRight" fmla="*/ 1616400 w 1631880"/>
              <a:gd name="textAreaTop" fmla="*/ 15480 h 241200"/>
              <a:gd name="textAreaBottom" fmla="*/ 225720 h 241200"/>
            </a:gdLst>
            <a:ahLst/>
            <a:rect l="textAreaLeft" t="textAreaTop" r="textAreaRight" b="textAreaBottom"/>
            <a:pathLst>
              <a:path w="145953" h="21600">
                <a:moveTo>
                  <a:pt x="0" y="0"/>
                </a:moveTo>
                <a:lnTo>
                  <a:pt x="145953" y="0"/>
                </a:lnTo>
                <a:lnTo>
                  <a:pt x="145953" y="21600"/>
                </a:lnTo>
                <a:lnTo>
                  <a:pt x="0" y="21600"/>
                </a:lnTo>
                <a:close/>
              </a:path>
              <a:path fill="lightenLess" w="145953" h="21600">
                <a:moveTo>
                  <a:pt x="0" y="0"/>
                </a:moveTo>
                <a:lnTo>
                  <a:pt x="145953" y="0"/>
                </a:lnTo>
                <a:lnTo>
                  <a:pt x="144553" y="1400"/>
                </a:lnTo>
                <a:lnTo>
                  <a:pt x="1400" y="1400"/>
                </a:lnTo>
                <a:close/>
              </a:path>
              <a:path fill="darken" w="145953" h="21600">
                <a:moveTo>
                  <a:pt x="145953" y="0"/>
                </a:moveTo>
                <a:lnTo>
                  <a:pt x="145953" y="21600"/>
                </a:lnTo>
                <a:lnTo>
                  <a:pt x="144553" y="20200"/>
                </a:lnTo>
                <a:lnTo>
                  <a:pt x="144553" y="1400"/>
                </a:lnTo>
                <a:close/>
              </a:path>
              <a:path fill="darkenLess" w="145953" h="21600">
                <a:moveTo>
                  <a:pt x="1459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44553" y="20200"/>
                </a:lnTo>
                <a:close/>
              </a:path>
              <a:path fill="lighten" w="1459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45953" h="21600">
                <a:moveTo>
                  <a:pt x="72976" y="3837"/>
                </a:moveTo>
                <a:lnTo>
                  <a:pt x="75553" y="6448"/>
                </a:lnTo>
                <a:lnTo>
                  <a:pt x="75553" y="4707"/>
                </a:lnTo>
                <a:lnTo>
                  <a:pt x="77328" y="4707"/>
                </a:lnTo>
                <a:lnTo>
                  <a:pt x="77328" y="8224"/>
                </a:lnTo>
                <a:lnTo>
                  <a:pt x="79939" y="10800"/>
                </a:lnTo>
                <a:lnTo>
                  <a:pt x="78286" y="10800"/>
                </a:lnTo>
                <a:lnTo>
                  <a:pt x="78286" y="17989"/>
                </a:lnTo>
                <a:lnTo>
                  <a:pt x="67667" y="17989"/>
                </a:lnTo>
                <a:lnTo>
                  <a:pt x="67667" y="10800"/>
                </a:lnTo>
                <a:lnTo>
                  <a:pt x="66013" y="10800"/>
                </a:lnTo>
                <a:close/>
              </a:path>
              <a:path fill="darkenLess" w="145953" h="21600">
                <a:moveTo>
                  <a:pt x="75553" y="6448"/>
                </a:moveTo>
                <a:lnTo>
                  <a:pt x="75553" y="4707"/>
                </a:lnTo>
                <a:lnTo>
                  <a:pt x="77328" y="4707"/>
                </a:lnTo>
                <a:lnTo>
                  <a:pt x="77328" y="8224"/>
                </a:lnTo>
                <a:close/>
              </a:path>
              <a:path fill="darkenLess" w="145953" h="21600">
                <a:moveTo>
                  <a:pt x="72054" y="14299"/>
                </a:moveTo>
                <a:lnTo>
                  <a:pt x="73899" y="14299"/>
                </a:lnTo>
                <a:lnTo>
                  <a:pt x="73899" y="17989"/>
                </a:lnTo>
                <a:lnTo>
                  <a:pt x="78286" y="17989"/>
                </a:lnTo>
                <a:lnTo>
                  <a:pt x="78286" y="10800"/>
                </a:lnTo>
                <a:lnTo>
                  <a:pt x="67667" y="10800"/>
                </a:lnTo>
                <a:lnTo>
                  <a:pt x="67667" y="17989"/>
                </a:lnTo>
                <a:lnTo>
                  <a:pt x="72054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42D6F-5AA4-4E17-9268-98B4FD0A8362}" type="slidenum">
              <a:t>10</a:t>
            </a:fld>
          </a:p>
        </p:txBody>
      </p:sp>
    </p:spTree>
  </p:cSld>
  <p:transition>
    <p:pull dir="r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625760" y="457200"/>
            <a:ext cx="5994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mic Sans MS"/>
              </a:rPr>
              <a:t>F. UFFICIO TRASVERSALE DI LIVELLO DIRIGENZIALE NON GENER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576440" y="1730520"/>
            <a:ext cx="5994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Assistenza Legale, Conciliazione, Contenzios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Consulenza contrattuale e legale sulle tematiche di competen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delle Istituzioni Scolastiche.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Times New Roman"/>
              </a:rPr>
              <a:t>Prevenzione e Sicurezza nei luoghi di lavoro, ex legge 626/94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>
            <a:hlinkClick r:id="" action="ppaction://hlinkshowjump?jump=nextslide"/>
          </p:cNvPr>
          <p:cNvSpPr/>
          <p:nvPr/>
        </p:nvSpPr>
        <p:spPr>
          <a:xfrm>
            <a:off x="7315200" y="6572160"/>
            <a:ext cx="812880" cy="228600"/>
          </a:xfrm>
          <a:custGeom>
            <a:avLst/>
            <a:gdLst>
              <a:gd name="textAreaLeft" fmla="*/ 14760 w 812880"/>
              <a:gd name="textAreaRight" fmla="*/ 798120 w 81288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76721" h="21600">
                <a:moveTo>
                  <a:pt x="0" y="0"/>
                </a:moveTo>
                <a:lnTo>
                  <a:pt x="76721" y="0"/>
                </a:lnTo>
                <a:lnTo>
                  <a:pt x="76721" y="21600"/>
                </a:lnTo>
                <a:lnTo>
                  <a:pt x="0" y="21600"/>
                </a:lnTo>
                <a:close/>
              </a:path>
              <a:path fill="lightenLess" w="76721" h="21600">
                <a:moveTo>
                  <a:pt x="0" y="0"/>
                </a:moveTo>
                <a:lnTo>
                  <a:pt x="76721" y="0"/>
                </a:lnTo>
                <a:lnTo>
                  <a:pt x="75321" y="1400"/>
                </a:lnTo>
                <a:lnTo>
                  <a:pt x="1400" y="1400"/>
                </a:lnTo>
                <a:close/>
              </a:path>
              <a:path fill="darken" w="76721" h="21600">
                <a:moveTo>
                  <a:pt x="76721" y="0"/>
                </a:moveTo>
                <a:lnTo>
                  <a:pt x="76721" y="21600"/>
                </a:lnTo>
                <a:lnTo>
                  <a:pt x="75321" y="20200"/>
                </a:lnTo>
                <a:lnTo>
                  <a:pt x="75321" y="1400"/>
                </a:lnTo>
                <a:close/>
              </a:path>
              <a:path fill="darkenLess" w="76721" h="21600">
                <a:moveTo>
                  <a:pt x="767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5321" y="20200"/>
                </a:lnTo>
                <a:close/>
              </a:path>
              <a:path fill="lighten" w="767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6721" h="21600">
                <a:moveTo>
                  <a:pt x="31354" y="3794"/>
                </a:moveTo>
                <a:lnTo>
                  <a:pt x="45367" y="10800"/>
                </a:lnTo>
                <a:lnTo>
                  <a:pt x="3135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>
            <a:hlinkClick r:id="rId2" action="ppaction://hlinksldjump"/>
          </p:cNvPr>
          <p:cNvSpPr/>
          <p:nvPr/>
        </p:nvSpPr>
        <p:spPr>
          <a:xfrm>
            <a:off x="4032360" y="6559560"/>
            <a:ext cx="1117440" cy="228600"/>
          </a:xfrm>
          <a:custGeom>
            <a:avLst/>
            <a:gdLst>
              <a:gd name="textAreaLeft" fmla="*/ 14760 w 1117440"/>
              <a:gd name="textAreaRight" fmla="*/ 1102680 w 11174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5453" h="21600">
                <a:moveTo>
                  <a:pt x="0" y="0"/>
                </a:moveTo>
                <a:lnTo>
                  <a:pt x="105453" y="0"/>
                </a:lnTo>
                <a:lnTo>
                  <a:pt x="105453" y="21600"/>
                </a:lnTo>
                <a:lnTo>
                  <a:pt x="0" y="21600"/>
                </a:lnTo>
                <a:close/>
              </a:path>
              <a:path fill="lightenLess" w="105453" h="21600">
                <a:moveTo>
                  <a:pt x="0" y="0"/>
                </a:moveTo>
                <a:lnTo>
                  <a:pt x="105453" y="0"/>
                </a:lnTo>
                <a:lnTo>
                  <a:pt x="104053" y="1400"/>
                </a:lnTo>
                <a:lnTo>
                  <a:pt x="1400" y="1400"/>
                </a:lnTo>
                <a:close/>
              </a:path>
              <a:path fill="darken" w="105453" h="21600">
                <a:moveTo>
                  <a:pt x="105453" y="0"/>
                </a:moveTo>
                <a:lnTo>
                  <a:pt x="105453" y="21600"/>
                </a:lnTo>
                <a:lnTo>
                  <a:pt x="104053" y="20200"/>
                </a:lnTo>
                <a:lnTo>
                  <a:pt x="104053" y="1400"/>
                </a:lnTo>
                <a:close/>
              </a:path>
              <a:path fill="darkenLess" w="105453" h="21600">
                <a:moveTo>
                  <a:pt x="1054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4053" y="20200"/>
                </a:lnTo>
                <a:close/>
              </a:path>
              <a:path fill="lighten" w="1054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05453" h="21600">
                <a:moveTo>
                  <a:pt x="45720" y="7493"/>
                </a:moveTo>
                <a:lnTo>
                  <a:pt x="49228" y="7493"/>
                </a:lnTo>
                <a:lnTo>
                  <a:pt x="49228" y="12828"/>
                </a:lnTo>
                <a:cubicBezTo>
                  <a:pt x="49228" y="13751"/>
                  <a:pt x="50028" y="14482"/>
                  <a:pt x="51064" y="14482"/>
                </a:cubicBezTo>
                <a:lnTo>
                  <a:pt x="52726" y="14482"/>
                </a:lnTo>
                <a:cubicBezTo>
                  <a:pt x="53762" y="14482"/>
                  <a:pt x="54563" y="13751"/>
                  <a:pt x="54563" y="12828"/>
                </a:cubicBezTo>
                <a:lnTo>
                  <a:pt x="54563" y="7493"/>
                </a:lnTo>
                <a:lnTo>
                  <a:pt x="52726" y="7493"/>
                </a:lnTo>
                <a:lnTo>
                  <a:pt x="56234" y="3985"/>
                </a:lnTo>
                <a:lnTo>
                  <a:pt x="59907" y="7493"/>
                </a:lnTo>
                <a:lnTo>
                  <a:pt x="58070" y="7493"/>
                </a:lnTo>
                <a:lnTo>
                  <a:pt x="58070" y="12828"/>
                </a:lnTo>
                <a:cubicBezTo>
                  <a:pt x="58070" y="15596"/>
                  <a:pt x="55494" y="18155"/>
                  <a:pt x="52726" y="18155"/>
                </a:cubicBezTo>
                <a:lnTo>
                  <a:pt x="51064" y="18155"/>
                </a:lnTo>
                <a:cubicBezTo>
                  <a:pt x="48296" y="18155"/>
                  <a:pt x="45720" y="15596"/>
                  <a:pt x="45720" y="12828"/>
                </a:cubicBez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>
            <a:hlinkClick r:id="" action="ppaction://hlinkshowjump?jump=previousslide"/>
          </p:cNvPr>
          <p:cNvSpPr/>
          <p:nvPr/>
        </p:nvSpPr>
        <p:spPr>
          <a:xfrm>
            <a:off x="6502320" y="6572160"/>
            <a:ext cx="812880" cy="228600"/>
          </a:xfrm>
          <a:custGeom>
            <a:avLst/>
            <a:gdLst>
              <a:gd name="textAreaLeft" fmla="*/ 14760 w 812880"/>
              <a:gd name="textAreaRight" fmla="*/ 798120 w 81288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76721" h="21600">
                <a:moveTo>
                  <a:pt x="0" y="0"/>
                </a:moveTo>
                <a:lnTo>
                  <a:pt x="76721" y="0"/>
                </a:lnTo>
                <a:lnTo>
                  <a:pt x="76721" y="21600"/>
                </a:lnTo>
                <a:lnTo>
                  <a:pt x="0" y="21600"/>
                </a:lnTo>
                <a:close/>
              </a:path>
              <a:path fill="lightenLess" w="76721" h="21600">
                <a:moveTo>
                  <a:pt x="0" y="0"/>
                </a:moveTo>
                <a:lnTo>
                  <a:pt x="76721" y="0"/>
                </a:lnTo>
                <a:lnTo>
                  <a:pt x="75321" y="1400"/>
                </a:lnTo>
                <a:lnTo>
                  <a:pt x="1400" y="1400"/>
                </a:lnTo>
                <a:close/>
              </a:path>
              <a:path fill="darken" w="76721" h="21600">
                <a:moveTo>
                  <a:pt x="76721" y="0"/>
                </a:moveTo>
                <a:lnTo>
                  <a:pt x="76721" y="21600"/>
                </a:lnTo>
                <a:lnTo>
                  <a:pt x="75321" y="20200"/>
                </a:lnTo>
                <a:lnTo>
                  <a:pt x="75321" y="1400"/>
                </a:lnTo>
                <a:close/>
              </a:path>
              <a:path fill="darkenLess" w="76721" h="21600">
                <a:moveTo>
                  <a:pt x="767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5321" y="20200"/>
                </a:lnTo>
                <a:close/>
              </a:path>
              <a:path fill="lighten" w="767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6721" h="21600">
                <a:moveTo>
                  <a:pt x="31354" y="10800"/>
                </a:moveTo>
                <a:lnTo>
                  <a:pt x="45367" y="3794"/>
                </a:lnTo>
                <a:lnTo>
                  <a:pt x="45367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>
            <a:hlinkClick r:id="" action="ppaction://hlinkshowjump?jump=firstslide"/>
          </p:cNvPr>
          <p:cNvSpPr/>
          <p:nvPr/>
        </p:nvSpPr>
        <p:spPr>
          <a:xfrm>
            <a:off x="1011240" y="6559560"/>
            <a:ext cx="1631880" cy="241200"/>
          </a:xfrm>
          <a:custGeom>
            <a:avLst/>
            <a:gdLst>
              <a:gd name="textAreaLeft" fmla="*/ 15480 w 1631880"/>
              <a:gd name="textAreaRight" fmla="*/ 1616400 w 1631880"/>
              <a:gd name="textAreaTop" fmla="*/ 15480 h 241200"/>
              <a:gd name="textAreaBottom" fmla="*/ 225720 h 241200"/>
            </a:gdLst>
            <a:ahLst/>
            <a:rect l="textAreaLeft" t="textAreaTop" r="textAreaRight" b="textAreaBottom"/>
            <a:pathLst>
              <a:path w="145953" h="21600">
                <a:moveTo>
                  <a:pt x="0" y="0"/>
                </a:moveTo>
                <a:lnTo>
                  <a:pt x="145953" y="0"/>
                </a:lnTo>
                <a:lnTo>
                  <a:pt x="145953" y="21600"/>
                </a:lnTo>
                <a:lnTo>
                  <a:pt x="0" y="21600"/>
                </a:lnTo>
                <a:close/>
              </a:path>
              <a:path fill="lightenLess" w="145953" h="21600">
                <a:moveTo>
                  <a:pt x="0" y="0"/>
                </a:moveTo>
                <a:lnTo>
                  <a:pt x="145953" y="0"/>
                </a:lnTo>
                <a:lnTo>
                  <a:pt x="144553" y="1400"/>
                </a:lnTo>
                <a:lnTo>
                  <a:pt x="1400" y="1400"/>
                </a:lnTo>
                <a:close/>
              </a:path>
              <a:path fill="darken" w="145953" h="21600">
                <a:moveTo>
                  <a:pt x="145953" y="0"/>
                </a:moveTo>
                <a:lnTo>
                  <a:pt x="145953" y="21600"/>
                </a:lnTo>
                <a:lnTo>
                  <a:pt x="144553" y="20200"/>
                </a:lnTo>
                <a:lnTo>
                  <a:pt x="144553" y="1400"/>
                </a:lnTo>
                <a:close/>
              </a:path>
              <a:path fill="darkenLess" w="145953" h="21600">
                <a:moveTo>
                  <a:pt x="1459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44553" y="20200"/>
                </a:lnTo>
                <a:close/>
              </a:path>
              <a:path fill="lighten" w="1459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45953" h="21600">
                <a:moveTo>
                  <a:pt x="72976" y="3837"/>
                </a:moveTo>
                <a:lnTo>
                  <a:pt x="75553" y="6448"/>
                </a:lnTo>
                <a:lnTo>
                  <a:pt x="75553" y="4707"/>
                </a:lnTo>
                <a:lnTo>
                  <a:pt x="77328" y="4707"/>
                </a:lnTo>
                <a:lnTo>
                  <a:pt x="77328" y="8224"/>
                </a:lnTo>
                <a:lnTo>
                  <a:pt x="79939" y="10800"/>
                </a:lnTo>
                <a:lnTo>
                  <a:pt x="78286" y="10800"/>
                </a:lnTo>
                <a:lnTo>
                  <a:pt x="78286" y="17989"/>
                </a:lnTo>
                <a:lnTo>
                  <a:pt x="67667" y="17989"/>
                </a:lnTo>
                <a:lnTo>
                  <a:pt x="67667" y="10800"/>
                </a:lnTo>
                <a:lnTo>
                  <a:pt x="66013" y="10800"/>
                </a:lnTo>
                <a:close/>
              </a:path>
              <a:path fill="darkenLess" w="145953" h="21600">
                <a:moveTo>
                  <a:pt x="75553" y="6448"/>
                </a:moveTo>
                <a:lnTo>
                  <a:pt x="75553" y="4707"/>
                </a:lnTo>
                <a:lnTo>
                  <a:pt x="77328" y="4707"/>
                </a:lnTo>
                <a:lnTo>
                  <a:pt x="77328" y="8224"/>
                </a:lnTo>
                <a:close/>
              </a:path>
              <a:path fill="darkenLess" w="145953" h="21600">
                <a:moveTo>
                  <a:pt x="72054" y="14299"/>
                </a:moveTo>
                <a:lnTo>
                  <a:pt x="73899" y="14299"/>
                </a:lnTo>
                <a:lnTo>
                  <a:pt x="73899" y="17989"/>
                </a:lnTo>
                <a:lnTo>
                  <a:pt x="78286" y="17989"/>
                </a:lnTo>
                <a:lnTo>
                  <a:pt x="78286" y="10800"/>
                </a:lnTo>
                <a:lnTo>
                  <a:pt x="67667" y="10800"/>
                </a:lnTo>
                <a:lnTo>
                  <a:pt x="67667" y="17989"/>
                </a:lnTo>
                <a:lnTo>
                  <a:pt x="72054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716B9-6A62-4388-B6E7-D88168DCCC0C}" type="slidenum">
              <a:t>11</a:t>
            </a:fld>
          </a:p>
        </p:txBody>
      </p:sp>
    </p:spTree>
  </p:cSld>
  <p:transition>
    <p:pull dir="r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711360" y="399960"/>
            <a:ext cx="7823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mic Sans MS"/>
              </a:rPr>
              <a:t>G. UFFICI DI STAFF NON DIRIGENZIALI ALLE DIRETTE DIPENDENZE DEL DIRETTORE GENER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012680" y="1828800"/>
            <a:ext cx="711216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3300"/>
                </a:solidFill>
                <a:latin typeface="Times New Roman"/>
              </a:rPr>
              <a:t>1. Ufficio di Segreteria Particolare del Direttore Generale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3300"/>
                </a:solidFill>
                <a:latin typeface="Times New Roman"/>
              </a:rPr>
              <a:t>2. Ufficio di Segreteria della Direzione Generale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3300"/>
                </a:solidFill>
                <a:latin typeface="Times New Roman"/>
              </a:rPr>
              <a:t>3. Ufficio Progetto U.S.R., Coordinamento OO.CC., Rapporti con I.R.R.E., I.N.D.I.R.E., I.N.V.A.S.I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3300"/>
                </a:solidFill>
                <a:latin typeface="Times New Roman"/>
              </a:rPr>
              <a:t>4. Ufficio per la Comunicazione e i Rapporti con il Sistema Informativo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>
            <a:hlinkClick r:id="" action="ppaction://hlinkshowjump?jump=nextslide"/>
          </p:cNvPr>
          <p:cNvSpPr/>
          <p:nvPr/>
        </p:nvSpPr>
        <p:spPr>
          <a:xfrm>
            <a:off x="7315200" y="6572160"/>
            <a:ext cx="812880" cy="228600"/>
          </a:xfrm>
          <a:custGeom>
            <a:avLst/>
            <a:gdLst>
              <a:gd name="textAreaLeft" fmla="*/ 14760 w 812880"/>
              <a:gd name="textAreaRight" fmla="*/ 798120 w 81288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76721" h="21600">
                <a:moveTo>
                  <a:pt x="0" y="0"/>
                </a:moveTo>
                <a:lnTo>
                  <a:pt x="76721" y="0"/>
                </a:lnTo>
                <a:lnTo>
                  <a:pt x="76721" y="21600"/>
                </a:lnTo>
                <a:lnTo>
                  <a:pt x="0" y="21600"/>
                </a:lnTo>
                <a:close/>
              </a:path>
              <a:path fill="lightenLess" w="76721" h="21600">
                <a:moveTo>
                  <a:pt x="0" y="0"/>
                </a:moveTo>
                <a:lnTo>
                  <a:pt x="76721" y="0"/>
                </a:lnTo>
                <a:lnTo>
                  <a:pt x="75321" y="1400"/>
                </a:lnTo>
                <a:lnTo>
                  <a:pt x="1400" y="1400"/>
                </a:lnTo>
                <a:close/>
              </a:path>
              <a:path fill="darken" w="76721" h="21600">
                <a:moveTo>
                  <a:pt x="76721" y="0"/>
                </a:moveTo>
                <a:lnTo>
                  <a:pt x="76721" y="21600"/>
                </a:lnTo>
                <a:lnTo>
                  <a:pt x="75321" y="20200"/>
                </a:lnTo>
                <a:lnTo>
                  <a:pt x="75321" y="1400"/>
                </a:lnTo>
                <a:close/>
              </a:path>
              <a:path fill="darkenLess" w="76721" h="21600">
                <a:moveTo>
                  <a:pt x="767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5321" y="20200"/>
                </a:lnTo>
                <a:close/>
              </a:path>
              <a:path fill="lighten" w="767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6721" h="21600">
                <a:moveTo>
                  <a:pt x="31354" y="3794"/>
                </a:moveTo>
                <a:lnTo>
                  <a:pt x="45367" y="10800"/>
                </a:lnTo>
                <a:lnTo>
                  <a:pt x="3135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>
            <a:hlinkClick r:id="rId2" action="ppaction://hlinksldjump"/>
          </p:cNvPr>
          <p:cNvSpPr/>
          <p:nvPr/>
        </p:nvSpPr>
        <p:spPr>
          <a:xfrm>
            <a:off x="4025880" y="6559560"/>
            <a:ext cx="1117800" cy="228600"/>
          </a:xfrm>
          <a:custGeom>
            <a:avLst/>
            <a:gdLst>
              <a:gd name="textAreaLeft" fmla="*/ 14760 w 1117800"/>
              <a:gd name="textAreaRight" fmla="*/ 1103040 w 11178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5487" h="21600">
                <a:moveTo>
                  <a:pt x="0" y="0"/>
                </a:moveTo>
                <a:lnTo>
                  <a:pt x="105487" y="0"/>
                </a:lnTo>
                <a:lnTo>
                  <a:pt x="105487" y="21600"/>
                </a:lnTo>
                <a:lnTo>
                  <a:pt x="0" y="21600"/>
                </a:lnTo>
                <a:close/>
              </a:path>
              <a:path fill="lightenLess" w="105487" h="21600">
                <a:moveTo>
                  <a:pt x="0" y="0"/>
                </a:moveTo>
                <a:lnTo>
                  <a:pt x="105487" y="0"/>
                </a:lnTo>
                <a:lnTo>
                  <a:pt x="104087" y="1400"/>
                </a:lnTo>
                <a:lnTo>
                  <a:pt x="1400" y="1400"/>
                </a:lnTo>
                <a:close/>
              </a:path>
              <a:path fill="darken" w="105487" h="21600">
                <a:moveTo>
                  <a:pt x="105487" y="0"/>
                </a:moveTo>
                <a:lnTo>
                  <a:pt x="105487" y="21600"/>
                </a:lnTo>
                <a:lnTo>
                  <a:pt x="104087" y="20200"/>
                </a:lnTo>
                <a:lnTo>
                  <a:pt x="104087" y="1400"/>
                </a:lnTo>
                <a:close/>
              </a:path>
              <a:path fill="darkenLess" w="105487" h="21600">
                <a:moveTo>
                  <a:pt x="1054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4087" y="20200"/>
                </a:lnTo>
                <a:close/>
              </a:path>
              <a:path fill="lighten" w="1054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05487" h="21600">
                <a:moveTo>
                  <a:pt x="45737" y="7493"/>
                </a:moveTo>
                <a:lnTo>
                  <a:pt x="49245" y="7493"/>
                </a:lnTo>
                <a:lnTo>
                  <a:pt x="49245" y="12828"/>
                </a:lnTo>
                <a:cubicBezTo>
                  <a:pt x="49245" y="13751"/>
                  <a:pt x="50045" y="14482"/>
                  <a:pt x="51081" y="14482"/>
                </a:cubicBezTo>
                <a:lnTo>
                  <a:pt x="52743" y="14482"/>
                </a:lnTo>
                <a:cubicBezTo>
                  <a:pt x="53779" y="14482"/>
                  <a:pt x="54580" y="13751"/>
                  <a:pt x="54580" y="12828"/>
                </a:cubicBezTo>
                <a:lnTo>
                  <a:pt x="54580" y="7493"/>
                </a:lnTo>
                <a:lnTo>
                  <a:pt x="52743" y="7493"/>
                </a:lnTo>
                <a:lnTo>
                  <a:pt x="56251" y="3985"/>
                </a:lnTo>
                <a:lnTo>
                  <a:pt x="59924" y="7493"/>
                </a:lnTo>
                <a:lnTo>
                  <a:pt x="58087" y="7493"/>
                </a:lnTo>
                <a:lnTo>
                  <a:pt x="58087" y="12828"/>
                </a:lnTo>
                <a:cubicBezTo>
                  <a:pt x="58087" y="15596"/>
                  <a:pt x="55511" y="18155"/>
                  <a:pt x="52743" y="18155"/>
                </a:cubicBezTo>
                <a:lnTo>
                  <a:pt x="51081" y="18155"/>
                </a:lnTo>
                <a:cubicBezTo>
                  <a:pt x="48313" y="18155"/>
                  <a:pt x="45737" y="15596"/>
                  <a:pt x="45737" y="12828"/>
                </a:cubicBez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>
            <a:hlinkClick r:id="" action="ppaction://hlinkshowjump?jump=previousslide"/>
          </p:cNvPr>
          <p:cNvSpPr/>
          <p:nvPr/>
        </p:nvSpPr>
        <p:spPr>
          <a:xfrm>
            <a:off x="6502320" y="6572160"/>
            <a:ext cx="812880" cy="228600"/>
          </a:xfrm>
          <a:custGeom>
            <a:avLst/>
            <a:gdLst>
              <a:gd name="textAreaLeft" fmla="*/ 14760 w 812880"/>
              <a:gd name="textAreaRight" fmla="*/ 798120 w 81288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76721" h="21600">
                <a:moveTo>
                  <a:pt x="0" y="0"/>
                </a:moveTo>
                <a:lnTo>
                  <a:pt x="76721" y="0"/>
                </a:lnTo>
                <a:lnTo>
                  <a:pt x="76721" y="21600"/>
                </a:lnTo>
                <a:lnTo>
                  <a:pt x="0" y="21600"/>
                </a:lnTo>
                <a:close/>
              </a:path>
              <a:path fill="lightenLess" w="76721" h="21600">
                <a:moveTo>
                  <a:pt x="0" y="0"/>
                </a:moveTo>
                <a:lnTo>
                  <a:pt x="76721" y="0"/>
                </a:lnTo>
                <a:lnTo>
                  <a:pt x="75321" y="1400"/>
                </a:lnTo>
                <a:lnTo>
                  <a:pt x="1400" y="1400"/>
                </a:lnTo>
                <a:close/>
              </a:path>
              <a:path fill="darken" w="76721" h="21600">
                <a:moveTo>
                  <a:pt x="76721" y="0"/>
                </a:moveTo>
                <a:lnTo>
                  <a:pt x="76721" y="21600"/>
                </a:lnTo>
                <a:lnTo>
                  <a:pt x="75321" y="20200"/>
                </a:lnTo>
                <a:lnTo>
                  <a:pt x="75321" y="1400"/>
                </a:lnTo>
                <a:close/>
              </a:path>
              <a:path fill="darkenLess" w="76721" h="21600">
                <a:moveTo>
                  <a:pt x="767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5321" y="20200"/>
                </a:lnTo>
                <a:close/>
              </a:path>
              <a:path fill="lighten" w="767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6721" h="21600">
                <a:moveTo>
                  <a:pt x="31354" y="10800"/>
                </a:moveTo>
                <a:lnTo>
                  <a:pt x="45367" y="3794"/>
                </a:lnTo>
                <a:lnTo>
                  <a:pt x="45367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>
            <a:hlinkClick r:id="" action="ppaction://hlinkshowjump?jump=firstslide"/>
          </p:cNvPr>
          <p:cNvSpPr/>
          <p:nvPr/>
        </p:nvSpPr>
        <p:spPr>
          <a:xfrm>
            <a:off x="1011240" y="6559560"/>
            <a:ext cx="1631880" cy="241200"/>
          </a:xfrm>
          <a:custGeom>
            <a:avLst/>
            <a:gdLst>
              <a:gd name="textAreaLeft" fmla="*/ 15480 w 1631880"/>
              <a:gd name="textAreaRight" fmla="*/ 1616400 w 1631880"/>
              <a:gd name="textAreaTop" fmla="*/ 15480 h 241200"/>
              <a:gd name="textAreaBottom" fmla="*/ 225720 h 241200"/>
            </a:gdLst>
            <a:ahLst/>
            <a:rect l="textAreaLeft" t="textAreaTop" r="textAreaRight" b="textAreaBottom"/>
            <a:pathLst>
              <a:path w="145953" h="21600">
                <a:moveTo>
                  <a:pt x="0" y="0"/>
                </a:moveTo>
                <a:lnTo>
                  <a:pt x="145953" y="0"/>
                </a:lnTo>
                <a:lnTo>
                  <a:pt x="145953" y="21600"/>
                </a:lnTo>
                <a:lnTo>
                  <a:pt x="0" y="21600"/>
                </a:lnTo>
                <a:close/>
              </a:path>
              <a:path fill="lightenLess" w="145953" h="21600">
                <a:moveTo>
                  <a:pt x="0" y="0"/>
                </a:moveTo>
                <a:lnTo>
                  <a:pt x="145953" y="0"/>
                </a:lnTo>
                <a:lnTo>
                  <a:pt x="144553" y="1400"/>
                </a:lnTo>
                <a:lnTo>
                  <a:pt x="1400" y="1400"/>
                </a:lnTo>
                <a:close/>
              </a:path>
              <a:path fill="darken" w="145953" h="21600">
                <a:moveTo>
                  <a:pt x="145953" y="0"/>
                </a:moveTo>
                <a:lnTo>
                  <a:pt x="145953" y="21600"/>
                </a:lnTo>
                <a:lnTo>
                  <a:pt x="144553" y="20200"/>
                </a:lnTo>
                <a:lnTo>
                  <a:pt x="144553" y="1400"/>
                </a:lnTo>
                <a:close/>
              </a:path>
              <a:path fill="darkenLess" w="145953" h="21600">
                <a:moveTo>
                  <a:pt x="1459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44553" y="20200"/>
                </a:lnTo>
                <a:close/>
              </a:path>
              <a:path fill="lighten" w="1459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45953" h="21600">
                <a:moveTo>
                  <a:pt x="72976" y="3837"/>
                </a:moveTo>
                <a:lnTo>
                  <a:pt x="75553" y="6448"/>
                </a:lnTo>
                <a:lnTo>
                  <a:pt x="75553" y="4707"/>
                </a:lnTo>
                <a:lnTo>
                  <a:pt x="77328" y="4707"/>
                </a:lnTo>
                <a:lnTo>
                  <a:pt x="77328" y="8224"/>
                </a:lnTo>
                <a:lnTo>
                  <a:pt x="79939" y="10800"/>
                </a:lnTo>
                <a:lnTo>
                  <a:pt x="78286" y="10800"/>
                </a:lnTo>
                <a:lnTo>
                  <a:pt x="78286" y="17989"/>
                </a:lnTo>
                <a:lnTo>
                  <a:pt x="67667" y="17989"/>
                </a:lnTo>
                <a:lnTo>
                  <a:pt x="67667" y="10800"/>
                </a:lnTo>
                <a:lnTo>
                  <a:pt x="66013" y="10800"/>
                </a:lnTo>
                <a:close/>
              </a:path>
              <a:path fill="darkenLess" w="145953" h="21600">
                <a:moveTo>
                  <a:pt x="75553" y="6448"/>
                </a:moveTo>
                <a:lnTo>
                  <a:pt x="75553" y="4707"/>
                </a:lnTo>
                <a:lnTo>
                  <a:pt x="77328" y="4707"/>
                </a:lnTo>
                <a:lnTo>
                  <a:pt x="77328" y="8224"/>
                </a:lnTo>
                <a:close/>
              </a:path>
              <a:path fill="darkenLess" w="145953" h="21600">
                <a:moveTo>
                  <a:pt x="72054" y="14299"/>
                </a:moveTo>
                <a:lnTo>
                  <a:pt x="73899" y="14299"/>
                </a:lnTo>
                <a:lnTo>
                  <a:pt x="73899" y="17989"/>
                </a:lnTo>
                <a:lnTo>
                  <a:pt x="78286" y="17989"/>
                </a:lnTo>
                <a:lnTo>
                  <a:pt x="78286" y="10800"/>
                </a:lnTo>
                <a:lnTo>
                  <a:pt x="67667" y="10800"/>
                </a:lnTo>
                <a:lnTo>
                  <a:pt x="67667" y="17989"/>
                </a:lnTo>
                <a:lnTo>
                  <a:pt x="72054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3AAFE-F791-4F45-A644-4493E2C8066B}" type="slidenum">
              <a:t>12</a:t>
            </a:fld>
          </a:p>
        </p:txBody>
      </p:sp>
    </p:spTree>
  </p:cSld>
  <p:transition>
    <p:pull dir="r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6415200" y="5778360"/>
            <a:ext cx="2616120" cy="62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Agenzi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Territorial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400800" y="5002200"/>
            <a:ext cx="2641680" cy="603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Istituzioni d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territor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380200" y="1422360"/>
            <a:ext cx="1249200" cy="800280"/>
          </a:xfrm>
          <a:prstGeom prst="foldedCorner">
            <a:avLst>
              <a:gd name="adj" fmla="val 12500"/>
            </a:avLst>
          </a:prstGeom>
          <a:noFill/>
          <a:ln w="1260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onsigl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colastic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giona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422360" y="399960"/>
            <a:ext cx="5994360" cy="514440"/>
          </a:xfrm>
          <a:prstGeom prst="foldedCorner">
            <a:avLst>
              <a:gd name="adj" fmla="val 6777"/>
            </a:avLst>
          </a:prstGeom>
          <a:noFill/>
          <a:ln w="1260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MINISTERO DELLA PUBBLICA ISTRUZI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80880" y="3746520"/>
            <a:ext cx="6039000" cy="936720"/>
          </a:xfrm>
          <a:prstGeom prst="cube">
            <a:avLst>
              <a:gd name="adj" fmla="val 22398"/>
            </a:avLst>
          </a:prstGeom>
          <a:noFill/>
          <a:ln w="1260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ISTITUTO  SCOLASTI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55680" y="5268960"/>
            <a:ext cx="2336760" cy="1000080"/>
          </a:xfrm>
          <a:prstGeom prst="roundRect">
            <a:avLst>
              <a:gd name="adj" fmla="val 0"/>
            </a:avLst>
          </a:prstGeom>
          <a:noFill/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altri Istitut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Scolastic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7264440" y="1558800"/>
            <a:ext cx="1790640" cy="674640"/>
          </a:xfrm>
          <a:prstGeom prst="foldedCorner">
            <a:avLst>
              <a:gd name="adj" fmla="val 12500"/>
            </a:avLst>
          </a:prstGeom>
          <a:noFill/>
          <a:ln w="1260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GI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>
            <a:hlinkClick r:id="rId2"/>
          </p:cNvPr>
          <p:cNvSpPr/>
          <p:nvPr/>
        </p:nvSpPr>
        <p:spPr>
          <a:xfrm>
            <a:off x="3828960" y="2698920"/>
            <a:ext cx="2446560" cy="576000"/>
          </a:xfrm>
          <a:custGeom>
            <a:avLst/>
            <a:gdLst>
              <a:gd name="textAreaLeft" fmla="*/ 37080 w 2446560"/>
              <a:gd name="textAreaRight" fmla="*/ 2409480 w 244656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91702" h="21600">
                <a:moveTo>
                  <a:pt x="0" y="0"/>
                </a:moveTo>
                <a:lnTo>
                  <a:pt x="91702" y="0"/>
                </a:lnTo>
                <a:lnTo>
                  <a:pt x="91702" y="21600"/>
                </a:lnTo>
                <a:lnTo>
                  <a:pt x="0" y="21600"/>
                </a:lnTo>
                <a:close/>
              </a:path>
              <a:path fill="lightenLess" w="91702" h="21600">
                <a:moveTo>
                  <a:pt x="0" y="0"/>
                </a:moveTo>
                <a:lnTo>
                  <a:pt x="91702" y="0"/>
                </a:lnTo>
                <a:lnTo>
                  <a:pt x="90302" y="1400"/>
                </a:lnTo>
                <a:lnTo>
                  <a:pt x="1400" y="1400"/>
                </a:lnTo>
                <a:close/>
              </a:path>
              <a:path fill="darken" w="91702" h="21600">
                <a:moveTo>
                  <a:pt x="91702" y="0"/>
                </a:moveTo>
                <a:lnTo>
                  <a:pt x="91702" y="21600"/>
                </a:lnTo>
                <a:lnTo>
                  <a:pt x="90302" y="20200"/>
                </a:lnTo>
                <a:lnTo>
                  <a:pt x="90302" y="1400"/>
                </a:lnTo>
                <a:close/>
              </a:path>
              <a:path fill="darkenLess" w="91702" h="21600">
                <a:moveTo>
                  <a:pt x="917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0302" y="20200"/>
                </a:lnTo>
                <a:close/>
              </a:path>
              <a:path fill="lighten" w="917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Comic Sans MS"/>
              </a:rPr>
              <a:t>C.S.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Comic Sans MS"/>
              </a:rPr>
              <a:t>Centri Servizi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Comic Sans MS"/>
              </a:rPr>
              <a:t>Amministrativ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>
            <a:hlinkClick r:id="rId3" action="ppaction://hlinksldjump"/>
          </p:cNvPr>
          <p:cNvSpPr/>
          <p:nvPr/>
        </p:nvSpPr>
        <p:spPr>
          <a:xfrm>
            <a:off x="76320" y="2692440"/>
            <a:ext cx="2463840" cy="577800"/>
          </a:xfrm>
          <a:custGeom>
            <a:avLst/>
            <a:gdLst>
              <a:gd name="textAreaLeft" fmla="*/ 37440 w 2463840"/>
              <a:gd name="textAreaRight" fmla="*/ 2426400 w 2463840"/>
              <a:gd name="textAreaTop" fmla="*/ 37440 h 577800"/>
              <a:gd name="textAreaBottom" fmla="*/ 540360 h 577800"/>
            </a:gdLst>
            <a:ahLst/>
            <a:rect l="textAreaLeft" t="textAreaTop" r="textAreaRight" b="textAreaBottom"/>
            <a:pathLst>
              <a:path w="92062" h="21600">
                <a:moveTo>
                  <a:pt x="0" y="0"/>
                </a:moveTo>
                <a:lnTo>
                  <a:pt x="92062" y="0"/>
                </a:lnTo>
                <a:lnTo>
                  <a:pt x="92062" y="21600"/>
                </a:lnTo>
                <a:lnTo>
                  <a:pt x="0" y="21600"/>
                </a:lnTo>
                <a:close/>
              </a:path>
              <a:path fill="lightenLess" w="92062" h="21600">
                <a:moveTo>
                  <a:pt x="0" y="0"/>
                </a:moveTo>
                <a:lnTo>
                  <a:pt x="92062" y="0"/>
                </a:lnTo>
                <a:lnTo>
                  <a:pt x="90662" y="1400"/>
                </a:lnTo>
                <a:lnTo>
                  <a:pt x="1400" y="1400"/>
                </a:lnTo>
                <a:close/>
              </a:path>
              <a:path fill="darken" w="92062" h="21600">
                <a:moveTo>
                  <a:pt x="92062" y="0"/>
                </a:moveTo>
                <a:lnTo>
                  <a:pt x="92062" y="21600"/>
                </a:lnTo>
                <a:lnTo>
                  <a:pt x="90662" y="20200"/>
                </a:lnTo>
                <a:lnTo>
                  <a:pt x="90662" y="1400"/>
                </a:lnTo>
                <a:close/>
              </a:path>
              <a:path fill="darkenLess" w="92062" h="21600">
                <a:moveTo>
                  <a:pt x="920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0662" y="20200"/>
                </a:lnTo>
                <a:close/>
              </a:path>
              <a:path fill="lighten" w="920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.S.I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Centri di Servizi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per le II.S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>
            <a:hlinkClick r:id="rId4" action="ppaction://hlinksldjump"/>
          </p:cNvPr>
          <p:cNvSpPr/>
          <p:nvPr/>
        </p:nvSpPr>
        <p:spPr>
          <a:xfrm>
            <a:off x="395280" y="1390680"/>
            <a:ext cx="4616280" cy="857160"/>
          </a:xfrm>
          <a:custGeom>
            <a:avLst/>
            <a:gdLst>
              <a:gd name="textAreaLeft" fmla="*/ 55440 w 4616280"/>
              <a:gd name="textAreaRight" fmla="*/ 4560840 w 4616280"/>
              <a:gd name="textAreaTop" fmla="*/ 55440 h 857160"/>
              <a:gd name="textAreaBottom" fmla="*/ 801720 h 857160"/>
            </a:gdLst>
            <a:ahLst/>
            <a:rect l="textAreaLeft" t="textAreaTop" r="textAreaRight" b="textAreaBottom"/>
            <a:pathLst>
              <a:path w="116288" h="21600">
                <a:moveTo>
                  <a:pt x="0" y="0"/>
                </a:moveTo>
                <a:lnTo>
                  <a:pt x="116288" y="0"/>
                </a:lnTo>
                <a:lnTo>
                  <a:pt x="116288" y="21600"/>
                </a:lnTo>
                <a:lnTo>
                  <a:pt x="0" y="21600"/>
                </a:lnTo>
                <a:close/>
              </a:path>
              <a:path fill="lightenLess" w="116288" h="21600">
                <a:moveTo>
                  <a:pt x="0" y="0"/>
                </a:moveTo>
                <a:lnTo>
                  <a:pt x="116288" y="0"/>
                </a:lnTo>
                <a:lnTo>
                  <a:pt x="114888" y="1400"/>
                </a:lnTo>
                <a:lnTo>
                  <a:pt x="1400" y="1400"/>
                </a:lnTo>
                <a:close/>
              </a:path>
              <a:path fill="darken" w="116288" h="21600">
                <a:moveTo>
                  <a:pt x="116288" y="0"/>
                </a:moveTo>
                <a:lnTo>
                  <a:pt x="116288" y="21600"/>
                </a:lnTo>
                <a:lnTo>
                  <a:pt x="114888" y="20200"/>
                </a:lnTo>
                <a:lnTo>
                  <a:pt x="114888" y="1400"/>
                </a:lnTo>
                <a:close/>
              </a:path>
              <a:path fill="darkenLess" w="116288" h="21600">
                <a:moveTo>
                  <a:pt x="1162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4888" y="20200"/>
                </a:lnTo>
                <a:close/>
              </a:path>
              <a:path fill="lighten" w="1162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UFFICIO SCOLASTICO REGIONA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REZIONE GENERAL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PER LA CAMPAN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>
            <a:hlinkClick r:id="" action="ppaction://hlinkshowjump?jump=nextslide"/>
          </p:cNvPr>
          <p:cNvSpPr/>
          <p:nvPr/>
        </p:nvSpPr>
        <p:spPr>
          <a:xfrm>
            <a:off x="7315200" y="6572160"/>
            <a:ext cx="812880" cy="228600"/>
          </a:xfrm>
          <a:custGeom>
            <a:avLst/>
            <a:gdLst>
              <a:gd name="textAreaLeft" fmla="*/ 14760 w 812880"/>
              <a:gd name="textAreaRight" fmla="*/ 798120 w 81288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76721" h="21600">
                <a:moveTo>
                  <a:pt x="0" y="0"/>
                </a:moveTo>
                <a:lnTo>
                  <a:pt x="76721" y="0"/>
                </a:lnTo>
                <a:lnTo>
                  <a:pt x="76721" y="21600"/>
                </a:lnTo>
                <a:lnTo>
                  <a:pt x="0" y="21600"/>
                </a:lnTo>
                <a:close/>
              </a:path>
              <a:path fill="lightenLess" w="76721" h="21600">
                <a:moveTo>
                  <a:pt x="0" y="0"/>
                </a:moveTo>
                <a:lnTo>
                  <a:pt x="76721" y="0"/>
                </a:lnTo>
                <a:lnTo>
                  <a:pt x="75321" y="1400"/>
                </a:lnTo>
                <a:lnTo>
                  <a:pt x="1400" y="1400"/>
                </a:lnTo>
                <a:close/>
              </a:path>
              <a:path fill="darken" w="76721" h="21600">
                <a:moveTo>
                  <a:pt x="76721" y="0"/>
                </a:moveTo>
                <a:lnTo>
                  <a:pt x="76721" y="21600"/>
                </a:lnTo>
                <a:lnTo>
                  <a:pt x="75321" y="20200"/>
                </a:lnTo>
                <a:lnTo>
                  <a:pt x="75321" y="1400"/>
                </a:lnTo>
                <a:close/>
              </a:path>
              <a:path fill="darkenLess" w="76721" h="21600">
                <a:moveTo>
                  <a:pt x="767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5321" y="20200"/>
                </a:lnTo>
                <a:close/>
              </a:path>
              <a:path fill="lighten" w="767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6721" h="21600">
                <a:moveTo>
                  <a:pt x="31354" y="3794"/>
                </a:moveTo>
                <a:lnTo>
                  <a:pt x="45367" y="10800"/>
                </a:lnTo>
                <a:lnTo>
                  <a:pt x="3135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>
            <a:hlinkClick r:id="" action="ppaction://hlinkshowjump?jump=previousslide"/>
          </p:cNvPr>
          <p:cNvSpPr/>
          <p:nvPr/>
        </p:nvSpPr>
        <p:spPr>
          <a:xfrm>
            <a:off x="6502320" y="6572160"/>
            <a:ext cx="812880" cy="228600"/>
          </a:xfrm>
          <a:custGeom>
            <a:avLst/>
            <a:gdLst>
              <a:gd name="textAreaLeft" fmla="*/ 14760 w 812880"/>
              <a:gd name="textAreaRight" fmla="*/ 798120 w 81288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76721" h="21600">
                <a:moveTo>
                  <a:pt x="0" y="0"/>
                </a:moveTo>
                <a:lnTo>
                  <a:pt x="76721" y="0"/>
                </a:lnTo>
                <a:lnTo>
                  <a:pt x="76721" y="21600"/>
                </a:lnTo>
                <a:lnTo>
                  <a:pt x="0" y="21600"/>
                </a:lnTo>
                <a:close/>
              </a:path>
              <a:path fill="lightenLess" w="76721" h="21600">
                <a:moveTo>
                  <a:pt x="0" y="0"/>
                </a:moveTo>
                <a:lnTo>
                  <a:pt x="76721" y="0"/>
                </a:lnTo>
                <a:lnTo>
                  <a:pt x="75321" y="1400"/>
                </a:lnTo>
                <a:lnTo>
                  <a:pt x="1400" y="1400"/>
                </a:lnTo>
                <a:close/>
              </a:path>
              <a:path fill="darken" w="76721" h="21600">
                <a:moveTo>
                  <a:pt x="76721" y="0"/>
                </a:moveTo>
                <a:lnTo>
                  <a:pt x="76721" y="21600"/>
                </a:lnTo>
                <a:lnTo>
                  <a:pt x="75321" y="20200"/>
                </a:lnTo>
                <a:lnTo>
                  <a:pt x="75321" y="1400"/>
                </a:lnTo>
                <a:close/>
              </a:path>
              <a:path fill="darkenLess" w="76721" h="21600">
                <a:moveTo>
                  <a:pt x="767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5321" y="20200"/>
                </a:lnTo>
                <a:close/>
              </a:path>
              <a:path fill="lighten" w="767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6721" h="21600">
                <a:moveTo>
                  <a:pt x="31354" y="10800"/>
                </a:moveTo>
                <a:lnTo>
                  <a:pt x="45367" y="3794"/>
                </a:lnTo>
                <a:lnTo>
                  <a:pt x="45367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stCxn id="207" idx="0"/>
            <a:endCxn id="200" idx="1"/>
          </p:cNvCxnSpPr>
          <p:nvPr/>
        </p:nvCxnSpPr>
        <p:spPr>
          <a:xfrm>
            <a:off x="4957560" y="1819440"/>
            <a:ext cx="423000" cy="360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211" name=""/>
          <p:cNvCxnSpPr>
            <a:stCxn id="202" idx="3"/>
            <a:endCxn id="199" idx="1"/>
          </p:cNvCxnSpPr>
          <p:nvPr/>
        </p:nvCxnSpPr>
        <p:spPr>
          <a:xfrm flipH="1" rot="16200000">
            <a:off x="4537080" y="3440880"/>
            <a:ext cx="621000" cy="3105720"/>
          </a:xfrm>
          <a:prstGeom prst="bentConnector2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212" name=""/>
          <p:cNvCxnSpPr>
            <a:stCxn id="198" idx="1"/>
            <a:endCxn id="202" idx="3"/>
          </p:cNvCxnSpPr>
          <p:nvPr/>
        </p:nvCxnSpPr>
        <p:spPr>
          <a:xfrm rot="10800000">
            <a:off x="3295080" y="4682520"/>
            <a:ext cx="3120120" cy="1410480"/>
          </a:xfrm>
          <a:prstGeom prst="bentConnector2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213" name=""/>
          <p:cNvCxnSpPr>
            <a:stCxn id="203" idx="0"/>
            <a:endCxn id="202" idx="3"/>
          </p:cNvCxnSpPr>
          <p:nvPr/>
        </p:nvCxnSpPr>
        <p:spPr>
          <a:xfrm flipH="1" flipV="1" rot="5400000">
            <a:off x="2116800" y="4089600"/>
            <a:ext cx="586440" cy="1772640"/>
          </a:xfrm>
          <a:prstGeom prst="bentConnector3">
            <a:avLst>
              <a:gd name="adj1" fmla="val 49815"/>
            </a:avLst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214" name=""/>
          <p:cNvCxnSpPr>
            <a:stCxn id="205" idx="0"/>
            <a:endCxn id="202" idx="0"/>
          </p:cNvCxnSpPr>
          <p:nvPr/>
        </p:nvCxnSpPr>
        <p:spPr>
          <a:xfrm rot="5400000">
            <a:off x="4042440" y="2736720"/>
            <a:ext cx="472320" cy="1548360"/>
          </a:xfrm>
          <a:prstGeom prst="bentConnector3">
            <a:avLst>
              <a:gd name="adj1" fmla="val 49809"/>
            </a:avLst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215" name=""/>
          <p:cNvCxnSpPr>
            <a:stCxn id="206" idx="0"/>
            <a:endCxn id="202" idx="0"/>
          </p:cNvCxnSpPr>
          <p:nvPr/>
        </p:nvCxnSpPr>
        <p:spPr>
          <a:xfrm flipH="1" rot="16200000">
            <a:off x="2167560" y="2409480"/>
            <a:ext cx="477000" cy="2197800"/>
          </a:xfrm>
          <a:prstGeom prst="bentConnector3">
            <a:avLst>
              <a:gd name="adj1" fmla="val 50000"/>
            </a:avLst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216" name=""/>
          <p:cNvCxnSpPr>
            <a:stCxn id="201" idx="2"/>
            <a:endCxn id="207" idx="1"/>
          </p:cNvCxnSpPr>
          <p:nvPr/>
        </p:nvCxnSpPr>
        <p:spPr>
          <a:xfrm rot="5400000">
            <a:off x="3322800" y="294120"/>
            <a:ext cx="477000" cy="1716840"/>
          </a:xfrm>
          <a:prstGeom prst="bentConnector3">
            <a:avLst>
              <a:gd name="adj1" fmla="val 50000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7" name=""/>
          <p:cNvSpPr/>
          <p:nvPr/>
        </p:nvSpPr>
        <p:spPr>
          <a:xfrm>
            <a:off x="7270920" y="2587680"/>
            <a:ext cx="1790640" cy="674640"/>
          </a:xfrm>
          <a:prstGeom prst="foldedCorner">
            <a:avLst>
              <a:gd name="adj" fmla="val 12500"/>
            </a:avLst>
          </a:prstGeom>
          <a:noFill/>
          <a:ln w="1260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PROVINC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264440" y="3633840"/>
            <a:ext cx="1790640" cy="674640"/>
          </a:xfrm>
          <a:prstGeom prst="foldedCorner">
            <a:avLst>
              <a:gd name="adj" fmla="val 12500"/>
            </a:avLst>
          </a:prstGeom>
          <a:noFill/>
          <a:ln w="1260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UTONOMI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OCAL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00" idx="3"/>
            <a:endCxn id="204" idx="1"/>
          </p:cNvCxnSpPr>
          <p:nvPr/>
        </p:nvCxnSpPr>
        <p:spPr>
          <a:xfrm>
            <a:off x="6629400" y="1822320"/>
            <a:ext cx="635760" cy="75600"/>
          </a:xfrm>
          <a:prstGeom prst="bentConnector3">
            <a:avLst>
              <a:gd name="adj1" fmla="val 49971"/>
            </a:avLst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220" name=""/>
          <p:cNvCxnSpPr>
            <a:stCxn id="200" idx="3"/>
            <a:endCxn id="217" idx="1"/>
          </p:cNvCxnSpPr>
          <p:nvPr/>
        </p:nvCxnSpPr>
        <p:spPr>
          <a:xfrm>
            <a:off x="6629400" y="1821960"/>
            <a:ext cx="642240" cy="1104120"/>
          </a:xfrm>
          <a:prstGeom prst="bentConnector3">
            <a:avLst>
              <a:gd name="adj1" fmla="val 49971"/>
            </a:avLst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221" name=""/>
          <p:cNvCxnSpPr>
            <a:stCxn id="218" idx="1"/>
            <a:endCxn id="200" idx="3"/>
          </p:cNvCxnSpPr>
          <p:nvPr/>
        </p:nvCxnSpPr>
        <p:spPr>
          <a:xfrm rot="10800000">
            <a:off x="6628680" y="1821600"/>
            <a:ext cx="635760" cy="2150280"/>
          </a:xfrm>
          <a:prstGeom prst="bentConnector3">
            <a:avLst>
              <a:gd name="adj1" fmla="val 49971"/>
            </a:avLst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222" name=""/>
          <p:cNvCxnSpPr>
            <a:stCxn id="207" idx="2"/>
            <a:endCxn id="202" idx="0"/>
          </p:cNvCxnSpPr>
          <p:nvPr/>
        </p:nvCxnSpPr>
        <p:spPr>
          <a:xfrm>
            <a:off x="2703240" y="2247480"/>
            <a:ext cx="802440" cy="149940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3" name=""/>
          <p:cNvCxnSpPr>
            <a:stCxn id="207" idx="3"/>
            <a:endCxn id="205" idx="1"/>
          </p:cNvCxnSpPr>
          <p:nvPr/>
        </p:nvCxnSpPr>
        <p:spPr>
          <a:xfrm flipH="1" rot="16200000">
            <a:off x="3652560" y="1298520"/>
            <a:ext cx="451800" cy="2349720"/>
          </a:xfrm>
          <a:prstGeom prst="bentConnector3">
            <a:avLst>
              <a:gd name="adj1" fmla="val 50000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4" name=""/>
          <p:cNvCxnSpPr>
            <a:stCxn id="207" idx="4"/>
            <a:endCxn id="206" idx="1"/>
          </p:cNvCxnSpPr>
          <p:nvPr/>
        </p:nvCxnSpPr>
        <p:spPr>
          <a:xfrm rot="5400000">
            <a:off x="1783440" y="1772280"/>
            <a:ext cx="445320" cy="1395720"/>
          </a:xfrm>
          <a:prstGeom prst="bentConnector3">
            <a:avLst>
              <a:gd name="adj1" fmla="val 50000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5" name=""/>
          <p:cNvCxnSpPr>
            <a:stCxn id="205" idx="2"/>
          </p:cNvCxnSpPr>
          <p:nvPr/>
        </p:nvCxnSpPr>
        <p:spPr>
          <a:xfrm>
            <a:off x="6275520" y="2987280"/>
            <a:ext cx="504000" cy="396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sp>
        <p:nvSpPr>
          <p:cNvPr id="226" name="">
            <a:hlinkClick r:id="" action="ppaction://hlinkshowjump?jump=firstslide"/>
          </p:cNvPr>
          <p:cNvSpPr/>
          <p:nvPr/>
        </p:nvSpPr>
        <p:spPr>
          <a:xfrm>
            <a:off x="1011240" y="6559560"/>
            <a:ext cx="1631880" cy="241200"/>
          </a:xfrm>
          <a:custGeom>
            <a:avLst/>
            <a:gdLst>
              <a:gd name="textAreaLeft" fmla="*/ 15480 w 1631880"/>
              <a:gd name="textAreaRight" fmla="*/ 1616400 w 1631880"/>
              <a:gd name="textAreaTop" fmla="*/ 15480 h 241200"/>
              <a:gd name="textAreaBottom" fmla="*/ 225720 h 241200"/>
            </a:gdLst>
            <a:ahLst/>
            <a:rect l="textAreaLeft" t="textAreaTop" r="textAreaRight" b="textAreaBottom"/>
            <a:pathLst>
              <a:path w="145953" h="21600">
                <a:moveTo>
                  <a:pt x="0" y="0"/>
                </a:moveTo>
                <a:lnTo>
                  <a:pt x="145953" y="0"/>
                </a:lnTo>
                <a:lnTo>
                  <a:pt x="145953" y="21600"/>
                </a:lnTo>
                <a:lnTo>
                  <a:pt x="0" y="21600"/>
                </a:lnTo>
                <a:close/>
              </a:path>
              <a:path fill="lightenLess" w="145953" h="21600">
                <a:moveTo>
                  <a:pt x="0" y="0"/>
                </a:moveTo>
                <a:lnTo>
                  <a:pt x="145953" y="0"/>
                </a:lnTo>
                <a:lnTo>
                  <a:pt x="144553" y="1400"/>
                </a:lnTo>
                <a:lnTo>
                  <a:pt x="1400" y="1400"/>
                </a:lnTo>
                <a:close/>
              </a:path>
              <a:path fill="darken" w="145953" h="21600">
                <a:moveTo>
                  <a:pt x="145953" y="0"/>
                </a:moveTo>
                <a:lnTo>
                  <a:pt x="145953" y="21600"/>
                </a:lnTo>
                <a:lnTo>
                  <a:pt x="144553" y="20200"/>
                </a:lnTo>
                <a:lnTo>
                  <a:pt x="144553" y="1400"/>
                </a:lnTo>
                <a:close/>
              </a:path>
              <a:path fill="darkenLess" w="145953" h="21600">
                <a:moveTo>
                  <a:pt x="1459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44553" y="20200"/>
                </a:lnTo>
                <a:close/>
              </a:path>
              <a:path fill="lighten" w="1459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45953" h="21600">
                <a:moveTo>
                  <a:pt x="72976" y="3837"/>
                </a:moveTo>
                <a:lnTo>
                  <a:pt x="75553" y="6448"/>
                </a:lnTo>
                <a:lnTo>
                  <a:pt x="75553" y="4707"/>
                </a:lnTo>
                <a:lnTo>
                  <a:pt x="77328" y="4707"/>
                </a:lnTo>
                <a:lnTo>
                  <a:pt x="77328" y="8224"/>
                </a:lnTo>
                <a:lnTo>
                  <a:pt x="79939" y="10800"/>
                </a:lnTo>
                <a:lnTo>
                  <a:pt x="78286" y="10800"/>
                </a:lnTo>
                <a:lnTo>
                  <a:pt x="78286" y="17989"/>
                </a:lnTo>
                <a:lnTo>
                  <a:pt x="67667" y="17989"/>
                </a:lnTo>
                <a:lnTo>
                  <a:pt x="67667" y="10800"/>
                </a:lnTo>
                <a:lnTo>
                  <a:pt x="66013" y="10800"/>
                </a:lnTo>
                <a:close/>
              </a:path>
              <a:path fill="darkenLess" w="145953" h="21600">
                <a:moveTo>
                  <a:pt x="75553" y="6448"/>
                </a:moveTo>
                <a:lnTo>
                  <a:pt x="75553" y="4707"/>
                </a:lnTo>
                <a:lnTo>
                  <a:pt x="77328" y="4707"/>
                </a:lnTo>
                <a:lnTo>
                  <a:pt x="77328" y="8224"/>
                </a:lnTo>
                <a:close/>
              </a:path>
              <a:path fill="darkenLess" w="145953" h="21600">
                <a:moveTo>
                  <a:pt x="72054" y="14299"/>
                </a:moveTo>
                <a:lnTo>
                  <a:pt x="73899" y="14299"/>
                </a:lnTo>
                <a:lnTo>
                  <a:pt x="73899" y="17989"/>
                </a:lnTo>
                <a:lnTo>
                  <a:pt x="78286" y="17989"/>
                </a:lnTo>
                <a:lnTo>
                  <a:pt x="78286" y="10800"/>
                </a:lnTo>
                <a:lnTo>
                  <a:pt x="67667" y="10800"/>
                </a:lnTo>
                <a:lnTo>
                  <a:pt x="67667" y="17989"/>
                </a:lnTo>
                <a:lnTo>
                  <a:pt x="72054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87F40-572E-4BEF-9E0D-E120CA3F9D51}" type="slidenum">
              <a:t>13</a:t>
            </a:fld>
          </a:p>
        </p:txBody>
      </p:sp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1523880" y="398520"/>
            <a:ext cx="6151680" cy="1428840"/>
          </a:xfrm>
          <a:prstGeom prst="foldedCorner">
            <a:avLst>
              <a:gd name="adj" fmla="val 15671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CENTRI SERVIZ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AMMINISTRATIV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352680" y="1150920"/>
            <a:ext cx="243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Comic Sans MS"/>
              </a:rPr>
              <a:t>C.S.A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52600" y="2228760"/>
            <a:ext cx="8026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Presenza dell’Amministrazione sul territorio e facilitazione dell’accesso ai servizi di competenza istituziona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219320" y="4140360"/>
            <a:ext cx="2946240" cy="577080"/>
          </a:xfrm>
          <a:prstGeom prst="rect">
            <a:avLst/>
          </a:prstGeom>
          <a:solidFill>
            <a:srgbClr val="008000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Comic Sans MS"/>
                <a:hlinkClick r:id="rId2" action="ppaction://hlinksldjump"/>
              </a:rPr>
              <a:t>AVELLI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673520" y="4140360"/>
            <a:ext cx="3353040" cy="577080"/>
          </a:xfrm>
          <a:prstGeom prst="rect">
            <a:avLst/>
          </a:prstGeom>
          <a:solidFill>
            <a:srgbClr val="008000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Comic Sans MS"/>
                <a:hlinkClick r:id="rId3" action="ppaction://hlinksldjump"/>
              </a:rPr>
              <a:t>BENEV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149640" y="4888080"/>
            <a:ext cx="2641680" cy="577080"/>
          </a:xfrm>
          <a:prstGeom prst="rect">
            <a:avLst/>
          </a:prstGeom>
          <a:solidFill>
            <a:srgbClr val="008000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Comic Sans MS"/>
                <a:hlinkClick r:id="rId4" action="ppaction://hlinksldjump"/>
              </a:rPr>
              <a:t>CASER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>
            <a:hlinkClick r:id="rId5" action="ppaction://hlinksldjump"/>
          </p:cNvPr>
          <p:cNvSpPr/>
          <p:nvPr/>
        </p:nvSpPr>
        <p:spPr>
          <a:xfrm>
            <a:off x="1219320" y="5600880"/>
            <a:ext cx="2844720" cy="577080"/>
          </a:xfrm>
          <a:prstGeom prst="rect">
            <a:avLst/>
          </a:prstGeom>
          <a:solidFill>
            <a:srgbClr val="008000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Comic Sans MS"/>
                <a:hlinkClick r:id="rId6" action="ppaction://hlinksldjump"/>
              </a:rPr>
              <a:t>NAPOL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673520" y="5600880"/>
            <a:ext cx="3353040" cy="577080"/>
          </a:xfrm>
          <a:prstGeom prst="rect">
            <a:avLst/>
          </a:prstGeom>
          <a:solidFill>
            <a:srgbClr val="008000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Comic Sans MS"/>
                <a:hlinkClick r:id="rId7" action="ppaction://hlinksldjump"/>
              </a:rPr>
              <a:t>SALER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003480" y="3560760"/>
            <a:ext cx="31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n° 14 Centr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>
            <a:hlinkClick r:id="" action="ppaction://hlinkshowjump?jump=nextslide"/>
          </p:cNvPr>
          <p:cNvSpPr/>
          <p:nvPr/>
        </p:nvSpPr>
        <p:spPr>
          <a:xfrm>
            <a:off x="7315200" y="6572160"/>
            <a:ext cx="812880" cy="228600"/>
          </a:xfrm>
          <a:custGeom>
            <a:avLst/>
            <a:gdLst>
              <a:gd name="textAreaLeft" fmla="*/ 14760 w 812880"/>
              <a:gd name="textAreaRight" fmla="*/ 798120 w 81288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76721" h="21600">
                <a:moveTo>
                  <a:pt x="0" y="0"/>
                </a:moveTo>
                <a:lnTo>
                  <a:pt x="76721" y="0"/>
                </a:lnTo>
                <a:lnTo>
                  <a:pt x="76721" y="21600"/>
                </a:lnTo>
                <a:lnTo>
                  <a:pt x="0" y="21600"/>
                </a:lnTo>
                <a:close/>
              </a:path>
              <a:path fill="lightenLess" w="76721" h="21600">
                <a:moveTo>
                  <a:pt x="0" y="0"/>
                </a:moveTo>
                <a:lnTo>
                  <a:pt x="76721" y="0"/>
                </a:lnTo>
                <a:lnTo>
                  <a:pt x="75321" y="1400"/>
                </a:lnTo>
                <a:lnTo>
                  <a:pt x="1400" y="1400"/>
                </a:lnTo>
                <a:close/>
              </a:path>
              <a:path fill="darken" w="76721" h="21600">
                <a:moveTo>
                  <a:pt x="76721" y="0"/>
                </a:moveTo>
                <a:lnTo>
                  <a:pt x="76721" y="21600"/>
                </a:lnTo>
                <a:lnTo>
                  <a:pt x="75321" y="20200"/>
                </a:lnTo>
                <a:lnTo>
                  <a:pt x="75321" y="1400"/>
                </a:lnTo>
                <a:close/>
              </a:path>
              <a:path fill="darkenLess" w="76721" h="21600">
                <a:moveTo>
                  <a:pt x="767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5321" y="20200"/>
                </a:lnTo>
                <a:close/>
              </a:path>
              <a:path fill="lighten" w="767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6721" h="21600">
                <a:moveTo>
                  <a:pt x="31354" y="3794"/>
                </a:moveTo>
                <a:lnTo>
                  <a:pt x="45367" y="10800"/>
                </a:lnTo>
                <a:lnTo>
                  <a:pt x="3135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>
            <a:hlinkClick r:id="" action="ppaction://hlinkshowjump?jump=previousslide"/>
          </p:cNvPr>
          <p:cNvSpPr/>
          <p:nvPr/>
        </p:nvSpPr>
        <p:spPr>
          <a:xfrm>
            <a:off x="6502320" y="6572160"/>
            <a:ext cx="812880" cy="228600"/>
          </a:xfrm>
          <a:custGeom>
            <a:avLst/>
            <a:gdLst>
              <a:gd name="textAreaLeft" fmla="*/ 14760 w 812880"/>
              <a:gd name="textAreaRight" fmla="*/ 798120 w 81288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76721" h="21600">
                <a:moveTo>
                  <a:pt x="0" y="0"/>
                </a:moveTo>
                <a:lnTo>
                  <a:pt x="76721" y="0"/>
                </a:lnTo>
                <a:lnTo>
                  <a:pt x="76721" y="21600"/>
                </a:lnTo>
                <a:lnTo>
                  <a:pt x="0" y="21600"/>
                </a:lnTo>
                <a:close/>
              </a:path>
              <a:path fill="lightenLess" w="76721" h="21600">
                <a:moveTo>
                  <a:pt x="0" y="0"/>
                </a:moveTo>
                <a:lnTo>
                  <a:pt x="76721" y="0"/>
                </a:lnTo>
                <a:lnTo>
                  <a:pt x="75321" y="1400"/>
                </a:lnTo>
                <a:lnTo>
                  <a:pt x="1400" y="1400"/>
                </a:lnTo>
                <a:close/>
              </a:path>
              <a:path fill="darken" w="76721" h="21600">
                <a:moveTo>
                  <a:pt x="76721" y="0"/>
                </a:moveTo>
                <a:lnTo>
                  <a:pt x="76721" y="21600"/>
                </a:lnTo>
                <a:lnTo>
                  <a:pt x="75321" y="20200"/>
                </a:lnTo>
                <a:lnTo>
                  <a:pt x="75321" y="1400"/>
                </a:lnTo>
                <a:close/>
              </a:path>
              <a:path fill="darkenLess" w="76721" h="21600">
                <a:moveTo>
                  <a:pt x="767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5321" y="20200"/>
                </a:lnTo>
                <a:close/>
              </a:path>
              <a:path fill="lighten" w="767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6721" h="21600">
                <a:moveTo>
                  <a:pt x="31354" y="10800"/>
                </a:moveTo>
                <a:lnTo>
                  <a:pt x="45367" y="3794"/>
                </a:lnTo>
                <a:lnTo>
                  <a:pt x="45367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038480" y="6559560"/>
            <a:ext cx="1117800" cy="241200"/>
          </a:xfrm>
          <a:custGeom>
            <a:avLst/>
            <a:gdLst>
              <a:gd name="textAreaLeft" fmla="*/ 15480 w 1117800"/>
              <a:gd name="textAreaRight" fmla="*/ 1102320 w 1117800"/>
              <a:gd name="textAreaTop" fmla="*/ 15480 h 241200"/>
              <a:gd name="textAreaBottom" fmla="*/ 225720 h 241200"/>
            </a:gdLst>
            <a:ahLst/>
            <a:rect l="textAreaLeft" t="textAreaTop" r="textAreaRight" b="textAreaBottom"/>
            <a:pathLst>
              <a:path w="99985" h="21600">
                <a:moveTo>
                  <a:pt x="0" y="0"/>
                </a:moveTo>
                <a:lnTo>
                  <a:pt x="99985" y="0"/>
                </a:lnTo>
                <a:lnTo>
                  <a:pt x="99985" y="21600"/>
                </a:lnTo>
                <a:lnTo>
                  <a:pt x="0" y="21600"/>
                </a:lnTo>
                <a:close/>
              </a:path>
              <a:path fill="lightenLess" w="99985" h="21600">
                <a:moveTo>
                  <a:pt x="0" y="0"/>
                </a:moveTo>
                <a:lnTo>
                  <a:pt x="99985" y="0"/>
                </a:lnTo>
                <a:lnTo>
                  <a:pt x="98585" y="1400"/>
                </a:lnTo>
                <a:lnTo>
                  <a:pt x="1400" y="1400"/>
                </a:lnTo>
                <a:close/>
              </a:path>
              <a:path fill="darken" w="99985" h="21600">
                <a:moveTo>
                  <a:pt x="99985" y="0"/>
                </a:moveTo>
                <a:lnTo>
                  <a:pt x="99985" y="21600"/>
                </a:lnTo>
                <a:lnTo>
                  <a:pt x="98585" y="20200"/>
                </a:lnTo>
                <a:lnTo>
                  <a:pt x="98585" y="1400"/>
                </a:lnTo>
                <a:close/>
              </a:path>
              <a:path fill="darkenLess" w="99985" h="21600">
                <a:moveTo>
                  <a:pt x="999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8585" y="20200"/>
                </a:lnTo>
                <a:close/>
              </a:path>
              <a:path fill="lighten" w="999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99985" h="21600">
                <a:moveTo>
                  <a:pt x="42986" y="7493"/>
                </a:moveTo>
                <a:lnTo>
                  <a:pt x="46493" y="7493"/>
                </a:lnTo>
                <a:lnTo>
                  <a:pt x="46493" y="12828"/>
                </a:lnTo>
                <a:cubicBezTo>
                  <a:pt x="46493" y="13751"/>
                  <a:pt x="47294" y="14482"/>
                  <a:pt x="48330" y="14482"/>
                </a:cubicBezTo>
                <a:lnTo>
                  <a:pt x="49992" y="14482"/>
                </a:lnTo>
                <a:cubicBezTo>
                  <a:pt x="51028" y="14482"/>
                  <a:pt x="51829" y="13751"/>
                  <a:pt x="51829" y="12828"/>
                </a:cubicBezTo>
                <a:lnTo>
                  <a:pt x="51829" y="7493"/>
                </a:lnTo>
                <a:lnTo>
                  <a:pt x="49992" y="7493"/>
                </a:lnTo>
                <a:lnTo>
                  <a:pt x="53500" y="3985"/>
                </a:lnTo>
                <a:lnTo>
                  <a:pt x="57173" y="7493"/>
                </a:lnTo>
                <a:lnTo>
                  <a:pt x="55336" y="7493"/>
                </a:lnTo>
                <a:lnTo>
                  <a:pt x="55336" y="12828"/>
                </a:lnTo>
                <a:cubicBezTo>
                  <a:pt x="55336" y="15596"/>
                  <a:pt x="52760" y="18155"/>
                  <a:pt x="49992" y="18155"/>
                </a:cubicBezTo>
                <a:lnTo>
                  <a:pt x="48330" y="18155"/>
                </a:lnTo>
                <a:cubicBezTo>
                  <a:pt x="45562" y="18155"/>
                  <a:pt x="42986" y="15596"/>
                  <a:pt x="42986" y="12828"/>
                </a:cubicBez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>
            <a:hlinkClick r:id="" action="ppaction://hlinkshowjump?jump=firstslide"/>
          </p:cNvPr>
          <p:cNvSpPr/>
          <p:nvPr/>
        </p:nvSpPr>
        <p:spPr>
          <a:xfrm>
            <a:off x="1011240" y="6559560"/>
            <a:ext cx="1631880" cy="241200"/>
          </a:xfrm>
          <a:custGeom>
            <a:avLst/>
            <a:gdLst>
              <a:gd name="textAreaLeft" fmla="*/ 15480 w 1631880"/>
              <a:gd name="textAreaRight" fmla="*/ 1616400 w 1631880"/>
              <a:gd name="textAreaTop" fmla="*/ 15480 h 241200"/>
              <a:gd name="textAreaBottom" fmla="*/ 225720 h 241200"/>
            </a:gdLst>
            <a:ahLst/>
            <a:rect l="textAreaLeft" t="textAreaTop" r="textAreaRight" b="textAreaBottom"/>
            <a:pathLst>
              <a:path w="145953" h="21600">
                <a:moveTo>
                  <a:pt x="0" y="0"/>
                </a:moveTo>
                <a:lnTo>
                  <a:pt x="145953" y="0"/>
                </a:lnTo>
                <a:lnTo>
                  <a:pt x="145953" y="21600"/>
                </a:lnTo>
                <a:lnTo>
                  <a:pt x="0" y="21600"/>
                </a:lnTo>
                <a:close/>
              </a:path>
              <a:path fill="lightenLess" w="145953" h="21600">
                <a:moveTo>
                  <a:pt x="0" y="0"/>
                </a:moveTo>
                <a:lnTo>
                  <a:pt x="145953" y="0"/>
                </a:lnTo>
                <a:lnTo>
                  <a:pt x="144553" y="1400"/>
                </a:lnTo>
                <a:lnTo>
                  <a:pt x="1400" y="1400"/>
                </a:lnTo>
                <a:close/>
              </a:path>
              <a:path fill="darken" w="145953" h="21600">
                <a:moveTo>
                  <a:pt x="145953" y="0"/>
                </a:moveTo>
                <a:lnTo>
                  <a:pt x="145953" y="21600"/>
                </a:lnTo>
                <a:lnTo>
                  <a:pt x="144553" y="20200"/>
                </a:lnTo>
                <a:lnTo>
                  <a:pt x="144553" y="1400"/>
                </a:lnTo>
                <a:close/>
              </a:path>
              <a:path fill="darkenLess" w="145953" h="21600">
                <a:moveTo>
                  <a:pt x="1459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44553" y="20200"/>
                </a:lnTo>
                <a:close/>
              </a:path>
              <a:path fill="lighten" w="1459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45953" h="21600">
                <a:moveTo>
                  <a:pt x="72976" y="3837"/>
                </a:moveTo>
                <a:lnTo>
                  <a:pt x="75553" y="6448"/>
                </a:lnTo>
                <a:lnTo>
                  <a:pt x="75553" y="4707"/>
                </a:lnTo>
                <a:lnTo>
                  <a:pt x="77328" y="4707"/>
                </a:lnTo>
                <a:lnTo>
                  <a:pt x="77328" y="8224"/>
                </a:lnTo>
                <a:lnTo>
                  <a:pt x="79939" y="10800"/>
                </a:lnTo>
                <a:lnTo>
                  <a:pt x="78286" y="10800"/>
                </a:lnTo>
                <a:lnTo>
                  <a:pt x="78286" y="17989"/>
                </a:lnTo>
                <a:lnTo>
                  <a:pt x="67667" y="17989"/>
                </a:lnTo>
                <a:lnTo>
                  <a:pt x="67667" y="10800"/>
                </a:lnTo>
                <a:lnTo>
                  <a:pt x="66013" y="10800"/>
                </a:lnTo>
                <a:close/>
              </a:path>
              <a:path fill="darkenLess" w="145953" h="21600">
                <a:moveTo>
                  <a:pt x="75553" y="6448"/>
                </a:moveTo>
                <a:lnTo>
                  <a:pt x="75553" y="4707"/>
                </a:lnTo>
                <a:lnTo>
                  <a:pt x="77328" y="4707"/>
                </a:lnTo>
                <a:lnTo>
                  <a:pt x="77328" y="8224"/>
                </a:lnTo>
                <a:close/>
              </a:path>
              <a:path fill="darkenLess" w="145953" h="21600">
                <a:moveTo>
                  <a:pt x="72054" y="14299"/>
                </a:moveTo>
                <a:lnTo>
                  <a:pt x="73899" y="14299"/>
                </a:lnTo>
                <a:lnTo>
                  <a:pt x="73899" y="17989"/>
                </a:lnTo>
                <a:lnTo>
                  <a:pt x="78286" y="17989"/>
                </a:lnTo>
                <a:lnTo>
                  <a:pt x="78286" y="10800"/>
                </a:lnTo>
                <a:lnTo>
                  <a:pt x="67667" y="10800"/>
                </a:lnTo>
                <a:lnTo>
                  <a:pt x="67667" y="17989"/>
                </a:lnTo>
                <a:lnTo>
                  <a:pt x="72054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72B45-3D76-48C8-8592-EB6C095B2BAC}" type="slidenum">
              <a:t>14</a:t>
            </a:fld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1030320" y="4060800"/>
            <a:ext cx="7111800" cy="1937880"/>
          </a:xfrm>
          <a:prstGeom prst="rect">
            <a:avLst/>
          </a:prstGeom>
          <a:solidFill>
            <a:srgbClr val="00cc99">
              <a:alpha val="50000"/>
            </a:srgbClr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C.S.A. AVELLINO 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mbito 1 e 3 della C.P.O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d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da concordare con Regione, Provincia, Enti Locali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888840" y="398520"/>
            <a:ext cx="741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Comic Sans MS"/>
                <a:ea typeface="Times New Roman"/>
              </a:rPr>
              <a:t>1.  </a:t>
            </a:r>
            <a:r>
              <a:rPr b="1" i="1" lang="en-US" sz="2400" spc="-1" strike="noStrike">
                <a:solidFill>
                  <a:srgbClr val="008000"/>
                </a:solidFill>
                <a:latin typeface="Comic Sans MS"/>
                <a:ea typeface="Times New Roman"/>
              </a:rPr>
              <a:t>CENTRI SERVIZI AMMINISTRATIVI PER LA PROVINCIA DI AVELLI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251000" y="1401840"/>
            <a:ext cx="6705720" cy="2303640"/>
          </a:xfrm>
          <a:prstGeom prst="rect">
            <a:avLst/>
          </a:prstGeom>
          <a:solidFill>
            <a:srgbClr val="00cc99">
              <a:alpha val="50000"/>
            </a:srgbClr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C.S.A. AVELLINO 1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mbito n. 2 e Sottoambiti A e B dell’Ambito 3 del Piano di Dimensionamento C.P.O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d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Avellino – Sede  dell’Ufficio Scolastico Provinciale</a:t>
            </a:r>
            <a:r>
              <a:rPr b="0" i="1" lang="en-US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>
            <a:hlinkClick r:id="rId2" action="ppaction://hlinksldjump"/>
          </p:cNvPr>
          <p:cNvSpPr/>
          <p:nvPr/>
        </p:nvSpPr>
        <p:spPr>
          <a:xfrm>
            <a:off x="4013280" y="6559560"/>
            <a:ext cx="1117440" cy="241200"/>
          </a:xfrm>
          <a:custGeom>
            <a:avLst/>
            <a:gdLst>
              <a:gd name="textAreaLeft" fmla="*/ 15480 w 1117440"/>
              <a:gd name="textAreaRight" fmla="*/ 1101960 w 1117440"/>
              <a:gd name="textAreaTop" fmla="*/ 15480 h 241200"/>
              <a:gd name="textAreaBottom" fmla="*/ 225720 h 241200"/>
            </a:gdLst>
            <a:ahLst/>
            <a:rect l="textAreaLeft" t="textAreaTop" r="textAreaRight" b="textAreaBottom"/>
            <a:pathLst>
              <a:path w="99952" h="21600">
                <a:moveTo>
                  <a:pt x="0" y="0"/>
                </a:moveTo>
                <a:lnTo>
                  <a:pt x="99952" y="0"/>
                </a:lnTo>
                <a:lnTo>
                  <a:pt x="99952" y="21600"/>
                </a:lnTo>
                <a:lnTo>
                  <a:pt x="0" y="21600"/>
                </a:lnTo>
                <a:close/>
              </a:path>
              <a:path fill="lightenLess" w="99952" h="21600">
                <a:moveTo>
                  <a:pt x="0" y="0"/>
                </a:moveTo>
                <a:lnTo>
                  <a:pt x="99952" y="0"/>
                </a:lnTo>
                <a:lnTo>
                  <a:pt x="98552" y="1400"/>
                </a:lnTo>
                <a:lnTo>
                  <a:pt x="1400" y="1400"/>
                </a:lnTo>
                <a:close/>
              </a:path>
              <a:path fill="darken" w="99952" h="21600">
                <a:moveTo>
                  <a:pt x="99952" y="0"/>
                </a:moveTo>
                <a:lnTo>
                  <a:pt x="99952" y="21600"/>
                </a:lnTo>
                <a:lnTo>
                  <a:pt x="98552" y="20200"/>
                </a:lnTo>
                <a:lnTo>
                  <a:pt x="98552" y="1400"/>
                </a:lnTo>
                <a:close/>
              </a:path>
              <a:path fill="darkenLess" w="99952" h="21600">
                <a:moveTo>
                  <a:pt x="999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8552" y="20200"/>
                </a:lnTo>
                <a:close/>
              </a:path>
              <a:path fill="lighten" w="999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99952" h="21600">
                <a:moveTo>
                  <a:pt x="42970" y="7493"/>
                </a:moveTo>
                <a:lnTo>
                  <a:pt x="46477" y="7493"/>
                </a:lnTo>
                <a:lnTo>
                  <a:pt x="46477" y="12828"/>
                </a:lnTo>
                <a:cubicBezTo>
                  <a:pt x="46477" y="13751"/>
                  <a:pt x="47278" y="14482"/>
                  <a:pt x="48314" y="14482"/>
                </a:cubicBezTo>
                <a:lnTo>
                  <a:pt x="49976" y="14482"/>
                </a:lnTo>
                <a:cubicBezTo>
                  <a:pt x="51012" y="14482"/>
                  <a:pt x="51813" y="13751"/>
                  <a:pt x="51813" y="12828"/>
                </a:cubicBezTo>
                <a:lnTo>
                  <a:pt x="51813" y="7493"/>
                </a:lnTo>
                <a:lnTo>
                  <a:pt x="49976" y="7493"/>
                </a:lnTo>
                <a:lnTo>
                  <a:pt x="53484" y="3985"/>
                </a:lnTo>
                <a:lnTo>
                  <a:pt x="57157" y="7493"/>
                </a:lnTo>
                <a:lnTo>
                  <a:pt x="55320" y="7493"/>
                </a:lnTo>
                <a:lnTo>
                  <a:pt x="55320" y="12828"/>
                </a:lnTo>
                <a:cubicBezTo>
                  <a:pt x="55320" y="15596"/>
                  <a:pt x="52744" y="18155"/>
                  <a:pt x="49976" y="18155"/>
                </a:cubicBezTo>
                <a:lnTo>
                  <a:pt x="48314" y="18155"/>
                </a:lnTo>
                <a:cubicBezTo>
                  <a:pt x="45546" y="18155"/>
                  <a:pt x="42970" y="15596"/>
                  <a:pt x="42970" y="12828"/>
                </a:cubicBez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>
            <a:hlinkClick r:id="" action="ppaction://hlinkshowjump?jump=nextslide"/>
          </p:cNvPr>
          <p:cNvSpPr/>
          <p:nvPr/>
        </p:nvSpPr>
        <p:spPr>
          <a:xfrm>
            <a:off x="7315200" y="6572160"/>
            <a:ext cx="812880" cy="228600"/>
          </a:xfrm>
          <a:custGeom>
            <a:avLst/>
            <a:gdLst>
              <a:gd name="textAreaLeft" fmla="*/ 14760 w 812880"/>
              <a:gd name="textAreaRight" fmla="*/ 798120 w 81288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76721" h="21600">
                <a:moveTo>
                  <a:pt x="0" y="0"/>
                </a:moveTo>
                <a:lnTo>
                  <a:pt x="76721" y="0"/>
                </a:lnTo>
                <a:lnTo>
                  <a:pt x="76721" y="21600"/>
                </a:lnTo>
                <a:lnTo>
                  <a:pt x="0" y="21600"/>
                </a:lnTo>
                <a:close/>
              </a:path>
              <a:path fill="lightenLess" w="76721" h="21600">
                <a:moveTo>
                  <a:pt x="0" y="0"/>
                </a:moveTo>
                <a:lnTo>
                  <a:pt x="76721" y="0"/>
                </a:lnTo>
                <a:lnTo>
                  <a:pt x="75321" y="1400"/>
                </a:lnTo>
                <a:lnTo>
                  <a:pt x="1400" y="1400"/>
                </a:lnTo>
                <a:close/>
              </a:path>
              <a:path fill="darken" w="76721" h="21600">
                <a:moveTo>
                  <a:pt x="76721" y="0"/>
                </a:moveTo>
                <a:lnTo>
                  <a:pt x="76721" y="21600"/>
                </a:lnTo>
                <a:lnTo>
                  <a:pt x="75321" y="20200"/>
                </a:lnTo>
                <a:lnTo>
                  <a:pt x="75321" y="1400"/>
                </a:lnTo>
                <a:close/>
              </a:path>
              <a:path fill="darkenLess" w="76721" h="21600">
                <a:moveTo>
                  <a:pt x="767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5321" y="20200"/>
                </a:lnTo>
                <a:close/>
              </a:path>
              <a:path fill="lighten" w="767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6721" h="21600">
                <a:moveTo>
                  <a:pt x="31354" y="3794"/>
                </a:moveTo>
                <a:lnTo>
                  <a:pt x="45367" y="10800"/>
                </a:lnTo>
                <a:lnTo>
                  <a:pt x="3135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>
            <a:hlinkClick r:id="" action="ppaction://hlinkshowjump?jump=previousslide"/>
          </p:cNvPr>
          <p:cNvSpPr/>
          <p:nvPr/>
        </p:nvSpPr>
        <p:spPr>
          <a:xfrm>
            <a:off x="6502320" y="6572160"/>
            <a:ext cx="812880" cy="228600"/>
          </a:xfrm>
          <a:custGeom>
            <a:avLst/>
            <a:gdLst>
              <a:gd name="textAreaLeft" fmla="*/ 14760 w 812880"/>
              <a:gd name="textAreaRight" fmla="*/ 798120 w 81288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76721" h="21600">
                <a:moveTo>
                  <a:pt x="0" y="0"/>
                </a:moveTo>
                <a:lnTo>
                  <a:pt x="76721" y="0"/>
                </a:lnTo>
                <a:lnTo>
                  <a:pt x="76721" y="21600"/>
                </a:lnTo>
                <a:lnTo>
                  <a:pt x="0" y="21600"/>
                </a:lnTo>
                <a:close/>
              </a:path>
              <a:path fill="lightenLess" w="76721" h="21600">
                <a:moveTo>
                  <a:pt x="0" y="0"/>
                </a:moveTo>
                <a:lnTo>
                  <a:pt x="76721" y="0"/>
                </a:lnTo>
                <a:lnTo>
                  <a:pt x="75321" y="1400"/>
                </a:lnTo>
                <a:lnTo>
                  <a:pt x="1400" y="1400"/>
                </a:lnTo>
                <a:close/>
              </a:path>
              <a:path fill="darken" w="76721" h="21600">
                <a:moveTo>
                  <a:pt x="76721" y="0"/>
                </a:moveTo>
                <a:lnTo>
                  <a:pt x="76721" y="21600"/>
                </a:lnTo>
                <a:lnTo>
                  <a:pt x="75321" y="20200"/>
                </a:lnTo>
                <a:lnTo>
                  <a:pt x="75321" y="1400"/>
                </a:lnTo>
                <a:close/>
              </a:path>
              <a:path fill="darkenLess" w="76721" h="21600">
                <a:moveTo>
                  <a:pt x="767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5321" y="20200"/>
                </a:lnTo>
                <a:close/>
              </a:path>
              <a:path fill="lighten" w="767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6721" h="21600">
                <a:moveTo>
                  <a:pt x="31354" y="10800"/>
                </a:moveTo>
                <a:lnTo>
                  <a:pt x="45367" y="3794"/>
                </a:lnTo>
                <a:lnTo>
                  <a:pt x="45367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>
            <a:hlinkClick r:id="" action="ppaction://hlinkshowjump?jump=firstslide"/>
          </p:cNvPr>
          <p:cNvSpPr/>
          <p:nvPr/>
        </p:nvSpPr>
        <p:spPr>
          <a:xfrm>
            <a:off x="1011240" y="6559560"/>
            <a:ext cx="1631880" cy="241200"/>
          </a:xfrm>
          <a:custGeom>
            <a:avLst/>
            <a:gdLst>
              <a:gd name="textAreaLeft" fmla="*/ 15480 w 1631880"/>
              <a:gd name="textAreaRight" fmla="*/ 1616400 w 1631880"/>
              <a:gd name="textAreaTop" fmla="*/ 15480 h 241200"/>
              <a:gd name="textAreaBottom" fmla="*/ 225720 h 241200"/>
            </a:gdLst>
            <a:ahLst/>
            <a:rect l="textAreaLeft" t="textAreaTop" r="textAreaRight" b="textAreaBottom"/>
            <a:pathLst>
              <a:path w="145953" h="21600">
                <a:moveTo>
                  <a:pt x="0" y="0"/>
                </a:moveTo>
                <a:lnTo>
                  <a:pt x="145953" y="0"/>
                </a:lnTo>
                <a:lnTo>
                  <a:pt x="145953" y="21600"/>
                </a:lnTo>
                <a:lnTo>
                  <a:pt x="0" y="21600"/>
                </a:lnTo>
                <a:close/>
              </a:path>
              <a:path fill="lightenLess" w="145953" h="21600">
                <a:moveTo>
                  <a:pt x="0" y="0"/>
                </a:moveTo>
                <a:lnTo>
                  <a:pt x="145953" y="0"/>
                </a:lnTo>
                <a:lnTo>
                  <a:pt x="144553" y="1400"/>
                </a:lnTo>
                <a:lnTo>
                  <a:pt x="1400" y="1400"/>
                </a:lnTo>
                <a:close/>
              </a:path>
              <a:path fill="darken" w="145953" h="21600">
                <a:moveTo>
                  <a:pt x="145953" y="0"/>
                </a:moveTo>
                <a:lnTo>
                  <a:pt x="145953" y="21600"/>
                </a:lnTo>
                <a:lnTo>
                  <a:pt x="144553" y="20200"/>
                </a:lnTo>
                <a:lnTo>
                  <a:pt x="144553" y="1400"/>
                </a:lnTo>
                <a:close/>
              </a:path>
              <a:path fill="darkenLess" w="145953" h="21600">
                <a:moveTo>
                  <a:pt x="1459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44553" y="20200"/>
                </a:lnTo>
                <a:close/>
              </a:path>
              <a:path fill="lighten" w="1459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45953" h="21600">
                <a:moveTo>
                  <a:pt x="72976" y="3837"/>
                </a:moveTo>
                <a:lnTo>
                  <a:pt x="75553" y="6448"/>
                </a:lnTo>
                <a:lnTo>
                  <a:pt x="75553" y="4707"/>
                </a:lnTo>
                <a:lnTo>
                  <a:pt x="77328" y="4707"/>
                </a:lnTo>
                <a:lnTo>
                  <a:pt x="77328" y="8224"/>
                </a:lnTo>
                <a:lnTo>
                  <a:pt x="79939" y="10800"/>
                </a:lnTo>
                <a:lnTo>
                  <a:pt x="78286" y="10800"/>
                </a:lnTo>
                <a:lnTo>
                  <a:pt x="78286" y="17989"/>
                </a:lnTo>
                <a:lnTo>
                  <a:pt x="67667" y="17989"/>
                </a:lnTo>
                <a:lnTo>
                  <a:pt x="67667" y="10800"/>
                </a:lnTo>
                <a:lnTo>
                  <a:pt x="66013" y="10800"/>
                </a:lnTo>
                <a:close/>
              </a:path>
              <a:path fill="darkenLess" w="145953" h="21600">
                <a:moveTo>
                  <a:pt x="75553" y="6448"/>
                </a:moveTo>
                <a:lnTo>
                  <a:pt x="75553" y="4707"/>
                </a:lnTo>
                <a:lnTo>
                  <a:pt x="77328" y="4707"/>
                </a:lnTo>
                <a:lnTo>
                  <a:pt x="77328" y="8224"/>
                </a:lnTo>
                <a:close/>
              </a:path>
              <a:path fill="darkenLess" w="145953" h="21600">
                <a:moveTo>
                  <a:pt x="72054" y="14299"/>
                </a:moveTo>
                <a:lnTo>
                  <a:pt x="73899" y="14299"/>
                </a:lnTo>
                <a:lnTo>
                  <a:pt x="73899" y="17989"/>
                </a:lnTo>
                <a:lnTo>
                  <a:pt x="78286" y="17989"/>
                </a:lnTo>
                <a:lnTo>
                  <a:pt x="78286" y="10800"/>
                </a:lnTo>
                <a:lnTo>
                  <a:pt x="67667" y="10800"/>
                </a:lnTo>
                <a:lnTo>
                  <a:pt x="67667" y="17989"/>
                </a:lnTo>
                <a:lnTo>
                  <a:pt x="72054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4A093-7001-41F5-BC73-91E1FC77BD57}" type="slidenum">
              <a:t>15</a:t>
            </a:fld>
          </a:p>
        </p:txBody>
      </p:sp>
    </p:spTree>
  </p:cSld>
  <p:transition>
    <p:pull dir="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1473120" y="398520"/>
            <a:ext cx="6197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Comic Sans MS"/>
                <a:ea typeface="Times New Roman"/>
              </a:rPr>
              <a:t>2.</a:t>
            </a:r>
            <a:r>
              <a:rPr b="1" i="1" lang="en-US" sz="2400" spc="-1" strike="noStrike">
                <a:solidFill>
                  <a:srgbClr val="008000"/>
                </a:solidFill>
                <a:latin typeface="Comic Sans MS"/>
                <a:ea typeface="Times New Roman"/>
              </a:rPr>
              <a:t>  CENTRI  SERVIZI AMMINISTRATIVI PER LA PROVINCIA DI BENEVENTO</a:t>
            </a:r>
            <a:r>
              <a:rPr b="1" lang="en-US" sz="2400" spc="-1" strike="noStrike">
                <a:solidFill>
                  <a:srgbClr val="008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12760" y="1736640"/>
            <a:ext cx="7010640" cy="1937880"/>
          </a:xfrm>
          <a:prstGeom prst="rect">
            <a:avLst/>
          </a:prstGeom>
          <a:solidFill>
            <a:srgbClr val="00cc99">
              <a:alpha val="50000"/>
            </a:srgbClr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 C.S.A. BENEVENTO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 Ambiti 3, 4, 5, 7, 9 della C.P.O.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d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Benevento -  Sede  dell’Ufficio Scolastico Provinciale</a:t>
            </a:r>
            <a:r>
              <a:rPr b="0" i="1" lang="en-US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382760" y="4194000"/>
            <a:ext cx="6400800" cy="1937880"/>
          </a:xfrm>
          <a:prstGeom prst="rect">
            <a:avLst/>
          </a:prstGeom>
          <a:solidFill>
            <a:srgbClr val="00cc99">
              <a:alpha val="50000"/>
            </a:srgbClr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 C.S.A.   BENEVENTO 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mbiti 1, 2, 6, 8 della C.P.O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d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da concordare con Regione, Provincia, Enti Local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>
            <a:hlinkClick r:id="" action="ppaction://hlinkshowjump?jump=nextslide"/>
          </p:cNvPr>
          <p:cNvSpPr/>
          <p:nvPr/>
        </p:nvSpPr>
        <p:spPr>
          <a:xfrm>
            <a:off x="7315200" y="6572160"/>
            <a:ext cx="812880" cy="228600"/>
          </a:xfrm>
          <a:custGeom>
            <a:avLst/>
            <a:gdLst>
              <a:gd name="textAreaLeft" fmla="*/ 14760 w 812880"/>
              <a:gd name="textAreaRight" fmla="*/ 798120 w 81288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76721" h="21600">
                <a:moveTo>
                  <a:pt x="0" y="0"/>
                </a:moveTo>
                <a:lnTo>
                  <a:pt x="76721" y="0"/>
                </a:lnTo>
                <a:lnTo>
                  <a:pt x="76721" y="21600"/>
                </a:lnTo>
                <a:lnTo>
                  <a:pt x="0" y="21600"/>
                </a:lnTo>
                <a:close/>
              </a:path>
              <a:path fill="lightenLess" w="76721" h="21600">
                <a:moveTo>
                  <a:pt x="0" y="0"/>
                </a:moveTo>
                <a:lnTo>
                  <a:pt x="76721" y="0"/>
                </a:lnTo>
                <a:lnTo>
                  <a:pt x="75321" y="1400"/>
                </a:lnTo>
                <a:lnTo>
                  <a:pt x="1400" y="1400"/>
                </a:lnTo>
                <a:close/>
              </a:path>
              <a:path fill="darken" w="76721" h="21600">
                <a:moveTo>
                  <a:pt x="76721" y="0"/>
                </a:moveTo>
                <a:lnTo>
                  <a:pt x="76721" y="21600"/>
                </a:lnTo>
                <a:lnTo>
                  <a:pt x="75321" y="20200"/>
                </a:lnTo>
                <a:lnTo>
                  <a:pt x="75321" y="1400"/>
                </a:lnTo>
                <a:close/>
              </a:path>
              <a:path fill="darkenLess" w="76721" h="21600">
                <a:moveTo>
                  <a:pt x="767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5321" y="20200"/>
                </a:lnTo>
                <a:close/>
              </a:path>
              <a:path fill="lighten" w="767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6721" h="21600">
                <a:moveTo>
                  <a:pt x="31354" y="3794"/>
                </a:moveTo>
                <a:lnTo>
                  <a:pt x="45367" y="10800"/>
                </a:lnTo>
                <a:lnTo>
                  <a:pt x="3135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>
            <a:hlinkClick r:id="rId2" action="ppaction://hlinksldjump"/>
          </p:cNvPr>
          <p:cNvSpPr/>
          <p:nvPr/>
        </p:nvSpPr>
        <p:spPr>
          <a:xfrm>
            <a:off x="4013280" y="6559560"/>
            <a:ext cx="1117440" cy="241200"/>
          </a:xfrm>
          <a:custGeom>
            <a:avLst/>
            <a:gdLst>
              <a:gd name="textAreaLeft" fmla="*/ 15480 w 1117440"/>
              <a:gd name="textAreaRight" fmla="*/ 1101960 w 1117440"/>
              <a:gd name="textAreaTop" fmla="*/ 15480 h 241200"/>
              <a:gd name="textAreaBottom" fmla="*/ 225720 h 241200"/>
            </a:gdLst>
            <a:ahLst/>
            <a:rect l="textAreaLeft" t="textAreaTop" r="textAreaRight" b="textAreaBottom"/>
            <a:pathLst>
              <a:path w="99952" h="21600">
                <a:moveTo>
                  <a:pt x="0" y="0"/>
                </a:moveTo>
                <a:lnTo>
                  <a:pt x="99952" y="0"/>
                </a:lnTo>
                <a:lnTo>
                  <a:pt x="99952" y="21600"/>
                </a:lnTo>
                <a:lnTo>
                  <a:pt x="0" y="21600"/>
                </a:lnTo>
                <a:close/>
              </a:path>
              <a:path fill="lightenLess" w="99952" h="21600">
                <a:moveTo>
                  <a:pt x="0" y="0"/>
                </a:moveTo>
                <a:lnTo>
                  <a:pt x="99952" y="0"/>
                </a:lnTo>
                <a:lnTo>
                  <a:pt x="98552" y="1400"/>
                </a:lnTo>
                <a:lnTo>
                  <a:pt x="1400" y="1400"/>
                </a:lnTo>
                <a:close/>
              </a:path>
              <a:path fill="darken" w="99952" h="21600">
                <a:moveTo>
                  <a:pt x="99952" y="0"/>
                </a:moveTo>
                <a:lnTo>
                  <a:pt x="99952" y="21600"/>
                </a:lnTo>
                <a:lnTo>
                  <a:pt x="98552" y="20200"/>
                </a:lnTo>
                <a:lnTo>
                  <a:pt x="98552" y="1400"/>
                </a:lnTo>
                <a:close/>
              </a:path>
              <a:path fill="darkenLess" w="99952" h="21600">
                <a:moveTo>
                  <a:pt x="999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8552" y="20200"/>
                </a:lnTo>
                <a:close/>
              </a:path>
              <a:path fill="lighten" w="999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99952" h="21600">
                <a:moveTo>
                  <a:pt x="42970" y="7493"/>
                </a:moveTo>
                <a:lnTo>
                  <a:pt x="46477" y="7493"/>
                </a:lnTo>
                <a:lnTo>
                  <a:pt x="46477" y="12828"/>
                </a:lnTo>
                <a:cubicBezTo>
                  <a:pt x="46477" y="13751"/>
                  <a:pt x="47278" y="14482"/>
                  <a:pt x="48314" y="14482"/>
                </a:cubicBezTo>
                <a:lnTo>
                  <a:pt x="49976" y="14482"/>
                </a:lnTo>
                <a:cubicBezTo>
                  <a:pt x="51012" y="14482"/>
                  <a:pt x="51813" y="13751"/>
                  <a:pt x="51813" y="12828"/>
                </a:cubicBezTo>
                <a:lnTo>
                  <a:pt x="51813" y="7493"/>
                </a:lnTo>
                <a:lnTo>
                  <a:pt x="49976" y="7493"/>
                </a:lnTo>
                <a:lnTo>
                  <a:pt x="53484" y="3985"/>
                </a:lnTo>
                <a:lnTo>
                  <a:pt x="57157" y="7493"/>
                </a:lnTo>
                <a:lnTo>
                  <a:pt x="55320" y="7493"/>
                </a:lnTo>
                <a:lnTo>
                  <a:pt x="55320" y="12828"/>
                </a:lnTo>
                <a:cubicBezTo>
                  <a:pt x="55320" y="15596"/>
                  <a:pt x="52744" y="18155"/>
                  <a:pt x="49976" y="18155"/>
                </a:cubicBezTo>
                <a:lnTo>
                  <a:pt x="48314" y="18155"/>
                </a:lnTo>
                <a:cubicBezTo>
                  <a:pt x="45546" y="18155"/>
                  <a:pt x="42970" y="15596"/>
                  <a:pt x="42970" y="12828"/>
                </a:cubicBez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>
            <a:hlinkClick r:id="" action="ppaction://hlinkshowjump?jump=previousslide"/>
          </p:cNvPr>
          <p:cNvSpPr/>
          <p:nvPr/>
        </p:nvSpPr>
        <p:spPr>
          <a:xfrm>
            <a:off x="6502320" y="6572160"/>
            <a:ext cx="812880" cy="228600"/>
          </a:xfrm>
          <a:custGeom>
            <a:avLst/>
            <a:gdLst>
              <a:gd name="textAreaLeft" fmla="*/ 14760 w 812880"/>
              <a:gd name="textAreaRight" fmla="*/ 798120 w 81288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76721" h="21600">
                <a:moveTo>
                  <a:pt x="0" y="0"/>
                </a:moveTo>
                <a:lnTo>
                  <a:pt x="76721" y="0"/>
                </a:lnTo>
                <a:lnTo>
                  <a:pt x="76721" y="21600"/>
                </a:lnTo>
                <a:lnTo>
                  <a:pt x="0" y="21600"/>
                </a:lnTo>
                <a:close/>
              </a:path>
              <a:path fill="lightenLess" w="76721" h="21600">
                <a:moveTo>
                  <a:pt x="0" y="0"/>
                </a:moveTo>
                <a:lnTo>
                  <a:pt x="76721" y="0"/>
                </a:lnTo>
                <a:lnTo>
                  <a:pt x="75321" y="1400"/>
                </a:lnTo>
                <a:lnTo>
                  <a:pt x="1400" y="1400"/>
                </a:lnTo>
                <a:close/>
              </a:path>
              <a:path fill="darken" w="76721" h="21600">
                <a:moveTo>
                  <a:pt x="76721" y="0"/>
                </a:moveTo>
                <a:lnTo>
                  <a:pt x="76721" y="21600"/>
                </a:lnTo>
                <a:lnTo>
                  <a:pt x="75321" y="20200"/>
                </a:lnTo>
                <a:lnTo>
                  <a:pt x="75321" y="1400"/>
                </a:lnTo>
                <a:close/>
              </a:path>
              <a:path fill="darkenLess" w="76721" h="21600">
                <a:moveTo>
                  <a:pt x="767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5321" y="20200"/>
                </a:lnTo>
                <a:close/>
              </a:path>
              <a:path fill="lighten" w="767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6721" h="21600">
                <a:moveTo>
                  <a:pt x="31354" y="10800"/>
                </a:moveTo>
                <a:lnTo>
                  <a:pt x="45367" y="3794"/>
                </a:lnTo>
                <a:lnTo>
                  <a:pt x="45367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>
            <a:hlinkClick r:id="" action="ppaction://hlinkshowjump?jump=firstslide"/>
          </p:cNvPr>
          <p:cNvSpPr/>
          <p:nvPr/>
        </p:nvSpPr>
        <p:spPr>
          <a:xfrm>
            <a:off x="1011240" y="6559560"/>
            <a:ext cx="1631880" cy="241200"/>
          </a:xfrm>
          <a:custGeom>
            <a:avLst/>
            <a:gdLst>
              <a:gd name="textAreaLeft" fmla="*/ 15480 w 1631880"/>
              <a:gd name="textAreaRight" fmla="*/ 1616400 w 1631880"/>
              <a:gd name="textAreaTop" fmla="*/ 15480 h 241200"/>
              <a:gd name="textAreaBottom" fmla="*/ 225720 h 241200"/>
            </a:gdLst>
            <a:ahLst/>
            <a:rect l="textAreaLeft" t="textAreaTop" r="textAreaRight" b="textAreaBottom"/>
            <a:pathLst>
              <a:path w="145953" h="21600">
                <a:moveTo>
                  <a:pt x="0" y="0"/>
                </a:moveTo>
                <a:lnTo>
                  <a:pt x="145953" y="0"/>
                </a:lnTo>
                <a:lnTo>
                  <a:pt x="145953" y="21600"/>
                </a:lnTo>
                <a:lnTo>
                  <a:pt x="0" y="21600"/>
                </a:lnTo>
                <a:close/>
              </a:path>
              <a:path fill="lightenLess" w="145953" h="21600">
                <a:moveTo>
                  <a:pt x="0" y="0"/>
                </a:moveTo>
                <a:lnTo>
                  <a:pt x="145953" y="0"/>
                </a:lnTo>
                <a:lnTo>
                  <a:pt x="144553" y="1400"/>
                </a:lnTo>
                <a:lnTo>
                  <a:pt x="1400" y="1400"/>
                </a:lnTo>
                <a:close/>
              </a:path>
              <a:path fill="darken" w="145953" h="21600">
                <a:moveTo>
                  <a:pt x="145953" y="0"/>
                </a:moveTo>
                <a:lnTo>
                  <a:pt x="145953" y="21600"/>
                </a:lnTo>
                <a:lnTo>
                  <a:pt x="144553" y="20200"/>
                </a:lnTo>
                <a:lnTo>
                  <a:pt x="144553" y="1400"/>
                </a:lnTo>
                <a:close/>
              </a:path>
              <a:path fill="darkenLess" w="145953" h="21600">
                <a:moveTo>
                  <a:pt x="1459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44553" y="20200"/>
                </a:lnTo>
                <a:close/>
              </a:path>
              <a:path fill="lighten" w="1459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45953" h="21600">
                <a:moveTo>
                  <a:pt x="72976" y="3837"/>
                </a:moveTo>
                <a:lnTo>
                  <a:pt x="75553" y="6448"/>
                </a:lnTo>
                <a:lnTo>
                  <a:pt x="75553" y="4707"/>
                </a:lnTo>
                <a:lnTo>
                  <a:pt x="77328" y="4707"/>
                </a:lnTo>
                <a:lnTo>
                  <a:pt x="77328" y="8224"/>
                </a:lnTo>
                <a:lnTo>
                  <a:pt x="79939" y="10800"/>
                </a:lnTo>
                <a:lnTo>
                  <a:pt x="78286" y="10800"/>
                </a:lnTo>
                <a:lnTo>
                  <a:pt x="78286" y="17989"/>
                </a:lnTo>
                <a:lnTo>
                  <a:pt x="67667" y="17989"/>
                </a:lnTo>
                <a:lnTo>
                  <a:pt x="67667" y="10800"/>
                </a:lnTo>
                <a:lnTo>
                  <a:pt x="66013" y="10800"/>
                </a:lnTo>
                <a:close/>
              </a:path>
              <a:path fill="darkenLess" w="145953" h="21600">
                <a:moveTo>
                  <a:pt x="75553" y="6448"/>
                </a:moveTo>
                <a:lnTo>
                  <a:pt x="75553" y="4707"/>
                </a:lnTo>
                <a:lnTo>
                  <a:pt x="77328" y="4707"/>
                </a:lnTo>
                <a:lnTo>
                  <a:pt x="77328" y="8224"/>
                </a:lnTo>
                <a:close/>
              </a:path>
              <a:path fill="darkenLess" w="145953" h="21600">
                <a:moveTo>
                  <a:pt x="72054" y="14299"/>
                </a:moveTo>
                <a:lnTo>
                  <a:pt x="73899" y="14299"/>
                </a:lnTo>
                <a:lnTo>
                  <a:pt x="73899" y="17989"/>
                </a:lnTo>
                <a:lnTo>
                  <a:pt x="78286" y="17989"/>
                </a:lnTo>
                <a:lnTo>
                  <a:pt x="78286" y="10800"/>
                </a:lnTo>
                <a:lnTo>
                  <a:pt x="67667" y="10800"/>
                </a:lnTo>
                <a:lnTo>
                  <a:pt x="67667" y="17989"/>
                </a:lnTo>
                <a:lnTo>
                  <a:pt x="72054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461B1-F4E8-425D-A6D4-72F6DD8A52C1}" type="slidenum">
              <a:t>16</a:t>
            </a:fld>
          </a:p>
        </p:txBody>
      </p:sp>
    </p:spTree>
  </p:cSld>
  <p:transition>
    <p:pull dir="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1574640" y="398520"/>
            <a:ext cx="599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Comic Sans MS"/>
                <a:ea typeface="Times New Roman"/>
              </a:rPr>
              <a:t>3.  </a:t>
            </a:r>
            <a:r>
              <a:rPr b="1" i="1" lang="en-US" sz="2400" spc="-1" strike="noStrike">
                <a:solidFill>
                  <a:srgbClr val="008000"/>
                </a:solidFill>
                <a:latin typeface="Comic Sans MS"/>
                <a:ea typeface="Times New Roman"/>
              </a:rPr>
              <a:t>CENTRI SERVIZI AMMINISTRATIVI PER  LA PROVINCIA DI  CASERTA</a:t>
            </a:r>
            <a:r>
              <a:rPr b="1" lang="en-US" sz="2400" spc="-1" strike="noStrike">
                <a:solidFill>
                  <a:srgbClr val="008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06360" y="1582560"/>
            <a:ext cx="6775560" cy="1326240"/>
          </a:xfrm>
          <a:prstGeom prst="rect">
            <a:avLst/>
          </a:prstGeom>
          <a:solidFill>
            <a:srgbClr val="00cc99">
              <a:alpha val="5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C.S.A.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ERTA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mbiti 2, 4, 5 della C.P.O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d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erta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de  dell’Ufficio Scolastico Provinci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932120" y="3216240"/>
            <a:ext cx="6807240" cy="1326240"/>
          </a:xfrm>
          <a:prstGeom prst="rect">
            <a:avLst/>
          </a:prstGeom>
          <a:solidFill>
            <a:srgbClr val="00cc99">
              <a:alpha val="5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C.S.A.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ERTA 2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mbiti 1 e 3 della C.P.O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de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da concordare con Regione, Provincia, Enti Local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44520" y="4835520"/>
            <a:ext cx="7197840" cy="1326240"/>
          </a:xfrm>
          <a:prstGeom prst="rect">
            <a:avLst/>
          </a:prstGeom>
          <a:solidFill>
            <a:srgbClr val="00cc99">
              <a:alpha val="5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C.S.A.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ERTA 3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 Ambito 6 della C.P.O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de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da concordare con Regione, Provincia, Enti Local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>
            <a:hlinkClick r:id="" action="ppaction://hlinkshowjump?jump=nextslide"/>
          </p:cNvPr>
          <p:cNvSpPr/>
          <p:nvPr/>
        </p:nvSpPr>
        <p:spPr>
          <a:xfrm>
            <a:off x="7315200" y="6572160"/>
            <a:ext cx="812880" cy="228600"/>
          </a:xfrm>
          <a:custGeom>
            <a:avLst/>
            <a:gdLst>
              <a:gd name="textAreaLeft" fmla="*/ 14760 w 812880"/>
              <a:gd name="textAreaRight" fmla="*/ 798120 w 81288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76721" h="21600">
                <a:moveTo>
                  <a:pt x="0" y="0"/>
                </a:moveTo>
                <a:lnTo>
                  <a:pt x="76721" y="0"/>
                </a:lnTo>
                <a:lnTo>
                  <a:pt x="76721" y="21600"/>
                </a:lnTo>
                <a:lnTo>
                  <a:pt x="0" y="21600"/>
                </a:lnTo>
                <a:close/>
              </a:path>
              <a:path fill="lightenLess" w="76721" h="21600">
                <a:moveTo>
                  <a:pt x="0" y="0"/>
                </a:moveTo>
                <a:lnTo>
                  <a:pt x="76721" y="0"/>
                </a:lnTo>
                <a:lnTo>
                  <a:pt x="75321" y="1400"/>
                </a:lnTo>
                <a:lnTo>
                  <a:pt x="1400" y="1400"/>
                </a:lnTo>
                <a:close/>
              </a:path>
              <a:path fill="darken" w="76721" h="21600">
                <a:moveTo>
                  <a:pt x="76721" y="0"/>
                </a:moveTo>
                <a:lnTo>
                  <a:pt x="76721" y="21600"/>
                </a:lnTo>
                <a:lnTo>
                  <a:pt x="75321" y="20200"/>
                </a:lnTo>
                <a:lnTo>
                  <a:pt x="75321" y="1400"/>
                </a:lnTo>
                <a:close/>
              </a:path>
              <a:path fill="darkenLess" w="76721" h="21600">
                <a:moveTo>
                  <a:pt x="767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5321" y="20200"/>
                </a:lnTo>
                <a:close/>
              </a:path>
              <a:path fill="lighten" w="767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6721" h="21600">
                <a:moveTo>
                  <a:pt x="31354" y="3794"/>
                </a:moveTo>
                <a:lnTo>
                  <a:pt x="45367" y="10800"/>
                </a:lnTo>
                <a:lnTo>
                  <a:pt x="3135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>
            <a:hlinkClick r:id="rId2" action="ppaction://hlinksldjump"/>
          </p:cNvPr>
          <p:cNvSpPr/>
          <p:nvPr/>
        </p:nvSpPr>
        <p:spPr>
          <a:xfrm>
            <a:off x="4013280" y="6559560"/>
            <a:ext cx="1117440" cy="241200"/>
          </a:xfrm>
          <a:custGeom>
            <a:avLst/>
            <a:gdLst>
              <a:gd name="textAreaLeft" fmla="*/ 15480 w 1117440"/>
              <a:gd name="textAreaRight" fmla="*/ 1101960 w 1117440"/>
              <a:gd name="textAreaTop" fmla="*/ 15480 h 241200"/>
              <a:gd name="textAreaBottom" fmla="*/ 225720 h 241200"/>
            </a:gdLst>
            <a:ahLst/>
            <a:rect l="textAreaLeft" t="textAreaTop" r="textAreaRight" b="textAreaBottom"/>
            <a:pathLst>
              <a:path w="99952" h="21600">
                <a:moveTo>
                  <a:pt x="0" y="0"/>
                </a:moveTo>
                <a:lnTo>
                  <a:pt x="99952" y="0"/>
                </a:lnTo>
                <a:lnTo>
                  <a:pt x="99952" y="21600"/>
                </a:lnTo>
                <a:lnTo>
                  <a:pt x="0" y="21600"/>
                </a:lnTo>
                <a:close/>
              </a:path>
              <a:path fill="lightenLess" w="99952" h="21600">
                <a:moveTo>
                  <a:pt x="0" y="0"/>
                </a:moveTo>
                <a:lnTo>
                  <a:pt x="99952" y="0"/>
                </a:lnTo>
                <a:lnTo>
                  <a:pt x="98552" y="1400"/>
                </a:lnTo>
                <a:lnTo>
                  <a:pt x="1400" y="1400"/>
                </a:lnTo>
                <a:close/>
              </a:path>
              <a:path fill="darken" w="99952" h="21600">
                <a:moveTo>
                  <a:pt x="99952" y="0"/>
                </a:moveTo>
                <a:lnTo>
                  <a:pt x="99952" y="21600"/>
                </a:lnTo>
                <a:lnTo>
                  <a:pt x="98552" y="20200"/>
                </a:lnTo>
                <a:lnTo>
                  <a:pt x="98552" y="1400"/>
                </a:lnTo>
                <a:close/>
              </a:path>
              <a:path fill="darkenLess" w="99952" h="21600">
                <a:moveTo>
                  <a:pt x="999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8552" y="20200"/>
                </a:lnTo>
                <a:close/>
              </a:path>
              <a:path fill="lighten" w="999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99952" h="21600">
                <a:moveTo>
                  <a:pt x="42970" y="7493"/>
                </a:moveTo>
                <a:lnTo>
                  <a:pt x="46477" y="7493"/>
                </a:lnTo>
                <a:lnTo>
                  <a:pt x="46477" y="12828"/>
                </a:lnTo>
                <a:cubicBezTo>
                  <a:pt x="46477" y="13751"/>
                  <a:pt x="47278" y="14482"/>
                  <a:pt x="48314" y="14482"/>
                </a:cubicBezTo>
                <a:lnTo>
                  <a:pt x="49976" y="14482"/>
                </a:lnTo>
                <a:cubicBezTo>
                  <a:pt x="51012" y="14482"/>
                  <a:pt x="51813" y="13751"/>
                  <a:pt x="51813" y="12828"/>
                </a:cubicBezTo>
                <a:lnTo>
                  <a:pt x="51813" y="7493"/>
                </a:lnTo>
                <a:lnTo>
                  <a:pt x="49976" y="7493"/>
                </a:lnTo>
                <a:lnTo>
                  <a:pt x="53484" y="3985"/>
                </a:lnTo>
                <a:lnTo>
                  <a:pt x="57157" y="7493"/>
                </a:lnTo>
                <a:lnTo>
                  <a:pt x="55320" y="7493"/>
                </a:lnTo>
                <a:lnTo>
                  <a:pt x="55320" y="12828"/>
                </a:lnTo>
                <a:cubicBezTo>
                  <a:pt x="55320" y="15596"/>
                  <a:pt x="52744" y="18155"/>
                  <a:pt x="49976" y="18155"/>
                </a:cubicBezTo>
                <a:lnTo>
                  <a:pt x="48314" y="18155"/>
                </a:lnTo>
                <a:cubicBezTo>
                  <a:pt x="45546" y="18155"/>
                  <a:pt x="42970" y="15596"/>
                  <a:pt x="42970" y="12828"/>
                </a:cubicBez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>
            <a:hlinkClick r:id="" action="ppaction://hlinkshowjump?jump=previousslide"/>
          </p:cNvPr>
          <p:cNvSpPr/>
          <p:nvPr/>
        </p:nvSpPr>
        <p:spPr>
          <a:xfrm>
            <a:off x="6502320" y="6572160"/>
            <a:ext cx="812880" cy="228600"/>
          </a:xfrm>
          <a:custGeom>
            <a:avLst/>
            <a:gdLst>
              <a:gd name="textAreaLeft" fmla="*/ 14760 w 812880"/>
              <a:gd name="textAreaRight" fmla="*/ 798120 w 81288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76721" h="21600">
                <a:moveTo>
                  <a:pt x="0" y="0"/>
                </a:moveTo>
                <a:lnTo>
                  <a:pt x="76721" y="0"/>
                </a:lnTo>
                <a:lnTo>
                  <a:pt x="76721" y="21600"/>
                </a:lnTo>
                <a:lnTo>
                  <a:pt x="0" y="21600"/>
                </a:lnTo>
                <a:close/>
              </a:path>
              <a:path fill="lightenLess" w="76721" h="21600">
                <a:moveTo>
                  <a:pt x="0" y="0"/>
                </a:moveTo>
                <a:lnTo>
                  <a:pt x="76721" y="0"/>
                </a:lnTo>
                <a:lnTo>
                  <a:pt x="75321" y="1400"/>
                </a:lnTo>
                <a:lnTo>
                  <a:pt x="1400" y="1400"/>
                </a:lnTo>
                <a:close/>
              </a:path>
              <a:path fill="darken" w="76721" h="21600">
                <a:moveTo>
                  <a:pt x="76721" y="0"/>
                </a:moveTo>
                <a:lnTo>
                  <a:pt x="76721" y="21600"/>
                </a:lnTo>
                <a:lnTo>
                  <a:pt x="75321" y="20200"/>
                </a:lnTo>
                <a:lnTo>
                  <a:pt x="75321" y="1400"/>
                </a:lnTo>
                <a:close/>
              </a:path>
              <a:path fill="darkenLess" w="76721" h="21600">
                <a:moveTo>
                  <a:pt x="767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5321" y="20200"/>
                </a:lnTo>
                <a:close/>
              </a:path>
              <a:path fill="lighten" w="767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6721" h="21600">
                <a:moveTo>
                  <a:pt x="31354" y="10800"/>
                </a:moveTo>
                <a:lnTo>
                  <a:pt x="45367" y="3794"/>
                </a:lnTo>
                <a:lnTo>
                  <a:pt x="45367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>
            <a:hlinkClick r:id="" action="ppaction://hlinkshowjump?jump=firstslide"/>
          </p:cNvPr>
          <p:cNvSpPr/>
          <p:nvPr/>
        </p:nvSpPr>
        <p:spPr>
          <a:xfrm>
            <a:off x="1011240" y="6559560"/>
            <a:ext cx="1631880" cy="241200"/>
          </a:xfrm>
          <a:custGeom>
            <a:avLst/>
            <a:gdLst>
              <a:gd name="textAreaLeft" fmla="*/ 15480 w 1631880"/>
              <a:gd name="textAreaRight" fmla="*/ 1616400 w 1631880"/>
              <a:gd name="textAreaTop" fmla="*/ 15480 h 241200"/>
              <a:gd name="textAreaBottom" fmla="*/ 225720 h 241200"/>
            </a:gdLst>
            <a:ahLst/>
            <a:rect l="textAreaLeft" t="textAreaTop" r="textAreaRight" b="textAreaBottom"/>
            <a:pathLst>
              <a:path w="145953" h="21600">
                <a:moveTo>
                  <a:pt x="0" y="0"/>
                </a:moveTo>
                <a:lnTo>
                  <a:pt x="145953" y="0"/>
                </a:lnTo>
                <a:lnTo>
                  <a:pt x="145953" y="21600"/>
                </a:lnTo>
                <a:lnTo>
                  <a:pt x="0" y="21600"/>
                </a:lnTo>
                <a:close/>
              </a:path>
              <a:path fill="lightenLess" w="145953" h="21600">
                <a:moveTo>
                  <a:pt x="0" y="0"/>
                </a:moveTo>
                <a:lnTo>
                  <a:pt x="145953" y="0"/>
                </a:lnTo>
                <a:lnTo>
                  <a:pt x="144553" y="1400"/>
                </a:lnTo>
                <a:lnTo>
                  <a:pt x="1400" y="1400"/>
                </a:lnTo>
                <a:close/>
              </a:path>
              <a:path fill="darken" w="145953" h="21600">
                <a:moveTo>
                  <a:pt x="145953" y="0"/>
                </a:moveTo>
                <a:lnTo>
                  <a:pt x="145953" y="21600"/>
                </a:lnTo>
                <a:lnTo>
                  <a:pt x="144553" y="20200"/>
                </a:lnTo>
                <a:lnTo>
                  <a:pt x="144553" y="1400"/>
                </a:lnTo>
                <a:close/>
              </a:path>
              <a:path fill="darkenLess" w="145953" h="21600">
                <a:moveTo>
                  <a:pt x="1459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44553" y="20200"/>
                </a:lnTo>
                <a:close/>
              </a:path>
              <a:path fill="lighten" w="1459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45953" h="21600">
                <a:moveTo>
                  <a:pt x="72976" y="3837"/>
                </a:moveTo>
                <a:lnTo>
                  <a:pt x="75553" y="6448"/>
                </a:lnTo>
                <a:lnTo>
                  <a:pt x="75553" y="4707"/>
                </a:lnTo>
                <a:lnTo>
                  <a:pt x="77328" y="4707"/>
                </a:lnTo>
                <a:lnTo>
                  <a:pt x="77328" y="8224"/>
                </a:lnTo>
                <a:lnTo>
                  <a:pt x="79939" y="10800"/>
                </a:lnTo>
                <a:lnTo>
                  <a:pt x="78286" y="10800"/>
                </a:lnTo>
                <a:lnTo>
                  <a:pt x="78286" y="17989"/>
                </a:lnTo>
                <a:lnTo>
                  <a:pt x="67667" y="17989"/>
                </a:lnTo>
                <a:lnTo>
                  <a:pt x="67667" y="10800"/>
                </a:lnTo>
                <a:lnTo>
                  <a:pt x="66013" y="10800"/>
                </a:lnTo>
                <a:close/>
              </a:path>
              <a:path fill="darkenLess" w="145953" h="21600">
                <a:moveTo>
                  <a:pt x="75553" y="6448"/>
                </a:moveTo>
                <a:lnTo>
                  <a:pt x="75553" y="4707"/>
                </a:lnTo>
                <a:lnTo>
                  <a:pt x="77328" y="4707"/>
                </a:lnTo>
                <a:lnTo>
                  <a:pt x="77328" y="8224"/>
                </a:lnTo>
                <a:close/>
              </a:path>
              <a:path fill="darkenLess" w="145953" h="21600">
                <a:moveTo>
                  <a:pt x="72054" y="14299"/>
                </a:moveTo>
                <a:lnTo>
                  <a:pt x="73899" y="14299"/>
                </a:lnTo>
                <a:lnTo>
                  <a:pt x="73899" y="17989"/>
                </a:lnTo>
                <a:lnTo>
                  <a:pt x="78286" y="17989"/>
                </a:lnTo>
                <a:lnTo>
                  <a:pt x="78286" y="10800"/>
                </a:lnTo>
                <a:lnTo>
                  <a:pt x="67667" y="10800"/>
                </a:lnTo>
                <a:lnTo>
                  <a:pt x="67667" y="17989"/>
                </a:lnTo>
                <a:lnTo>
                  <a:pt x="72054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F14D8-5871-4485-8F10-C6C44A117C4F}" type="slidenum">
              <a:t>17</a:t>
            </a:fld>
          </a:p>
        </p:txBody>
      </p:sp>
    </p:spTree>
  </p:cSld>
  <p:transition>
    <p:pull dir="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1587600" y="398520"/>
            <a:ext cx="599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Comic Sans MS"/>
                <a:ea typeface="Times New Roman"/>
              </a:rPr>
              <a:t>4.  </a:t>
            </a:r>
            <a:r>
              <a:rPr b="1" i="1" lang="en-US" sz="2400" spc="-1" strike="noStrike">
                <a:solidFill>
                  <a:srgbClr val="008000"/>
                </a:solidFill>
                <a:latin typeface="Comic Sans MS"/>
                <a:ea typeface="Times New Roman"/>
              </a:rPr>
              <a:t>CENTRI SERVIZI AMMINISTRATIVI PER LA PROVINCIA DI  NAP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10960" y="1547640"/>
            <a:ext cx="6286680" cy="1078200"/>
          </a:xfrm>
          <a:prstGeom prst="rect">
            <a:avLst/>
          </a:prstGeom>
          <a:solidFill>
            <a:srgbClr val="00cc99">
              <a:alpha val="5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C.S.A. NAPOLI 1 :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REA  METROPOLITANA DI NAPOL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mbiti 8 a, 8 b, 8 c   della C.P.O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de: Napoli- Sede  dell’Ufficio Scolastico Provincia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083040" y="2840040"/>
            <a:ext cx="5802120" cy="1078200"/>
          </a:xfrm>
          <a:prstGeom prst="rect">
            <a:avLst/>
          </a:prstGeom>
          <a:solidFill>
            <a:srgbClr val="00cc99">
              <a:alpha val="5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.S.A.  NAPOLI 2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AREA  NORD – OV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MBITI 2 e 3 della C.P.O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de: : da concordare con Regione, Provincia, Enti Local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43000" y="4087800"/>
            <a:ext cx="5662440" cy="1078200"/>
          </a:xfrm>
          <a:prstGeom prst="rect">
            <a:avLst/>
          </a:prstGeom>
          <a:solidFill>
            <a:srgbClr val="00cc99">
              <a:alpha val="5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.S.A.  NAPOLI 3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 AREA EST- VESUVIA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MBITI 4 e 5 della C.P.O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de:  da concordare con Regione, Provincia, Enti Local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106800" y="5388120"/>
            <a:ext cx="5757840" cy="951120"/>
          </a:xfrm>
          <a:prstGeom prst="rect">
            <a:avLst/>
          </a:prstGeom>
          <a:solidFill>
            <a:srgbClr val="00cc99">
              <a:alpha val="5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C.S.A. NAPOLI 4: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EA SUD - MIGLIO D’ORO (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MBITI 6 e 7   della C.P.O.)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de:  da concordare con Regione, Provincia, Enti Local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>
            <a:hlinkClick r:id="" action="ppaction://hlinkshowjump?jump=nextslide"/>
          </p:cNvPr>
          <p:cNvSpPr/>
          <p:nvPr/>
        </p:nvSpPr>
        <p:spPr>
          <a:xfrm>
            <a:off x="7315200" y="6572160"/>
            <a:ext cx="812880" cy="228600"/>
          </a:xfrm>
          <a:custGeom>
            <a:avLst/>
            <a:gdLst>
              <a:gd name="textAreaLeft" fmla="*/ 14760 w 812880"/>
              <a:gd name="textAreaRight" fmla="*/ 798120 w 81288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76721" h="21600">
                <a:moveTo>
                  <a:pt x="0" y="0"/>
                </a:moveTo>
                <a:lnTo>
                  <a:pt x="76721" y="0"/>
                </a:lnTo>
                <a:lnTo>
                  <a:pt x="76721" y="21600"/>
                </a:lnTo>
                <a:lnTo>
                  <a:pt x="0" y="21600"/>
                </a:lnTo>
                <a:close/>
              </a:path>
              <a:path fill="lightenLess" w="76721" h="21600">
                <a:moveTo>
                  <a:pt x="0" y="0"/>
                </a:moveTo>
                <a:lnTo>
                  <a:pt x="76721" y="0"/>
                </a:lnTo>
                <a:lnTo>
                  <a:pt x="75321" y="1400"/>
                </a:lnTo>
                <a:lnTo>
                  <a:pt x="1400" y="1400"/>
                </a:lnTo>
                <a:close/>
              </a:path>
              <a:path fill="darken" w="76721" h="21600">
                <a:moveTo>
                  <a:pt x="76721" y="0"/>
                </a:moveTo>
                <a:lnTo>
                  <a:pt x="76721" y="21600"/>
                </a:lnTo>
                <a:lnTo>
                  <a:pt x="75321" y="20200"/>
                </a:lnTo>
                <a:lnTo>
                  <a:pt x="75321" y="1400"/>
                </a:lnTo>
                <a:close/>
              </a:path>
              <a:path fill="darkenLess" w="76721" h="21600">
                <a:moveTo>
                  <a:pt x="767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5321" y="20200"/>
                </a:lnTo>
                <a:close/>
              </a:path>
              <a:path fill="lighten" w="767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6721" h="21600">
                <a:moveTo>
                  <a:pt x="31354" y="3794"/>
                </a:moveTo>
                <a:lnTo>
                  <a:pt x="45367" y="10800"/>
                </a:lnTo>
                <a:lnTo>
                  <a:pt x="3135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>
            <a:hlinkClick r:id="rId2" action="ppaction://hlinksldjump"/>
          </p:cNvPr>
          <p:cNvSpPr/>
          <p:nvPr/>
        </p:nvSpPr>
        <p:spPr>
          <a:xfrm>
            <a:off x="4019400" y="6559560"/>
            <a:ext cx="1117800" cy="241200"/>
          </a:xfrm>
          <a:custGeom>
            <a:avLst/>
            <a:gdLst>
              <a:gd name="textAreaLeft" fmla="*/ 15480 w 1117800"/>
              <a:gd name="textAreaRight" fmla="*/ 1102320 w 1117800"/>
              <a:gd name="textAreaTop" fmla="*/ 15480 h 241200"/>
              <a:gd name="textAreaBottom" fmla="*/ 225720 h 241200"/>
            </a:gdLst>
            <a:ahLst/>
            <a:rect l="textAreaLeft" t="textAreaTop" r="textAreaRight" b="textAreaBottom"/>
            <a:pathLst>
              <a:path w="99985" h="21600">
                <a:moveTo>
                  <a:pt x="0" y="0"/>
                </a:moveTo>
                <a:lnTo>
                  <a:pt x="99985" y="0"/>
                </a:lnTo>
                <a:lnTo>
                  <a:pt x="99985" y="21600"/>
                </a:lnTo>
                <a:lnTo>
                  <a:pt x="0" y="21600"/>
                </a:lnTo>
                <a:close/>
              </a:path>
              <a:path fill="lightenLess" w="99985" h="21600">
                <a:moveTo>
                  <a:pt x="0" y="0"/>
                </a:moveTo>
                <a:lnTo>
                  <a:pt x="99985" y="0"/>
                </a:lnTo>
                <a:lnTo>
                  <a:pt x="98585" y="1400"/>
                </a:lnTo>
                <a:lnTo>
                  <a:pt x="1400" y="1400"/>
                </a:lnTo>
                <a:close/>
              </a:path>
              <a:path fill="darken" w="99985" h="21600">
                <a:moveTo>
                  <a:pt x="99985" y="0"/>
                </a:moveTo>
                <a:lnTo>
                  <a:pt x="99985" y="21600"/>
                </a:lnTo>
                <a:lnTo>
                  <a:pt x="98585" y="20200"/>
                </a:lnTo>
                <a:lnTo>
                  <a:pt x="98585" y="1400"/>
                </a:lnTo>
                <a:close/>
              </a:path>
              <a:path fill="darkenLess" w="99985" h="21600">
                <a:moveTo>
                  <a:pt x="999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8585" y="20200"/>
                </a:lnTo>
                <a:close/>
              </a:path>
              <a:path fill="lighten" w="999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99985" h="21600">
                <a:moveTo>
                  <a:pt x="42986" y="7493"/>
                </a:moveTo>
                <a:lnTo>
                  <a:pt x="46493" y="7493"/>
                </a:lnTo>
                <a:lnTo>
                  <a:pt x="46493" y="12828"/>
                </a:lnTo>
                <a:cubicBezTo>
                  <a:pt x="46493" y="13751"/>
                  <a:pt x="47294" y="14482"/>
                  <a:pt x="48330" y="14482"/>
                </a:cubicBezTo>
                <a:lnTo>
                  <a:pt x="49992" y="14482"/>
                </a:lnTo>
                <a:cubicBezTo>
                  <a:pt x="51028" y="14482"/>
                  <a:pt x="51829" y="13751"/>
                  <a:pt x="51829" y="12828"/>
                </a:cubicBezTo>
                <a:lnTo>
                  <a:pt x="51829" y="7493"/>
                </a:lnTo>
                <a:lnTo>
                  <a:pt x="49992" y="7493"/>
                </a:lnTo>
                <a:lnTo>
                  <a:pt x="53500" y="3985"/>
                </a:lnTo>
                <a:lnTo>
                  <a:pt x="57173" y="7493"/>
                </a:lnTo>
                <a:lnTo>
                  <a:pt x="55336" y="7493"/>
                </a:lnTo>
                <a:lnTo>
                  <a:pt x="55336" y="12828"/>
                </a:lnTo>
                <a:cubicBezTo>
                  <a:pt x="55336" y="15596"/>
                  <a:pt x="52760" y="18155"/>
                  <a:pt x="49992" y="18155"/>
                </a:cubicBezTo>
                <a:lnTo>
                  <a:pt x="48330" y="18155"/>
                </a:lnTo>
                <a:cubicBezTo>
                  <a:pt x="45562" y="18155"/>
                  <a:pt x="42986" y="15596"/>
                  <a:pt x="42986" y="12828"/>
                </a:cubicBez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>
            <a:hlinkClick r:id="" action="ppaction://hlinkshowjump?jump=previousslide"/>
          </p:cNvPr>
          <p:cNvSpPr/>
          <p:nvPr/>
        </p:nvSpPr>
        <p:spPr>
          <a:xfrm>
            <a:off x="6502320" y="6572160"/>
            <a:ext cx="812880" cy="228600"/>
          </a:xfrm>
          <a:custGeom>
            <a:avLst/>
            <a:gdLst>
              <a:gd name="textAreaLeft" fmla="*/ 14760 w 812880"/>
              <a:gd name="textAreaRight" fmla="*/ 798120 w 81288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76721" h="21600">
                <a:moveTo>
                  <a:pt x="0" y="0"/>
                </a:moveTo>
                <a:lnTo>
                  <a:pt x="76721" y="0"/>
                </a:lnTo>
                <a:lnTo>
                  <a:pt x="76721" y="21600"/>
                </a:lnTo>
                <a:lnTo>
                  <a:pt x="0" y="21600"/>
                </a:lnTo>
                <a:close/>
              </a:path>
              <a:path fill="lightenLess" w="76721" h="21600">
                <a:moveTo>
                  <a:pt x="0" y="0"/>
                </a:moveTo>
                <a:lnTo>
                  <a:pt x="76721" y="0"/>
                </a:lnTo>
                <a:lnTo>
                  <a:pt x="75321" y="1400"/>
                </a:lnTo>
                <a:lnTo>
                  <a:pt x="1400" y="1400"/>
                </a:lnTo>
                <a:close/>
              </a:path>
              <a:path fill="darken" w="76721" h="21600">
                <a:moveTo>
                  <a:pt x="76721" y="0"/>
                </a:moveTo>
                <a:lnTo>
                  <a:pt x="76721" y="21600"/>
                </a:lnTo>
                <a:lnTo>
                  <a:pt x="75321" y="20200"/>
                </a:lnTo>
                <a:lnTo>
                  <a:pt x="75321" y="1400"/>
                </a:lnTo>
                <a:close/>
              </a:path>
              <a:path fill="darkenLess" w="76721" h="21600">
                <a:moveTo>
                  <a:pt x="767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5321" y="20200"/>
                </a:lnTo>
                <a:close/>
              </a:path>
              <a:path fill="lighten" w="767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6721" h="21600">
                <a:moveTo>
                  <a:pt x="31354" y="10800"/>
                </a:moveTo>
                <a:lnTo>
                  <a:pt x="45367" y="3794"/>
                </a:lnTo>
                <a:lnTo>
                  <a:pt x="45367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>
            <a:hlinkClick r:id="" action="ppaction://hlinkshowjump?jump=firstslide"/>
          </p:cNvPr>
          <p:cNvSpPr/>
          <p:nvPr/>
        </p:nvSpPr>
        <p:spPr>
          <a:xfrm>
            <a:off x="1011240" y="6559560"/>
            <a:ext cx="1631880" cy="241200"/>
          </a:xfrm>
          <a:custGeom>
            <a:avLst/>
            <a:gdLst>
              <a:gd name="textAreaLeft" fmla="*/ 15480 w 1631880"/>
              <a:gd name="textAreaRight" fmla="*/ 1616400 w 1631880"/>
              <a:gd name="textAreaTop" fmla="*/ 15480 h 241200"/>
              <a:gd name="textAreaBottom" fmla="*/ 225720 h 241200"/>
            </a:gdLst>
            <a:ahLst/>
            <a:rect l="textAreaLeft" t="textAreaTop" r="textAreaRight" b="textAreaBottom"/>
            <a:pathLst>
              <a:path w="145953" h="21600">
                <a:moveTo>
                  <a:pt x="0" y="0"/>
                </a:moveTo>
                <a:lnTo>
                  <a:pt x="145953" y="0"/>
                </a:lnTo>
                <a:lnTo>
                  <a:pt x="145953" y="21600"/>
                </a:lnTo>
                <a:lnTo>
                  <a:pt x="0" y="21600"/>
                </a:lnTo>
                <a:close/>
              </a:path>
              <a:path fill="lightenLess" w="145953" h="21600">
                <a:moveTo>
                  <a:pt x="0" y="0"/>
                </a:moveTo>
                <a:lnTo>
                  <a:pt x="145953" y="0"/>
                </a:lnTo>
                <a:lnTo>
                  <a:pt x="144553" y="1400"/>
                </a:lnTo>
                <a:lnTo>
                  <a:pt x="1400" y="1400"/>
                </a:lnTo>
                <a:close/>
              </a:path>
              <a:path fill="darken" w="145953" h="21600">
                <a:moveTo>
                  <a:pt x="145953" y="0"/>
                </a:moveTo>
                <a:lnTo>
                  <a:pt x="145953" y="21600"/>
                </a:lnTo>
                <a:lnTo>
                  <a:pt x="144553" y="20200"/>
                </a:lnTo>
                <a:lnTo>
                  <a:pt x="144553" y="1400"/>
                </a:lnTo>
                <a:close/>
              </a:path>
              <a:path fill="darkenLess" w="145953" h="21600">
                <a:moveTo>
                  <a:pt x="1459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44553" y="20200"/>
                </a:lnTo>
                <a:close/>
              </a:path>
              <a:path fill="lighten" w="1459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45953" h="21600">
                <a:moveTo>
                  <a:pt x="72976" y="3837"/>
                </a:moveTo>
                <a:lnTo>
                  <a:pt x="75553" y="6448"/>
                </a:lnTo>
                <a:lnTo>
                  <a:pt x="75553" y="4707"/>
                </a:lnTo>
                <a:lnTo>
                  <a:pt x="77328" y="4707"/>
                </a:lnTo>
                <a:lnTo>
                  <a:pt x="77328" y="8224"/>
                </a:lnTo>
                <a:lnTo>
                  <a:pt x="79939" y="10800"/>
                </a:lnTo>
                <a:lnTo>
                  <a:pt x="78286" y="10800"/>
                </a:lnTo>
                <a:lnTo>
                  <a:pt x="78286" y="17989"/>
                </a:lnTo>
                <a:lnTo>
                  <a:pt x="67667" y="17989"/>
                </a:lnTo>
                <a:lnTo>
                  <a:pt x="67667" y="10800"/>
                </a:lnTo>
                <a:lnTo>
                  <a:pt x="66013" y="10800"/>
                </a:lnTo>
                <a:close/>
              </a:path>
              <a:path fill="darkenLess" w="145953" h="21600">
                <a:moveTo>
                  <a:pt x="75553" y="6448"/>
                </a:moveTo>
                <a:lnTo>
                  <a:pt x="75553" y="4707"/>
                </a:lnTo>
                <a:lnTo>
                  <a:pt x="77328" y="4707"/>
                </a:lnTo>
                <a:lnTo>
                  <a:pt x="77328" y="8224"/>
                </a:lnTo>
                <a:close/>
              </a:path>
              <a:path fill="darkenLess" w="145953" h="21600">
                <a:moveTo>
                  <a:pt x="72054" y="14299"/>
                </a:moveTo>
                <a:lnTo>
                  <a:pt x="73899" y="14299"/>
                </a:lnTo>
                <a:lnTo>
                  <a:pt x="73899" y="17989"/>
                </a:lnTo>
                <a:lnTo>
                  <a:pt x="78286" y="17989"/>
                </a:lnTo>
                <a:lnTo>
                  <a:pt x="78286" y="10800"/>
                </a:lnTo>
                <a:lnTo>
                  <a:pt x="67667" y="10800"/>
                </a:lnTo>
                <a:lnTo>
                  <a:pt x="67667" y="17989"/>
                </a:lnTo>
                <a:lnTo>
                  <a:pt x="72054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124CB-3709-4B39-A39F-6D75997ED080}" type="slidenum">
              <a:t>18</a:t>
            </a:fld>
          </a:p>
        </p:txBody>
      </p:sp>
    </p:spTree>
  </p:cSld>
  <p:transition>
    <p:pull dir="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1092240" y="398520"/>
            <a:ext cx="7010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8000"/>
                </a:solidFill>
                <a:latin typeface="Comic Sans MS"/>
                <a:ea typeface="Times New Roman"/>
              </a:rPr>
              <a:t>5.  CENTRI SERVIZI AMMINISTRATIVI PER LA PROVINCIA DI SALERNO</a:t>
            </a:r>
            <a:r>
              <a:rPr b="1" i="1" lang="en-US" sz="2400" spc="-1" strike="noStrike">
                <a:solidFill>
                  <a:srgbClr val="008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581120" y="1344600"/>
            <a:ext cx="5994360" cy="1202760"/>
          </a:xfrm>
          <a:prstGeom prst="rect">
            <a:avLst/>
          </a:prstGeom>
          <a:solidFill>
            <a:srgbClr val="00cc99">
              <a:alpha val="5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.S.A.  SALERNO 1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mbiti  SA 1 e SA 2 della C.P.O.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de:  Salerno Sede  dell’Ufficio Scolastico Provincial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969920" y="2846520"/>
            <a:ext cx="5283360" cy="1477080"/>
          </a:xfrm>
          <a:prstGeom prst="rect">
            <a:avLst/>
          </a:prstGeom>
          <a:solidFill>
            <a:srgbClr val="00cc99">
              <a:alpha val="5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C.S.A.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LERNO 2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mbiti SA 3 e SA 4 della C.P.O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de:da concordare con Regione, Provincia, Enti Locali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969920" y="4703760"/>
            <a:ext cx="5283360" cy="1477080"/>
          </a:xfrm>
          <a:prstGeom prst="rect">
            <a:avLst/>
          </a:prstGeom>
          <a:solidFill>
            <a:srgbClr val="00cc99">
              <a:alpha val="5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C.S.A. SALERNO 3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mbito SA 5 della C.P.O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de: da concordare con Regione, Provincia, Enti Locali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>
            <a:hlinkClick r:id="" action="ppaction://hlinkshowjump?jump=nextslide"/>
          </p:cNvPr>
          <p:cNvSpPr/>
          <p:nvPr/>
        </p:nvSpPr>
        <p:spPr>
          <a:xfrm>
            <a:off x="7315200" y="6572160"/>
            <a:ext cx="812880" cy="228600"/>
          </a:xfrm>
          <a:custGeom>
            <a:avLst/>
            <a:gdLst>
              <a:gd name="textAreaLeft" fmla="*/ 14760 w 812880"/>
              <a:gd name="textAreaRight" fmla="*/ 798120 w 81288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76721" h="21600">
                <a:moveTo>
                  <a:pt x="0" y="0"/>
                </a:moveTo>
                <a:lnTo>
                  <a:pt x="76721" y="0"/>
                </a:lnTo>
                <a:lnTo>
                  <a:pt x="76721" y="21600"/>
                </a:lnTo>
                <a:lnTo>
                  <a:pt x="0" y="21600"/>
                </a:lnTo>
                <a:close/>
              </a:path>
              <a:path fill="lightenLess" w="76721" h="21600">
                <a:moveTo>
                  <a:pt x="0" y="0"/>
                </a:moveTo>
                <a:lnTo>
                  <a:pt x="76721" y="0"/>
                </a:lnTo>
                <a:lnTo>
                  <a:pt x="75321" y="1400"/>
                </a:lnTo>
                <a:lnTo>
                  <a:pt x="1400" y="1400"/>
                </a:lnTo>
                <a:close/>
              </a:path>
              <a:path fill="darken" w="76721" h="21600">
                <a:moveTo>
                  <a:pt x="76721" y="0"/>
                </a:moveTo>
                <a:lnTo>
                  <a:pt x="76721" y="21600"/>
                </a:lnTo>
                <a:lnTo>
                  <a:pt x="75321" y="20200"/>
                </a:lnTo>
                <a:lnTo>
                  <a:pt x="75321" y="1400"/>
                </a:lnTo>
                <a:close/>
              </a:path>
              <a:path fill="darkenLess" w="76721" h="21600">
                <a:moveTo>
                  <a:pt x="767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5321" y="20200"/>
                </a:lnTo>
                <a:close/>
              </a:path>
              <a:path fill="lighten" w="767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6721" h="21600">
                <a:moveTo>
                  <a:pt x="31354" y="3794"/>
                </a:moveTo>
                <a:lnTo>
                  <a:pt x="45367" y="10800"/>
                </a:lnTo>
                <a:lnTo>
                  <a:pt x="3135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>
            <a:hlinkClick r:id="rId2" action="ppaction://hlinksldjump"/>
          </p:cNvPr>
          <p:cNvSpPr/>
          <p:nvPr/>
        </p:nvSpPr>
        <p:spPr>
          <a:xfrm>
            <a:off x="4025880" y="6559560"/>
            <a:ext cx="1117800" cy="241200"/>
          </a:xfrm>
          <a:custGeom>
            <a:avLst/>
            <a:gdLst>
              <a:gd name="textAreaLeft" fmla="*/ 15480 w 1117800"/>
              <a:gd name="textAreaRight" fmla="*/ 1102320 w 1117800"/>
              <a:gd name="textAreaTop" fmla="*/ 15480 h 241200"/>
              <a:gd name="textAreaBottom" fmla="*/ 225720 h 241200"/>
            </a:gdLst>
            <a:ahLst/>
            <a:rect l="textAreaLeft" t="textAreaTop" r="textAreaRight" b="textAreaBottom"/>
            <a:pathLst>
              <a:path w="99985" h="21600">
                <a:moveTo>
                  <a:pt x="0" y="0"/>
                </a:moveTo>
                <a:lnTo>
                  <a:pt x="99985" y="0"/>
                </a:lnTo>
                <a:lnTo>
                  <a:pt x="99985" y="21600"/>
                </a:lnTo>
                <a:lnTo>
                  <a:pt x="0" y="21600"/>
                </a:lnTo>
                <a:close/>
              </a:path>
              <a:path fill="lightenLess" w="99985" h="21600">
                <a:moveTo>
                  <a:pt x="0" y="0"/>
                </a:moveTo>
                <a:lnTo>
                  <a:pt x="99985" y="0"/>
                </a:lnTo>
                <a:lnTo>
                  <a:pt x="98585" y="1400"/>
                </a:lnTo>
                <a:lnTo>
                  <a:pt x="1400" y="1400"/>
                </a:lnTo>
                <a:close/>
              </a:path>
              <a:path fill="darken" w="99985" h="21600">
                <a:moveTo>
                  <a:pt x="99985" y="0"/>
                </a:moveTo>
                <a:lnTo>
                  <a:pt x="99985" y="21600"/>
                </a:lnTo>
                <a:lnTo>
                  <a:pt x="98585" y="20200"/>
                </a:lnTo>
                <a:lnTo>
                  <a:pt x="98585" y="1400"/>
                </a:lnTo>
                <a:close/>
              </a:path>
              <a:path fill="darkenLess" w="99985" h="21600">
                <a:moveTo>
                  <a:pt x="999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8585" y="20200"/>
                </a:lnTo>
                <a:close/>
              </a:path>
              <a:path fill="lighten" w="999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99985" h="21600">
                <a:moveTo>
                  <a:pt x="42986" y="7493"/>
                </a:moveTo>
                <a:lnTo>
                  <a:pt x="46493" y="7493"/>
                </a:lnTo>
                <a:lnTo>
                  <a:pt x="46493" y="12828"/>
                </a:lnTo>
                <a:cubicBezTo>
                  <a:pt x="46493" y="13751"/>
                  <a:pt x="47294" y="14482"/>
                  <a:pt x="48330" y="14482"/>
                </a:cubicBezTo>
                <a:lnTo>
                  <a:pt x="49992" y="14482"/>
                </a:lnTo>
                <a:cubicBezTo>
                  <a:pt x="51028" y="14482"/>
                  <a:pt x="51829" y="13751"/>
                  <a:pt x="51829" y="12828"/>
                </a:cubicBezTo>
                <a:lnTo>
                  <a:pt x="51829" y="7493"/>
                </a:lnTo>
                <a:lnTo>
                  <a:pt x="49992" y="7493"/>
                </a:lnTo>
                <a:lnTo>
                  <a:pt x="53500" y="3985"/>
                </a:lnTo>
                <a:lnTo>
                  <a:pt x="57173" y="7493"/>
                </a:lnTo>
                <a:lnTo>
                  <a:pt x="55336" y="7493"/>
                </a:lnTo>
                <a:lnTo>
                  <a:pt x="55336" y="12828"/>
                </a:lnTo>
                <a:cubicBezTo>
                  <a:pt x="55336" y="15596"/>
                  <a:pt x="52760" y="18155"/>
                  <a:pt x="49992" y="18155"/>
                </a:cubicBezTo>
                <a:lnTo>
                  <a:pt x="48330" y="18155"/>
                </a:lnTo>
                <a:cubicBezTo>
                  <a:pt x="45562" y="18155"/>
                  <a:pt x="42986" y="15596"/>
                  <a:pt x="42986" y="12828"/>
                </a:cubicBez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>
            <a:hlinkClick r:id="" action="ppaction://hlinkshowjump?jump=previousslide"/>
          </p:cNvPr>
          <p:cNvSpPr/>
          <p:nvPr/>
        </p:nvSpPr>
        <p:spPr>
          <a:xfrm>
            <a:off x="6502320" y="6572160"/>
            <a:ext cx="812880" cy="228600"/>
          </a:xfrm>
          <a:custGeom>
            <a:avLst/>
            <a:gdLst>
              <a:gd name="textAreaLeft" fmla="*/ 14760 w 812880"/>
              <a:gd name="textAreaRight" fmla="*/ 798120 w 81288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76721" h="21600">
                <a:moveTo>
                  <a:pt x="0" y="0"/>
                </a:moveTo>
                <a:lnTo>
                  <a:pt x="76721" y="0"/>
                </a:lnTo>
                <a:lnTo>
                  <a:pt x="76721" y="21600"/>
                </a:lnTo>
                <a:lnTo>
                  <a:pt x="0" y="21600"/>
                </a:lnTo>
                <a:close/>
              </a:path>
              <a:path fill="lightenLess" w="76721" h="21600">
                <a:moveTo>
                  <a:pt x="0" y="0"/>
                </a:moveTo>
                <a:lnTo>
                  <a:pt x="76721" y="0"/>
                </a:lnTo>
                <a:lnTo>
                  <a:pt x="75321" y="1400"/>
                </a:lnTo>
                <a:lnTo>
                  <a:pt x="1400" y="1400"/>
                </a:lnTo>
                <a:close/>
              </a:path>
              <a:path fill="darken" w="76721" h="21600">
                <a:moveTo>
                  <a:pt x="76721" y="0"/>
                </a:moveTo>
                <a:lnTo>
                  <a:pt x="76721" y="21600"/>
                </a:lnTo>
                <a:lnTo>
                  <a:pt x="75321" y="20200"/>
                </a:lnTo>
                <a:lnTo>
                  <a:pt x="75321" y="1400"/>
                </a:lnTo>
                <a:close/>
              </a:path>
              <a:path fill="darkenLess" w="76721" h="21600">
                <a:moveTo>
                  <a:pt x="767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5321" y="20200"/>
                </a:lnTo>
                <a:close/>
              </a:path>
              <a:path fill="lighten" w="767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6721" h="21600">
                <a:moveTo>
                  <a:pt x="31354" y="10800"/>
                </a:moveTo>
                <a:lnTo>
                  <a:pt x="45367" y="3794"/>
                </a:lnTo>
                <a:lnTo>
                  <a:pt x="45367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>
            <a:hlinkClick r:id="" action="ppaction://hlinkshowjump?jump=firstslide"/>
          </p:cNvPr>
          <p:cNvSpPr/>
          <p:nvPr/>
        </p:nvSpPr>
        <p:spPr>
          <a:xfrm>
            <a:off x="1011240" y="6559560"/>
            <a:ext cx="1631880" cy="241200"/>
          </a:xfrm>
          <a:custGeom>
            <a:avLst/>
            <a:gdLst>
              <a:gd name="textAreaLeft" fmla="*/ 15480 w 1631880"/>
              <a:gd name="textAreaRight" fmla="*/ 1616400 w 1631880"/>
              <a:gd name="textAreaTop" fmla="*/ 15480 h 241200"/>
              <a:gd name="textAreaBottom" fmla="*/ 225720 h 241200"/>
            </a:gdLst>
            <a:ahLst/>
            <a:rect l="textAreaLeft" t="textAreaTop" r="textAreaRight" b="textAreaBottom"/>
            <a:pathLst>
              <a:path w="145953" h="21600">
                <a:moveTo>
                  <a:pt x="0" y="0"/>
                </a:moveTo>
                <a:lnTo>
                  <a:pt x="145953" y="0"/>
                </a:lnTo>
                <a:lnTo>
                  <a:pt x="145953" y="21600"/>
                </a:lnTo>
                <a:lnTo>
                  <a:pt x="0" y="21600"/>
                </a:lnTo>
                <a:close/>
              </a:path>
              <a:path fill="lightenLess" w="145953" h="21600">
                <a:moveTo>
                  <a:pt x="0" y="0"/>
                </a:moveTo>
                <a:lnTo>
                  <a:pt x="145953" y="0"/>
                </a:lnTo>
                <a:lnTo>
                  <a:pt x="144553" y="1400"/>
                </a:lnTo>
                <a:lnTo>
                  <a:pt x="1400" y="1400"/>
                </a:lnTo>
                <a:close/>
              </a:path>
              <a:path fill="darken" w="145953" h="21600">
                <a:moveTo>
                  <a:pt x="145953" y="0"/>
                </a:moveTo>
                <a:lnTo>
                  <a:pt x="145953" y="21600"/>
                </a:lnTo>
                <a:lnTo>
                  <a:pt x="144553" y="20200"/>
                </a:lnTo>
                <a:lnTo>
                  <a:pt x="144553" y="1400"/>
                </a:lnTo>
                <a:close/>
              </a:path>
              <a:path fill="darkenLess" w="145953" h="21600">
                <a:moveTo>
                  <a:pt x="1459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44553" y="20200"/>
                </a:lnTo>
                <a:close/>
              </a:path>
              <a:path fill="lighten" w="1459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45953" h="21600">
                <a:moveTo>
                  <a:pt x="72976" y="3837"/>
                </a:moveTo>
                <a:lnTo>
                  <a:pt x="75553" y="6448"/>
                </a:lnTo>
                <a:lnTo>
                  <a:pt x="75553" y="4707"/>
                </a:lnTo>
                <a:lnTo>
                  <a:pt x="77328" y="4707"/>
                </a:lnTo>
                <a:lnTo>
                  <a:pt x="77328" y="8224"/>
                </a:lnTo>
                <a:lnTo>
                  <a:pt x="79939" y="10800"/>
                </a:lnTo>
                <a:lnTo>
                  <a:pt x="78286" y="10800"/>
                </a:lnTo>
                <a:lnTo>
                  <a:pt x="78286" y="17989"/>
                </a:lnTo>
                <a:lnTo>
                  <a:pt x="67667" y="17989"/>
                </a:lnTo>
                <a:lnTo>
                  <a:pt x="67667" y="10800"/>
                </a:lnTo>
                <a:lnTo>
                  <a:pt x="66013" y="10800"/>
                </a:lnTo>
                <a:close/>
              </a:path>
              <a:path fill="darkenLess" w="145953" h="21600">
                <a:moveTo>
                  <a:pt x="75553" y="6448"/>
                </a:moveTo>
                <a:lnTo>
                  <a:pt x="75553" y="4707"/>
                </a:lnTo>
                <a:lnTo>
                  <a:pt x="77328" y="4707"/>
                </a:lnTo>
                <a:lnTo>
                  <a:pt x="77328" y="8224"/>
                </a:lnTo>
                <a:close/>
              </a:path>
              <a:path fill="darkenLess" w="145953" h="21600">
                <a:moveTo>
                  <a:pt x="72054" y="14299"/>
                </a:moveTo>
                <a:lnTo>
                  <a:pt x="73899" y="14299"/>
                </a:lnTo>
                <a:lnTo>
                  <a:pt x="73899" y="17989"/>
                </a:lnTo>
                <a:lnTo>
                  <a:pt x="78286" y="17989"/>
                </a:lnTo>
                <a:lnTo>
                  <a:pt x="78286" y="10800"/>
                </a:lnTo>
                <a:lnTo>
                  <a:pt x="67667" y="10800"/>
                </a:lnTo>
                <a:lnTo>
                  <a:pt x="67667" y="17989"/>
                </a:lnTo>
                <a:lnTo>
                  <a:pt x="72054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90B89-7FE9-4EDD-A916-D84A987AA67C}" type="slidenum">
              <a:t>19</a:t>
            </a:fld>
          </a:p>
        </p:txBody>
      </p:sp>
    </p:spTree>
  </p:cSld>
  <p:transition>
    <p:pull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6415200" y="5778360"/>
            <a:ext cx="2616120" cy="6289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Comic Sans MS"/>
              </a:rPr>
              <a:t>Agenzi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Comic Sans MS"/>
              </a:rPr>
              <a:t>Territorial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400800" y="5002200"/>
            <a:ext cx="2641680" cy="60336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Comic Sans MS"/>
              </a:rPr>
              <a:t>Istituzioni d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Comic Sans MS"/>
              </a:rPr>
              <a:t>territor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380200" y="1422360"/>
            <a:ext cx="1249200" cy="800280"/>
          </a:xfrm>
          <a:prstGeom prst="foldedCorner">
            <a:avLst>
              <a:gd name="adj" fmla="val 12500"/>
            </a:avLst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Comic Sans MS"/>
              </a:rPr>
              <a:t>Consigl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Comic Sans MS"/>
              </a:rPr>
              <a:t>Scolastic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Comic Sans MS"/>
              </a:rPr>
              <a:t>Regiona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422360" y="399960"/>
            <a:ext cx="5994360" cy="514440"/>
          </a:xfrm>
          <a:prstGeom prst="foldedCorner">
            <a:avLst>
              <a:gd name="adj" fmla="val 6777"/>
            </a:avLst>
          </a:prstGeom>
          <a:gradFill rotWithShape="0">
            <a:gsLst>
              <a:gs pos="0">
                <a:srgbClr val="00cc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Comic Sans MS"/>
              </a:rPr>
              <a:t>MINISTERO DELLA PUBBLICA ISTRUZI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80880" y="3746520"/>
            <a:ext cx="6039000" cy="936720"/>
          </a:xfrm>
          <a:prstGeom prst="cube">
            <a:avLst>
              <a:gd name="adj" fmla="val 22398"/>
            </a:avLst>
          </a:prstGeom>
          <a:gradFill rotWithShape="0">
            <a:gsLst>
              <a:gs pos="0">
                <a:srgbClr val="00cc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Comic Sans MS"/>
              </a:rPr>
              <a:t>ISTITUTO  SCOLASTI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55680" y="5268960"/>
            <a:ext cx="2336760" cy="10000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00ccff"/>
              </a:gs>
              <a:gs pos="100000">
                <a:srgbClr val="00cc99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Comic Sans MS"/>
              </a:rPr>
              <a:t>altri Istitut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Comic Sans MS"/>
              </a:rPr>
              <a:t>Scolastic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264440" y="1558800"/>
            <a:ext cx="1790640" cy="674640"/>
          </a:xfrm>
          <a:prstGeom prst="foldedCorner">
            <a:avLst>
              <a:gd name="adj" fmla="val 12500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Comic Sans MS"/>
              </a:rPr>
              <a:t>REGI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>
            <a:hlinkClick r:id="rId2"/>
          </p:cNvPr>
          <p:cNvSpPr/>
          <p:nvPr/>
        </p:nvSpPr>
        <p:spPr>
          <a:xfrm>
            <a:off x="3905280" y="2705040"/>
            <a:ext cx="2446200" cy="577800"/>
          </a:xfrm>
          <a:custGeom>
            <a:avLst/>
            <a:gdLst>
              <a:gd name="textAreaLeft" fmla="*/ 37440 w 2446200"/>
              <a:gd name="textAreaRight" fmla="*/ 2408760 w 2446200"/>
              <a:gd name="textAreaTop" fmla="*/ 37440 h 577800"/>
              <a:gd name="textAreaBottom" fmla="*/ 540360 h 577800"/>
            </a:gdLst>
            <a:ahLst/>
            <a:rect l="textAreaLeft" t="textAreaTop" r="textAreaRight" b="textAreaBottom"/>
            <a:pathLst>
              <a:path w="91403" h="21600">
                <a:moveTo>
                  <a:pt x="0" y="0"/>
                </a:moveTo>
                <a:lnTo>
                  <a:pt x="91403" y="0"/>
                </a:lnTo>
                <a:lnTo>
                  <a:pt x="91403" y="21600"/>
                </a:lnTo>
                <a:lnTo>
                  <a:pt x="0" y="21600"/>
                </a:lnTo>
                <a:close/>
              </a:path>
              <a:path fill="lightenLess" w="91403" h="21600">
                <a:moveTo>
                  <a:pt x="0" y="0"/>
                </a:moveTo>
                <a:lnTo>
                  <a:pt x="91403" y="0"/>
                </a:lnTo>
                <a:lnTo>
                  <a:pt x="90003" y="1400"/>
                </a:lnTo>
                <a:lnTo>
                  <a:pt x="1400" y="1400"/>
                </a:lnTo>
                <a:close/>
              </a:path>
              <a:path fill="darken" w="91403" h="21600">
                <a:moveTo>
                  <a:pt x="91403" y="0"/>
                </a:moveTo>
                <a:lnTo>
                  <a:pt x="91403" y="21600"/>
                </a:lnTo>
                <a:lnTo>
                  <a:pt x="90003" y="20200"/>
                </a:lnTo>
                <a:lnTo>
                  <a:pt x="90003" y="1400"/>
                </a:lnTo>
                <a:close/>
              </a:path>
              <a:path fill="darkenLess" w="91403" h="21600">
                <a:moveTo>
                  <a:pt x="914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0003" y="20200"/>
                </a:lnTo>
                <a:close/>
              </a:path>
              <a:path fill="lighten" w="914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Comic Sans MS"/>
              </a:rPr>
              <a:t>C.S.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Comic Sans MS"/>
              </a:rPr>
              <a:t>Centri Servizi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Comic Sans MS"/>
              </a:rPr>
              <a:t>Amministrativ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>
            <a:hlinkClick r:id="rId3"/>
          </p:cNvPr>
          <p:cNvSpPr/>
          <p:nvPr/>
        </p:nvSpPr>
        <p:spPr>
          <a:xfrm>
            <a:off x="157320" y="2698920"/>
            <a:ext cx="2463480" cy="579240"/>
          </a:xfrm>
          <a:custGeom>
            <a:avLst/>
            <a:gdLst>
              <a:gd name="textAreaLeft" fmla="*/ 37440 w 2463480"/>
              <a:gd name="textAreaRight" fmla="*/ 2426040 w 2463480"/>
              <a:gd name="textAreaTop" fmla="*/ 37440 h 579240"/>
              <a:gd name="textAreaBottom" fmla="*/ 541800 h 579240"/>
            </a:gdLst>
            <a:ahLst/>
            <a:rect l="textAreaLeft" t="textAreaTop" r="textAreaRight" b="textAreaBottom"/>
            <a:pathLst>
              <a:path w="91820" h="21600">
                <a:moveTo>
                  <a:pt x="0" y="0"/>
                </a:moveTo>
                <a:lnTo>
                  <a:pt x="91820" y="0"/>
                </a:lnTo>
                <a:lnTo>
                  <a:pt x="91820" y="21600"/>
                </a:lnTo>
                <a:lnTo>
                  <a:pt x="0" y="21600"/>
                </a:lnTo>
                <a:close/>
              </a:path>
              <a:path fill="lightenLess" w="91820" h="21600">
                <a:moveTo>
                  <a:pt x="0" y="0"/>
                </a:moveTo>
                <a:lnTo>
                  <a:pt x="91820" y="0"/>
                </a:lnTo>
                <a:lnTo>
                  <a:pt x="90420" y="1400"/>
                </a:lnTo>
                <a:lnTo>
                  <a:pt x="1400" y="1400"/>
                </a:lnTo>
                <a:close/>
              </a:path>
              <a:path fill="darken" w="91820" h="21600">
                <a:moveTo>
                  <a:pt x="91820" y="0"/>
                </a:moveTo>
                <a:lnTo>
                  <a:pt x="91820" y="21600"/>
                </a:lnTo>
                <a:lnTo>
                  <a:pt x="90420" y="20200"/>
                </a:lnTo>
                <a:lnTo>
                  <a:pt x="90420" y="1400"/>
                </a:lnTo>
                <a:close/>
              </a:path>
              <a:path fill="darkenLess" w="91820" h="21600">
                <a:moveTo>
                  <a:pt x="918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0420" y="20200"/>
                </a:lnTo>
                <a:close/>
              </a:path>
              <a:path fill="lighten" w="918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Comic Sans MS"/>
              </a:rPr>
              <a:t>C.S.I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Comic Sans MS"/>
              </a:rPr>
              <a:t>Centri di Servizi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Comic Sans MS"/>
              </a:rPr>
              <a:t>per le II.S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>
            <a:hlinkClick r:id="rId4" action="ppaction://hlinksldjump"/>
          </p:cNvPr>
          <p:cNvSpPr/>
          <p:nvPr/>
        </p:nvSpPr>
        <p:spPr>
          <a:xfrm>
            <a:off x="395280" y="1390680"/>
            <a:ext cx="4616280" cy="857160"/>
          </a:xfrm>
          <a:custGeom>
            <a:avLst/>
            <a:gdLst>
              <a:gd name="textAreaLeft" fmla="*/ 55440 w 4616280"/>
              <a:gd name="textAreaRight" fmla="*/ 4560840 w 4616280"/>
              <a:gd name="textAreaTop" fmla="*/ 55440 h 857160"/>
              <a:gd name="textAreaBottom" fmla="*/ 801720 h 857160"/>
            </a:gdLst>
            <a:ahLst/>
            <a:rect l="textAreaLeft" t="textAreaTop" r="textAreaRight" b="textAreaBottom"/>
            <a:pathLst>
              <a:path w="116288" h="21600">
                <a:moveTo>
                  <a:pt x="0" y="0"/>
                </a:moveTo>
                <a:lnTo>
                  <a:pt x="116288" y="0"/>
                </a:lnTo>
                <a:lnTo>
                  <a:pt x="116288" y="21600"/>
                </a:lnTo>
                <a:lnTo>
                  <a:pt x="0" y="21600"/>
                </a:lnTo>
                <a:close/>
              </a:path>
              <a:path fill="lightenLess" w="116288" h="21600">
                <a:moveTo>
                  <a:pt x="0" y="0"/>
                </a:moveTo>
                <a:lnTo>
                  <a:pt x="116288" y="0"/>
                </a:lnTo>
                <a:lnTo>
                  <a:pt x="114888" y="1400"/>
                </a:lnTo>
                <a:lnTo>
                  <a:pt x="1400" y="1400"/>
                </a:lnTo>
                <a:close/>
              </a:path>
              <a:path fill="darken" w="116288" h="21600">
                <a:moveTo>
                  <a:pt x="116288" y="0"/>
                </a:moveTo>
                <a:lnTo>
                  <a:pt x="116288" y="21600"/>
                </a:lnTo>
                <a:lnTo>
                  <a:pt x="114888" y="20200"/>
                </a:lnTo>
                <a:lnTo>
                  <a:pt x="114888" y="1400"/>
                </a:lnTo>
                <a:close/>
              </a:path>
              <a:path fill="darkenLess" w="116288" h="21600">
                <a:moveTo>
                  <a:pt x="1162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4888" y="20200"/>
                </a:lnTo>
                <a:close/>
              </a:path>
              <a:path fill="lighten" w="1162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66ccff"/>
              </a:gs>
              <a:gs pos="100000">
                <a:srgbClr val="00cc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Comic Sans MS"/>
              </a:rPr>
              <a:t>UFFICIO SCOLASTICO REGIONA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Comic Sans MS"/>
              </a:rPr>
              <a:t>DIREZIONE GENERAL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Comic Sans MS"/>
              </a:rPr>
              <a:t>PER LA CAMPAN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>
            <a:hlinkClick r:id="" action="ppaction://hlinkshowjump?jump=nextslide"/>
          </p:cNvPr>
          <p:cNvSpPr/>
          <p:nvPr/>
        </p:nvSpPr>
        <p:spPr>
          <a:xfrm>
            <a:off x="7315200" y="6572160"/>
            <a:ext cx="812880" cy="228600"/>
          </a:xfrm>
          <a:custGeom>
            <a:avLst/>
            <a:gdLst>
              <a:gd name="textAreaLeft" fmla="*/ 14760 w 812880"/>
              <a:gd name="textAreaRight" fmla="*/ 798120 w 81288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76721" h="21600">
                <a:moveTo>
                  <a:pt x="0" y="0"/>
                </a:moveTo>
                <a:lnTo>
                  <a:pt x="76721" y="0"/>
                </a:lnTo>
                <a:lnTo>
                  <a:pt x="76721" y="21600"/>
                </a:lnTo>
                <a:lnTo>
                  <a:pt x="0" y="21600"/>
                </a:lnTo>
                <a:close/>
              </a:path>
              <a:path fill="lightenLess" w="76721" h="21600">
                <a:moveTo>
                  <a:pt x="0" y="0"/>
                </a:moveTo>
                <a:lnTo>
                  <a:pt x="76721" y="0"/>
                </a:lnTo>
                <a:lnTo>
                  <a:pt x="75321" y="1400"/>
                </a:lnTo>
                <a:lnTo>
                  <a:pt x="1400" y="1400"/>
                </a:lnTo>
                <a:close/>
              </a:path>
              <a:path fill="darken" w="76721" h="21600">
                <a:moveTo>
                  <a:pt x="76721" y="0"/>
                </a:moveTo>
                <a:lnTo>
                  <a:pt x="76721" y="21600"/>
                </a:lnTo>
                <a:lnTo>
                  <a:pt x="75321" y="20200"/>
                </a:lnTo>
                <a:lnTo>
                  <a:pt x="75321" y="1400"/>
                </a:lnTo>
                <a:close/>
              </a:path>
              <a:path fill="darkenLess" w="76721" h="21600">
                <a:moveTo>
                  <a:pt x="767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5321" y="20200"/>
                </a:lnTo>
                <a:close/>
              </a:path>
              <a:path fill="lighten" w="767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6721" h="21600">
                <a:moveTo>
                  <a:pt x="31354" y="3794"/>
                </a:moveTo>
                <a:lnTo>
                  <a:pt x="45367" y="10800"/>
                </a:lnTo>
                <a:lnTo>
                  <a:pt x="3135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>
            <a:hlinkClick r:id="" action="ppaction://hlinkshowjump?jump=previousslide"/>
          </p:cNvPr>
          <p:cNvSpPr/>
          <p:nvPr/>
        </p:nvSpPr>
        <p:spPr>
          <a:xfrm>
            <a:off x="6502320" y="6572160"/>
            <a:ext cx="812880" cy="228600"/>
          </a:xfrm>
          <a:custGeom>
            <a:avLst/>
            <a:gdLst>
              <a:gd name="textAreaLeft" fmla="*/ 14760 w 812880"/>
              <a:gd name="textAreaRight" fmla="*/ 798120 w 81288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76721" h="21600">
                <a:moveTo>
                  <a:pt x="0" y="0"/>
                </a:moveTo>
                <a:lnTo>
                  <a:pt x="76721" y="0"/>
                </a:lnTo>
                <a:lnTo>
                  <a:pt x="76721" y="21600"/>
                </a:lnTo>
                <a:lnTo>
                  <a:pt x="0" y="21600"/>
                </a:lnTo>
                <a:close/>
              </a:path>
              <a:path fill="lightenLess" w="76721" h="21600">
                <a:moveTo>
                  <a:pt x="0" y="0"/>
                </a:moveTo>
                <a:lnTo>
                  <a:pt x="76721" y="0"/>
                </a:lnTo>
                <a:lnTo>
                  <a:pt x="75321" y="1400"/>
                </a:lnTo>
                <a:lnTo>
                  <a:pt x="1400" y="1400"/>
                </a:lnTo>
                <a:close/>
              </a:path>
              <a:path fill="darken" w="76721" h="21600">
                <a:moveTo>
                  <a:pt x="76721" y="0"/>
                </a:moveTo>
                <a:lnTo>
                  <a:pt x="76721" y="21600"/>
                </a:lnTo>
                <a:lnTo>
                  <a:pt x="75321" y="20200"/>
                </a:lnTo>
                <a:lnTo>
                  <a:pt x="75321" y="1400"/>
                </a:lnTo>
                <a:close/>
              </a:path>
              <a:path fill="darkenLess" w="76721" h="21600">
                <a:moveTo>
                  <a:pt x="767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5321" y="20200"/>
                </a:lnTo>
                <a:close/>
              </a:path>
              <a:path fill="lighten" w="767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6721" h="21600">
                <a:moveTo>
                  <a:pt x="31354" y="10800"/>
                </a:moveTo>
                <a:lnTo>
                  <a:pt x="45367" y="3794"/>
                </a:lnTo>
                <a:lnTo>
                  <a:pt x="45367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2" name=""/>
          <p:cNvCxnSpPr>
            <a:stCxn id="59" idx="0"/>
            <a:endCxn id="52" idx="1"/>
          </p:cNvCxnSpPr>
          <p:nvPr/>
        </p:nvCxnSpPr>
        <p:spPr>
          <a:xfrm>
            <a:off x="4957560" y="1819440"/>
            <a:ext cx="423000" cy="3600"/>
          </a:xfrm>
          <a:prstGeom prst="straightConnector1">
            <a:avLst/>
          </a:prstGeom>
          <a:ln w="76320">
            <a:solidFill>
              <a:srgbClr val="00cc99"/>
            </a:solidFill>
            <a:miter/>
          </a:ln>
        </p:spPr>
      </p:cxnSp>
      <p:cxnSp>
        <p:nvCxnSpPr>
          <p:cNvPr id="63" name=""/>
          <p:cNvCxnSpPr>
            <a:stCxn id="54" idx="3"/>
            <a:endCxn id="51" idx="1"/>
          </p:cNvCxnSpPr>
          <p:nvPr/>
        </p:nvCxnSpPr>
        <p:spPr>
          <a:xfrm flipH="1" rot="16200000">
            <a:off x="4537080" y="3440880"/>
            <a:ext cx="621000" cy="3105720"/>
          </a:xfrm>
          <a:prstGeom prst="bentConnector2">
            <a:avLst/>
          </a:prstGeom>
          <a:ln w="76320">
            <a:solidFill>
              <a:srgbClr val="00cc99"/>
            </a:solidFill>
            <a:miter/>
          </a:ln>
        </p:spPr>
      </p:cxnSp>
      <p:cxnSp>
        <p:nvCxnSpPr>
          <p:cNvPr id="64" name=""/>
          <p:cNvCxnSpPr>
            <a:stCxn id="50" idx="1"/>
            <a:endCxn id="54" idx="3"/>
          </p:cNvCxnSpPr>
          <p:nvPr/>
        </p:nvCxnSpPr>
        <p:spPr>
          <a:xfrm rot="10800000">
            <a:off x="3295080" y="4682520"/>
            <a:ext cx="3120120" cy="1410480"/>
          </a:xfrm>
          <a:prstGeom prst="bentConnector2">
            <a:avLst/>
          </a:prstGeom>
          <a:ln w="76320">
            <a:solidFill>
              <a:srgbClr val="00cc99"/>
            </a:solidFill>
            <a:miter/>
          </a:ln>
        </p:spPr>
      </p:cxnSp>
      <p:cxnSp>
        <p:nvCxnSpPr>
          <p:cNvPr id="65" name=""/>
          <p:cNvCxnSpPr>
            <a:stCxn id="55" idx="0"/>
            <a:endCxn id="54" idx="3"/>
          </p:cNvCxnSpPr>
          <p:nvPr/>
        </p:nvCxnSpPr>
        <p:spPr>
          <a:xfrm flipH="1" flipV="1" rot="5400000">
            <a:off x="2116800" y="4089600"/>
            <a:ext cx="586440" cy="1772640"/>
          </a:xfrm>
          <a:prstGeom prst="bentConnector3">
            <a:avLst>
              <a:gd name="adj1" fmla="val 49815"/>
            </a:avLst>
          </a:prstGeom>
          <a:ln w="76320">
            <a:solidFill>
              <a:srgbClr val="00cc99"/>
            </a:solidFill>
            <a:miter/>
          </a:ln>
        </p:spPr>
      </p:cxnSp>
      <p:cxnSp>
        <p:nvCxnSpPr>
          <p:cNvPr id="66" name=""/>
          <p:cNvCxnSpPr>
            <a:stCxn id="57" idx="0"/>
            <a:endCxn id="54" idx="0"/>
          </p:cNvCxnSpPr>
          <p:nvPr/>
        </p:nvCxnSpPr>
        <p:spPr>
          <a:xfrm rot="5400000">
            <a:off x="4084560" y="2702520"/>
            <a:ext cx="464400" cy="1624680"/>
          </a:xfrm>
          <a:prstGeom prst="bentConnector3">
            <a:avLst>
              <a:gd name="adj1" fmla="val 49961"/>
            </a:avLst>
          </a:prstGeom>
          <a:ln w="76320">
            <a:solidFill>
              <a:srgbClr val="00cc99"/>
            </a:solidFill>
            <a:miter/>
          </a:ln>
        </p:spPr>
      </p:cxnSp>
      <p:cxnSp>
        <p:nvCxnSpPr>
          <p:cNvPr id="67" name=""/>
          <p:cNvCxnSpPr>
            <a:stCxn id="58" idx="0"/>
            <a:endCxn id="54" idx="0"/>
          </p:cNvCxnSpPr>
          <p:nvPr/>
        </p:nvCxnSpPr>
        <p:spPr>
          <a:xfrm flipH="1" rot="16200000">
            <a:off x="2212920" y="2453760"/>
            <a:ext cx="469080" cy="2116800"/>
          </a:xfrm>
          <a:prstGeom prst="bentConnector3">
            <a:avLst>
              <a:gd name="adj1" fmla="val 49769"/>
            </a:avLst>
          </a:prstGeom>
          <a:ln w="76320">
            <a:solidFill>
              <a:srgbClr val="00cc99"/>
            </a:solidFill>
            <a:miter/>
          </a:ln>
        </p:spPr>
      </p:cxnSp>
      <p:cxnSp>
        <p:nvCxnSpPr>
          <p:cNvPr id="68" name=""/>
          <p:cNvCxnSpPr>
            <a:stCxn id="53" idx="2"/>
            <a:endCxn id="59" idx="1"/>
          </p:cNvCxnSpPr>
          <p:nvPr/>
        </p:nvCxnSpPr>
        <p:spPr>
          <a:xfrm rot="5400000">
            <a:off x="3322800" y="294120"/>
            <a:ext cx="477000" cy="1716840"/>
          </a:xfrm>
          <a:prstGeom prst="bentConnector3">
            <a:avLst>
              <a:gd name="adj1" fmla="val 50000"/>
            </a:avLst>
          </a:prstGeom>
          <a:ln w="57240">
            <a:solidFill>
              <a:srgbClr val="ff66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7270920" y="2587680"/>
            <a:ext cx="1790640" cy="674640"/>
          </a:xfrm>
          <a:prstGeom prst="foldedCorner">
            <a:avLst>
              <a:gd name="adj" fmla="val 12500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Comic Sans MS"/>
              </a:rPr>
              <a:t>PROVINC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64440" y="3633840"/>
            <a:ext cx="1790640" cy="674640"/>
          </a:xfrm>
          <a:prstGeom prst="foldedCorner">
            <a:avLst>
              <a:gd name="adj" fmla="val 12500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Comic Sans MS"/>
              </a:rPr>
              <a:t>AUTONOMI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Comic Sans MS"/>
              </a:rPr>
              <a:t>LOCAL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1" name=""/>
          <p:cNvCxnSpPr>
            <a:stCxn id="52" idx="3"/>
            <a:endCxn id="56" idx="1"/>
          </p:cNvCxnSpPr>
          <p:nvPr/>
        </p:nvCxnSpPr>
        <p:spPr>
          <a:xfrm>
            <a:off x="6629400" y="1822320"/>
            <a:ext cx="635760" cy="75600"/>
          </a:xfrm>
          <a:prstGeom prst="bentConnector3">
            <a:avLst>
              <a:gd name="adj1" fmla="val 49971"/>
            </a:avLst>
          </a:prstGeom>
          <a:ln w="76320">
            <a:solidFill>
              <a:srgbClr val="00cc99"/>
            </a:solidFill>
            <a:miter/>
          </a:ln>
        </p:spPr>
      </p:cxnSp>
      <p:cxnSp>
        <p:nvCxnSpPr>
          <p:cNvPr id="72" name=""/>
          <p:cNvCxnSpPr>
            <a:stCxn id="52" idx="3"/>
            <a:endCxn id="69" idx="1"/>
          </p:cNvCxnSpPr>
          <p:nvPr/>
        </p:nvCxnSpPr>
        <p:spPr>
          <a:xfrm>
            <a:off x="6629400" y="1821960"/>
            <a:ext cx="642240" cy="1104120"/>
          </a:xfrm>
          <a:prstGeom prst="bentConnector3">
            <a:avLst>
              <a:gd name="adj1" fmla="val 49971"/>
            </a:avLst>
          </a:prstGeom>
          <a:ln w="76320">
            <a:solidFill>
              <a:srgbClr val="00cc99"/>
            </a:solidFill>
            <a:miter/>
          </a:ln>
        </p:spPr>
      </p:cxnSp>
      <p:cxnSp>
        <p:nvCxnSpPr>
          <p:cNvPr id="73" name=""/>
          <p:cNvCxnSpPr>
            <a:stCxn id="70" idx="1"/>
            <a:endCxn id="52" idx="3"/>
          </p:cNvCxnSpPr>
          <p:nvPr/>
        </p:nvCxnSpPr>
        <p:spPr>
          <a:xfrm rot="10800000">
            <a:off x="6628680" y="1821600"/>
            <a:ext cx="635760" cy="2150280"/>
          </a:xfrm>
          <a:prstGeom prst="bentConnector3">
            <a:avLst>
              <a:gd name="adj1" fmla="val 49971"/>
            </a:avLst>
          </a:prstGeom>
          <a:ln w="76320">
            <a:solidFill>
              <a:srgbClr val="00cc99"/>
            </a:solidFill>
            <a:miter/>
          </a:ln>
        </p:spPr>
      </p:cxnSp>
      <p:cxnSp>
        <p:nvCxnSpPr>
          <p:cNvPr id="74" name=""/>
          <p:cNvCxnSpPr>
            <a:stCxn id="59" idx="2"/>
            <a:endCxn id="54" idx="0"/>
          </p:cNvCxnSpPr>
          <p:nvPr/>
        </p:nvCxnSpPr>
        <p:spPr>
          <a:xfrm>
            <a:off x="2703240" y="2247480"/>
            <a:ext cx="802440" cy="1499400"/>
          </a:xfrm>
          <a:prstGeom prst="straightConnector1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59" idx="3"/>
            <a:endCxn id="57" idx="1"/>
          </p:cNvCxnSpPr>
          <p:nvPr/>
        </p:nvCxnSpPr>
        <p:spPr>
          <a:xfrm flipH="1" rot="16200000">
            <a:off x="3687840" y="1263240"/>
            <a:ext cx="457920" cy="2426400"/>
          </a:xfrm>
          <a:prstGeom prst="bentConnector3">
            <a:avLst>
              <a:gd name="adj1" fmla="val 49960"/>
            </a:avLst>
          </a:prstGeom>
          <a:ln w="57240">
            <a:solidFill>
              <a:srgbClr val="ff33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59" idx="4"/>
            <a:endCxn id="58" idx="1"/>
          </p:cNvCxnSpPr>
          <p:nvPr/>
        </p:nvCxnSpPr>
        <p:spPr>
          <a:xfrm rot="5400000">
            <a:off x="1820160" y="1815840"/>
            <a:ext cx="451800" cy="1315080"/>
          </a:xfrm>
          <a:prstGeom prst="bentConnector3">
            <a:avLst>
              <a:gd name="adj1" fmla="val 50000"/>
            </a:avLst>
          </a:prstGeom>
          <a:ln w="57240">
            <a:solidFill>
              <a:srgbClr val="ff33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3073320" y="6286680"/>
            <a:ext cx="29592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3300"/>
                </a:solidFill>
                <a:latin typeface="Comic Sans MS"/>
              </a:rPr>
              <a:t>Relazione gerarchi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cc99"/>
                </a:solidFill>
                <a:latin typeface="Comic Sans MS"/>
              </a:rPr>
              <a:t>Relazione funziona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8" name=""/>
          <p:cNvCxnSpPr>
            <a:stCxn id="57" idx="2"/>
          </p:cNvCxnSpPr>
          <p:nvPr/>
        </p:nvCxnSpPr>
        <p:spPr>
          <a:xfrm flipV="1">
            <a:off x="6351120" y="2991600"/>
            <a:ext cx="437400" cy="2520"/>
          </a:xfrm>
          <a:prstGeom prst="straightConnector1">
            <a:avLst/>
          </a:prstGeom>
          <a:ln w="76320">
            <a:solidFill>
              <a:srgbClr val="00cc99"/>
            </a:solidFill>
            <a:miter/>
          </a:ln>
        </p:spPr>
      </p:cxnSp>
      <p:sp>
        <p:nvSpPr>
          <p:cNvPr id="79" name="">
            <a:hlinkClick r:id="" action="ppaction://hlinkshowjump?jump=firstslide"/>
          </p:cNvPr>
          <p:cNvSpPr/>
          <p:nvPr/>
        </p:nvSpPr>
        <p:spPr>
          <a:xfrm>
            <a:off x="1011240" y="6559560"/>
            <a:ext cx="1631880" cy="241200"/>
          </a:xfrm>
          <a:custGeom>
            <a:avLst/>
            <a:gdLst>
              <a:gd name="textAreaLeft" fmla="*/ 15480 w 1631880"/>
              <a:gd name="textAreaRight" fmla="*/ 1616400 w 1631880"/>
              <a:gd name="textAreaTop" fmla="*/ 15480 h 241200"/>
              <a:gd name="textAreaBottom" fmla="*/ 225720 h 241200"/>
            </a:gdLst>
            <a:ahLst/>
            <a:rect l="textAreaLeft" t="textAreaTop" r="textAreaRight" b="textAreaBottom"/>
            <a:pathLst>
              <a:path w="145953" h="21600">
                <a:moveTo>
                  <a:pt x="0" y="0"/>
                </a:moveTo>
                <a:lnTo>
                  <a:pt x="145953" y="0"/>
                </a:lnTo>
                <a:lnTo>
                  <a:pt x="145953" y="21600"/>
                </a:lnTo>
                <a:lnTo>
                  <a:pt x="0" y="21600"/>
                </a:lnTo>
                <a:close/>
              </a:path>
              <a:path fill="lightenLess" w="145953" h="21600">
                <a:moveTo>
                  <a:pt x="0" y="0"/>
                </a:moveTo>
                <a:lnTo>
                  <a:pt x="145953" y="0"/>
                </a:lnTo>
                <a:lnTo>
                  <a:pt x="144553" y="1400"/>
                </a:lnTo>
                <a:lnTo>
                  <a:pt x="1400" y="1400"/>
                </a:lnTo>
                <a:close/>
              </a:path>
              <a:path fill="darken" w="145953" h="21600">
                <a:moveTo>
                  <a:pt x="145953" y="0"/>
                </a:moveTo>
                <a:lnTo>
                  <a:pt x="145953" y="21600"/>
                </a:lnTo>
                <a:lnTo>
                  <a:pt x="144553" y="20200"/>
                </a:lnTo>
                <a:lnTo>
                  <a:pt x="144553" y="1400"/>
                </a:lnTo>
                <a:close/>
              </a:path>
              <a:path fill="darkenLess" w="145953" h="21600">
                <a:moveTo>
                  <a:pt x="1459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44553" y="20200"/>
                </a:lnTo>
                <a:close/>
              </a:path>
              <a:path fill="lighten" w="1459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45953" h="21600">
                <a:moveTo>
                  <a:pt x="72976" y="3837"/>
                </a:moveTo>
                <a:lnTo>
                  <a:pt x="75553" y="6448"/>
                </a:lnTo>
                <a:lnTo>
                  <a:pt x="75553" y="4707"/>
                </a:lnTo>
                <a:lnTo>
                  <a:pt x="77328" y="4707"/>
                </a:lnTo>
                <a:lnTo>
                  <a:pt x="77328" y="8224"/>
                </a:lnTo>
                <a:lnTo>
                  <a:pt x="79939" y="10800"/>
                </a:lnTo>
                <a:lnTo>
                  <a:pt x="78286" y="10800"/>
                </a:lnTo>
                <a:lnTo>
                  <a:pt x="78286" y="17989"/>
                </a:lnTo>
                <a:lnTo>
                  <a:pt x="67667" y="17989"/>
                </a:lnTo>
                <a:lnTo>
                  <a:pt x="67667" y="10800"/>
                </a:lnTo>
                <a:lnTo>
                  <a:pt x="66013" y="10800"/>
                </a:lnTo>
                <a:close/>
              </a:path>
              <a:path fill="darkenLess" w="145953" h="21600">
                <a:moveTo>
                  <a:pt x="75553" y="6448"/>
                </a:moveTo>
                <a:lnTo>
                  <a:pt x="75553" y="4707"/>
                </a:lnTo>
                <a:lnTo>
                  <a:pt x="77328" y="4707"/>
                </a:lnTo>
                <a:lnTo>
                  <a:pt x="77328" y="8224"/>
                </a:lnTo>
                <a:close/>
              </a:path>
              <a:path fill="darkenLess" w="145953" h="21600">
                <a:moveTo>
                  <a:pt x="72054" y="14299"/>
                </a:moveTo>
                <a:lnTo>
                  <a:pt x="73899" y="14299"/>
                </a:lnTo>
                <a:lnTo>
                  <a:pt x="73899" y="17989"/>
                </a:lnTo>
                <a:lnTo>
                  <a:pt x="78286" y="17989"/>
                </a:lnTo>
                <a:lnTo>
                  <a:pt x="78286" y="10800"/>
                </a:lnTo>
                <a:lnTo>
                  <a:pt x="67667" y="10800"/>
                </a:lnTo>
                <a:lnTo>
                  <a:pt x="67667" y="17989"/>
                </a:lnTo>
                <a:lnTo>
                  <a:pt x="72054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73E96-62D4-4A6B-9751-40386917B0D1}" type="slidenum">
              <a:t>2</a:t>
            </a:fld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6415200" y="5778360"/>
            <a:ext cx="2616120" cy="6289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genzi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erritorial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400800" y="5002200"/>
            <a:ext cx="2641680" cy="603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stituzioni d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erritor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380200" y="1422360"/>
            <a:ext cx="1249200" cy="800280"/>
          </a:xfrm>
          <a:prstGeom prst="foldedCorner">
            <a:avLst>
              <a:gd name="adj" fmla="val 12500"/>
            </a:avLst>
          </a:prstGeom>
          <a:noFill/>
          <a:ln w="2844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Consigl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olastic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egiona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422360" y="399960"/>
            <a:ext cx="5994360" cy="514440"/>
          </a:xfrm>
          <a:prstGeom prst="foldedCorner">
            <a:avLst>
              <a:gd name="adj" fmla="val 6777"/>
            </a:avLst>
          </a:prstGeom>
          <a:noFill/>
          <a:ln w="2844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MINISTERO DELLA PUBBLICA ISTRUZI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80880" y="3746520"/>
            <a:ext cx="6039000" cy="936720"/>
          </a:xfrm>
          <a:prstGeom prst="cube">
            <a:avLst>
              <a:gd name="adj" fmla="val 22398"/>
            </a:avLst>
          </a:prstGeom>
          <a:noFill/>
          <a:ln w="2844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STITUTO  SCOLASTI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55680" y="5268960"/>
            <a:ext cx="2336760" cy="1000080"/>
          </a:xfrm>
          <a:prstGeom prst="roundRect">
            <a:avLst>
              <a:gd name="adj" fmla="val 0"/>
            </a:avLst>
          </a:prstGeom>
          <a:noFill/>
          <a:ln w="2844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ltri Istitut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olastic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7264440" y="1558800"/>
            <a:ext cx="1790640" cy="674640"/>
          </a:xfrm>
          <a:prstGeom prst="foldedCorner">
            <a:avLst>
              <a:gd name="adj" fmla="val 12500"/>
            </a:avLst>
          </a:prstGeom>
          <a:noFill/>
          <a:ln w="2844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EGI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>
            <a:hlinkClick r:id="rId2" action="ppaction://hlinksldjump"/>
          </p:cNvPr>
          <p:cNvSpPr/>
          <p:nvPr/>
        </p:nvSpPr>
        <p:spPr>
          <a:xfrm>
            <a:off x="3808440" y="2693880"/>
            <a:ext cx="2446200" cy="611280"/>
          </a:xfrm>
          <a:custGeom>
            <a:avLst/>
            <a:gdLst>
              <a:gd name="textAreaLeft" fmla="*/ 39600 w 2446200"/>
              <a:gd name="textAreaRight" fmla="*/ 2406600 w 2446200"/>
              <a:gd name="textAreaTop" fmla="*/ 39600 h 611280"/>
              <a:gd name="textAreaBottom" fmla="*/ 571680 h 611280"/>
            </a:gdLst>
            <a:ahLst/>
            <a:rect l="textAreaLeft" t="textAreaTop" r="textAreaRight" b="textAreaBottom"/>
            <a:pathLst>
              <a:path w="86400" h="21600">
                <a:moveTo>
                  <a:pt x="0" y="0"/>
                </a:moveTo>
                <a:lnTo>
                  <a:pt x="86400" y="0"/>
                </a:lnTo>
                <a:lnTo>
                  <a:pt x="86400" y="21600"/>
                </a:lnTo>
                <a:lnTo>
                  <a:pt x="0" y="21600"/>
                </a:lnTo>
                <a:close/>
              </a:path>
              <a:path fill="lightenLess" w="86400" h="21600">
                <a:moveTo>
                  <a:pt x="0" y="0"/>
                </a:moveTo>
                <a:lnTo>
                  <a:pt x="86400" y="0"/>
                </a:lnTo>
                <a:lnTo>
                  <a:pt x="85000" y="1400"/>
                </a:lnTo>
                <a:lnTo>
                  <a:pt x="1400" y="1400"/>
                </a:lnTo>
                <a:close/>
              </a:path>
              <a:path fill="darken" w="86400" h="21600">
                <a:moveTo>
                  <a:pt x="86400" y="0"/>
                </a:moveTo>
                <a:lnTo>
                  <a:pt x="86400" y="21600"/>
                </a:lnTo>
                <a:lnTo>
                  <a:pt x="85000" y="20200"/>
                </a:lnTo>
                <a:lnTo>
                  <a:pt x="85000" y="1400"/>
                </a:lnTo>
                <a:close/>
              </a:path>
              <a:path fill="darkenLess" w="86400" h="21600">
                <a:moveTo>
                  <a:pt x="86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5000" y="20200"/>
                </a:lnTo>
                <a:close/>
              </a:path>
              <a:path fill="lighten" w="86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.S.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Centri Servizi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Amministrativ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>
            <a:hlinkClick r:id="rId3"/>
          </p:cNvPr>
          <p:cNvSpPr/>
          <p:nvPr/>
        </p:nvSpPr>
        <p:spPr>
          <a:xfrm>
            <a:off x="114480" y="2693880"/>
            <a:ext cx="2463480" cy="614520"/>
          </a:xfrm>
          <a:custGeom>
            <a:avLst/>
            <a:gdLst>
              <a:gd name="textAreaLeft" fmla="*/ 39600 w 2463480"/>
              <a:gd name="textAreaRight" fmla="*/ 2423880 w 2463480"/>
              <a:gd name="textAreaTop" fmla="*/ 39600 h 614520"/>
              <a:gd name="textAreaBottom" fmla="*/ 574920 h 614520"/>
            </a:gdLst>
            <a:ahLst/>
            <a:rect l="textAreaLeft" t="textAreaTop" r="textAreaRight" b="textAreaBottom"/>
            <a:pathLst>
              <a:path w="86552" h="21600">
                <a:moveTo>
                  <a:pt x="0" y="0"/>
                </a:moveTo>
                <a:lnTo>
                  <a:pt x="86552" y="0"/>
                </a:lnTo>
                <a:lnTo>
                  <a:pt x="86552" y="21600"/>
                </a:lnTo>
                <a:lnTo>
                  <a:pt x="0" y="21600"/>
                </a:lnTo>
                <a:close/>
              </a:path>
              <a:path fill="lightenLess" w="86552" h="21600">
                <a:moveTo>
                  <a:pt x="0" y="0"/>
                </a:moveTo>
                <a:lnTo>
                  <a:pt x="86552" y="0"/>
                </a:lnTo>
                <a:lnTo>
                  <a:pt x="85152" y="1400"/>
                </a:lnTo>
                <a:lnTo>
                  <a:pt x="1400" y="1400"/>
                </a:lnTo>
                <a:close/>
              </a:path>
              <a:path fill="darken" w="86552" h="21600">
                <a:moveTo>
                  <a:pt x="86552" y="0"/>
                </a:moveTo>
                <a:lnTo>
                  <a:pt x="86552" y="21600"/>
                </a:lnTo>
                <a:lnTo>
                  <a:pt x="85152" y="20200"/>
                </a:lnTo>
                <a:lnTo>
                  <a:pt x="85152" y="1400"/>
                </a:lnTo>
                <a:close/>
              </a:path>
              <a:path fill="darkenLess" w="86552" h="21600">
                <a:moveTo>
                  <a:pt x="86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5152" y="20200"/>
                </a:lnTo>
                <a:close/>
              </a:path>
              <a:path fill="lighten" w="86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Comic Sans MS"/>
              </a:rPr>
              <a:t>C.S.I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Comic Sans MS"/>
              </a:rPr>
              <a:t>Centri di Servizi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Comic Sans MS"/>
              </a:rPr>
              <a:t>per le II.S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>
            <a:hlinkClick r:id="rId4" action="ppaction://hlinksldjump"/>
          </p:cNvPr>
          <p:cNvSpPr/>
          <p:nvPr/>
        </p:nvSpPr>
        <p:spPr>
          <a:xfrm>
            <a:off x="395280" y="1390680"/>
            <a:ext cx="4616280" cy="857160"/>
          </a:xfrm>
          <a:custGeom>
            <a:avLst/>
            <a:gdLst>
              <a:gd name="textAreaLeft" fmla="*/ 55440 w 4616280"/>
              <a:gd name="textAreaRight" fmla="*/ 4560840 w 4616280"/>
              <a:gd name="textAreaTop" fmla="*/ 55440 h 857160"/>
              <a:gd name="textAreaBottom" fmla="*/ 801720 h 857160"/>
            </a:gdLst>
            <a:ahLst/>
            <a:rect l="textAreaLeft" t="textAreaTop" r="textAreaRight" b="textAreaBottom"/>
            <a:pathLst>
              <a:path w="116288" h="21600">
                <a:moveTo>
                  <a:pt x="0" y="0"/>
                </a:moveTo>
                <a:lnTo>
                  <a:pt x="116288" y="0"/>
                </a:lnTo>
                <a:lnTo>
                  <a:pt x="116288" y="21600"/>
                </a:lnTo>
                <a:lnTo>
                  <a:pt x="0" y="21600"/>
                </a:lnTo>
                <a:close/>
              </a:path>
              <a:path fill="lightenLess" w="116288" h="21600">
                <a:moveTo>
                  <a:pt x="0" y="0"/>
                </a:moveTo>
                <a:lnTo>
                  <a:pt x="116288" y="0"/>
                </a:lnTo>
                <a:lnTo>
                  <a:pt x="114888" y="1400"/>
                </a:lnTo>
                <a:lnTo>
                  <a:pt x="1400" y="1400"/>
                </a:lnTo>
                <a:close/>
              </a:path>
              <a:path fill="darken" w="116288" h="21600">
                <a:moveTo>
                  <a:pt x="116288" y="0"/>
                </a:moveTo>
                <a:lnTo>
                  <a:pt x="116288" y="21600"/>
                </a:lnTo>
                <a:lnTo>
                  <a:pt x="114888" y="20200"/>
                </a:lnTo>
                <a:lnTo>
                  <a:pt x="114888" y="1400"/>
                </a:lnTo>
                <a:close/>
              </a:path>
              <a:path fill="darkenLess" w="116288" h="21600">
                <a:moveTo>
                  <a:pt x="1162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4888" y="20200"/>
                </a:lnTo>
                <a:close/>
              </a:path>
              <a:path fill="lighten" w="1162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FFICIO SCOLASTICO REGIONA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IREZIONE GENERAL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PER LA CAMPAN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>
            <a:hlinkClick r:id="" action="ppaction://hlinkshowjump?jump=nextslide"/>
          </p:cNvPr>
          <p:cNvSpPr/>
          <p:nvPr/>
        </p:nvSpPr>
        <p:spPr>
          <a:xfrm>
            <a:off x="7315200" y="6572160"/>
            <a:ext cx="812880" cy="228600"/>
          </a:xfrm>
          <a:custGeom>
            <a:avLst/>
            <a:gdLst>
              <a:gd name="textAreaLeft" fmla="*/ 14760 w 812880"/>
              <a:gd name="textAreaRight" fmla="*/ 798120 w 81288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76721" h="21600">
                <a:moveTo>
                  <a:pt x="0" y="0"/>
                </a:moveTo>
                <a:lnTo>
                  <a:pt x="76721" y="0"/>
                </a:lnTo>
                <a:lnTo>
                  <a:pt x="76721" y="21600"/>
                </a:lnTo>
                <a:lnTo>
                  <a:pt x="0" y="21600"/>
                </a:lnTo>
                <a:close/>
              </a:path>
              <a:path fill="lightenLess" w="76721" h="21600">
                <a:moveTo>
                  <a:pt x="0" y="0"/>
                </a:moveTo>
                <a:lnTo>
                  <a:pt x="76721" y="0"/>
                </a:lnTo>
                <a:lnTo>
                  <a:pt x="75321" y="1400"/>
                </a:lnTo>
                <a:lnTo>
                  <a:pt x="1400" y="1400"/>
                </a:lnTo>
                <a:close/>
              </a:path>
              <a:path fill="darken" w="76721" h="21600">
                <a:moveTo>
                  <a:pt x="76721" y="0"/>
                </a:moveTo>
                <a:lnTo>
                  <a:pt x="76721" y="21600"/>
                </a:lnTo>
                <a:lnTo>
                  <a:pt x="75321" y="20200"/>
                </a:lnTo>
                <a:lnTo>
                  <a:pt x="75321" y="1400"/>
                </a:lnTo>
                <a:close/>
              </a:path>
              <a:path fill="darkenLess" w="76721" h="21600">
                <a:moveTo>
                  <a:pt x="767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5321" y="20200"/>
                </a:lnTo>
                <a:close/>
              </a:path>
              <a:path fill="lighten" w="767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6721" h="21600">
                <a:moveTo>
                  <a:pt x="31354" y="3794"/>
                </a:moveTo>
                <a:lnTo>
                  <a:pt x="45367" y="10800"/>
                </a:lnTo>
                <a:lnTo>
                  <a:pt x="3135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>
            <a:hlinkClick r:id="" action="ppaction://hlinkshowjump?jump=previousslide"/>
          </p:cNvPr>
          <p:cNvSpPr/>
          <p:nvPr/>
        </p:nvSpPr>
        <p:spPr>
          <a:xfrm>
            <a:off x="6502320" y="6572160"/>
            <a:ext cx="812880" cy="228600"/>
          </a:xfrm>
          <a:custGeom>
            <a:avLst/>
            <a:gdLst>
              <a:gd name="textAreaLeft" fmla="*/ 14760 w 812880"/>
              <a:gd name="textAreaRight" fmla="*/ 798120 w 81288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76721" h="21600">
                <a:moveTo>
                  <a:pt x="0" y="0"/>
                </a:moveTo>
                <a:lnTo>
                  <a:pt x="76721" y="0"/>
                </a:lnTo>
                <a:lnTo>
                  <a:pt x="76721" y="21600"/>
                </a:lnTo>
                <a:lnTo>
                  <a:pt x="0" y="21600"/>
                </a:lnTo>
                <a:close/>
              </a:path>
              <a:path fill="lightenLess" w="76721" h="21600">
                <a:moveTo>
                  <a:pt x="0" y="0"/>
                </a:moveTo>
                <a:lnTo>
                  <a:pt x="76721" y="0"/>
                </a:lnTo>
                <a:lnTo>
                  <a:pt x="75321" y="1400"/>
                </a:lnTo>
                <a:lnTo>
                  <a:pt x="1400" y="1400"/>
                </a:lnTo>
                <a:close/>
              </a:path>
              <a:path fill="darken" w="76721" h="21600">
                <a:moveTo>
                  <a:pt x="76721" y="0"/>
                </a:moveTo>
                <a:lnTo>
                  <a:pt x="76721" y="21600"/>
                </a:lnTo>
                <a:lnTo>
                  <a:pt x="75321" y="20200"/>
                </a:lnTo>
                <a:lnTo>
                  <a:pt x="75321" y="1400"/>
                </a:lnTo>
                <a:close/>
              </a:path>
              <a:path fill="darkenLess" w="76721" h="21600">
                <a:moveTo>
                  <a:pt x="767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5321" y="20200"/>
                </a:lnTo>
                <a:close/>
              </a:path>
              <a:path fill="lighten" w="767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6721" h="21600">
                <a:moveTo>
                  <a:pt x="31354" y="10800"/>
                </a:moveTo>
                <a:lnTo>
                  <a:pt x="45367" y="3794"/>
                </a:lnTo>
                <a:lnTo>
                  <a:pt x="45367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91" name=""/>
          <p:cNvCxnSpPr>
            <a:stCxn id="288" idx="0"/>
            <a:endCxn id="281" idx="1"/>
          </p:cNvCxnSpPr>
          <p:nvPr/>
        </p:nvCxnSpPr>
        <p:spPr>
          <a:xfrm>
            <a:off x="4971960" y="1819440"/>
            <a:ext cx="394560" cy="360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292" name=""/>
          <p:cNvCxnSpPr>
            <a:stCxn id="283" idx="3"/>
            <a:endCxn id="280" idx="1"/>
          </p:cNvCxnSpPr>
          <p:nvPr/>
        </p:nvCxnSpPr>
        <p:spPr>
          <a:xfrm flipH="1" rot="16200000">
            <a:off x="4536720" y="3454920"/>
            <a:ext cx="607320" cy="3091320"/>
          </a:xfrm>
          <a:prstGeom prst="bentConnector2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293" name=""/>
          <p:cNvCxnSpPr>
            <a:stCxn id="279" idx="1"/>
            <a:endCxn id="283" idx="3"/>
          </p:cNvCxnSpPr>
          <p:nvPr/>
        </p:nvCxnSpPr>
        <p:spPr>
          <a:xfrm rot="10800000">
            <a:off x="3295080" y="4696560"/>
            <a:ext cx="3105720" cy="1396440"/>
          </a:xfrm>
          <a:prstGeom prst="bentConnector2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294" name=""/>
          <p:cNvCxnSpPr>
            <a:stCxn id="284" idx="0"/>
            <a:endCxn id="283" idx="3"/>
          </p:cNvCxnSpPr>
          <p:nvPr/>
        </p:nvCxnSpPr>
        <p:spPr>
          <a:xfrm flipH="1" flipV="1" rot="5400000">
            <a:off x="2130840" y="4089600"/>
            <a:ext cx="558000" cy="1772640"/>
          </a:xfrm>
          <a:prstGeom prst="bentConnector3">
            <a:avLst>
              <a:gd name="adj1" fmla="val 49838"/>
            </a:avLst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295" name=""/>
          <p:cNvCxnSpPr>
            <a:stCxn id="286" idx="0"/>
            <a:endCxn id="283" idx="0"/>
          </p:cNvCxnSpPr>
          <p:nvPr/>
        </p:nvCxnSpPr>
        <p:spPr>
          <a:xfrm rot="5400000">
            <a:off x="4061880" y="2762280"/>
            <a:ext cx="413280" cy="1527840"/>
          </a:xfrm>
          <a:prstGeom prst="bentConnector3">
            <a:avLst>
              <a:gd name="adj1" fmla="val 49956"/>
            </a:avLst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296" name=""/>
          <p:cNvCxnSpPr>
            <a:stCxn id="287" idx="0"/>
            <a:endCxn id="283" idx="0"/>
          </p:cNvCxnSpPr>
          <p:nvPr/>
        </p:nvCxnSpPr>
        <p:spPr>
          <a:xfrm flipH="1" rot="16200000">
            <a:off x="2213640" y="2440080"/>
            <a:ext cx="424440" cy="2160000"/>
          </a:xfrm>
          <a:prstGeom prst="bentConnector3">
            <a:avLst>
              <a:gd name="adj1" fmla="val 51612"/>
            </a:avLst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297" name=""/>
          <p:cNvCxnSpPr>
            <a:stCxn id="282" idx="2"/>
            <a:endCxn id="288" idx="1"/>
          </p:cNvCxnSpPr>
          <p:nvPr/>
        </p:nvCxnSpPr>
        <p:spPr>
          <a:xfrm rot="5400000">
            <a:off x="3337200" y="294120"/>
            <a:ext cx="448200" cy="1716840"/>
          </a:xfrm>
          <a:prstGeom prst="bentConnector3">
            <a:avLst>
              <a:gd name="adj1" fmla="val 50000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98" name=""/>
          <p:cNvSpPr/>
          <p:nvPr/>
        </p:nvSpPr>
        <p:spPr>
          <a:xfrm>
            <a:off x="7270920" y="2587680"/>
            <a:ext cx="1790640" cy="674640"/>
          </a:xfrm>
          <a:prstGeom prst="foldedCorner">
            <a:avLst>
              <a:gd name="adj" fmla="val 12500"/>
            </a:avLst>
          </a:prstGeom>
          <a:noFill/>
          <a:ln w="2844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PROVINC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7264440" y="3633840"/>
            <a:ext cx="1790640" cy="674640"/>
          </a:xfrm>
          <a:prstGeom prst="foldedCorner">
            <a:avLst>
              <a:gd name="adj" fmla="val 12500"/>
            </a:avLst>
          </a:prstGeom>
          <a:noFill/>
          <a:ln w="2844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UTONOMI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LOCAL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0" name=""/>
          <p:cNvCxnSpPr>
            <a:stCxn id="281" idx="3"/>
            <a:endCxn id="285" idx="1"/>
          </p:cNvCxnSpPr>
          <p:nvPr/>
        </p:nvCxnSpPr>
        <p:spPr>
          <a:xfrm>
            <a:off x="6643800" y="1822320"/>
            <a:ext cx="606960" cy="75600"/>
          </a:xfrm>
          <a:prstGeom prst="bentConnector3">
            <a:avLst>
              <a:gd name="adj1" fmla="val 49970"/>
            </a:avLst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301" name=""/>
          <p:cNvCxnSpPr>
            <a:stCxn id="281" idx="3"/>
            <a:endCxn id="298" idx="1"/>
          </p:cNvCxnSpPr>
          <p:nvPr/>
        </p:nvCxnSpPr>
        <p:spPr>
          <a:xfrm>
            <a:off x="6643800" y="1821960"/>
            <a:ext cx="613440" cy="1104120"/>
          </a:xfrm>
          <a:prstGeom prst="bentConnector3">
            <a:avLst>
              <a:gd name="adj1" fmla="val 49970"/>
            </a:avLst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302" name=""/>
          <p:cNvCxnSpPr>
            <a:stCxn id="299" idx="1"/>
            <a:endCxn id="281" idx="3"/>
          </p:cNvCxnSpPr>
          <p:nvPr/>
        </p:nvCxnSpPr>
        <p:spPr>
          <a:xfrm rot="10800000">
            <a:off x="6643080" y="1821600"/>
            <a:ext cx="606960" cy="2150280"/>
          </a:xfrm>
          <a:prstGeom prst="bentConnector3">
            <a:avLst>
              <a:gd name="adj1" fmla="val 49970"/>
            </a:avLst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303" name=""/>
          <p:cNvCxnSpPr>
            <a:stCxn id="288" idx="2"/>
            <a:endCxn id="283" idx="0"/>
          </p:cNvCxnSpPr>
          <p:nvPr/>
        </p:nvCxnSpPr>
        <p:spPr>
          <a:xfrm>
            <a:off x="2703240" y="2261880"/>
            <a:ext cx="802440" cy="147024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04" name=""/>
          <p:cNvCxnSpPr>
            <a:stCxn id="288" idx="3"/>
            <a:endCxn id="286" idx="1"/>
          </p:cNvCxnSpPr>
          <p:nvPr/>
        </p:nvCxnSpPr>
        <p:spPr>
          <a:xfrm flipH="1" rot="16200000">
            <a:off x="3658320" y="1306440"/>
            <a:ext cx="418320" cy="2329560"/>
          </a:xfrm>
          <a:prstGeom prst="bentConnector3">
            <a:avLst>
              <a:gd name="adj1" fmla="val 49784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05" name=""/>
          <p:cNvCxnSpPr>
            <a:stCxn id="288" idx="4"/>
            <a:endCxn id="287" idx="1"/>
          </p:cNvCxnSpPr>
          <p:nvPr/>
        </p:nvCxnSpPr>
        <p:spPr>
          <a:xfrm rot="5400000">
            <a:off x="1808280" y="1798920"/>
            <a:ext cx="432360" cy="1358280"/>
          </a:xfrm>
          <a:prstGeom prst="bentConnector3">
            <a:avLst>
              <a:gd name="adj1" fmla="val 48083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06" name=""/>
          <p:cNvCxnSpPr>
            <a:stCxn id="286" idx="2"/>
          </p:cNvCxnSpPr>
          <p:nvPr/>
        </p:nvCxnSpPr>
        <p:spPr>
          <a:xfrm flipV="1">
            <a:off x="6230880" y="2997000"/>
            <a:ext cx="556560" cy="360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sp>
        <p:nvSpPr>
          <p:cNvPr id="307" name="">
            <a:hlinkClick r:id="" action="ppaction://hlinkshowjump?jump=firstslide"/>
          </p:cNvPr>
          <p:cNvSpPr/>
          <p:nvPr/>
        </p:nvSpPr>
        <p:spPr>
          <a:xfrm>
            <a:off x="1011240" y="6559560"/>
            <a:ext cx="1631880" cy="241200"/>
          </a:xfrm>
          <a:custGeom>
            <a:avLst/>
            <a:gdLst>
              <a:gd name="textAreaLeft" fmla="*/ 15480 w 1631880"/>
              <a:gd name="textAreaRight" fmla="*/ 1616400 w 1631880"/>
              <a:gd name="textAreaTop" fmla="*/ 15480 h 241200"/>
              <a:gd name="textAreaBottom" fmla="*/ 225720 h 241200"/>
            </a:gdLst>
            <a:ahLst/>
            <a:rect l="textAreaLeft" t="textAreaTop" r="textAreaRight" b="textAreaBottom"/>
            <a:pathLst>
              <a:path w="145953" h="21600">
                <a:moveTo>
                  <a:pt x="0" y="0"/>
                </a:moveTo>
                <a:lnTo>
                  <a:pt x="145953" y="0"/>
                </a:lnTo>
                <a:lnTo>
                  <a:pt x="145953" y="21600"/>
                </a:lnTo>
                <a:lnTo>
                  <a:pt x="0" y="21600"/>
                </a:lnTo>
                <a:close/>
              </a:path>
              <a:path fill="lightenLess" w="145953" h="21600">
                <a:moveTo>
                  <a:pt x="0" y="0"/>
                </a:moveTo>
                <a:lnTo>
                  <a:pt x="145953" y="0"/>
                </a:lnTo>
                <a:lnTo>
                  <a:pt x="144553" y="1400"/>
                </a:lnTo>
                <a:lnTo>
                  <a:pt x="1400" y="1400"/>
                </a:lnTo>
                <a:close/>
              </a:path>
              <a:path fill="darken" w="145953" h="21600">
                <a:moveTo>
                  <a:pt x="145953" y="0"/>
                </a:moveTo>
                <a:lnTo>
                  <a:pt x="145953" y="21600"/>
                </a:lnTo>
                <a:lnTo>
                  <a:pt x="144553" y="20200"/>
                </a:lnTo>
                <a:lnTo>
                  <a:pt x="144553" y="1400"/>
                </a:lnTo>
                <a:close/>
              </a:path>
              <a:path fill="darkenLess" w="145953" h="21600">
                <a:moveTo>
                  <a:pt x="1459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44553" y="20200"/>
                </a:lnTo>
                <a:close/>
              </a:path>
              <a:path fill="lighten" w="1459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45953" h="21600">
                <a:moveTo>
                  <a:pt x="72976" y="3837"/>
                </a:moveTo>
                <a:lnTo>
                  <a:pt x="75553" y="6448"/>
                </a:lnTo>
                <a:lnTo>
                  <a:pt x="75553" y="4707"/>
                </a:lnTo>
                <a:lnTo>
                  <a:pt x="77328" y="4707"/>
                </a:lnTo>
                <a:lnTo>
                  <a:pt x="77328" y="8224"/>
                </a:lnTo>
                <a:lnTo>
                  <a:pt x="79939" y="10800"/>
                </a:lnTo>
                <a:lnTo>
                  <a:pt x="78286" y="10800"/>
                </a:lnTo>
                <a:lnTo>
                  <a:pt x="78286" y="17989"/>
                </a:lnTo>
                <a:lnTo>
                  <a:pt x="67667" y="17989"/>
                </a:lnTo>
                <a:lnTo>
                  <a:pt x="67667" y="10800"/>
                </a:lnTo>
                <a:lnTo>
                  <a:pt x="66013" y="10800"/>
                </a:lnTo>
                <a:close/>
              </a:path>
              <a:path fill="darkenLess" w="145953" h="21600">
                <a:moveTo>
                  <a:pt x="75553" y="6448"/>
                </a:moveTo>
                <a:lnTo>
                  <a:pt x="75553" y="4707"/>
                </a:lnTo>
                <a:lnTo>
                  <a:pt x="77328" y="4707"/>
                </a:lnTo>
                <a:lnTo>
                  <a:pt x="77328" y="8224"/>
                </a:lnTo>
                <a:close/>
              </a:path>
              <a:path fill="darkenLess" w="145953" h="21600">
                <a:moveTo>
                  <a:pt x="72054" y="14299"/>
                </a:moveTo>
                <a:lnTo>
                  <a:pt x="73899" y="14299"/>
                </a:lnTo>
                <a:lnTo>
                  <a:pt x="73899" y="17989"/>
                </a:lnTo>
                <a:lnTo>
                  <a:pt x="78286" y="17989"/>
                </a:lnTo>
                <a:lnTo>
                  <a:pt x="78286" y="10800"/>
                </a:lnTo>
                <a:lnTo>
                  <a:pt x="67667" y="10800"/>
                </a:lnTo>
                <a:lnTo>
                  <a:pt x="67667" y="17989"/>
                </a:lnTo>
                <a:lnTo>
                  <a:pt x="72054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CD4D5-14F7-43CA-AE9C-612F745986BA}" type="slidenum">
              <a:t>20</a:t>
            </a:fld>
          </a:p>
        </p:txBody>
      </p:sp>
    </p:spTree>
  </p:cSld>
  <p:transition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/>
          <p:nvPr/>
        </p:nvSpPr>
        <p:spPr>
          <a:xfrm>
            <a:off x="939960" y="2516040"/>
            <a:ext cx="7213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Promozione dello sviluppo e assistenza alle Istituzioni Scolastich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244520" y="398520"/>
            <a:ext cx="6659640" cy="1905120"/>
          </a:xfrm>
          <a:prstGeom prst="foldedCorner">
            <a:avLst>
              <a:gd name="adj" fmla="val 15671"/>
            </a:avLst>
          </a:prstGeom>
          <a:solidFill>
            <a:srgbClr val="66ccff"/>
          </a:solidFill>
          <a:ln w="1260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CENTRI SERVIZI per 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ISTITUZIONI SCOLASTI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AUTON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422520" y="1612800"/>
            <a:ext cx="2438640" cy="64260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Comic Sans MS"/>
              </a:rPr>
              <a:t>C.S.I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137040" y="3508200"/>
            <a:ext cx="28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n° 10 Centr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219320" y="4122720"/>
            <a:ext cx="2946240" cy="57708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Comic Sans MS"/>
                <a:hlinkClick r:id="rId2" action="ppaction://hlinksldjump"/>
              </a:rPr>
              <a:t>AVELLI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673520" y="4122720"/>
            <a:ext cx="3353040" cy="57708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Comic Sans MS"/>
                <a:hlinkClick r:id="rId3" action="ppaction://hlinksldjump"/>
              </a:rPr>
              <a:t>BENEV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49640" y="4889520"/>
            <a:ext cx="2641680" cy="57708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Comic Sans MS"/>
                <a:hlinkClick r:id="rId4" action="ppaction://hlinksldjump"/>
              </a:rPr>
              <a:t>CASER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219320" y="5600880"/>
            <a:ext cx="2844720" cy="57708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Comic Sans MS"/>
                <a:hlinkClick r:id="rId5" action="ppaction://hlinksldjump"/>
              </a:rPr>
              <a:t>NAPOL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4673520" y="5600880"/>
            <a:ext cx="3353040" cy="52056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SALER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>
            <a:hlinkClick r:id="rId6" action="ppaction://hlinksldjump"/>
          </p:cNvPr>
          <p:cNvSpPr/>
          <p:nvPr/>
        </p:nvSpPr>
        <p:spPr>
          <a:xfrm>
            <a:off x="4025880" y="6559560"/>
            <a:ext cx="1117800" cy="241200"/>
          </a:xfrm>
          <a:custGeom>
            <a:avLst/>
            <a:gdLst>
              <a:gd name="textAreaLeft" fmla="*/ 15480 w 1117800"/>
              <a:gd name="textAreaRight" fmla="*/ 1102320 w 1117800"/>
              <a:gd name="textAreaTop" fmla="*/ 15480 h 241200"/>
              <a:gd name="textAreaBottom" fmla="*/ 225720 h 241200"/>
            </a:gdLst>
            <a:ahLst/>
            <a:rect l="textAreaLeft" t="textAreaTop" r="textAreaRight" b="textAreaBottom"/>
            <a:pathLst>
              <a:path w="99985" h="21600">
                <a:moveTo>
                  <a:pt x="0" y="0"/>
                </a:moveTo>
                <a:lnTo>
                  <a:pt x="99985" y="0"/>
                </a:lnTo>
                <a:lnTo>
                  <a:pt x="99985" y="21600"/>
                </a:lnTo>
                <a:lnTo>
                  <a:pt x="0" y="21600"/>
                </a:lnTo>
                <a:close/>
              </a:path>
              <a:path fill="lightenLess" w="99985" h="21600">
                <a:moveTo>
                  <a:pt x="0" y="0"/>
                </a:moveTo>
                <a:lnTo>
                  <a:pt x="99985" y="0"/>
                </a:lnTo>
                <a:lnTo>
                  <a:pt x="98585" y="1400"/>
                </a:lnTo>
                <a:lnTo>
                  <a:pt x="1400" y="1400"/>
                </a:lnTo>
                <a:close/>
              </a:path>
              <a:path fill="darken" w="99985" h="21600">
                <a:moveTo>
                  <a:pt x="99985" y="0"/>
                </a:moveTo>
                <a:lnTo>
                  <a:pt x="99985" y="21600"/>
                </a:lnTo>
                <a:lnTo>
                  <a:pt x="98585" y="20200"/>
                </a:lnTo>
                <a:lnTo>
                  <a:pt x="98585" y="1400"/>
                </a:lnTo>
                <a:close/>
              </a:path>
              <a:path fill="darkenLess" w="99985" h="21600">
                <a:moveTo>
                  <a:pt x="999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8585" y="20200"/>
                </a:lnTo>
                <a:close/>
              </a:path>
              <a:path fill="lighten" w="999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99985" h="21600">
                <a:moveTo>
                  <a:pt x="42986" y="7493"/>
                </a:moveTo>
                <a:lnTo>
                  <a:pt x="46493" y="7493"/>
                </a:lnTo>
                <a:lnTo>
                  <a:pt x="46493" y="12828"/>
                </a:lnTo>
                <a:cubicBezTo>
                  <a:pt x="46493" y="13751"/>
                  <a:pt x="47294" y="14482"/>
                  <a:pt x="48330" y="14482"/>
                </a:cubicBezTo>
                <a:lnTo>
                  <a:pt x="49992" y="14482"/>
                </a:lnTo>
                <a:cubicBezTo>
                  <a:pt x="51028" y="14482"/>
                  <a:pt x="51829" y="13751"/>
                  <a:pt x="51829" y="12828"/>
                </a:cubicBezTo>
                <a:lnTo>
                  <a:pt x="51829" y="7493"/>
                </a:lnTo>
                <a:lnTo>
                  <a:pt x="49992" y="7493"/>
                </a:lnTo>
                <a:lnTo>
                  <a:pt x="53500" y="3985"/>
                </a:lnTo>
                <a:lnTo>
                  <a:pt x="57173" y="7493"/>
                </a:lnTo>
                <a:lnTo>
                  <a:pt x="55336" y="7493"/>
                </a:lnTo>
                <a:lnTo>
                  <a:pt x="55336" y="12828"/>
                </a:lnTo>
                <a:cubicBezTo>
                  <a:pt x="55336" y="15596"/>
                  <a:pt x="52760" y="18155"/>
                  <a:pt x="49992" y="18155"/>
                </a:cubicBezTo>
                <a:lnTo>
                  <a:pt x="48330" y="18155"/>
                </a:lnTo>
                <a:cubicBezTo>
                  <a:pt x="45562" y="18155"/>
                  <a:pt x="42986" y="15596"/>
                  <a:pt x="42986" y="12828"/>
                </a:cubicBez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>
            <a:hlinkClick r:id="" action="ppaction://hlinkshowjump?jump=nextslide"/>
          </p:cNvPr>
          <p:cNvSpPr/>
          <p:nvPr/>
        </p:nvSpPr>
        <p:spPr>
          <a:xfrm>
            <a:off x="7315200" y="6572160"/>
            <a:ext cx="812880" cy="228600"/>
          </a:xfrm>
          <a:custGeom>
            <a:avLst/>
            <a:gdLst>
              <a:gd name="textAreaLeft" fmla="*/ 14760 w 812880"/>
              <a:gd name="textAreaRight" fmla="*/ 798120 w 81288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76721" h="21600">
                <a:moveTo>
                  <a:pt x="0" y="0"/>
                </a:moveTo>
                <a:lnTo>
                  <a:pt x="76721" y="0"/>
                </a:lnTo>
                <a:lnTo>
                  <a:pt x="76721" y="21600"/>
                </a:lnTo>
                <a:lnTo>
                  <a:pt x="0" y="21600"/>
                </a:lnTo>
                <a:close/>
              </a:path>
              <a:path fill="lightenLess" w="76721" h="21600">
                <a:moveTo>
                  <a:pt x="0" y="0"/>
                </a:moveTo>
                <a:lnTo>
                  <a:pt x="76721" y="0"/>
                </a:lnTo>
                <a:lnTo>
                  <a:pt x="75321" y="1400"/>
                </a:lnTo>
                <a:lnTo>
                  <a:pt x="1400" y="1400"/>
                </a:lnTo>
                <a:close/>
              </a:path>
              <a:path fill="darken" w="76721" h="21600">
                <a:moveTo>
                  <a:pt x="76721" y="0"/>
                </a:moveTo>
                <a:lnTo>
                  <a:pt x="76721" y="21600"/>
                </a:lnTo>
                <a:lnTo>
                  <a:pt x="75321" y="20200"/>
                </a:lnTo>
                <a:lnTo>
                  <a:pt x="75321" y="1400"/>
                </a:lnTo>
                <a:close/>
              </a:path>
              <a:path fill="darkenLess" w="76721" h="21600">
                <a:moveTo>
                  <a:pt x="767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5321" y="20200"/>
                </a:lnTo>
                <a:close/>
              </a:path>
              <a:path fill="lighten" w="767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6721" h="21600">
                <a:moveTo>
                  <a:pt x="31354" y="3794"/>
                </a:moveTo>
                <a:lnTo>
                  <a:pt x="45367" y="10800"/>
                </a:lnTo>
                <a:lnTo>
                  <a:pt x="3135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>
            <a:hlinkClick r:id="" action="ppaction://hlinkshowjump?jump=previousslide"/>
          </p:cNvPr>
          <p:cNvSpPr/>
          <p:nvPr/>
        </p:nvSpPr>
        <p:spPr>
          <a:xfrm>
            <a:off x="6502320" y="6572160"/>
            <a:ext cx="812880" cy="228600"/>
          </a:xfrm>
          <a:custGeom>
            <a:avLst/>
            <a:gdLst>
              <a:gd name="textAreaLeft" fmla="*/ 14760 w 812880"/>
              <a:gd name="textAreaRight" fmla="*/ 798120 w 81288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76721" h="21600">
                <a:moveTo>
                  <a:pt x="0" y="0"/>
                </a:moveTo>
                <a:lnTo>
                  <a:pt x="76721" y="0"/>
                </a:lnTo>
                <a:lnTo>
                  <a:pt x="76721" y="21600"/>
                </a:lnTo>
                <a:lnTo>
                  <a:pt x="0" y="21600"/>
                </a:lnTo>
                <a:close/>
              </a:path>
              <a:path fill="lightenLess" w="76721" h="21600">
                <a:moveTo>
                  <a:pt x="0" y="0"/>
                </a:moveTo>
                <a:lnTo>
                  <a:pt x="76721" y="0"/>
                </a:lnTo>
                <a:lnTo>
                  <a:pt x="75321" y="1400"/>
                </a:lnTo>
                <a:lnTo>
                  <a:pt x="1400" y="1400"/>
                </a:lnTo>
                <a:close/>
              </a:path>
              <a:path fill="darken" w="76721" h="21600">
                <a:moveTo>
                  <a:pt x="76721" y="0"/>
                </a:moveTo>
                <a:lnTo>
                  <a:pt x="76721" y="21600"/>
                </a:lnTo>
                <a:lnTo>
                  <a:pt x="75321" y="20200"/>
                </a:lnTo>
                <a:lnTo>
                  <a:pt x="75321" y="1400"/>
                </a:lnTo>
                <a:close/>
              </a:path>
              <a:path fill="darkenLess" w="76721" h="21600">
                <a:moveTo>
                  <a:pt x="767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5321" y="20200"/>
                </a:lnTo>
                <a:close/>
              </a:path>
              <a:path fill="lighten" w="767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6721" h="21600">
                <a:moveTo>
                  <a:pt x="31354" y="10800"/>
                </a:moveTo>
                <a:lnTo>
                  <a:pt x="45367" y="3794"/>
                </a:lnTo>
                <a:lnTo>
                  <a:pt x="45367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>
            <a:hlinkClick r:id="" action="ppaction://hlinkshowjump?jump=firstslide"/>
          </p:cNvPr>
          <p:cNvSpPr/>
          <p:nvPr/>
        </p:nvSpPr>
        <p:spPr>
          <a:xfrm>
            <a:off x="1011240" y="6559560"/>
            <a:ext cx="1631880" cy="241200"/>
          </a:xfrm>
          <a:custGeom>
            <a:avLst/>
            <a:gdLst>
              <a:gd name="textAreaLeft" fmla="*/ 15480 w 1631880"/>
              <a:gd name="textAreaRight" fmla="*/ 1616400 w 1631880"/>
              <a:gd name="textAreaTop" fmla="*/ 15480 h 241200"/>
              <a:gd name="textAreaBottom" fmla="*/ 225720 h 241200"/>
            </a:gdLst>
            <a:ahLst/>
            <a:rect l="textAreaLeft" t="textAreaTop" r="textAreaRight" b="textAreaBottom"/>
            <a:pathLst>
              <a:path w="145953" h="21600">
                <a:moveTo>
                  <a:pt x="0" y="0"/>
                </a:moveTo>
                <a:lnTo>
                  <a:pt x="145953" y="0"/>
                </a:lnTo>
                <a:lnTo>
                  <a:pt x="145953" y="21600"/>
                </a:lnTo>
                <a:lnTo>
                  <a:pt x="0" y="21600"/>
                </a:lnTo>
                <a:close/>
              </a:path>
              <a:path fill="lightenLess" w="145953" h="21600">
                <a:moveTo>
                  <a:pt x="0" y="0"/>
                </a:moveTo>
                <a:lnTo>
                  <a:pt x="145953" y="0"/>
                </a:lnTo>
                <a:lnTo>
                  <a:pt x="144553" y="1400"/>
                </a:lnTo>
                <a:lnTo>
                  <a:pt x="1400" y="1400"/>
                </a:lnTo>
                <a:close/>
              </a:path>
              <a:path fill="darken" w="145953" h="21600">
                <a:moveTo>
                  <a:pt x="145953" y="0"/>
                </a:moveTo>
                <a:lnTo>
                  <a:pt x="145953" y="21600"/>
                </a:lnTo>
                <a:lnTo>
                  <a:pt x="144553" y="20200"/>
                </a:lnTo>
                <a:lnTo>
                  <a:pt x="144553" y="1400"/>
                </a:lnTo>
                <a:close/>
              </a:path>
              <a:path fill="darkenLess" w="145953" h="21600">
                <a:moveTo>
                  <a:pt x="1459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44553" y="20200"/>
                </a:lnTo>
                <a:close/>
              </a:path>
              <a:path fill="lighten" w="1459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45953" h="21600">
                <a:moveTo>
                  <a:pt x="72976" y="3837"/>
                </a:moveTo>
                <a:lnTo>
                  <a:pt x="75553" y="6448"/>
                </a:lnTo>
                <a:lnTo>
                  <a:pt x="75553" y="4707"/>
                </a:lnTo>
                <a:lnTo>
                  <a:pt x="77328" y="4707"/>
                </a:lnTo>
                <a:lnTo>
                  <a:pt x="77328" y="8224"/>
                </a:lnTo>
                <a:lnTo>
                  <a:pt x="79939" y="10800"/>
                </a:lnTo>
                <a:lnTo>
                  <a:pt x="78286" y="10800"/>
                </a:lnTo>
                <a:lnTo>
                  <a:pt x="78286" y="17989"/>
                </a:lnTo>
                <a:lnTo>
                  <a:pt x="67667" y="17989"/>
                </a:lnTo>
                <a:lnTo>
                  <a:pt x="67667" y="10800"/>
                </a:lnTo>
                <a:lnTo>
                  <a:pt x="66013" y="10800"/>
                </a:lnTo>
                <a:close/>
              </a:path>
              <a:path fill="darkenLess" w="145953" h="21600">
                <a:moveTo>
                  <a:pt x="75553" y="6448"/>
                </a:moveTo>
                <a:lnTo>
                  <a:pt x="75553" y="4707"/>
                </a:lnTo>
                <a:lnTo>
                  <a:pt x="77328" y="4707"/>
                </a:lnTo>
                <a:lnTo>
                  <a:pt x="77328" y="8224"/>
                </a:lnTo>
                <a:close/>
              </a:path>
              <a:path fill="darkenLess" w="145953" h="21600">
                <a:moveTo>
                  <a:pt x="72054" y="14299"/>
                </a:moveTo>
                <a:lnTo>
                  <a:pt x="73899" y="14299"/>
                </a:lnTo>
                <a:lnTo>
                  <a:pt x="73899" y="17989"/>
                </a:lnTo>
                <a:lnTo>
                  <a:pt x="78286" y="17989"/>
                </a:lnTo>
                <a:lnTo>
                  <a:pt x="78286" y="10800"/>
                </a:lnTo>
                <a:lnTo>
                  <a:pt x="67667" y="10800"/>
                </a:lnTo>
                <a:lnTo>
                  <a:pt x="67667" y="17989"/>
                </a:lnTo>
                <a:lnTo>
                  <a:pt x="72054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5427E-ADC9-48F4-AB0F-17974DCF239F}" type="slidenum">
              <a:t>21</a:t>
            </a:fld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/>
          <p:nvPr/>
        </p:nvSpPr>
        <p:spPr>
          <a:xfrm>
            <a:off x="1496880" y="2090880"/>
            <a:ext cx="6221520" cy="3634200"/>
          </a:xfrm>
          <a:prstGeom prst="rect">
            <a:avLst/>
          </a:prstGeom>
          <a:solidFill>
            <a:srgbClr val="00ccff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.127 Istituzioni Scolastich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de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ll’Ufficio Scolastico Provinciale di Avellino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sorse umane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aranno assegnate, con provvedimento del Direttore Generale,  su proposta del Dirigente assegnato all'Ufficio,  nel rispetto della disciplina contrattuale e dei Protocolli di Intesa con le OO.SS.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rtafoglio dei Servizi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 sarà  definito  dal  Direttore  Generale   previa  concertazione  regionale.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716040" y="398520"/>
            <a:ext cx="77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1. CENTRO  SERVIZI  ISTITUZIONI SCOLASTICHE PER LA PROVINCIA DI AVELLI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>
            <a:hlinkClick r:id="rId2" action="ppaction://hlinksldjump"/>
          </p:cNvPr>
          <p:cNvSpPr/>
          <p:nvPr/>
        </p:nvSpPr>
        <p:spPr>
          <a:xfrm>
            <a:off x="4038480" y="6559560"/>
            <a:ext cx="1117800" cy="228600"/>
          </a:xfrm>
          <a:custGeom>
            <a:avLst/>
            <a:gdLst>
              <a:gd name="textAreaLeft" fmla="*/ 14760 w 1117800"/>
              <a:gd name="textAreaRight" fmla="*/ 1103040 w 11178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5487" h="21600">
                <a:moveTo>
                  <a:pt x="0" y="0"/>
                </a:moveTo>
                <a:lnTo>
                  <a:pt x="105487" y="0"/>
                </a:lnTo>
                <a:lnTo>
                  <a:pt x="105487" y="21600"/>
                </a:lnTo>
                <a:lnTo>
                  <a:pt x="0" y="21600"/>
                </a:lnTo>
                <a:close/>
              </a:path>
              <a:path fill="lightenLess" w="105487" h="21600">
                <a:moveTo>
                  <a:pt x="0" y="0"/>
                </a:moveTo>
                <a:lnTo>
                  <a:pt x="105487" y="0"/>
                </a:lnTo>
                <a:lnTo>
                  <a:pt x="104087" y="1400"/>
                </a:lnTo>
                <a:lnTo>
                  <a:pt x="1400" y="1400"/>
                </a:lnTo>
                <a:close/>
              </a:path>
              <a:path fill="darken" w="105487" h="21600">
                <a:moveTo>
                  <a:pt x="105487" y="0"/>
                </a:moveTo>
                <a:lnTo>
                  <a:pt x="105487" y="21600"/>
                </a:lnTo>
                <a:lnTo>
                  <a:pt x="104087" y="20200"/>
                </a:lnTo>
                <a:lnTo>
                  <a:pt x="104087" y="1400"/>
                </a:lnTo>
                <a:close/>
              </a:path>
              <a:path fill="darkenLess" w="105487" h="21600">
                <a:moveTo>
                  <a:pt x="1054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4087" y="20200"/>
                </a:lnTo>
                <a:close/>
              </a:path>
              <a:path fill="lighten" w="1054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05487" h="21600">
                <a:moveTo>
                  <a:pt x="45737" y="7493"/>
                </a:moveTo>
                <a:lnTo>
                  <a:pt x="49245" y="7493"/>
                </a:lnTo>
                <a:lnTo>
                  <a:pt x="49245" y="12828"/>
                </a:lnTo>
                <a:cubicBezTo>
                  <a:pt x="49245" y="13751"/>
                  <a:pt x="50045" y="14482"/>
                  <a:pt x="51081" y="14482"/>
                </a:cubicBezTo>
                <a:lnTo>
                  <a:pt x="52743" y="14482"/>
                </a:lnTo>
                <a:cubicBezTo>
                  <a:pt x="53779" y="14482"/>
                  <a:pt x="54580" y="13751"/>
                  <a:pt x="54580" y="12828"/>
                </a:cubicBezTo>
                <a:lnTo>
                  <a:pt x="54580" y="7493"/>
                </a:lnTo>
                <a:lnTo>
                  <a:pt x="52743" y="7493"/>
                </a:lnTo>
                <a:lnTo>
                  <a:pt x="56251" y="3985"/>
                </a:lnTo>
                <a:lnTo>
                  <a:pt x="59924" y="7493"/>
                </a:lnTo>
                <a:lnTo>
                  <a:pt x="58087" y="7493"/>
                </a:lnTo>
                <a:lnTo>
                  <a:pt x="58087" y="12828"/>
                </a:lnTo>
                <a:cubicBezTo>
                  <a:pt x="58087" y="15596"/>
                  <a:pt x="55511" y="18155"/>
                  <a:pt x="52743" y="18155"/>
                </a:cubicBezTo>
                <a:lnTo>
                  <a:pt x="51081" y="18155"/>
                </a:lnTo>
                <a:cubicBezTo>
                  <a:pt x="48313" y="18155"/>
                  <a:pt x="45737" y="15596"/>
                  <a:pt x="45737" y="12828"/>
                </a:cubicBez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>
            <a:hlinkClick r:id="" action="ppaction://hlinkshowjump?jump=nextslide"/>
          </p:cNvPr>
          <p:cNvSpPr/>
          <p:nvPr/>
        </p:nvSpPr>
        <p:spPr>
          <a:xfrm>
            <a:off x="7315200" y="6572160"/>
            <a:ext cx="812880" cy="228600"/>
          </a:xfrm>
          <a:custGeom>
            <a:avLst/>
            <a:gdLst>
              <a:gd name="textAreaLeft" fmla="*/ 14760 w 812880"/>
              <a:gd name="textAreaRight" fmla="*/ 798120 w 81288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76721" h="21600">
                <a:moveTo>
                  <a:pt x="0" y="0"/>
                </a:moveTo>
                <a:lnTo>
                  <a:pt x="76721" y="0"/>
                </a:lnTo>
                <a:lnTo>
                  <a:pt x="76721" y="21600"/>
                </a:lnTo>
                <a:lnTo>
                  <a:pt x="0" y="21600"/>
                </a:lnTo>
                <a:close/>
              </a:path>
              <a:path fill="lightenLess" w="76721" h="21600">
                <a:moveTo>
                  <a:pt x="0" y="0"/>
                </a:moveTo>
                <a:lnTo>
                  <a:pt x="76721" y="0"/>
                </a:lnTo>
                <a:lnTo>
                  <a:pt x="75321" y="1400"/>
                </a:lnTo>
                <a:lnTo>
                  <a:pt x="1400" y="1400"/>
                </a:lnTo>
                <a:close/>
              </a:path>
              <a:path fill="darken" w="76721" h="21600">
                <a:moveTo>
                  <a:pt x="76721" y="0"/>
                </a:moveTo>
                <a:lnTo>
                  <a:pt x="76721" y="21600"/>
                </a:lnTo>
                <a:lnTo>
                  <a:pt x="75321" y="20200"/>
                </a:lnTo>
                <a:lnTo>
                  <a:pt x="75321" y="1400"/>
                </a:lnTo>
                <a:close/>
              </a:path>
              <a:path fill="darkenLess" w="76721" h="21600">
                <a:moveTo>
                  <a:pt x="767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5321" y="20200"/>
                </a:lnTo>
                <a:close/>
              </a:path>
              <a:path fill="lighten" w="767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6721" h="21600">
                <a:moveTo>
                  <a:pt x="31354" y="3794"/>
                </a:moveTo>
                <a:lnTo>
                  <a:pt x="45367" y="10800"/>
                </a:lnTo>
                <a:lnTo>
                  <a:pt x="3135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>
            <a:hlinkClick r:id="" action="ppaction://hlinkshowjump?jump=previousslide"/>
          </p:cNvPr>
          <p:cNvSpPr/>
          <p:nvPr/>
        </p:nvSpPr>
        <p:spPr>
          <a:xfrm>
            <a:off x="6502320" y="6572160"/>
            <a:ext cx="812880" cy="228600"/>
          </a:xfrm>
          <a:custGeom>
            <a:avLst/>
            <a:gdLst>
              <a:gd name="textAreaLeft" fmla="*/ 14760 w 812880"/>
              <a:gd name="textAreaRight" fmla="*/ 798120 w 81288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76721" h="21600">
                <a:moveTo>
                  <a:pt x="0" y="0"/>
                </a:moveTo>
                <a:lnTo>
                  <a:pt x="76721" y="0"/>
                </a:lnTo>
                <a:lnTo>
                  <a:pt x="76721" y="21600"/>
                </a:lnTo>
                <a:lnTo>
                  <a:pt x="0" y="21600"/>
                </a:lnTo>
                <a:close/>
              </a:path>
              <a:path fill="lightenLess" w="76721" h="21600">
                <a:moveTo>
                  <a:pt x="0" y="0"/>
                </a:moveTo>
                <a:lnTo>
                  <a:pt x="76721" y="0"/>
                </a:lnTo>
                <a:lnTo>
                  <a:pt x="75321" y="1400"/>
                </a:lnTo>
                <a:lnTo>
                  <a:pt x="1400" y="1400"/>
                </a:lnTo>
                <a:close/>
              </a:path>
              <a:path fill="darken" w="76721" h="21600">
                <a:moveTo>
                  <a:pt x="76721" y="0"/>
                </a:moveTo>
                <a:lnTo>
                  <a:pt x="76721" y="21600"/>
                </a:lnTo>
                <a:lnTo>
                  <a:pt x="75321" y="20200"/>
                </a:lnTo>
                <a:lnTo>
                  <a:pt x="75321" y="1400"/>
                </a:lnTo>
                <a:close/>
              </a:path>
              <a:path fill="darkenLess" w="76721" h="21600">
                <a:moveTo>
                  <a:pt x="767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5321" y="20200"/>
                </a:lnTo>
                <a:close/>
              </a:path>
              <a:path fill="lighten" w="767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6721" h="21600">
                <a:moveTo>
                  <a:pt x="31354" y="10800"/>
                </a:moveTo>
                <a:lnTo>
                  <a:pt x="45367" y="3794"/>
                </a:lnTo>
                <a:lnTo>
                  <a:pt x="45367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>
            <a:hlinkClick r:id="" action="ppaction://hlinkshowjump?jump=firstslide"/>
          </p:cNvPr>
          <p:cNvSpPr/>
          <p:nvPr/>
        </p:nvSpPr>
        <p:spPr>
          <a:xfrm>
            <a:off x="1011240" y="6559560"/>
            <a:ext cx="1631880" cy="241200"/>
          </a:xfrm>
          <a:custGeom>
            <a:avLst/>
            <a:gdLst>
              <a:gd name="textAreaLeft" fmla="*/ 15480 w 1631880"/>
              <a:gd name="textAreaRight" fmla="*/ 1616400 w 1631880"/>
              <a:gd name="textAreaTop" fmla="*/ 15480 h 241200"/>
              <a:gd name="textAreaBottom" fmla="*/ 225720 h 241200"/>
            </a:gdLst>
            <a:ahLst/>
            <a:rect l="textAreaLeft" t="textAreaTop" r="textAreaRight" b="textAreaBottom"/>
            <a:pathLst>
              <a:path w="145953" h="21600">
                <a:moveTo>
                  <a:pt x="0" y="0"/>
                </a:moveTo>
                <a:lnTo>
                  <a:pt x="145953" y="0"/>
                </a:lnTo>
                <a:lnTo>
                  <a:pt x="145953" y="21600"/>
                </a:lnTo>
                <a:lnTo>
                  <a:pt x="0" y="21600"/>
                </a:lnTo>
                <a:close/>
              </a:path>
              <a:path fill="lightenLess" w="145953" h="21600">
                <a:moveTo>
                  <a:pt x="0" y="0"/>
                </a:moveTo>
                <a:lnTo>
                  <a:pt x="145953" y="0"/>
                </a:lnTo>
                <a:lnTo>
                  <a:pt x="144553" y="1400"/>
                </a:lnTo>
                <a:lnTo>
                  <a:pt x="1400" y="1400"/>
                </a:lnTo>
                <a:close/>
              </a:path>
              <a:path fill="darken" w="145953" h="21600">
                <a:moveTo>
                  <a:pt x="145953" y="0"/>
                </a:moveTo>
                <a:lnTo>
                  <a:pt x="145953" y="21600"/>
                </a:lnTo>
                <a:lnTo>
                  <a:pt x="144553" y="20200"/>
                </a:lnTo>
                <a:lnTo>
                  <a:pt x="144553" y="1400"/>
                </a:lnTo>
                <a:close/>
              </a:path>
              <a:path fill="darkenLess" w="145953" h="21600">
                <a:moveTo>
                  <a:pt x="1459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44553" y="20200"/>
                </a:lnTo>
                <a:close/>
              </a:path>
              <a:path fill="lighten" w="1459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45953" h="21600">
                <a:moveTo>
                  <a:pt x="72976" y="3837"/>
                </a:moveTo>
                <a:lnTo>
                  <a:pt x="75553" y="6448"/>
                </a:lnTo>
                <a:lnTo>
                  <a:pt x="75553" y="4707"/>
                </a:lnTo>
                <a:lnTo>
                  <a:pt x="77328" y="4707"/>
                </a:lnTo>
                <a:lnTo>
                  <a:pt x="77328" y="8224"/>
                </a:lnTo>
                <a:lnTo>
                  <a:pt x="79939" y="10800"/>
                </a:lnTo>
                <a:lnTo>
                  <a:pt x="78286" y="10800"/>
                </a:lnTo>
                <a:lnTo>
                  <a:pt x="78286" y="17989"/>
                </a:lnTo>
                <a:lnTo>
                  <a:pt x="67667" y="17989"/>
                </a:lnTo>
                <a:lnTo>
                  <a:pt x="67667" y="10800"/>
                </a:lnTo>
                <a:lnTo>
                  <a:pt x="66013" y="10800"/>
                </a:lnTo>
                <a:close/>
              </a:path>
              <a:path fill="darkenLess" w="145953" h="21600">
                <a:moveTo>
                  <a:pt x="75553" y="6448"/>
                </a:moveTo>
                <a:lnTo>
                  <a:pt x="75553" y="4707"/>
                </a:lnTo>
                <a:lnTo>
                  <a:pt x="77328" y="4707"/>
                </a:lnTo>
                <a:lnTo>
                  <a:pt x="77328" y="8224"/>
                </a:lnTo>
                <a:close/>
              </a:path>
              <a:path fill="darkenLess" w="145953" h="21600">
                <a:moveTo>
                  <a:pt x="72054" y="14299"/>
                </a:moveTo>
                <a:lnTo>
                  <a:pt x="73899" y="14299"/>
                </a:lnTo>
                <a:lnTo>
                  <a:pt x="73899" y="17989"/>
                </a:lnTo>
                <a:lnTo>
                  <a:pt x="78286" y="17989"/>
                </a:lnTo>
                <a:lnTo>
                  <a:pt x="78286" y="10800"/>
                </a:lnTo>
                <a:lnTo>
                  <a:pt x="67667" y="10800"/>
                </a:lnTo>
                <a:lnTo>
                  <a:pt x="67667" y="17989"/>
                </a:lnTo>
                <a:lnTo>
                  <a:pt x="72054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8799F-A177-4935-B1FD-AB20B5E95D99}" type="slidenum">
              <a:t>22</a:t>
            </a:fld>
          </a:p>
        </p:txBody>
      </p:sp>
    </p:spTree>
  </p:cSld>
  <p:transition>
    <p:pull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1455840" y="1878120"/>
            <a:ext cx="6197400" cy="3969360"/>
          </a:xfrm>
          <a:prstGeom prst="rect">
            <a:avLst/>
          </a:prstGeom>
          <a:solidFill>
            <a:srgbClr val="00ccff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.82 Istituzioni Scolastich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de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ll’Ufficio Scolastico Provinciale di Benevento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sorse umane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aranno assegnate, con provvedimento del Direttore Generale,  su proposta del Dirigente assegnato all'Ufficio,  nel rispetto della disciplina contrattuale e dei Protocolli di Intesa con le OO.SS.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rtafoglio dei Servizi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arà definito dal Direttore Generale  previa concertazione regionale.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711360" y="398520"/>
            <a:ext cx="772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2. CENTRO SERVIZI ISTITUZIONI SCOLASTICHE  PER LA  PROVINCIA DI BENEV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>
            <a:hlinkClick r:id="" action="ppaction://hlinkshowjump?jump=nextslide"/>
          </p:cNvPr>
          <p:cNvSpPr/>
          <p:nvPr/>
        </p:nvSpPr>
        <p:spPr>
          <a:xfrm>
            <a:off x="7315200" y="6572160"/>
            <a:ext cx="812880" cy="228600"/>
          </a:xfrm>
          <a:custGeom>
            <a:avLst/>
            <a:gdLst>
              <a:gd name="textAreaLeft" fmla="*/ 14760 w 812880"/>
              <a:gd name="textAreaRight" fmla="*/ 798120 w 81288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76721" h="21600">
                <a:moveTo>
                  <a:pt x="0" y="0"/>
                </a:moveTo>
                <a:lnTo>
                  <a:pt x="76721" y="0"/>
                </a:lnTo>
                <a:lnTo>
                  <a:pt x="76721" y="21600"/>
                </a:lnTo>
                <a:lnTo>
                  <a:pt x="0" y="21600"/>
                </a:lnTo>
                <a:close/>
              </a:path>
              <a:path fill="lightenLess" w="76721" h="21600">
                <a:moveTo>
                  <a:pt x="0" y="0"/>
                </a:moveTo>
                <a:lnTo>
                  <a:pt x="76721" y="0"/>
                </a:lnTo>
                <a:lnTo>
                  <a:pt x="75321" y="1400"/>
                </a:lnTo>
                <a:lnTo>
                  <a:pt x="1400" y="1400"/>
                </a:lnTo>
                <a:close/>
              </a:path>
              <a:path fill="darken" w="76721" h="21600">
                <a:moveTo>
                  <a:pt x="76721" y="0"/>
                </a:moveTo>
                <a:lnTo>
                  <a:pt x="76721" y="21600"/>
                </a:lnTo>
                <a:lnTo>
                  <a:pt x="75321" y="20200"/>
                </a:lnTo>
                <a:lnTo>
                  <a:pt x="75321" y="1400"/>
                </a:lnTo>
                <a:close/>
              </a:path>
              <a:path fill="darkenLess" w="76721" h="21600">
                <a:moveTo>
                  <a:pt x="767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5321" y="20200"/>
                </a:lnTo>
                <a:close/>
              </a:path>
              <a:path fill="lighten" w="767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6721" h="21600">
                <a:moveTo>
                  <a:pt x="31354" y="3794"/>
                </a:moveTo>
                <a:lnTo>
                  <a:pt x="45367" y="10800"/>
                </a:lnTo>
                <a:lnTo>
                  <a:pt x="3135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>
            <a:hlinkClick r:id="rId2" action="ppaction://hlinksldjump"/>
          </p:cNvPr>
          <p:cNvSpPr/>
          <p:nvPr/>
        </p:nvSpPr>
        <p:spPr>
          <a:xfrm>
            <a:off x="4025880" y="6559560"/>
            <a:ext cx="1117800" cy="228600"/>
          </a:xfrm>
          <a:custGeom>
            <a:avLst/>
            <a:gdLst>
              <a:gd name="textAreaLeft" fmla="*/ 14760 w 1117800"/>
              <a:gd name="textAreaRight" fmla="*/ 1103040 w 11178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5487" h="21600">
                <a:moveTo>
                  <a:pt x="0" y="0"/>
                </a:moveTo>
                <a:lnTo>
                  <a:pt x="105487" y="0"/>
                </a:lnTo>
                <a:lnTo>
                  <a:pt x="105487" y="21600"/>
                </a:lnTo>
                <a:lnTo>
                  <a:pt x="0" y="21600"/>
                </a:lnTo>
                <a:close/>
              </a:path>
              <a:path fill="lightenLess" w="105487" h="21600">
                <a:moveTo>
                  <a:pt x="0" y="0"/>
                </a:moveTo>
                <a:lnTo>
                  <a:pt x="105487" y="0"/>
                </a:lnTo>
                <a:lnTo>
                  <a:pt x="104087" y="1400"/>
                </a:lnTo>
                <a:lnTo>
                  <a:pt x="1400" y="1400"/>
                </a:lnTo>
                <a:close/>
              </a:path>
              <a:path fill="darken" w="105487" h="21600">
                <a:moveTo>
                  <a:pt x="105487" y="0"/>
                </a:moveTo>
                <a:lnTo>
                  <a:pt x="105487" y="21600"/>
                </a:lnTo>
                <a:lnTo>
                  <a:pt x="104087" y="20200"/>
                </a:lnTo>
                <a:lnTo>
                  <a:pt x="104087" y="1400"/>
                </a:lnTo>
                <a:close/>
              </a:path>
              <a:path fill="darkenLess" w="105487" h="21600">
                <a:moveTo>
                  <a:pt x="1054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4087" y="20200"/>
                </a:lnTo>
                <a:close/>
              </a:path>
              <a:path fill="lighten" w="1054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05487" h="21600">
                <a:moveTo>
                  <a:pt x="45737" y="7493"/>
                </a:moveTo>
                <a:lnTo>
                  <a:pt x="49245" y="7493"/>
                </a:lnTo>
                <a:lnTo>
                  <a:pt x="49245" y="12828"/>
                </a:lnTo>
                <a:cubicBezTo>
                  <a:pt x="49245" y="13751"/>
                  <a:pt x="50045" y="14482"/>
                  <a:pt x="51081" y="14482"/>
                </a:cubicBezTo>
                <a:lnTo>
                  <a:pt x="52743" y="14482"/>
                </a:lnTo>
                <a:cubicBezTo>
                  <a:pt x="53779" y="14482"/>
                  <a:pt x="54580" y="13751"/>
                  <a:pt x="54580" y="12828"/>
                </a:cubicBezTo>
                <a:lnTo>
                  <a:pt x="54580" y="7493"/>
                </a:lnTo>
                <a:lnTo>
                  <a:pt x="52743" y="7493"/>
                </a:lnTo>
                <a:lnTo>
                  <a:pt x="56251" y="3985"/>
                </a:lnTo>
                <a:lnTo>
                  <a:pt x="59924" y="7493"/>
                </a:lnTo>
                <a:lnTo>
                  <a:pt x="58087" y="7493"/>
                </a:lnTo>
                <a:lnTo>
                  <a:pt x="58087" y="12828"/>
                </a:lnTo>
                <a:cubicBezTo>
                  <a:pt x="58087" y="15596"/>
                  <a:pt x="55511" y="18155"/>
                  <a:pt x="52743" y="18155"/>
                </a:cubicBezTo>
                <a:lnTo>
                  <a:pt x="51081" y="18155"/>
                </a:lnTo>
                <a:cubicBezTo>
                  <a:pt x="48313" y="18155"/>
                  <a:pt x="45737" y="15596"/>
                  <a:pt x="45737" y="12828"/>
                </a:cubicBez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>
            <a:hlinkClick r:id="" action="ppaction://hlinkshowjump?jump=previousslide"/>
          </p:cNvPr>
          <p:cNvSpPr/>
          <p:nvPr/>
        </p:nvSpPr>
        <p:spPr>
          <a:xfrm>
            <a:off x="6502320" y="6572160"/>
            <a:ext cx="812880" cy="228600"/>
          </a:xfrm>
          <a:custGeom>
            <a:avLst/>
            <a:gdLst>
              <a:gd name="textAreaLeft" fmla="*/ 14760 w 812880"/>
              <a:gd name="textAreaRight" fmla="*/ 798120 w 81288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76721" h="21600">
                <a:moveTo>
                  <a:pt x="0" y="0"/>
                </a:moveTo>
                <a:lnTo>
                  <a:pt x="76721" y="0"/>
                </a:lnTo>
                <a:lnTo>
                  <a:pt x="76721" y="21600"/>
                </a:lnTo>
                <a:lnTo>
                  <a:pt x="0" y="21600"/>
                </a:lnTo>
                <a:close/>
              </a:path>
              <a:path fill="lightenLess" w="76721" h="21600">
                <a:moveTo>
                  <a:pt x="0" y="0"/>
                </a:moveTo>
                <a:lnTo>
                  <a:pt x="76721" y="0"/>
                </a:lnTo>
                <a:lnTo>
                  <a:pt x="75321" y="1400"/>
                </a:lnTo>
                <a:lnTo>
                  <a:pt x="1400" y="1400"/>
                </a:lnTo>
                <a:close/>
              </a:path>
              <a:path fill="darken" w="76721" h="21600">
                <a:moveTo>
                  <a:pt x="76721" y="0"/>
                </a:moveTo>
                <a:lnTo>
                  <a:pt x="76721" y="21600"/>
                </a:lnTo>
                <a:lnTo>
                  <a:pt x="75321" y="20200"/>
                </a:lnTo>
                <a:lnTo>
                  <a:pt x="75321" y="1400"/>
                </a:lnTo>
                <a:close/>
              </a:path>
              <a:path fill="darkenLess" w="76721" h="21600">
                <a:moveTo>
                  <a:pt x="767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5321" y="20200"/>
                </a:lnTo>
                <a:close/>
              </a:path>
              <a:path fill="lighten" w="767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6721" h="21600">
                <a:moveTo>
                  <a:pt x="31354" y="10800"/>
                </a:moveTo>
                <a:lnTo>
                  <a:pt x="45367" y="3794"/>
                </a:lnTo>
                <a:lnTo>
                  <a:pt x="45367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>
            <a:hlinkClick r:id="" action="ppaction://hlinkshowjump?jump=firstslide"/>
          </p:cNvPr>
          <p:cNvSpPr/>
          <p:nvPr/>
        </p:nvSpPr>
        <p:spPr>
          <a:xfrm>
            <a:off x="1011240" y="6559560"/>
            <a:ext cx="1631880" cy="241200"/>
          </a:xfrm>
          <a:custGeom>
            <a:avLst/>
            <a:gdLst>
              <a:gd name="textAreaLeft" fmla="*/ 15480 w 1631880"/>
              <a:gd name="textAreaRight" fmla="*/ 1616400 w 1631880"/>
              <a:gd name="textAreaTop" fmla="*/ 15480 h 241200"/>
              <a:gd name="textAreaBottom" fmla="*/ 225720 h 241200"/>
            </a:gdLst>
            <a:ahLst/>
            <a:rect l="textAreaLeft" t="textAreaTop" r="textAreaRight" b="textAreaBottom"/>
            <a:pathLst>
              <a:path w="145953" h="21600">
                <a:moveTo>
                  <a:pt x="0" y="0"/>
                </a:moveTo>
                <a:lnTo>
                  <a:pt x="145953" y="0"/>
                </a:lnTo>
                <a:lnTo>
                  <a:pt x="145953" y="21600"/>
                </a:lnTo>
                <a:lnTo>
                  <a:pt x="0" y="21600"/>
                </a:lnTo>
                <a:close/>
              </a:path>
              <a:path fill="lightenLess" w="145953" h="21600">
                <a:moveTo>
                  <a:pt x="0" y="0"/>
                </a:moveTo>
                <a:lnTo>
                  <a:pt x="145953" y="0"/>
                </a:lnTo>
                <a:lnTo>
                  <a:pt x="144553" y="1400"/>
                </a:lnTo>
                <a:lnTo>
                  <a:pt x="1400" y="1400"/>
                </a:lnTo>
                <a:close/>
              </a:path>
              <a:path fill="darken" w="145953" h="21600">
                <a:moveTo>
                  <a:pt x="145953" y="0"/>
                </a:moveTo>
                <a:lnTo>
                  <a:pt x="145953" y="21600"/>
                </a:lnTo>
                <a:lnTo>
                  <a:pt x="144553" y="20200"/>
                </a:lnTo>
                <a:lnTo>
                  <a:pt x="144553" y="1400"/>
                </a:lnTo>
                <a:close/>
              </a:path>
              <a:path fill="darkenLess" w="145953" h="21600">
                <a:moveTo>
                  <a:pt x="1459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44553" y="20200"/>
                </a:lnTo>
                <a:close/>
              </a:path>
              <a:path fill="lighten" w="1459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45953" h="21600">
                <a:moveTo>
                  <a:pt x="72976" y="3837"/>
                </a:moveTo>
                <a:lnTo>
                  <a:pt x="75553" y="6448"/>
                </a:lnTo>
                <a:lnTo>
                  <a:pt x="75553" y="4707"/>
                </a:lnTo>
                <a:lnTo>
                  <a:pt x="77328" y="4707"/>
                </a:lnTo>
                <a:lnTo>
                  <a:pt x="77328" y="8224"/>
                </a:lnTo>
                <a:lnTo>
                  <a:pt x="79939" y="10800"/>
                </a:lnTo>
                <a:lnTo>
                  <a:pt x="78286" y="10800"/>
                </a:lnTo>
                <a:lnTo>
                  <a:pt x="78286" y="17989"/>
                </a:lnTo>
                <a:lnTo>
                  <a:pt x="67667" y="17989"/>
                </a:lnTo>
                <a:lnTo>
                  <a:pt x="67667" y="10800"/>
                </a:lnTo>
                <a:lnTo>
                  <a:pt x="66013" y="10800"/>
                </a:lnTo>
                <a:close/>
              </a:path>
              <a:path fill="darkenLess" w="145953" h="21600">
                <a:moveTo>
                  <a:pt x="75553" y="6448"/>
                </a:moveTo>
                <a:lnTo>
                  <a:pt x="75553" y="4707"/>
                </a:lnTo>
                <a:lnTo>
                  <a:pt x="77328" y="4707"/>
                </a:lnTo>
                <a:lnTo>
                  <a:pt x="77328" y="8224"/>
                </a:lnTo>
                <a:close/>
              </a:path>
              <a:path fill="darkenLess" w="145953" h="21600">
                <a:moveTo>
                  <a:pt x="72054" y="14299"/>
                </a:moveTo>
                <a:lnTo>
                  <a:pt x="73899" y="14299"/>
                </a:lnTo>
                <a:lnTo>
                  <a:pt x="73899" y="17989"/>
                </a:lnTo>
                <a:lnTo>
                  <a:pt x="78286" y="17989"/>
                </a:lnTo>
                <a:lnTo>
                  <a:pt x="78286" y="10800"/>
                </a:lnTo>
                <a:lnTo>
                  <a:pt x="67667" y="10800"/>
                </a:lnTo>
                <a:lnTo>
                  <a:pt x="67667" y="17989"/>
                </a:lnTo>
                <a:lnTo>
                  <a:pt x="72054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421F2-3B18-4216-8942-7A0AE6EE0259}" type="slidenum">
              <a:t>23</a:t>
            </a:fld>
          </a:p>
        </p:txBody>
      </p:sp>
    </p:spTree>
  </p:cSld>
  <p:transition>
    <p:pull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/>
          <p:nvPr/>
        </p:nvSpPr>
        <p:spPr>
          <a:xfrm>
            <a:off x="1303200" y="1490760"/>
            <a:ext cx="6604200" cy="4326840"/>
          </a:xfrm>
          <a:prstGeom prst="rect">
            <a:avLst/>
          </a:prstGeom>
          <a:solidFill>
            <a:srgbClr val="00ccff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  130 Istituzioni Scolastiche</a:t>
            </a:r>
            <a:r>
              <a:rPr b="0" i="1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mbiti C.P.O. n. 2, 4, 5.</a:t>
            </a:r>
            <a:r>
              <a:rPr b="0" i="1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de</a:t>
            </a:r>
            <a:r>
              <a:rPr b="0" i="1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ll’Ufficio Scolastico Provinciale di Caserta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sorse umane</a:t>
            </a:r>
            <a:r>
              <a:rPr b="0" i="1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aranno assegnate, con provvedimento del Direttore Generale,  su proposta del Dirigente assegnato all'Ufficio,  nel rispetto della disciplina contrattuale e dei Protocolli di Intesa con le OO.SS.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rtafoglio dei Servizi</a:t>
            </a:r>
            <a:r>
              <a:rPr b="0" i="1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 sarà  definito  dal  Direttore  Generale   previa  concertazione  regionale.</a:t>
            </a:r>
            <a:r>
              <a:rPr b="1" i="1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693720" y="398520"/>
            <a:ext cx="7721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3. CENTRO SERVIZI ISTITUZIONI SCOLASTICHE  PER LA  PROVINCIA DI CASERTA 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>
            <a:hlinkClick r:id="" action="ppaction://hlinkshowjump?jump=nextslide"/>
          </p:cNvPr>
          <p:cNvSpPr/>
          <p:nvPr/>
        </p:nvSpPr>
        <p:spPr>
          <a:xfrm>
            <a:off x="7315200" y="6572160"/>
            <a:ext cx="812880" cy="228600"/>
          </a:xfrm>
          <a:custGeom>
            <a:avLst/>
            <a:gdLst>
              <a:gd name="textAreaLeft" fmla="*/ 14760 w 812880"/>
              <a:gd name="textAreaRight" fmla="*/ 798120 w 81288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76721" h="21600">
                <a:moveTo>
                  <a:pt x="0" y="0"/>
                </a:moveTo>
                <a:lnTo>
                  <a:pt x="76721" y="0"/>
                </a:lnTo>
                <a:lnTo>
                  <a:pt x="76721" y="21600"/>
                </a:lnTo>
                <a:lnTo>
                  <a:pt x="0" y="21600"/>
                </a:lnTo>
                <a:close/>
              </a:path>
              <a:path fill="lightenLess" w="76721" h="21600">
                <a:moveTo>
                  <a:pt x="0" y="0"/>
                </a:moveTo>
                <a:lnTo>
                  <a:pt x="76721" y="0"/>
                </a:lnTo>
                <a:lnTo>
                  <a:pt x="75321" y="1400"/>
                </a:lnTo>
                <a:lnTo>
                  <a:pt x="1400" y="1400"/>
                </a:lnTo>
                <a:close/>
              </a:path>
              <a:path fill="darken" w="76721" h="21600">
                <a:moveTo>
                  <a:pt x="76721" y="0"/>
                </a:moveTo>
                <a:lnTo>
                  <a:pt x="76721" y="21600"/>
                </a:lnTo>
                <a:lnTo>
                  <a:pt x="75321" y="20200"/>
                </a:lnTo>
                <a:lnTo>
                  <a:pt x="75321" y="1400"/>
                </a:lnTo>
                <a:close/>
              </a:path>
              <a:path fill="darkenLess" w="76721" h="21600">
                <a:moveTo>
                  <a:pt x="767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5321" y="20200"/>
                </a:lnTo>
                <a:close/>
              </a:path>
              <a:path fill="lighten" w="767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6721" h="21600">
                <a:moveTo>
                  <a:pt x="31354" y="3794"/>
                </a:moveTo>
                <a:lnTo>
                  <a:pt x="45367" y="10800"/>
                </a:lnTo>
                <a:lnTo>
                  <a:pt x="3135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>
            <a:hlinkClick r:id="rId2" action="ppaction://hlinksldjump"/>
          </p:cNvPr>
          <p:cNvSpPr/>
          <p:nvPr/>
        </p:nvSpPr>
        <p:spPr>
          <a:xfrm>
            <a:off x="4025880" y="6559560"/>
            <a:ext cx="1117800" cy="228600"/>
          </a:xfrm>
          <a:custGeom>
            <a:avLst/>
            <a:gdLst>
              <a:gd name="textAreaLeft" fmla="*/ 14760 w 1117800"/>
              <a:gd name="textAreaRight" fmla="*/ 1103040 w 11178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5487" h="21600">
                <a:moveTo>
                  <a:pt x="0" y="0"/>
                </a:moveTo>
                <a:lnTo>
                  <a:pt x="105487" y="0"/>
                </a:lnTo>
                <a:lnTo>
                  <a:pt x="105487" y="21600"/>
                </a:lnTo>
                <a:lnTo>
                  <a:pt x="0" y="21600"/>
                </a:lnTo>
                <a:close/>
              </a:path>
              <a:path fill="lightenLess" w="105487" h="21600">
                <a:moveTo>
                  <a:pt x="0" y="0"/>
                </a:moveTo>
                <a:lnTo>
                  <a:pt x="105487" y="0"/>
                </a:lnTo>
                <a:lnTo>
                  <a:pt x="104087" y="1400"/>
                </a:lnTo>
                <a:lnTo>
                  <a:pt x="1400" y="1400"/>
                </a:lnTo>
                <a:close/>
              </a:path>
              <a:path fill="darken" w="105487" h="21600">
                <a:moveTo>
                  <a:pt x="105487" y="0"/>
                </a:moveTo>
                <a:lnTo>
                  <a:pt x="105487" y="21600"/>
                </a:lnTo>
                <a:lnTo>
                  <a:pt x="104087" y="20200"/>
                </a:lnTo>
                <a:lnTo>
                  <a:pt x="104087" y="1400"/>
                </a:lnTo>
                <a:close/>
              </a:path>
              <a:path fill="darkenLess" w="105487" h="21600">
                <a:moveTo>
                  <a:pt x="1054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4087" y="20200"/>
                </a:lnTo>
                <a:close/>
              </a:path>
              <a:path fill="lighten" w="1054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05487" h="21600">
                <a:moveTo>
                  <a:pt x="45737" y="7493"/>
                </a:moveTo>
                <a:lnTo>
                  <a:pt x="49245" y="7493"/>
                </a:lnTo>
                <a:lnTo>
                  <a:pt x="49245" y="12828"/>
                </a:lnTo>
                <a:cubicBezTo>
                  <a:pt x="49245" y="13751"/>
                  <a:pt x="50045" y="14482"/>
                  <a:pt x="51081" y="14482"/>
                </a:cubicBezTo>
                <a:lnTo>
                  <a:pt x="52743" y="14482"/>
                </a:lnTo>
                <a:cubicBezTo>
                  <a:pt x="53779" y="14482"/>
                  <a:pt x="54580" y="13751"/>
                  <a:pt x="54580" y="12828"/>
                </a:cubicBezTo>
                <a:lnTo>
                  <a:pt x="54580" y="7493"/>
                </a:lnTo>
                <a:lnTo>
                  <a:pt x="52743" y="7493"/>
                </a:lnTo>
                <a:lnTo>
                  <a:pt x="56251" y="3985"/>
                </a:lnTo>
                <a:lnTo>
                  <a:pt x="59924" y="7493"/>
                </a:lnTo>
                <a:lnTo>
                  <a:pt x="58087" y="7493"/>
                </a:lnTo>
                <a:lnTo>
                  <a:pt x="58087" y="12828"/>
                </a:lnTo>
                <a:cubicBezTo>
                  <a:pt x="58087" y="15596"/>
                  <a:pt x="55511" y="18155"/>
                  <a:pt x="52743" y="18155"/>
                </a:cubicBezTo>
                <a:lnTo>
                  <a:pt x="51081" y="18155"/>
                </a:lnTo>
                <a:cubicBezTo>
                  <a:pt x="48313" y="18155"/>
                  <a:pt x="45737" y="15596"/>
                  <a:pt x="45737" y="12828"/>
                </a:cubicBez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>
            <a:hlinkClick r:id="" action="ppaction://hlinkshowjump?jump=previousslide"/>
          </p:cNvPr>
          <p:cNvSpPr/>
          <p:nvPr/>
        </p:nvSpPr>
        <p:spPr>
          <a:xfrm>
            <a:off x="6502320" y="6572160"/>
            <a:ext cx="812880" cy="228600"/>
          </a:xfrm>
          <a:custGeom>
            <a:avLst/>
            <a:gdLst>
              <a:gd name="textAreaLeft" fmla="*/ 14760 w 812880"/>
              <a:gd name="textAreaRight" fmla="*/ 798120 w 81288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76721" h="21600">
                <a:moveTo>
                  <a:pt x="0" y="0"/>
                </a:moveTo>
                <a:lnTo>
                  <a:pt x="76721" y="0"/>
                </a:lnTo>
                <a:lnTo>
                  <a:pt x="76721" y="21600"/>
                </a:lnTo>
                <a:lnTo>
                  <a:pt x="0" y="21600"/>
                </a:lnTo>
                <a:close/>
              </a:path>
              <a:path fill="lightenLess" w="76721" h="21600">
                <a:moveTo>
                  <a:pt x="0" y="0"/>
                </a:moveTo>
                <a:lnTo>
                  <a:pt x="76721" y="0"/>
                </a:lnTo>
                <a:lnTo>
                  <a:pt x="75321" y="1400"/>
                </a:lnTo>
                <a:lnTo>
                  <a:pt x="1400" y="1400"/>
                </a:lnTo>
                <a:close/>
              </a:path>
              <a:path fill="darken" w="76721" h="21600">
                <a:moveTo>
                  <a:pt x="76721" y="0"/>
                </a:moveTo>
                <a:lnTo>
                  <a:pt x="76721" y="21600"/>
                </a:lnTo>
                <a:lnTo>
                  <a:pt x="75321" y="20200"/>
                </a:lnTo>
                <a:lnTo>
                  <a:pt x="75321" y="1400"/>
                </a:lnTo>
                <a:close/>
              </a:path>
              <a:path fill="darkenLess" w="76721" h="21600">
                <a:moveTo>
                  <a:pt x="767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5321" y="20200"/>
                </a:lnTo>
                <a:close/>
              </a:path>
              <a:path fill="lighten" w="767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6721" h="21600">
                <a:moveTo>
                  <a:pt x="31354" y="10800"/>
                </a:moveTo>
                <a:lnTo>
                  <a:pt x="45367" y="3794"/>
                </a:lnTo>
                <a:lnTo>
                  <a:pt x="45367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>
            <a:hlinkClick r:id="" action="ppaction://hlinkshowjump?jump=firstslide"/>
          </p:cNvPr>
          <p:cNvSpPr/>
          <p:nvPr/>
        </p:nvSpPr>
        <p:spPr>
          <a:xfrm>
            <a:off x="1011240" y="6559560"/>
            <a:ext cx="1631880" cy="241200"/>
          </a:xfrm>
          <a:custGeom>
            <a:avLst/>
            <a:gdLst>
              <a:gd name="textAreaLeft" fmla="*/ 15480 w 1631880"/>
              <a:gd name="textAreaRight" fmla="*/ 1616400 w 1631880"/>
              <a:gd name="textAreaTop" fmla="*/ 15480 h 241200"/>
              <a:gd name="textAreaBottom" fmla="*/ 225720 h 241200"/>
            </a:gdLst>
            <a:ahLst/>
            <a:rect l="textAreaLeft" t="textAreaTop" r="textAreaRight" b="textAreaBottom"/>
            <a:pathLst>
              <a:path w="145953" h="21600">
                <a:moveTo>
                  <a:pt x="0" y="0"/>
                </a:moveTo>
                <a:lnTo>
                  <a:pt x="145953" y="0"/>
                </a:lnTo>
                <a:lnTo>
                  <a:pt x="145953" y="21600"/>
                </a:lnTo>
                <a:lnTo>
                  <a:pt x="0" y="21600"/>
                </a:lnTo>
                <a:close/>
              </a:path>
              <a:path fill="lightenLess" w="145953" h="21600">
                <a:moveTo>
                  <a:pt x="0" y="0"/>
                </a:moveTo>
                <a:lnTo>
                  <a:pt x="145953" y="0"/>
                </a:lnTo>
                <a:lnTo>
                  <a:pt x="144553" y="1400"/>
                </a:lnTo>
                <a:lnTo>
                  <a:pt x="1400" y="1400"/>
                </a:lnTo>
                <a:close/>
              </a:path>
              <a:path fill="darken" w="145953" h="21600">
                <a:moveTo>
                  <a:pt x="145953" y="0"/>
                </a:moveTo>
                <a:lnTo>
                  <a:pt x="145953" y="21600"/>
                </a:lnTo>
                <a:lnTo>
                  <a:pt x="144553" y="20200"/>
                </a:lnTo>
                <a:lnTo>
                  <a:pt x="144553" y="1400"/>
                </a:lnTo>
                <a:close/>
              </a:path>
              <a:path fill="darkenLess" w="145953" h="21600">
                <a:moveTo>
                  <a:pt x="1459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44553" y="20200"/>
                </a:lnTo>
                <a:close/>
              </a:path>
              <a:path fill="lighten" w="1459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45953" h="21600">
                <a:moveTo>
                  <a:pt x="72976" y="3837"/>
                </a:moveTo>
                <a:lnTo>
                  <a:pt x="75553" y="6448"/>
                </a:lnTo>
                <a:lnTo>
                  <a:pt x="75553" y="4707"/>
                </a:lnTo>
                <a:lnTo>
                  <a:pt x="77328" y="4707"/>
                </a:lnTo>
                <a:lnTo>
                  <a:pt x="77328" y="8224"/>
                </a:lnTo>
                <a:lnTo>
                  <a:pt x="79939" y="10800"/>
                </a:lnTo>
                <a:lnTo>
                  <a:pt x="78286" y="10800"/>
                </a:lnTo>
                <a:lnTo>
                  <a:pt x="78286" y="17989"/>
                </a:lnTo>
                <a:lnTo>
                  <a:pt x="67667" y="17989"/>
                </a:lnTo>
                <a:lnTo>
                  <a:pt x="67667" y="10800"/>
                </a:lnTo>
                <a:lnTo>
                  <a:pt x="66013" y="10800"/>
                </a:lnTo>
                <a:close/>
              </a:path>
              <a:path fill="darkenLess" w="145953" h="21600">
                <a:moveTo>
                  <a:pt x="75553" y="6448"/>
                </a:moveTo>
                <a:lnTo>
                  <a:pt x="75553" y="4707"/>
                </a:lnTo>
                <a:lnTo>
                  <a:pt x="77328" y="4707"/>
                </a:lnTo>
                <a:lnTo>
                  <a:pt x="77328" y="8224"/>
                </a:lnTo>
                <a:close/>
              </a:path>
              <a:path fill="darkenLess" w="145953" h="21600">
                <a:moveTo>
                  <a:pt x="72054" y="14299"/>
                </a:moveTo>
                <a:lnTo>
                  <a:pt x="73899" y="14299"/>
                </a:lnTo>
                <a:lnTo>
                  <a:pt x="73899" y="17989"/>
                </a:lnTo>
                <a:lnTo>
                  <a:pt x="78286" y="17989"/>
                </a:lnTo>
                <a:lnTo>
                  <a:pt x="78286" y="10800"/>
                </a:lnTo>
                <a:lnTo>
                  <a:pt x="67667" y="10800"/>
                </a:lnTo>
                <a:lnTo>
                  <a:pt x="67667" y="17989"/>
                </a:lnTo>
                <a:lnTo>
                  <a:pt x="72054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ED5BE-13BE-487E-B53D-3BF1F214F892}" type="slidenum">
              <a:t>24</a:t>
            </a:fld>
          </a:p>
        </p:txBody>
      </p:sp>
    </p:spTree>
  </p:cSld>
  <p:transition>
    <p:pull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/>
          <p:nvPr/>
        </p:nvSpPr>
        <p:spPr>
          <a:xfrm>
            <a:off x="846000" y="1370160"/>
            <a:ext cx="7417080" cy="4767840"/>
          </a:xfrm>
          <a:prstGeom prst="rect">
            <a:avLst/>
          </a:prstGeom>
          <a:solidFill>
            <a:srgbClr val="00ccff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. 95  Istituzioni Scolastich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mbiti C.P.O. 1, 3, 6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de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da concordare con Regione, Provincia , Enti Locali interessati.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utture edilizie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da individuare con Provincia ed Enti Locali interessati.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sorse umane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aranno assegnate, con provvedimento del Direttore Generale,  su proposta del Dirigente assegnato all'Ufficio,  nel rispetto della disciplina contrattuale e dei Protocolli di Intesa con le OO.SS.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rtafoglio dei Servizi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 sarà  definito  dal  Direttore  Generale   previa  concertazione  regionale.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04880" y="398520"/>
            <a:ext cx="7640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4. CENTRO  SERVIZI ISTITUZIONI SCOLASTICHE PER LA  PROVINCIA DI CASERTA 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>
            <a:hlinkClick r:id="" action="ppaction://hlinkshowjump?jump=nextslide"/>
          </p:cNvPr>
          <p:cNvSpPr/>
          <p:nvPr/>
        </p:nvSpPr>
        <p:spPr>
          <a:xfrm>
            <a:off x="7315200" y="6572160"/>
            <a:ext cx="812880" cy="228600"/>
          </a:xfrm>
          <a:custGeom>
            <a:avLst/>
            <a:gdLst>
              <a:gd name="textAreaLeft" fmla="*/ 14760 w 812880"/>
              <a:gd name="textAreaRight" fmla="*/ 798120 w 81288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76721" h="21600">
                <a:moveTo>
                  <a:pt x="0" y="0"/>
                </a:moveTo>
                <a:lnTo>
                  <a:pt x="76721" y="0"/>
                </a:lnTo>
                <a:lnTo>
                  <a:pt x="76721" y="21600"/>
                </a:lnTo>
                <a:lnTo>
                  <a:pt x="0" y="21600"/>
                </a:lnTo>
                <a:close/>
              </a:path>
              <a:path fill="lightenLess" w="76721" h="21600">
                <a:moveTo>
                  <a:pt x="0" y="0"/>
                </a:moveTo>
                <a:lnTo>
                  <a:pt x="76721" y="0"/>
                </a:lnTo>
                <a:lnTo>
                  <a:pt x="75321" y="1400"/>
                </a:lnTo>
                <a:lnTo>
                  <a:pt x="1400" y="1400"/>
                </a:lnTo>
                <a:close/>
              </a:path>
              <a:path fill="darken" w="76721" h="21600">
                <a:moveTo>
                  <a:pt x="76721" y="0"/>
                </a:moveTo>
                <a:lnTo>
                  <a:pt x="76721" y="21600"/>
                </a:lnTo>
                <a:lnTo>
                  <a:pt x="75321" y="20200"/>
                </a:lnTo>
                <a:lnTo>
                  <a:pt x="75321" y="1400"/>
                </a:lnTo>
                <a:close/>
              </a:path>
              <a:path fill="darkenLess" w="76721" h="21600">
                <a:moveTo>
                  <a:pt x="767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5321" y="20200"/>
                </a:lnTo>
                <a:close/>
              </a:path>
              <a:path fill="lighten" w="767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6721" h="21600">
                <a:moveTo>
                  <a:pt x="31354" y="3794"/>
                </a:moveTo>
                <a:lnTo>
                  <a:pt x="45367" y="10800"/>
                </a:lnTo>
                <a:lnTo>
                  <a:pt x="3135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>
            <a:hlinkClick r:id="rId2" action="ppaction://hlinksldjump"/>
          </p:cNvPr>
          <p:cNvSpPr/>
          <p:nvPr/>
        </p:nvSpPr>
        <p:spPr>
          <a:xfrm>
            <a:off x="4006800" y="6559560"/>
            <a:ext cx="1117800" cy="228600"/>
          </a:xfrm>
          <a:custGeom>
            <a:avLst/>
            <a:gdLst>
              <a:gd name="textAreaLeft" fmla="*/ 14760 w 1117800"/>
              <a:gd name="textAreaRight" fmla="*/ 1103040 w 11178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5487" h="21600">
                <a:moveTo>
                  <a:pt x="0" y="0"/>
                </a:moveTo>
                <a:lnTo>
                  <a:pt x="105487" y="0"/>
                </a:lnTo>
                <a:lnTo>
                  <a:pt x="105487" y="21600"/>
                </a:lnTo>
                <a:lnTo>
                  <a:pt x="0" y="21600"/>
                </a:lnTo>
                <a:close/>
              </a:path>
              <a:path fill="lightenLess" w="105487" h="21600">
                <a:moveTo>
                  <a:pt x="0" y="0"/>
                </a:moveTo>
                <a:lnTo>
                  <a:pt x="105487" y="0"/>
                </a:lnTo>
                <a:lnTo>
                  <a:pt x="104087" y="1400"/>
                </a:lnTo>
                <a:lnTo>
                  <a:pt x="1400" y="1400"/>
                </a:lnTo>
                <a:close/>
              </a:path>
              <a:path fill="darken" w="105487" h="21600">
                <a:moveTo>
                  <a:pt x="105487" y="0"/>
                </a:moveTo>
                <a:lnTo>
                  <a:pt x="105487" y="21600"/>
                </a:lnTo>
                <a:lnTo>
                  <a:pt x="104087" y="20200"/>
                </a:lnTo>
                <a:lnTo>
                  <a:pt x="104087" y="1400"/>
                </a:lnTo>
                <a:close/>
              </a:path>
              <a:path fill="darkenLess" w="105487" h="21600">
                <a:moveTo>
                  <a:pt x="1054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4087" y="20200"/>
                </a:lnTo>
                <a:close/>
              </a:path>
              <a:path fill="lighten" w="1054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05487" h="21600">
                <a:moveTo>
                  <a:pt x="45737" y="7493"/>
                </a:moveTo>
                <a:lnTo>
                  <a:pt x="49245" y="7493"/>
                </a:lnTo>
                <a:lnTo>
                  <a:pt x="49245" y="12828"/>
                </a:lnTo>
                <a:cubicBezTo>
                  <a:pt x="49245" y="13751"/>
                  <a:pt x="50045" y="14482"/>
                  <a:pt x="51081" y="14482"/>
                </a:cubicBezTo>
                <a:lnTo>
                  <a:pt x="52743" y="14482"/>
                </a:lnTo>
                <a:cubicBezTo>
                  <a:pt x="53779" y="14482"/>
                  <a:pt x="54580" y="13751"/>
                  <a:pt x="54580" y="12828"/>
                </a:cubicBezTo>
                <a:lnTo>
                  <a:pt x="54580" y="7493"/>
                </a:lnTo>
                <a:lnTo>
                  <a:pt x="52743" y="7493"/>
                </a:lnTo>
                <a:lnTo>
                  <a:pt x="56251" y="3985"/>
                </a:lnTo>
                <a:lnTo>
                  <a:pt x="59924" y="7493"/>
                </a:lnTo>
                <a:lnTo>
                  <a:pt x="58087" y="7493"/>
                </a:lnTo>
                <a:lnTo>
                  <a:pt x="58087" y="12828"/>
                </a:lnTo>
                <a:cubicBezTo>
                  <a:pt x="58087" y="15596"/>
                  <a:pt x="55511" y="18155"/>
                  <a:pt x="52743" y="18155"/>
                </a:cubicBezTo>
                <a:lnTo>
                  <a:pt x="51081" y="18155"/>
                </a:lnTo>
                <a:cubicBezTo>
                  <a:pt x="48313" y="18155"/>
                  <a:pt x="45737" y="15596"/>
                  <a:pt x="45737" y="12828"/>
                </a:cubicBez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>
            <a:hlinkClick r:id="" action="ppaction://hlinkshowjump?jump=previousslide"/>
          </p:cNvPr>
          <p:cNvSpPr/>
          <p:nvPr/>
        </p:nvSpPr>
        <p:spPr>
          <a:xfrm>
            <a:off x="6502320" y="6572160"/>
            <a:ext cx="812880" cy="228600"/>
          </a:xfrm>
          <a:custGeom>
            <a:avLst/>
            <a:gdLst>
              <a:gd name="textAreaLeft" fmla="*/ 14760 w 812880"/>
              <a:gd name="textAreaRight" fmla="*/ 798120 w 81288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76721" h="21600">
                <a:moveTo>
                  <a:pt x="0" y="0"/>
                </a:moveTo>
                <a:lnTo>
                  <a:pt x="76721" y="0"/>
                </a:lnTo>
                <a:lnTo>
                  <a:pt x="76721" y="21600"/>
                </a:lnTo>
                <a:lnTo>
                  <a:pt x="0" y="21600"/>
                </a:lnTo>
                <a:close/>
              </a:path>
              <a:path fill="lightenLess" w="76721" h="21600">
                <a:moveTo>
                  <a:pt x="0" y="0"/>
                </a:moveTo>
                <a:lnTo>
                  <a:pt x="76721" y="0"/>
                </a:lnTo>
                <a:lnTo>
                  <a:pt x="75321" y="1400"/>
                </a:lnTo>
                <a:lnTo>
                  <a:pt x="1400" y="1400"/>
                </a:lnTo>
                <a:close/>
              </a:path>
              <a:path fill="darken" w="76721" h="21600">
                <a:moveTo>
                  <a:pt x="76721" y="0"/>
                </a:moveTo>
                <a:lnTo>
                  <a:pt x="76721" y="21600"/>
                </a:lnTo>
                <a:lnTo>
                  <a:pt x="75321" y="20200"/>
                </a:lnTo>
                <a:lnTo>
                  <a:pt x="75321" y="1400"/>
                </a:lnTo>
                <a:close/>
              </a:path>
              <a:path fill="darkenLess" w="76721" h="21600">
                <a:moveTo>
                  <a:pt x="767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5321" y="20200"/>
                </a:lnTo>
                <a:close/>
              </a:path>
              <a:path fill="lighten" w="767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6721" h="21600">
                <a:moveTo>
                  <a:pt x="31354" y="10800"/>
                </a:moveTo>
                <a:lnTo>
                  <a:pt x="45367" y="3794"/>
                </a:lnTo>
                <a:lnTo>
                  <a:pt x="45367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>
            <a:hlinkClick r:id="" action="ppaction://hlinkshowjump?jump=firstslide"/>
          </p:cNvPr>
          <p:cNvSpPr/>
          <p:nvPr/>
        </p:nvSpPr>
        <p:spPr>
          <a:xfrm>
            <a:off x="1011240" y="6559560"/>
            <a:ext cx="1631880" cy="241200"/>
          </a:xfrm>
          <a:custGeom>
            <a:avLst/>
            <a:gdLst>
              <a:gd name="textAreaLeft" fmla="*/ 15480 w 1631880"/>
              <a:gd name="textAreaRight" fmla="*/ 1616400 w 1631880"/>
              <a:gd name="textAreaTop" fmla="*/ 15480 h 241200"/>
              <a:gd name="textAreaBottom" fmla="*/ 225720 h 241200"/>
            </a:gdLst>
            <a:ahLst/>
            <a:rect l="textAreaLeft" t="textAreaTop" r="textAreaRight" b="textAreaBottom"/>
            <a:pathLst>
              <a:path w="145953" h="21600">
                <a:moveTo>
                  <a:pt x="0" y="0"/>
                </a:moveTo>
                <a:lnTo>
                  <a:pt x="145953" y="0"/>
                </a:lnTo>
                <a:lnTo>
                  <a:pt x="145953" y="21600"/>
                </a:lnTo>
                <a:lnTo>
                  <a:pt x="0" y="21600"/>
                </a:lnTo>
                <a:close/>
              </a:path>
              <a:path fill="lightenLess" w="145953" h="21600">
                <a:moveTo>
                  <a:pt x="0" y="0"/>
                </a:moveTo>
                <a:lnTo>
                  <a:pt x="145953" y="0"/>
                </a:lnTo>
                <a:lnTo>
                  <a:pt x="144553" y="1400"/>
                </a:lnTo>
                <a:lnTo>
                  <a:pt x="1400" y="1400"/>
                </a:lnTo>
                <a:close/>
              </a:path>
              <a:path fill="darken" w="145953" h="21600">
                <a:moveTo>
                  <a:pt x="145953" y="0"/>
                </a:moveTo>
                <a:lnTo>
                  <a:pt x="145953" y="21600"/>
                </a:lnTo>
                <a:lnTo>
                  <a:pt x="144553" y="20200"/>
                </a:lnTo>
                <a:lnTo>
                  <a:pt x="144553" y="1400"/>
                </a:lnTo>
                <a:close/>
              </a:path>
              <a:path fill="darkenLess" w="145953" h="21600">
                <a:moveTo>
                  <a:pt x="1459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44553" y="20200"/>
                </a:lnTo>
                <a:close/>
              </a:path>
              <a:path fill="lighten" w="1459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45953" h="21600">
                <a:moveTo>
                  <a:pt x="72976" y="3837"/>
                </a:moveTo>
                <a:lnTo>
                  <a:pt x="75553" y="6448"/>
                </a:lnTo>
                <a:lnTo>
                  <a:pt x="75553" y="4707"/>
                </a:lnTo>
                <a:lnTo>
                  <a:pt x="77328" y="4707"/>
                </a:lnTo>
                <a:lnTo>
                  <a:pt x="77328" y="8224"/>
                </a:lnTo>
                <a:lnTo>
                  <a:pt x="79939" y="10800"/>
                </a:lnTo>
                <a:lnTo>
                  <a:pt x="78286" y="10800"/>
                </a:lnTo>
                <a:lnTo>
                  <a:pt x="78286" y="17989"/>
                </a:lnTo>
                <a:lnTo>
                  <a:pt x="67667" y="17989"/>
                </a:lnTo>
                <a:lnTo>
                  <a:pt x="67667" y="10800"/>
                </a:lnTo>
                <a:lnTo>
                  <a:pt x="66013" y="10800"/>
                </a:lnTo>
                <a:close/>
              </a:path>
              <a:path fill="darkenLess" w="145953" h="21600">
                <a:moveTo>
                  <a:pt x="75553" y="6448"/>
                </a:moveTo>
                <a:lnTo>
                  <a:pt x="75553" y="4707"/>
                </a:lnTo>
                <a:lnTo>
                  <a:pt x="77328" y="4707"/>
                </a:lnTo>
                <a:lnTo>
                  <a:pt x="77328" y="8224"/>
                </a:lnTo>
                <a:close/>
              </a:path>
              <a:path fill="darkenLess" w="145953" h="21600">
                <a:moveTo>
                  <a:pt x="72054" y="14299"/>
                </a:moveTo>
                <a:lnTo>
                  <a:pt x="73899" y="14299"/>
                </a:lnTo>
                <a:lnTo>
                  <a:pt x="73899" y="17989"/>
                </a:lnTo>
                <a:lnTo>
                  <a:pt x="78286" y="17989"/>
                </a:lnTo>
                <a:lnTo>
                  <a:pt x="78286" y="10800"/>
                </a:lnTo>
                <a:lnTo>
                  <a:pt x="67667" y="10800"/>
                </a:lnTo>
                <a:lnTo>
                  <a:pt x="67667" y="17989"/>
                </a:lnTo>
                <a:lnTo>
                  <a:pt x="72054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1D4B0-0402-40F2-B7B2-D8879EF748CD}" type="slidenum">
              <a:t>25</a:t>
            </a:fld>
          </a:p>
        </p:txBody>
      </p:sp>
    </p:spTree>
  </p:cSld>
  <p:transition>
    <p:pull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/>
          <p:nvPr/>
        </p:nvSpPr>
        <p:spPr>
          <a:xfrm>
            <a:off x="1117440" y="1754280"/>
            <a:ext cx="7010640" cy="3808800"/>
          </a:xfrm>
          <a:prstGeom prst="rect">
            <a:avLst/>
          </a:prstGeom>
          <a:solidFill>
            <a:srgbClr val="00ccff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.210 Istituzioni Scolastiche della Città di Napoli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mbiti 8 a , 8 b, 8c della C.P.O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de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ll’Ufficio Scolastico Provinciale di Napoli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sorse umane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aranno assegnate, con provvedimento del Direttore Generale,  su proposta del Dirigente assegnato all'Ufficio,  nel rispetto della disciplina contrattuale e dei Protocolli di Intesa con le OO.SS.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rtafoglio dei Servizi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 sarà  definito  dal  Direttore  Generale   previa  concertazione  regionale.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609480" y="398520"/>
            <a:ext cx="7925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5. CENTRO SERVIZI ISTITUZIONI SCOLASTICHE PER LA PROVINCIA DI NAPOLI  - AREA URBAN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>
            <a:hlinkClick r:id="" action="ppaction://hlinkshowjump?jump=nextslide"/>
          </p:cNvPr>
          <p:cNvSpPr/>
          <p:nvPr/>
        </p:nvSpPr>
        <p:spPr>
          <a:xfrm>
            <a:off x="7315200" y="6572160"/>
            <a:ext cx="812880" cy="228600"/>
          </a:xfrm>
          <a:custGeom>
            <a:avLst/>
            <a:gdLst>
              <a:gd name="textAreaLeft" fmla="*/ 14760 w 812880"/>
              <a:gd name="textAreaRight" fmla="*/ 798120 w 81288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76721" h="21600">
                <a:moveTo>
                  <a:pt x="0" y="0"/>
                </a:moveTo>
                <a:lnTo>
                  <a:pt x="76721" y="0"/>
                </a:lnTo>
                <a:lnTo>
                  <a:pt x="76721" y="21600"/>
                </a:lnTo>
                <a:lnTo>
                  <a:pt x="0" y="21600"/>
                </a:lnTo>
                <a:close/>
              </a:path>
              <a:path fill="lightenLess" w="76721" h="21600">
                <a:moveTo>
                  <a:pt x="0" y="0"/>
                </a:moveTo>
                <a:lnTo>
                  <a:pt x="76721" y="0"/>
                </a:lnTo>
                <a:lnTo>
                  <a:pt x="75321" y="1400"/>
                </a:lnTo>
                <a:lnTo>
                  <a:pt x="1400" y="1400"/>
                </a:lnTo>
                <a:close/>
              </a:path>
              <a:path fill="darken" w="76721" h="21600">
                <a:moveTo>
                  <a:pt x="76721" y="0"/>
                </a:moveTo>
                <a:lnTo>
                  <a:pt x="76721" y="21600"/>
                </a:lnTo>
                <a:lnTo>
                  <a:pt x="75321" y="20200"/>
                </a:lnTo>
                <a:lnTo>
                  <a:pt x="75321" y="1400"/>
                </a:lnTo>
                <a:close/>
              </a:path>
              <a:path fill="darkenLess" w="76721" h="21600">
                <a:moveTo>
                  <a:pt x="767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5321" y="20200"/>
                </a:lnTo>
                <a:close/>
              </a:path>
              <a:path fill="lighten" w="767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6721" h="21600">
                <a:moveTo>
                  <a:pt x="31354" y="3794"/>
                </a:moveTo>
                <a:lnTo>
                  <a:pt x="45367" y="10800"/>
                </a:lnTo>
                <a:lnTo>
                  <a:pt x="3135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>
            <a:hlinkClick r:id="rId2" action="ppaction://hlinksldjump"/>
          </p:cNvPr>
          <p:cNvSpPr/>
          <p:nvPr/>
        </p:nvSpPr>
        <p:spPr>
          <a:xfrm>
            <a:off x="4038480" y="6559560"/>
            <a:ext cx="1117800" cy="228600"/>
          </a:xfrm>
          <a:custGeom>
            <a:avLst/>
            <a:gdLst>
              <a:gd name="textAreaLeft" fmla="*/ 14760 w 1117800"/>
              <a:gd name="textAreaRight" fmla="*/ 1103040 w 11178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5487" h="21600">
                <a:moveTo>
                  <a:pt x="0" y="0"/>
                </a:moveTo>
                <a:lnTo>
                  <a:pt x="105487" y="0"/>
                </a:lnTo>
                <a:lnTo>
                  <a:pt x="105487" y="21600"/>
                </a:lnTo>
                <a:lnTo>
                  <a:pt x="0" y="21600"/>
                </a:lnTo>
                <a:close/>
              </a:path>
              <a:path fill="lightenLess" w="105487" h="21600">
                <a:moveTo>
                  <a:pt x="0" y="0"/>
                </a:moveTo>
                <a:lnTo>
                  <a:pt x="105487" y="0"/>
                </a:lnTo>
                <a:lnTo>
                  <a:pt x="104087" y="1400"/>
                </a:lnTo>
                <a:lnTo>
                  <a:pt x="1400" y="1400"/>
                </a:lnTo>
                <a:close/>
              </a:path>
              <a:path fill="darken" w="105487" h="21600">
                <a:moveTo>
                  <a:pt x="105487" y="0"/>
                </a:moveTo>
                <a:lnTo>
                  <a:pt x="105487" y="21600"/>
                </a:lnTo>
                <a:lnTo>
                  <a:pt x="104087" y="20200"/>
                </a:lnTo>
                <a:lnTo>
                  <a:pt x="104087" y="1400"/>
                </a:lnTo>
                <a:close/>
              </a:path>
              <a:path fill="darkenLess" w="105487" h="21600">
                <a:moveTo>
                  <a:pt x="1054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4087" y="20200"/>
                </a:lnTo>
                <a:close/>
              </a:path>
              <a:path fill="lighten" w="1054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05487" h="21600">
                <a:moveTo>
                  <a:pt x="45737" y="7493"/>
                </a:moveTo>
                <a:lnTo>
                  <a:pt x="49245" y="7493"/>
                </a:lnTo>
                <a:lnTo>
                  <a:pt x="49245" y="12828"/>
                </a:lnTo>
                <a:cubicBezTo>
                  <a:pt x="49245" y="13751"/>
                  <a:pt x="50045" y="14482"/>
                  <a:pt x="51081" y="14482"/>
                </a:cubicBezTo>
                <a:lnTo>
                  <a:pt x="52743" y="14482"/>
                </a:lnTo>
                <a:cubicBezTo>
                  <a:pt x="53779" y="14482"/>
                  <a:pt x="54580" y="13751"/>
                  <a:pt x="54580" y="12828"/>
                </a:cubicBezTo>
                <a:lnTo>
                  <a:pt x="54580" y="7493"/>
                </a:lnTo>
                <a:lnTo>
                  <a:pt x="52743" y="7493"/>
                </a:lnTo>
                <a:lnTo>
                  <a:pt x="56251" y="3985"/>
                </a:lnTo>
                <a:lnTo>
                  <a:pt x="59924" y="7493"/>
                </a:lnTo>
                <a:lnTo>
                  <a:pt x="58087" y="7493"/>
                </a:lnTo>
                <a:lnTo>
                  <a:pt x="58087" y="12828"/>
                </a:lnTo>
                <a:cubicBezTo>
                  <a:pt x="58087" y="15596"/>
                  <a:pt x="55511" y="18155"/>
                  <a:pt x="52743" y="18155"/>
                </a:cubicBezTo>
                <a:lnTo>
                  <a:pt x="51081" y="18155"/>
                </a:lnTo>
                <a:cubicBezTo>
                  <a:pt x="48313" y="18155"/>
                  <a:pt x="45737" y="15596"/>
                  <a:pt x="45737" y="12828"/>
                </a:cubicBez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>
            <a:hlinkClick r:id="" action="ppaction://hlinkshowjump?jump=previousslide"/>
          </p:cNvPr>
          <p:cNvSpPr/>
          <p:nvPr/>
        </p:nvSpPr>
        <p:spPr>
          <a:xfrm>
            <a:off x="6502320" y="6572160"/>
            <a:ext cx="812880" cy="228600"/>
          </a:xfrm>
          <a:custGeom>
            <a:avLst/>
            <a:gdLst>
              <a:gd name="textAreaLeft" fmla="*/ 14760 w 812880"/>
              <a:gd name="textAreaRight" fmla="*/ 798120 w 81288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76721" h="21600">
                <a:moveTo>
                  <a:pt x="0" y="0"/>
                </a:moveTo>
                <a:lnTo>
                  <a:pt x="76721" y="0"/>
                </a:lnTo>
                <a:lnTo>
                  <a:pt x="76721" y="21600"/>
                </a:lnTo>
                <a:lnTo>
                  <a:pt x="0" y="21600"/>
                </a:lnTo>
                <a:close/>
              </a:path>
              <a:path fill="lightenLess" w="76721" h="21600">
                <a:moveTo>
                  <a:pt x="0" y="0"/>
                </a:moveTo>
                <a:lnTo>
                  <a:pt x="76721" y="0"/>
                </a:lnTo>
                <a:lnTo>
                  <a:pt x="75321" y="1400"/>
                </a:lnTo>
                <a:lnTo>
                  <a:pt x="1400" y="1400"/>
                </a:lnTo>
                <a:close/>
              </a:path>
              <a:path fill="darken" w="76721" h="21600">
                <a:moveTo>
                  <a:pt x="76721" y="0"/>
                </a:moveTo>
                <a:lnTo>
                  <a:pt x="76721" y="21600"/>
                </a:lnTo>
                <a:lnTo>
                  <a:pt x="75321" y="20200"/>
                </a:lnTo>
                <a:lnTo>
                  <a:pt x="75321" y="1400"/>
                </a:lnTo>
                <a:close/>
              </a:path>
              <a:path fill="darkenLess" w="76721" h="21600">
                <a:moveTo>
                  <a:pt x="767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5321" y="20200"/>
                </a:lnTo>
                <a:close/>
              </a:path>
              <a:path fill="lighten" w="767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6721" h="21600">
                <a:moveTo>
                  <a:pt x="31354" y="10800"/>
                </a:moveTo>
                <a:lnTo>
                  <a:pt x="45367" y="3794"/>
                </a:lnTo>
                <a:lnTo>
                  <a:pt x="45367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>
            <a:hlinkClick r:id="" action="ppaction://hlinkshowjump?jump=firstslide"/>
          </p:cNvPr>
          <p:cNvSpPr/>
          <p:nvPr/>
        </p:nvSpPr>
        <p:spPr>
          <a:xfrm>
            <a:off x="1011240" y="6559560"/>
            <a:ext cx="1631880" cy="241200"/>
          </a:xfrm>
          <a:custGeom>
            <a:avLst/>
            <a:gdLst>
              <a:gd name="textAreaLeft" fmla="*/ 15480 w 1631880"/>
              <a:gd name="textAreaRight" fmla="*/ 1616400 w 1631880"/>
              <a:gd name="textAreaTop" fmla="*/ 15480 h 241200"/>
              <a:gd name="textAreaBottom" fmla="*/ 225720 h 241200"/>
            </a:gdLst>
            <a:ahLst/>
            <a:rect l="textAreaLeft" t="textAreaTop" r="textAreaRight" b="textAreaBottom"/>
            <a:pathLst>
              <a:path w="145953" h="21600">
                <a:moveTo>
                  <a:pt x="0" y="0"/>
                </a:moveTo>
                <a:lnTo>
                  <a:pt x="145953" y="0"/>
                </a:lnTo>
                <a:lnTo>
                  <a:pt x="145953" y="21600"/>
                </a:lnTo>
                <a:lnTo>
                  <a:pt x="0" y="21600"/>
                </a:lnTo>
                <a:close/>
              </a:path>
              <a:path fill="lightenLess" w="145953" h="21600">
                <a:moveTo>
                  <a:pt x="0" y="0"/>
                </a:moveTo>
                <a:lnTo>
                  <a:pt x="145953" y="0"/>
                </a:lnTo>
                <a:lnTo>
                  <a:pt x="144553" y="1400"/>
                </a:lnTo>
                <a:lnTo>
                  <a:pt x="1400" y="1400"/>
                </a:lnTo>
                <a:close/>
              </a:path>
              <a:path fill="darken" w="145953" h="21600">
                <a:moveTo>
                  <a:pt x="145953" y="0"/>
                </a:moveTo>
                <a:lnTo>
                  <a:pt x="145953" y="21600"/>
                </a:lnTo>
                <a:lnTo>
                  <a:pt x="144553" y="20200"/>
                </a:lnTo>
                <a:lnTo>
                  <a:pt x="144553" y="1400"/>
                </a:lnTo>
                <a:close/>
              </a:path>
              <a:path fill="darkenLess" w="145953" h="21600">
                <a:moveTo>
                  <a:pt x="1459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44553" y="20200"/>
                </a:lnTo>
                <a:close/>
              </a:path>
              <a:path fill="lighten" w="1459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45953" h="21600">
                <a:moveTo>
                  <a:pt x="72976" y="3837"/>
                </a:moveTo>
                <a:lnTo>
                  <a:pt x="75553" y="6448"/>
                </a:lnTo>
                <a:lnTo>
                  <a:pt x="75553" y="4707"/>
                </a:lnTo>
                <a:lnTo>
                  <a:pt x="77328" y="4707"/>
                </a:lnTo>
                <a:lnTo>
                  <a:pt x="77328" y="8224"/>
                </a:lnTo>
                <a:lnTo>
                  <a:pt x="79939" y="10800"/>
                </a:lnTo>
                <a:lnTo>
                  <a:pt x="78286" y="10800"/>
                </a:lnTo>
                <a:lnTo>
                  <a:pt x="78286" y="17989"/>
                </a:lnTo>
                <a:lnTo>
                  <a:pt x="67667" y="17989"/>
                </a:lnTo>
                <a:lnTo>
                  <a:pt x="67667" y="10800"/>
                </a:lnTo>
                <a:lnTo>
                  <a:pt x="66013" y="10800"/>
                </a:lnTo>
                <a:close/>
              </a:path>
              <a:path fill="darkenLess" w="145953" h="21600">
                <a:moveTo>
                  <a:pt x="75553" y="6448"/>
                </a:moveTo>
                <a:lnTo>
                  <a:pt x="75553" y="4707"/>
                </a:lnTo>
                <a:lnTo>
                  <a:pt x="77328" y="4707"/>
                </a:lnTo>
                <a:lnTo>
                  <a:pt x="77328" y="8224"/>
                </a:lnTo>
                <a:close/>
              </a:path>
              <a:path fill="darkenLess" w="145953" h="21600">
                <a:moveTo>
                  <a:pt x="72054" y="14299"/>
                </a:moveTo>
                <a:lnTo>
                  <a:pt x="73899" y="14299"/>
                </a:lnTo>
                <a:lnTo>
                  <a:pt x="73899" y="17989"/>
                </a:lnTo>
                <a:lnTo>
                  <a:pt x="78286" y="17989"/>
                </a:lnTo>
                <a:lnTo>
                  <a:pt x="78286" y="10800"/>
                </a:lnTo>
                <a:lnTo>
                  <a:pt x="67667" y="10800"/>
                </a:lnTo>
                <a:lnTo>
                  <a:pt x="67667" y="17989"/>
                </a:lnTo>
                <a:lnTo>
                  <a:pt x="72054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14299-7A95-4091-A7FA-1AA48A6D21EF}" type="slidenum">
              <a:t>26</a:t>
            </a:fld>
          </a:p>
        </p:txBody>
      </p:sp>
    </p:spTree>
  </p:cSld>
  <p:transition>
    <p:pull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995400" y="1406520"/>
            <a:ext cx="7111800" cy="4472280"/>
          </a:xfrm>
          <a:prstGeom prst="rect">
            <a:avLst/>
          </a:prstGeom>
          <a:solidFill>
            <a:srgbClr val="00ccff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  I76   Istituzioni Scolastiche: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 Ambito NORD e n. 98 Ambito OVEST, di cui 16 Insulari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de:</a:t>
            </a:r>
            <a:r>
              <a:rPr b="0" i="1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a concordare con Regione, Provincia e  Enti  Locali interessati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utture edilizie</a:t>
            </a:r>
            <a:r>
              <a:rPr b="0" i="1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da concordare con Provincia e Enti Locali interessati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sorse umane</a:t>
            </a:r>
            <a:r>
              <a:rPr b="0" i="1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aranno assegnate, con provvedimento del Direttore Generale,  su proposta del Dirigente assegnato all'Ufficio,  nel rispetto della disciplina contrattuale e dei Protocolli di Intesa con le OO.SS.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rtafoglio dei Servizi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i="1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sarà  definito  dal  Direttore  Generale   previa  concertazione  regionale.</a:t>
            </a:r>
            <a:r>
              <a:rPr b="1" i="1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di decentrate</a:t>
            </a:r>
            <a:r>
              <a:rPr b="1" i="1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i="1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a concordare con Provincia e Enti Locali interessati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2920" y="380880"/>
            <a:ext cx="8377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6. CENTRO SERVIZI ISTITUZIONI SCOLASTICHE PER LA PROVINCIA DI NAPOLI AREA NORD - OVES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>
            <a:hlinkClick r:id="" action="ppaction://hlinkshowjump?jump=nextslide"/>
          </p:cNvPr>
          <p:cNvSpPr/>
          <p:nvPr/>
        </p:nvSpPr>
        <p:spPr>
          <a:xfrm>
            <a:off x="7315200" y="6572160"/>
            <a:ext cx="812880" cy="228600"/>
          </a:xfrm>
          <a:custGeom>
            <a:avLst/>
            <a:gdLst>
              <a:gd name="textAreaLeft" fmla="*/ 14760 w 812880"/>
              <a:gd name="textAreaRight" fmla="*/ 798120 w 81288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76721" h="21600">
                <a:moveTo>
                  <a:pt x="0" y="0"/>
                </a:moveTo>
                <a:lnTo>
                  <a:pt x="76721" y="0"/>
                </a:lnTo>
                <a:lnTo>
                  <a:pt x="76721" y="21600"/>
                </a:lnTo>
                <a:lnTo>
                  <a:pt x="0" y="21600"/>
                </a:lnTo>
                <a:close/>
              </a:path>
              <a:path fill="lightenLess" w="76721" h="21600">
                <a:moveTo>
                  <a:pt x="0" y="0"/>
                </a:moveTo>
                <a:lnTo>
                  <a:pt x="76721" y="0"/>
                </a:lnTo>
                <a:lnTo>
                  <a:pt x="75321" y="1400"/>
                </a:lnTo>
                <a:lnTo>
                  <a:pt x="1400" y="1400"/>
                </a:lnTo>
                <a:close/>
              </a:path>
              <a:path fill="darken" w="76721" h="21600">
                <a:moveTo>
                  <a:pt x="76721" y="0"/>
                </a:moveTo>
                <a:lnTo>
                  <a:pt x="76721" y="21600"/>
                </a:lnTo>
                <a:lnTo>
                  <a:pt x="75321" y="20200"/>
                </a:lnTo>
                <a:lnTo>
                  <a:pt x="75321" y="1400"/>
                </a:lnTo>
                <a:close/>
              </a:path>
              <a:path fill="darkenLess" w="76721" h="21600">
                <a:moveTo>
                  <a:pt x="767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5321" y="20200"/>
                </a:lnTo>
                <a:close/>
              </a:path>
              <a:path fill="lighten" w="767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6721" h="21600">
                <a:moveTo>
                  <a:pt x="31354" y="3794"/>
                </a:moveTo>
                <a:lnTo>
                  <a:pt x="45367" y="10800"/>
                </a:lnTo>
                <a:lnTo>
                  <a:pt x="3135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>
            <a:hlinkClick r:id="rId2" action="ppaction://hlinksldjump"/>
          </p:cNvPr>
          <p:cNvSpPr/>
          <p:nvPr/>
        </p:nvSpPr>
        <p:spPr>
          <a:xfrm>
            <a:off x="4025880" y="6559560"/>
            <a:ext cx="1117800" cy="228600"/>
          </a:xfrm>
          <a:custGeom>
            <a:avLst/>
            <a:gdLst>
              <a:gd name="textAreaLeft" fmla="*/ 14760 w 1117800"/>
              <a:gd name="textAreaRight" fmla="*/ 1103040 w 11178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5487" h="21600">
                <a:moveTo>
                  <a:pt x="0" y="0"/>
                </a:moveTo>
                <a:lnTo>
                  <a:pt x="105487" y="0"/>
                </a:lnTo>
                <a:lnTo>
                  <a:pt x="105487" y="21600"/>
                </a:lnTo>
                <a:lnTo>
                  <a:pt x="0" y="21600"/>
                </a:lnTo>
                <a:close/>
              </a:path>
              <a:path fill="lightenLess" w="105487" h="21600">
                <a:moveTo>
                  <a:pt x="0" y="0"/>
                </a:moveTo>
                <a:lnTo>
                  <a:pt x="105487" y="0"/>
                </a:lnTo>
                <a:lnTo>
                  <a:pt x="104087" y="1400"/>
                </a:lnTo>
                <a:lnTo>
                  <a:pt x="1400" y="1400"/>
                </a:lnTo>
                <a:close/>
              </a:path>
              <a:path fill="darken" w="105487" h="21600">
                <a:moveTo>
                  <a:pt x="105487" y="0"/>
                </a:moveTo>
                <a:lnTo>
                  <a:pt x="105487" y="21600"/>
                </a:lnTo>
                <a:lnTo>
                  <a:pt x="104087" y="20200"/>
                </a:lnTo>
                <a:lnTo>
                  <a:pt x="104087" y="1400"/>
                </a:lnTo>
                <a:close/>
              </a:path>
              <a:path fill="darkenLess" w="105487" h="21600">
                <a:moveTo>
                  <a:pt x="1054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4087" y="20200"/>
                </a:lnTo>
                <a:close/>
              </a:path>
              <a:path fill="lighten" w="1054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05487" h="21600">
                <a:moveTo>
                  <a:pt x="45737" y="7493"/>
                </a:moveTo>
                <a:lnTo>
                  <a:pt x="49245" y="7493"/>
                </a:lnTo>
                <a:lnTo>
                  <a:pt x="49245" y="12828"/>
                </a:lnTo>
                <a:cubicBezTo>
                  <a:pt x="49245" y="13751"/>
                  <a:pt x="50045" y="14482"/>
                  <a:pt x="51081" y="14482"/>
                </a:cubicBezTo>
                <a:lnTo>
                  <a:pt x="52743" y="14482"/>
                </a:lnTo>
                <a:cubicBezTo>
                  <a:pt x="53779" y="14482"/>
                  <a:pt x="54580" y="13751"/>
                  <a:pt x="54580" y="12828"/>
                </a:cubicBezTo>
                <a:lnTo>
                  <a:pt x="54580" y="7493"/>
                </a:lnTo>
                <a:lnTo>
                  <a:pt x="52743" y="7493"/>
                </a:lnTo>
                <a:lnTo>
                  <a:pt x="56251" y="3985"/>
                </a:lnTo>
                <a:lnTo>
                  <a:pt x="59924" y="7493"/>
                </a:lnTo>
                <a:lnTo>
                  <a:pt x="58087" y="7493"/>
                </a:lnTo>
                <a:lnTo>
                  <a:pt x="58087" y="12828"/>
                </a:lnTo>
                <a:cubicBezTo>
                  <a:pt x="58087" y="15596"/>
                  <a:pt x="55511" y="18155"/>
                  <a:pt x="52743" y="18155"/>
                </a:cubicBezTo>
                <a:lnTo>
                  <a:pt x="51081" y="18155"/>
                </a:lnTo>
                <a:cubicBezTo>
                  <a:pt x="48313" y="18155"/>
                  <a:pt x="45737" y="15596"/>
                  <a:pt x="45737" y="12828"/>
                </a:cubicBez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>
            <a:hlinkClick r:id="" action="ppaction://hlinkshowjump?jump=previousslide"/>
          </p:cNvPr>
          <p:cNvSpPr/>
          <p:nvPr/>
        </p:nvSpPr>
        <p:spPr>
          <a:xfrm>
            <a:off x="6502320" y="6572160"/>
            <a:ext cx="812880" cy="228600"/>
          </a:xfrm>
          <a:custGeom>
            <a:avLst/>
            <a:gdLst>
              <a:gd name="textAreaLeft" fmla="*/ 14760 w 812880"/>
              <a:gd name="textAreaRight" fmla="*/ 798120 w 81288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76721" h="21600">
                <a:moveTo>
                  <a:pt x="0" y="0"/>
                </a:moveTo>
                <a:lnTo>
                  <a:pt x="76721" y="0"/>
                </a:lnTo>
                <a:lnTo>
                  <a:pt x="76721" y="21600"/>
                </a:lnTo>
                <a:lnTo>
                  <a:pt x="0" y="21600"/>
                </a:lnTo>
                <a:close/>
              </a:path>
              <a:path fill="lightenLess" w="76721" h="21600">
                <a:moveTo>
                  <a:pt x="0" y="0"/>
                </a:moveTo>
                <a:lnTo>
                  <a:pt x="76721" y="0"/>
                </a:lnTo>
                <a:lnTo>
                  <a:pt x="75321" y="1400"/>
                </a:lnTo>
                <a:lnTo>
                  <a:pt x="1400" y="1400"/>
                </a:lnTo>
                <a:close/>
              </a:path>
              <a:path fill="darken" w="76721" h="21600">
                <a:moveTo>
                  <a:pt x="76721" y="0"/>
                </a:moveTo>
                <a:lnTo>
                  <a:pt x="76721" y="21600"/>
                </a:lnTo>
                <a:lnTo>
                  <a:pt x="75321" y="20200"/>
                </a:lnTo>
                <a:lnTo>
                  <a:pt x="75321" y="1400"/>
                </a:lnTo>
                <a:close/>
              </a:path>
              <a:path fill="darkenLess" w="76721" h="21600">
                <a:moveTo>
                  <a:pt x="767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5321" y="20200"/>
                </a:lnTo>
                <a:close/>
              </a:path>
              <a:path fill="lighten" w="767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6721" h="21600">
                <a:moveTo>
                  <a:pt x="31354" y="10800"/>
                </a:moveTo>
                <a:lnTo>
                  <a:pt x="45367" y="3794"/>
                </a:lnTo>
                <a:lnTo>
                  <a:pt x="45367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>
            <a:hlinkClick r:id="" action="ppaction://hlinkshowjump?jump=firstslide"/>
          </p:cNvPr>
          <p:cNvSpPr/>
          <p:nvPr/>
        </p:nvSpPr>
        <p:spPr>
          <a:xfrm>
            <a:off x="1011240" y="6559560"/>
            <a:ext cx="1631880" cy="241200"/>
          </a:xfrm>
          <a:custGeom>
            <a:avLst/>
            <a:gdLst>
              <a:gd name="textAreaLeft" fmla="*/ 15480 w 1631880"/>
              <a:gd name="textAreaRight" fmla="*/ 1616400 w 1631880"/>
              <a:gd name="textAreaTop" fmla="*/ 15480 h 241200"/>
              <a:gd name="textAreaBottom" fmla="*/ 225720 h 241200"/>
            </a:gdLst>
            <a:ahLst/>
            <a:rect l="textAreaLeft" t="textAreaTop" r="textAreaRight" b="textAreaBottom"/>
            <a:pathLst>
              <a:path w="145953" h="21600">
                <a:moveTo>
                  <a:pt x="0" y="0"/>
                </a:moveTo>
                <a:lnTo>
                  <a:pt x="145953" y="0"/>
                </a:lnTo>
                <a:lnTo>
                  <a:pt x="145953" y="21600"/>
                </a:lnTo>
                <a:lnTo>
                  <a:pt x="0" y="21600"/>
                </a:lnTo>
                <a:close/>
              </a:path>
              <a:path fill="lightenLess" w="145953" h="21600">
                <a:moveTo>
                  <a:pt x="0" y="0"/>
                </a:moveTo>
                <a:lnTo>
                  <a:pt x="145953" y="0"/>
                </a:lnTo>
                <a:lnTo>
                  <a:pt x="144553" y="1400"/>
                </a:lnTo>
                <a:lnTo>
                  <a:pt x="1400" y="1400"/>
                </a:lnTo>
                <a:close/>
              </a:path>
              <a:path fill="darken" w="145953" h="21600">
                <a:moveTo>
                  <a:pt x="145953" y="0"/>
                </a:moveTo>
                <a:lnTo>
                  <a:pt x="145953" y="21600"/>
                </a:lnTo>
                <a:lnTo>
                  <a:pt x="144553" y="20200"/>
                </a:lnTo>
                <a:lnTo>
                  <a:pt x="144553" y="1400"/>
                </a:lnTo>
                <a:close/>
              </a:path>
              <a:path fill="darkenLess" w="145953" h="21600">
                <a:moveTo>
                  <a:pt x="1459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44553" y="20200"/>
                </a:lnTo>
                <a:close/>
              </a:path>
              <a:path fill="lighten" w="1459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45953" h="21600">
                <a:moveTo>
                  <a:pt x="72976" y="3837"/>
                </a:moveTo>
                <a:lnTo>
                  <a:pt x="75553" y="6448"/>
                </a:lnTo>
                <a:lnTo>
                  <a:pt x="75553" y="4707"/>
                </a:lnTo>
                <a:lnTo>
                  <a:pt x="77328" y="4707"/>
                </a:lnTo>
                <a:lnTo>
                  <a:pt x="77328" y="8224"/>
                </a:lnTo>
                <a:lnTo>
                  <a:pt x="79939" y="10800"/>
                </a:lnTo>
                <a:lnTo>
                  <a:pt x="78286" y="10800"/>
                </a:lnTo>
                <a:lnTo>
                  <a:pt x="78286" y="17989"/>
                </a:lnTo>
                <a:lnTo>
                  <a:pt x="67667" y="17989"/>
                </a:lnTo>
                <a:lnTo>
                  <a:pt x="67667" y="10800"/>
                </a:lnTo>
                <a:lnTo>
                  <a:pt x="66013" y="10800"/>
                </a:lnTo>
                <a:close/>
              </a:path>
              <a:path fill="darkenLess" w="145953" h="21600">
                <a:moveTo>
                  <a:pt x="75553" y="6448"/>
                </a:moveTo>
                <a:lnTo>
                  <a:pt x="75553" y="4707"/>
                </a:lnTo>
                <a:lnTo>
                  <a:pt x="77328" y="4707"/>
                </a:lnTo>
                <a:lnTo>
                  <a:pt x="77328" y="8224"/>
                </a:lnTo>
                <a:close/>
              </a:path>
              <a:path fill="darkenLess" w="145953" h="21600">
                <a:moveTo>
                  <a:pt x="72054" y="14299"/>
                </a:moveTo>
                <a:lnTo>
                  <a:pt x="73899" y="14299"/>
                </a:lnTo>
                <a:lnTo>
                  <a:pt x="73899" y="17989"/>
                </a:lnTo>
                <a:lnTo>
                  <a:pt x="78286" y="17989"/>
                </a:lnTo>
                <a:lnTo>
                  <a:pt x="78286" y="10800"/>
                </a:lnTo>
                <a:lnTo>
                  <a:pt x="67667" y="10800"/>
                </a:lnTo>
                <a:lnTo>
                  <a:pt x="67667" y="17989"/>
                </a:lnTo>
                <a:lnTo>
                  <a:pt x="72054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861B1-78CC-474B-BB53-EA08B47651E4}" type="slidenum">
              <a:t>27</a:t>
            </a:fld>
          </a:p>
        </p:txBody>
      </p:sp>
    </p:spTree>
  </p:cSld>
  <p:transition>
    <p:pull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981000" y="1670040"/>
            <a:ext cx="7213680" cy="4546800"/>
          </a:xfrm>
          <a:prstGeom prst="rect">
            <a:avLst/>
          </a:prstGeom>
          <a:solidFill>
            <a:srgbClr val="00ccff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 123  Istituzioni Scolastiche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 Ambito Est e n. 48 Ambito Vesuvia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de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da concordare con Regione, Provincia  ed Enti Locali interessat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utture edilizie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da concordare con Provincia ed Enti  Locali interessat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sorse umane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aranno assegnate, con provvedimento del Direttore Generale,  su proposta del Dirigente assegnato all'Ufficio,  nel rispetto della disciplina contrattuale e dei Protocolli di Intesa con le OO.SS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rtafoglio dei Servizi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 sarà  definito  dal  Direttore  Generale   previa  concertazione  regiona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812880" y="398520"/>
            <a:ext cx="7518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7. CENTRO  SERVIZI ISTITUZIONI SCOLASTICHE PER LA PROVINCIA DI NAPOLI AREA EST - VESUVIAN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>
            <a:hlinkClick r:id="" action="ppaction://hlinkshowjump?jump=nextslide"/>
          </p:cNvPr>
          <p:cNvSpPr/>
          <p:nvPr/>
        </p:nvSpPr>
        <p:spPr>
          <a:xfrm>
            <a:off x="7315200" y="6572160"/>
            <a:ext cx="812880" cy="228600"/>
          </a:xfrm>
          <a:custGeom>
            <a:avLst/>
            <a:gdLst>
              <a:gd name="textAreaLeft" fmla="*/ 14760 w 812880"/>
              <a:gd name="textAreaRight" fmla="*/ 798120 w 81288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76721" h="21600">
                <a:moveTo>
                  <a:pt x="0" y="0"/>
                </a:moveTo>
                <a:lnTo>
                  <a:pt x="76721" y="0"/>
                </a:lnTo>
                <a:lnTo>
                  <a:pt x="76721" y="21600"/>
                </a:lnTo>
                <a:lnTo>
                  <a:pt x="0" y="21600"/>
                </a:lnTo>
                <a:close/>
              </a:path>
              <a:path fill="lightenLess" w="76721" h="21600">
                <a:moveTo>
                  <a:pt x="0" y="0"/>
                </a:moveTo>
                <a:lnTo>
                  <a:pt x="76721" y="0"/>
                </a:lnTo>
                <a:lnTo>
                  <a:pt x="75321" y="1400"/>
                </a:lnTo>
                <a:lnTo>
                  <a:pt x="1400" y="1400"/>
                </a:lnTo>
                <a:close/>
              </a:path>
              <a:path fill="darken" w="76721" h="21600">
                <a:moveTo>
                  <a:pt x="76721" y="0"/>
                </a:moveTo>
                <a:lnTo>
                  <a:pt x="76721" y="21600"/>
                </a:lnTo>
                <a:lnTo>
                  <a:pt x="75321" y="20200"/>
                </a:lnTo>
                <a:lnTo>
                  <a:pt x="75321" y="1400"/>
                </a:lnTo>
                <a:close/>
              </a:path>
              <a:path fill="darkenLess" w="76721" h="21600">
                <a:moveTo>
                  <a:pt x="767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5321" y="20200"/>
                </a:lnTo>
                <a:close/>
              </a:path>
              <a:path fill="lighten" w="767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6721" h="21600">
                <a:moveTo>
                  <a:pt x="31354" y="3794"/>
                </a:moveTo>
                <a:lnTo>
                  <a:pt x="45367" y="10800"/>
                </a:lnTo>
                <a:lnTo>
                  <a:pt x="3135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>
            <a:hlinkClick r:id="rId2" action="ppaction://hlinksldjump"/>
          </p:cNvPr>
          <p:cNvSpPr/>
          <p:nvPr/>
        </p:nvSpPr>
        <p:spPr>
          <a:xfrm>
            <a:off x="4038480" y="6559560"/>
            <a:ext cx="1117800" cy="228600"/>
          </a:xfrm>
          <a:custGeom>
            <a:avLst/>
            <a:gdLst>
              <a:gd name="textAreaLeft" fmla="*/ 14760 w 1117800"/>
              <a:gd name="textAreaRight" fmla="*/ 1103040 w 11178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5487" h="21600">
                <a:moveTo>
                  <a:pt x="0" y="0"/>
                </a:moveTo>
                <a:lnTo>
                  <a:pt x="105487" y="0"/>
                </a:lnTo>
                <a:lnTo>
                  <a:pt x="105487" y="21600"/>
                </a:lnTo>
                <a:lnTo>
                  <a:pt x="0" y="21600"/>
                </a:lnTo>
                <a:close/>
              </a:path>
              <a:path fill="lightenLess" w="105487" h="21600">
                <a:moveTo>
                  <a:pt x="0" y="0"/>
                </a:moveTo>
                <a:lnTo>
                  <a:pt x="105487" y="0"/>
                </a:lnTo>
                <a:lnTo>
                  <a:pt x="104087" y="1400"/>
                </a:lnTo>
                <a:lnTo>
                  <a:pt x="1400" y="1400"/>
                </a:lnTo>
                <a:close/>
              </a:path>
              <a:path fill="darken" w="105487" h="21600">
                <a:moveTo>
                  <a:pt x="105487" y="0"/>
                </a:moveTo>
                <a:lnTo>
                  <a:pt x="105487" y="21600"/>
                </a:lnTo>
                <a:lnTo>
                  <a:pt x="104087" y="20200"/>
                </a:lnTo>
                <a:lnTo>
                  <a:pt x="104087" y="1400"/>
                </a:lnTo>
                <a:close/>
              </a:path>
              <a:path fill="darkenLess" w="105487" h="21600">
                <a:moveTo>
                  <a:pt x="1054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4087" y="20200"/>
                </a:lnTo>
                <a:close/>
              </a:path>
              <a:path fill="lighten" w="1054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05487" h="21600">
                <a:moveTo>
                  <a:pt x="45737" y="7493"/>
                </a:moveTo>
                <a:lnTo>
                  <a:pt x="49245" y="7493"/>
                </a:lnTo>
                <a:lnTo>
                  <a:pt x="49245" y="12828"/>
                </a:lnTo>
                <a:cubicBezTo>
                  <a:pt x="49245" y="13751"/>
                  <a:pt x="50045" y="14482"/>
                  <a:pt x="51081" y="14482"/>
                </a:cubicBezTo>
                <a:lnTo>
                  <a:pt x="52743" y="14482"/>
                </a:lnTo>
                <a:cubicBezTo>
                  <a:pt x="53779" y="14482"/>
                  <a:pt x="54580" y="13751"/>
                  <a:pt x="54580" y="12828"/>
                </a:cubicBezTo>
                <a:lnTo>
                  <a:pt x="54580" y="7493"/>
                </a:lnTo>
                <a:lnTo>
                  <a:pt x="52743" y="7493"/>
                </a:lnTo>
                <a:lnTo>
                  <a:pt x="56251" y="3985"/>
                </a:lnTo>
                <a:lnTo>
                  <a:pt x="59924" y="7493"/>
                </a:lnTo>
                <a:lnTo>
                  <a:pt x="58087" y="7493"/>
                </a:lnTo>
                <a:lnTo>
                  <a:pt x="58087" y="12828"/>
                </a:lnTo>
                <a:cubicBezTo>
                  <a:pt x="58087" y="15596"/>
                  <a:pt x="55511" y="18155"/>
                  <a:pt x="52743" y="18155"/>
                </a:cubicBezTo>
                <a:lnTo>
                  <a:pt x="51081" y="18155"/>
                </a:lnTo>
                <a:cubicBezTo>
                  <a:pt x="48313" y="18155"/>
                  <a:pt x="45737" y="15596"/>
                  <a:pt x="45737" y="12828"/>
                </a:cubicBez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>
            <a:hlinkClick r:id="" action="ppaction://hlinkshowjump?jump=previousslide"/>
          </p:cNvPr>
          <p:cNvSpPr/>
          <p:nvPr/>
        </p:nvSpPr>
        <p:spPr>
          <a:xfrm>
            <a:off x="6502320" y="6572160"/>
            <a:ext cx="812880" cy="228600"/>
          </a:xfrm>
          <a:custGeom>
            <a:avLst/>
            <a:gdLst>
              <a:gd name="textAreaLeft" fmla="*/ 14760 w 812880"/>
              <a:gd name="textAreaRight" fmla="*/ 798120 w 81288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76721" h="21600">
                <a:moveTo>
                  <a:pt x="0" y="0"/>
                </a:moveTo>
                <a:lnTo>
                  <a:pt x="76721" y="0"/>
                </a:lnTo>
                <a:lnTo>
                  <a:pt x="76721" y="21600"/>
                </a:lnTo>
                <a:lnTo>
                  <a:pt x="0" y="21600"/>
                </a:lnTo>
                <a:close/>
              </a:path>
              <a:path fill="lightenLess" w="76721" h="21600">
                <a:moveTo>
                  <a:pt x="0" y="0"/>
                </a:moveTo>
                <a:lnTo>
                  <a:pt x="76721" y="0"/>
                </a:lnTo>
                <a:lnTo>
                  <a:pt x="75321" y="1400"/>
                </a:lnTo>
                <a:lnTo>
                  <a:pt x="1400" y="1400"/>
                </a:lnTo>
                <a:close/>
              </a:path>
              <a:path fill="darken" w="76721" h="21600">
                <a:moveTo>
                  <a:pt x="76721" y="0"/>
                </a:moveTo>
                <a:lnTo>
                  <a:pt x="76721" y="21600"/>
                </a:lnTo>
                <a:lnTo>
                  <a:pt x="75321" y="20200"/>
                </a:lnTo>
                <a:lnTo>
                  <a:pt x="75321" y="1400"/>
                </a:lnTo>
                <a:close/>
              </a:path>
              <a:path fill="darkenLess" w="76721" h="21600">
                <a:moveTo>
                  <a:pt x="767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5321" y="20200"/>
                </a:lnTo>
                <a:close/>
              </a:path>
              <a:path fill="lighten" w="767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6721" h="21600">
                <a:moveTo>
                  <a:pt x="31354" y="10800"/>
                </a:moveTo>
                <a:lnTo>
                  <a:pt x="45367" y="3794"/>
                </a:lnTo>
                <a:lnTo>
                  <a:pt x="45367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>
            <a:hlinkClick r:id="" action="ppaction://hlinkshowjump?jump=firstslide"/>
          </p:cNvPr>
          <p:cNvSpPr/>
          <p:nvPr/>
        </p:nvSpPr>
        <p:spPr>
          <a:xfrm>
            <a:off x="1011240" y="6559560"/>
            <a:ext cx="1631880" cy="241200"/>
          </a:xfrm>
          <a:custGeom>
            <a:avLst/>
            <a:gdLst>
              <a:gd name="textAreaLeft" fmla="*/ 15480 w 1631880"/>
              <a:gd name="textAreaRight" fmla="*/ 1616400 w 1631880"/>
              <a:gd name="textAreaTop" fmla="*/ 15480 h 241200"/>
              <a:gd name="textAreaBottom" fmla="*/ 225720 h 241200"/>
            </a:gdLst>
            <a:ahLst/>
            <a:rect l="textAreaLeft" t="textAreaTop" r="textAreaRight" b="textAreaBottom"/>
            <a:pathLst>
              <a:path w="145953" h="21600">
                <a:moveTo>
                  <a:pt x="0" y="0"/>
                </a:moveTo>
                <a:lnTo>
                  <a:pt x="145953" y="0"/>
                </a:lnTo>
                <a:lnTo>
                  <a:pt x="145953" y="21600"/>
                </a:lnTo>
                <a:lnTo>
                  <a:pt x="0" y="21600"/>
                </a:lnTo>
                <a:close/>
              </a:path>
              <a:path fill="lightenLess" w="145953" h="21600">
                <a:moveTo>
                  <a:pt x="0" y="0"/>
                </a:moveTo>
                <a:lnTo>
                  <a:pt x="145953" y="0"/>
                </a:lnTo>
                <a:lnTo>
                  <a:pt x="144553" y="1400"/>
                </a:lnTo>
                <a:lnTo>
                  <a:pt x="1400" y="1400"/>
                </a:lnTo>
                <a:close/>
              </a:path>
              <a:path fill="darken" w="145953" h="21600">
                <a:moveTo>
                  <a:pt x="145953" y="0"/>
                </a:moveTo>
                <a:lnTo>
                  <a:pt x="145953" y="21600"/>
                </a:lnTo>
                <a:lnTo>
                  <a:pt x="144553" y="20200"/>
                </a:lnTo>
                <a:lnTo>
                  <a:pt x="144553" y="1400"/>
                </a:lnTo>
                <a:close/>
              </a:path>
              <a:path fill="darkenLess" w="145953" h="21600">
                <a:moveTo>
                  <a:pt x="1459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44553" y="20200"/>
                </a:lnTo>
                <a:close/>
              </a:path>
              <a:path fill="lighten" w="1459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45953" h="21600">
                <a:moveTo>
                  <a:pt x="72976" y="3837"/>
                </a:moveTo>
                <a:lnTo>
                  <a:pt x="75553" y="6448"/>
                </a:lnTo>
                <a:lnTo>
                  <a:pt x="75553" y="4707"/>
                </a:lnTo>
                <a:lnTo>
                  <a:pt x="77328" y="4707"/>
                </a:lnTo>
                <a:lnTo>
                  <a:pt x="77328" y="8224"/>
                </a:lnTo>
                <a:lnTo>
                  <a:pt x="79939" y="10800"/>
                </a:lnTo>
                <a:lnTo>
                  <a:pt x="78286" y="10800"/>
                </a:lnTo>
                <a:lnTo>
                  <a:pt x="78286" y="17989"/>
                </a:lnTo>
                <a:lnTo>
                  <a:pt x="67667" y="17989"/>
                </a:lnTo>
                <a:lnTo>
                  <a:pt x="67667" y="10800"/>
                </a:lnTo>
                <a:lnTo>
                  <a:pt x="66013" y="10800"/>
                </a:lnTo>
                <a:close/>
              </a:path>
              <a:path fill="darkenLess" w="145953" h="21600">
                <a:moveTo>
                  <a:pt x="75553" y="6448"/>
                </a:moveTo>
                <a:lnTo>
                  <a:pt x="75553" y="4707"/>
                </a:lnTo>
                <a:lnTo>
                  <a:pt x="77328" y="4707"/>
                </a:lnTo>
                <a:lnTo>
                  <a:pt x="77328" y="8224"/>
                </a:lnTo>
                <a:close/>
              </a:path>
              <a:path fill="darkenLess" w="145953" h="21600">
                <a:moveTo>
                  <a:pt x="72054" y="14299"/>
                </a:moveTo>
                <a:lnTo>
                  <a:pt x="73899" y="14299"/>
                </a:lnTo>
                <a:lnTo>
                  <a:pt x="73899" y="17989"/>
                </a:lnTo>
                <a:lnTo>
                  <a:pt x="78286" y="17989"/>
                </a:lnTo>
                <a:lnTo>
                  <a:pt x="78286" y="10800"/>
                </a:lnTo>
                <a:lnTo>
                  <a:pt x="67667" y="10800"/>
                </a:lnTo>
                <a:lnTo>
                  <a:pt x="67667" y="17989"/>
                </a:lnTo>
                <a:lnTo>
                  <a:pt x="72054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01C29-B830-471A-BAB3-61FD9F9F6F23}" type="slidenum">
              <a:t>28</a:t>
            </a:fld>
          </a:p>
        </p:txBody>
      </p:sp>
    </p:spTree>
  </p:cSld>
  <p:transition>
    <p:pull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/>
          <p:nvPr/>
        </p:nvSpPr>
        <p:spPr>
          <a:xfrm>
            <a:off x="878040" y="1370160"/>
            <a:ext cx="7421400" cy="4546800"/>
          </a:xfrm>
          <a:prstGeom prst="rect">
            <a:avLst/>
          </a:prstGeom>
          <a:solidFill>
            <a:srgbClr val="00ccff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. 148   Istituzioni Scolastiche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 Ambito Miglio d’Oro e  86 Ambito Su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de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da concordare con Regione, Provincia ed Enti Locali interessat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utture edilizie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da concordare con Provincia ed Enti Locali interessat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sorse umane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aranno assegnate, con provvedimento del Direttore Generale,  su proposta del Dirigente assegnato all'Ufficio,  nel rispetto della disciplina contrattuale e dei Protocolli di Intesa con le OO.SS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rtafoglio dei Servizi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 sarà  definito  dal  Direttore  Generale   previa  concertazione  regionale.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76200" y="398520"/>
            <a:ext cx="8412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8. CENTRO  SERVIZI ISTITUZIONI SCOLASTICHE PER LA PROVINCIA DI NAPOLI AREA SUD - MIGLIO D’OR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>
            <a:hlinkClick r:id="" action="ppaction://hlinkshowjump?jump=nextslide"/>
          </p:cNvPr>
          <p:cNvSpPr/>
          <p:nvPr/>
        </p:nvSpPr>
        <p:spPr>
          <a:xfrm>
            <a:off x="7315200" y="6572160"/>
            <a:ext cx="812880" cy="228600"/>
          </a:xfrm>
          <a:custGeom>
            <a:avLst/>
            <a:gdLst>
              <a:gd name="textAreaLeft" fmla="*/ 14760 w 812880"/>
              <a:gd name="textAreaRight" fmla="*/ 798120 w 81288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76721" h="21600">
                <a:moveTo>
                  <a:pt x="0" y="0"/>
                </a:moveTo>
                <a:lnTo>
                  <a:pt x="76721" y="0"/>
                </a:lnTo>
                <a:lnTo>
                  <a:pt x="76721" y="21600"/>
                </a:lnTo>
                <a:lnTo>
                  <a:pt x="0" y="21600"/>
                </a:lnTo>
                <a:close/>
              </a:path>
              <a:path fill="lightenLess" w="76721" h="21600">
                <a:moveTo>
                  <a:pt x="0" y="0"/>
                </a:moveTo>
                <a:lnTo>
                  <a:pt x="76721" y="0"/>
                </a:lnTo>
                <a:lnTo>
                  <a:pt x="75321" y="1400"/>
                </a:lnTo>
                <a:lnTo>
                  <a:pt x="1400" y="1400"/>
                </a:lnTo>
                <a:close/>
              </a:path>
              <a:path fill="darken" w="76721" h="21600">
                <a:moveTo>
                  <a:pt x="76721" y="0"/>
                </a:moveTo>
                <a:lnTo>
                  <a:pt x="76721" y="21600"/>
                </a:lnTo>
                <a:lnTo>
                  <a:pt x="75321" y="20200"/>
                </a:lnTo>
                <a:lnTo>
                  <a:pt x="75321" y="1400"/>
                </a:lnTo>
                <a:close/>
              </a:path>
              <a:path fill="darkenLess" w="76721" h="21600">
                <a:moveTo>
                  <a:pt x="767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5321" y="20200"/>
                </a:lnTo>
                <a:close/>
              </a:path>
              <a:path fill="lighten" w="767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6721" h="21600">
                <a:moveTo>
                  <a:pt x="31354" y="3794"/>
                </a:moveTo>
                <a:lnTo>
                  <a:pt x="45367" y="10800"/>
                </a:lnTo>
                <a:lnTo>
                  <a:pt x="3135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>
            <a:hlinkClick r:id="rId2" action="ppaction://hlinksldjump"/>
          </p:cNvPr>
          <p:cNvSpPr/>
          <p:nvPr/>
        </p:nvSpPr>
        <p:spPr>
          <a:xfrm>
            <a:off x="4013280" y="6559560"/>
            <a:ext cx="1117440" cy="228600"/>
          </a:xfrm>
          <a:custGeom>
            <a:avLst/>
            <a:gdLst>
              <a:gd name="textAreaLeft" fmla="*/ 14760 w 1117440"/>
              <a:gd name="textAreaRight" fmla="*/ 1102680 w 11174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5453" h="21600">
                <a:moveTo>
                  <a:pt x="0" y="0"/>
                </a:moveTo>
                <a:lnTo>
                  <a:pt x="105453" y="0"/>
                </a:lnTo>
                <a:lnTo>
                  <a:pt x="105453" y="21600"/>
                </a:lnTo>
                <a:lnTo>
                  <a:pt x="0" y="21600"/>
                </a:lnTo>
                <a:close/>
              </a:path>
              <a:path fill="lightenLess" w="105453" h="21600">
                <a:moveTo>
                  <a:pt x="0" y="0"/>
                </a:moveTo>
                <a:lnTo>
                  <a:pt x="105453" y="0"/>
                </a:lnTo>
                <a:lnTo>
                  <a:pt x="104053" y="1400"/>
                </a:lnTo>
                <a:lnTo>
                  <a:pt x="1400" y="1400"/>
                </a:lnTo>
                <a:close/>
              </a:path>
              <a:path fill="darken" w="105453" h="21600">
                <a:moveTo>
                  <a:pt x="105453" y="0"/>
                </a:moveTo>
                <a:lnTo>
                  <a:pt x="105453" y="21600"/>
                </a:lnTo>
                <a:lnTo>
                  <a:pt x="104053" y="20200"/>
                </a:lnTo>
                <a:lnTo>
                  <a:pt x="104053" y="1400"/>
                </a:lnTo>
                <a:close/>
              </a:path>
              <a:path fill="darkenLess" w="105453" h="21600">
                <a:moveTo>
                  <a:pt x="1054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4053" y="20200"/>
                </a:lnTo>
                <a:close/>
              </a:path>
              <a:path fill="lighten" w="1054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05453" h="21600">
                <a:moveTo>
                  <a:pt x="45720" y="7493"/>
                </a:moveTo>
                <a:lnTo>
                  <a:pt x="49228" y="7493"/>
                </a:lnTo>
                <a:lnTo>
                  <a:pt x="49228" y="12828"/>
                </a:lnTo>
                <a:cubicBezTo>
                  <a:pt x="49228" y="13751"/>
                  <a:pt x="50028" y="14482"/>
                  <a:pt x="51064" y="14482"/>
                </a:cubicBezTo>
                <a:lnTo>
                  <a:pt x="52726" y="14482"/>
                </a:lnTo>
                <a:cubicBezTo>
                  <a:pt x="53762" y="14482"/>
                  <a:pt x="54563" y="13751"/>
                  <a:pt x="54563" y="12828"/>
                </a:cubicBezTo>
                <a:lnTo>
                  <a:pt x="54563" y="7493"/>
                </a:lnTo>
                <a:lnTo>
                  <a:pt x="52726" y="7493"/>
                </a:lnTo>
                <a:lnTo>
                  <a:pt x="56234" y="3985"/>
                </a:lnTo>
                <a:lnTo>
                  <a:pt x="59907" y="7493"/>
                </a:lnTo>
                <a:lnTo>
                  <a:pt x="58070" y="7493"/>
                </a:lnTo>
                <a:lnTo>
                  <a:pt x="58070" y="12828"/>
                </a:lnTo>
                <a:cubicBezTo>
                  <a:pt x="58070" y="15596"/>
                  <a:pt x="55494" y="18155"/>
                  <a:pt x="52726" y="18155"/>
                </a:cubicBezTo>
                <a:lnTo>
                  <a:pt x="51064" y="18155"/>
                </a:lnTo>
                <a:cubicBezTo>
                  <a:pt x="48296" y="18155"/>
                  <a:pt x="45720" y="15596"/>
                  <a:pt x="45720" y="12828"/>
                </a:cubicBez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>
            <a:hlinkClick r:id="" action="ppaction://hlinkshowjump?jump=previousslide"/>
          </p:cNvPr>
          <p:cNvSpPr/>
          <p:nvPr/>
        </p:nvSpPr>
        <p:spPr>
          <a:xfrm>
            <a:off x="6502320" y="6572160"/>
            <a:ext cx="812880" cy="228600"/>
          </a:xfrm>
          <a:custGeom>
            <a:avLst/>
            <a:gdLst>
              <a:gd name="textAreaLeft" fmla="*/ 14760 w 812880"/>
              <a:gd name="textAreaRight" fmla="*/ 798120 w 81288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76721" h="21600">
                <a:moveTo>
                  <a:pt x="0" y="0"/>
                </a:moveTo>
                <a:lnTo>
                  <a:pt x="76721" y="0"/>
                </a:lnTo>
                <a:lnTo>
                  <a:pt x="76721" y="21600"/>
                </a:lnTo>
                <a:lnTo>
                  <a:pt x="0" y="21600"/>
                </a:lnTo>
                <a:close/>
              </a:path>
              <a:path fill="lightenLess" w="76721" h="21600">
                <a:moveTo>
                  <a:pt x="0" y="0"/>
                </a:moveTo>
                <a:lnTo>
                  <a:pt x="76721" y="0"/>
                </a:lnTo>
                <a:lnTo>
                  <a:pt x="75321" y="1400"/>
                </a:lnTo>
                <a:lnTo>
                  <a:pt x="1400" y="1400"/>
                </a:lnTo>
                <a:close/>
              </a:path>
              <a:path fill="darken" w="76721" h="21600">
                <a:moveTo>
                  <a:pt x="76721" y="0"/>
                </a:moveTo>
                <a:lnTo>
                  <a:pt x="76721" y="21600"/>
                </a:lnTo>
                <a:lnTo>
                  <a:pt x="75321" y="20200"/>
                </a:lnTo>
                <a:lnTo>
                  <a:pt x="75321" y="1400"/>
                </a:lnTo>
                <a:close/>
              </a:path>
              <a:path fill="darkenLess" w="76721" h="21600">
                <a:moveTo>
                  <a:pt x="767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5321" y="20200"/>
                </a:lnTo>
                <a:close/>
              </a:path>
              <a:path fill="lighten" w="767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6721" h="21600">
                <a:moveTo>
                  <a:pt x="31354" y="10800"/>
                </a:moveTo>
                <a:lnTo>
                  <a:pt x="45367" y="3794"/>
                </a:lnTo>
                <a:lnTo>
                  <a:pt x="45367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>
            <a:hlinkClick r:id="" action="ppaction://hlinkshowjump?jump=firstslide"/>
          </p:cNvPr>
          <p:cNvSpPr/>
          <p:nvPr/>
        </p:nvSpPr>
        <p:spPr>
          <a:xfrm>
            <a:off x="1011240" y="6559560"/>
            <a:ext cx="1631880" cy="241200"/>
          </a:xfrm>
          <a:custGeom>
            <a:avLst/>
            <a:gdLst>
              <a:gd name="textAreaLeft" fmla="*/ 15480 w 1631880"/>
              <a:gd name="textAreaRight" fmla="*/ 1616400 w 1631880"/>
              <a:gd name="textAreaTop" fmla="*/ 15480 h 241200"/>
              <a:gd name="textAreaBottom" fmla="*/ 225720 h 241200"/>
            </a:gdLst>
            <a:ahLst/>
            <a:rect l="textAreaLeft" t="textAreaTop" r="textAreaRight" b="textAreaBottom"/>
            <a:pathLst>
              <a:path w="145953" h="21600">
                <a:moveTo>
                  <a:pt x="0" y="0"/>
                </a:moveTo>
                <a:lnTo>
                  <a:pt x="145953" y="0"/>
                </a:lnTo>
                <a:lnTo>
                  <a:pt x="145953" y="21600"/>
                </a:lnTo>
                <a:lnTo>
                  <a:pt x="0" y="21600"/>
                </a:lnTo>
                <a:close/>
              </a:path>
              <a:path fill="lightenLess" w="145953" h="21600">
                <a:moveTo>
                  <a:pt x="0" y="0"/>
                </a:moveTo>
                <a:lnTo>
                  <a:pt x="145953" y="0"/>
                </a:lnTo>
                <a:lnTo>
                  <a:pt x="144553" y="1400"/>
                </a:lnTo>
                <a:lnTo>
                  <a:pt x="1400" y="1400"/>
                </a:lnTo>
                <a:close/>
              </a:path>
              <a:path fill="darken" w="145953" h="21600">
                <a:moveTo>
                  <a:pt x="145953" y="0"/>
                </a:moveTo>
                <a:lnTo>
                  <a:pt x="145953" y="21600"/>
                </a:lnTo>
                <a:lnTo>
                  <a:pt x="144553" y="20200"/>
                </a:lnTo>
                <a:lnTo>
                  <a:pt x="144553" y="1400"/>
                </a:lnTo>
                <a:close/>
              </a:path>
              <a:path fill="darkenLess" w="145953" h="21600">
                <a:moveTo>
                  <a:pt x="1459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44553" y="20200"/>
                </a:lnTo>
                <a:close/>
              </a:path>
              <a:path fill="lighten" w="1459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45953" h="21600">
                <a:moveTo>
                  <a:pt x="72976" y="3837"/>
                </a:moveTo>
                <a:lnTo>
                  <a:pt x="75553" y="6448"/>
                </a:lnTo>
                <a:lnTo>
                  <a:pt x="75553" y="4707"/>
                </a:lnTo>
                <a:lnTo>
                  <a:pt x="77328" y="4707"/>
                </a:lnTo>
                <a:lnTo>
                  <a:pt x="77328" y="8224"/>
                </a:lnTo>
                <a:lnTo>
                  <a:pt x="79939" y="10800"/>
                </a:lnTo>
                <a:lnTo>
                  <a:pt x="78286" y="10800"/>
                </a:lnTo>
                <a:lnTo>
                  <a:pt x="78286" y="17989"/>
                </a:lnTo>
                <a:lnTo>
                  <a:pt x="67667" y="17989"/>
                </a:lnTo>
                <a:lnTo>
                  <a:pt x="67667" y="10800"/>
                </a:lnTo>
                <a:lnTo>
                  <a:pt x="66013" y="10800"/>
                </a:lnTo>
                <a:close/>
              </a:path>
              <a:path fill="darkenLess" w="145953" h="21600">
                <a:moveTo>
                  <a:pt x="75553" y="6448"/>
                </a:moveTo>
                <a:lnTo>
                  <a:pt x="75553" y="4707"/>
                </a:lnTo>
                <a:lnTo>
                  <a:pt x="77328" y="4707"/>
                </a:lnTo>
                <a:lnTo>
                  <a:pt x="77328" y="8224"/>
                </a:lnTo>
                <a:close/>
              </a:path>
              <a:path fill="darkenLess" w="145953" h="21600">
                <a:moveTo>
                  <a:pt x="72054" y="14299"/>
                </a:moveTo>
                <a:lnTo>
                  <a:pt x="73899" y="14299"/>
                </a:lnTo>
                <a:lnTo>
                  <a:pt x="73899" y="17989"/>
                </a:lnTo>
                <a:lnTo>
                  <a:pt x="78286" y="17989"/>
                </a:lnTo>
                <a:lnTo>
                  <a:pt x="78286" y="10800"/>
                </a:lnTo>
                <a:lnTo>
                  <a:pt x="67667" y="10800"/>
                </a:lnTo>
                <a:lnTo>
                  <a:pt x="67667" y="17989"/>
                </a:lnTo>
                <a:lnTo>
                  <a:pt x="72054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0FECC-40AA-4F5C-97E9-46983BECB3DE}" type="slidenum">
              <a:t>29</a:t>
            </a:fld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6415200" y="5778360"/>
            <a:ext cx="2616120" cy="62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genzi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erritorial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400800" y="5002200"/>
            <a:ext cx="2641680" cy="603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stituzioni d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erritor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380200" y="1422360"/>
            <a:ext cx="1249200" cy="800280"/>
          </a:xfrm>
          <a:prstGeom prst="foldedCorner">
            <a:avLst>
              <a:gd name="adj" fmla="val 12500"/>
            </a:avLst>
          </a:prstGeom>
          <a:noFill/>
          <a:ln w="1260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Consigl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olastic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egiona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422360" y="399960"/>
            <a:ext cx="5994360" cy="514440"/>
          </a:xfrm>
          <a:prstGeom prst="foldedCorner">
            <a:avLst>
              <a:gd name="adj" fmla="val 6777"/>
            </a:avLst>
          </a:prstGeom>
          <a:noFill/>
          <a:ln w="1260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MINISTERO DELLA PUBBLICA ISTRUZI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80880" y="3746520"/>
            <a:ext cx="6039000" cy="936720"/>
          </a:xfrm>
          <a:prstGeom prst="cube">
            <a:avLst>
              <a:gd name="adj" fmla="val 22398"/>
            </a:avLst>
          </a:prstGeom>
          <a:noFill/>
          <a:ln w="1260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STITUTO  SCOLASTI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55680" y="5268960"/>
            <a:ext cx="2336760" cy="1000080"/>
          </a:xfrm>
          <a:prstGeom prst="roundRect">
            <a:avLst>
              <a:gd name="adj" fmla="val 0"/>
            </a:avLst>
          </a:prstGeom>
          <a:noFill/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ltri Istitut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olastic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264440" y="1558800"/>
            <a:ext cx="1790640" cy="674640"/>
          </a:xfrm>
          <a:prstGeom prst="foldedCorner">
            <a:avLst>
              <a:gd name="adj" fmla="val 12500"/>
            </a:avLst>
          </a:prstGeom>
          <a:noFill/>
          <a:ln w="1260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EGI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>
            <a:hlinkClick r:id="rId2" action="ppaction://hlinksldjump"/>
          </p:cNvPr>
          <p:cNvSpPr/>
          <p:nvPr/>
        </p:nvSpPr>
        <p:spPr>
          <a:xfrm>
            <a:off x="82440" y="2698920"/>
            <a:ext cx="2446560" cy="576000"/>
          </a:xfrm>
          <a:custGeom>
            <a:avLst/>
            <a:gdLst>
              <a:gd name="textAreaLeft" fmla="*/ 37080 w 2446560"/>
              <a:gd name="textAreaRight" fmla="*/ 2409480 w 244656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91702" h="21600">
                <a:moveTo>
                  <a:pt x="0" y="0"/>
                </a:moveTo>
                <a:lnTo>
                  <a:pt x="91702" y="0"/>
                </a:lnTo>
                <a:lnTo>
                  <a:pt x="91702" y="21600"/>
                </a:lnTo>
                <a:lnTo>
                  <a:pt x="0" y="21600"/>
                </a:lnTo>
                <a:close/>
              </a:path>
              <a:path fill="lightenLess" w="91702" h="21600">
                <a:moveTo>
                  <a:pt x="0" y="0"/>
                </a:moveTo>
                <a:lnTo>
                  <a:pt x="91702" y="0"/>
                </a:lnTo>
                <a:lnTo>
                  <a:pt x="90302" y="1400"/>
                </a:lnTo>
                <a:lnTo>
                  <a:pt x="1400" y="1400"/>
                </a:lnTo>
                <a:close/>
              </a:path>
              <a:path fill="darken" w="91702" h="21600">
                <a:moveTo>
                  <a:pt x="91702" y="0"/>
                </a:moveTo>
                <a:lnTo>
                  <a:pt x="91702" y="21600"/>
                </a:lnTo>
                <a:lnTo>
                  <a:pt x="90302" y="20200"/>
                </a:lnTo>
                <a:lnTo>
                  <a:pt x="90302" y="1400"/>
                </a:lnTo>
                <a:close/>
              </a:path>
              <a:path fill="darkenLess" w="91702" h="21600">
                <a:moveTo>
                  <a:pt x="917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0302" y="20200"/>
                </a:lnTo>
                <a:close/>
              </a:path>
              <a:path fill="lighten" w="917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C.S.I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Centri di Servizi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per le II.S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>
            <a:hlinkClick r:id="rId3" action="ppaction://hlinksldjump"/>
          </p:cNvPr>
          <p:cNvSpPr/>
          <p:nvPr/>
        </p:nvSpPr>
        <p:spPr>
          <a:xfrm>
            <a:off x="3814920" y="2698920"/>
            <a:ext cx="2463480" cy="579240"/>
          </a:xfrm>
          <a:custGeom>
            <a:avLst/>
            <a:gdLst>
              <a:gd name="textAreaLeft" fmla="*/ 37440 w 2463480"/>
              <a:gd name="textAreaRight" fmla="*/ 2426040 w 2463480"/>
              <a:gd name="textAreaTop" fmla="*/ 37440 h 579240"/>
              <a:gd name="textAreaBottom" fmla="*/ 541800 h 579240"/>
            </a:gdLst>
            <a:ahLst/>
            <a:rect l="textAreaLeft" t="textAreaTop" r="textAreaRight" b="textAreaBottom"/>
            <a:pathLst>
              <a:path w="91820" h="21600">
                <a:moveTo>
                  <a:pt x="0" y="0"/>
                </a:moveTo>
                <a:lnTo>
                  <a:pt x="91820" y="0"/>
                </a:lnTo>
                <a:lnTo>
                  <a:pt x="91820" y="21600"/>
                </a:lnTo>
                <a:lnTo>
                  <a:pt x="0" y="21600"/>
                </a:lnTo>
                <a:close/>
              </a:path>
              <a:path fill="lightenLess" w="91820" h="21600">
                <a:moveTo>
                  <a:pt x="0" y="0"/>
                </a:moveTo>
                <a:lnTo>
                  <a:pt x="91820" y="0"/>
                </a:lnTo>
                <a:lnTo>
                  <a:pt x="90420" y="1400"/>
                </a:lnTo>
                <a:lnTo>
                  <a:pt x="1400" y="1400"/>
                </a:lnTo>
                <a:close/>
              </a:path>
              <a:path fill="darken" w="91820" h="21600">
                <a:moveTo>
                  <a:pt x="91820" y="0"/>
                </a:moveTo>
                <a:lnTo>
                  <a:pt x="91820" y="21600"/>
                </a:lnTo>
                <a:lnTo>
                  <a:pt x="90420" y="20200"/>
                </a:lnTo>
                <a:lnTo>
                  <a:pt x="90420" y="1400"/>
                </a:lnTo>
                <a:close/>
              </a:path>
              <a:path fill="darkenLess" w="91820" h="21600">
                <a:moveTo>
                  <a:pt x="918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0420" y="20200"/>
                </a:lnTo>
                <a:close/>
              </a:path>
              <a:path fill="lighten" w="918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C.S.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Centri Serviz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Amministrativ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>
            <a:hlinkClick r:id="rId4"/>
          </p:cNvPr>
          <p:cNvSpPr/>
          <p:nvPr/>
        </p:nvSpPr>
        <p:spPr>
          <a:xfrm>
            <a:off x="395280" y="1390680"/>
            <a:ext cx="4616280" cy="857160"/>
          </a:xfrm>
          <a:custGeom>
            <a:avLst/>
            <a:gdLst>
              <a:gd name="textAreaLeft" fmla="*/ 55440 w 4616280"/>
              <a:gd name="textAreaRight" fmla="*/ 4560840 w 4616280"/>
              <a:gd name="textAreaTop" fmla="*/ 55440 h 857160"/>
              <a:gd name="textAreaBottom" fmla="*/ 801720 h 857160"/>
            </a:gdLst>
            <a:ahLst/>
            <a:rect l="textAreaLeft" t="textAreaTop" r="textAreaRight" b="textAreaBottom"/>
            <a:pathLst>
              <a:path w="116288" h="21600">
                <a:moveTo>
                  <a:pt x="0" y="0"/>
                </a:moveTo>
                <a:lnTo>
                  <a:pt x="116288" y="0"/>
                </a:lnTo>
                <a:lnTo>
                  <a:pt x="116288" y="21600"/>
                </a:lnTo>
                <a:lnTo>
                  <a:pt x="0" y="21600"/>
                </a:lnTo>
                <a:close/>
              </a:path>
              <a:path fill="lightenLess" w="116288" h="21600">
                <a:moveTo>
                  <a:pt x="0" y="0"/>
                </a:moveTo>
                <a:lnTo>
                  <a:pt x="116288" y="0"/>
                </a:lnTo>
                <a:lnTo>
                  <a:pt x="114888" y="1400"/>
                </a:lnTo>
                <a:lnTo>
                  <a:pt x="1400" y="1400"/>
                </a:lnTo>
                <a:close/>
              </a:path>
              <a:path fill="darken" w="116288" h="21600">
                <a:moveTo>
                  <a:pt x="116288" y="0"/>
                </a:moveTo>
                <a:lnTo>
                  <a:pt x="116288" y="21600"/>
                </a:lnTo>
                <a:lnTo>
                  <a:pt x="114888" y="20200"/>
                </a:lnTo>
                <a:lnTo>
                  <a:pt x="114888" y="1400"/>
                </a:lnTo>
                <a:close/>
              </a:path>
              <a:path fill="darkenLess" w="116288" h="21600">
                <a:moveTo>
                  <a:pt x="1162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4888" y="20200"/>
                </a:lnTo>
                <a:close/>
              </a:path>
              <a:path fill="lighten" w="1162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66ccff"/>
              </a:gs>
              <a:gs pos="100000">
                <a:srgbClr val="00cc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Comic Sans MS"/>
              </a:rPr>
              <a:t>UFFICIO SCOLASTICO REGIONA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Comic Sans MS"/>
              </a:rPr>
              <a:t>DIREZIONE GENERAL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Comic Sans MS"/>
              </a:rPr>
              <a:t>PER LA CAMPAN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>
            <a:hlinkClick r:id="" action="ppaction://hlinkshowjump?jump=nextslide"/>
          </p:cNvPr>
          <p:cNvSpPr/>
          <p:nvPr/>
        </p:nvSpPr>
        <p:spPr>
          <a:xfrm>
            <a:off x="7315200" y="6572160"/>
            <a:ext cx="812880" cy="228600"/>
          </a:xfrm>
          <a:custGeom>
            <a:avLst/>
            <a:gdLst>
              <a:gd name="textAreaLeft" fmla="*/ 14760 w 812880"/>
              <a:gd name="textAreaRight" fmla="*/ 798120 w 81288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76721" h="21600">
                <a:moveTo>
                  <a:pt x="0" y="0"/>
                </a:moveTo>
                <a:lnTo>
                  <a:pt x="76721" y="0"/>
                </a:lnTo>
                <a:lnTo>
                  <a:pt x="76721" y="21600"/>
                </a:lnTo>
                <a:lnTo>
                  <a:pt x="0" y="21600"/>
                </a:lnTo>
                <a:close/>
              </a:path>
              <a:path fill="lightenLess" w="76721" h="21600">
                <a:moveTo>
                  <a:pt x="0" y="0"/>
                </a:moveTo>
                <a:lnTo>
                  <a:pt x="76721" y="0"/>
                </a:lnTo>
                <a:lnTo>
                  <a:pt x="75321" y="1400"/>
                </a:lnTo>
                <a:lnTo>
                  <a:pt x="1400" y="1400"/>
                </a:lnTo>
                <a:close/>
              </a:path>
              <a:path fill="darken" w="76721" h="21600">
                <a:moveTo>
                  <a:pt x="76721" y="0"/>
                </a:moveTo>
                <a:lnTo>
                  <a:pt x="76721" y="21600"/>
                </a:lnTo>
                <a:lnTo>
                  <a:pt x="75321" y="20200"/>
                </a:lnTo>
                <a:lnTo>
                  <a:pt x="75321" y="1400"/>
                </a:lnTo>
                <a:close/>
              </a:path>
              <a:path fill="darkenLess" w="76721" h="21600">
                <a:moveTo>
                  <a:pt x="767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5321" y="20200"/>
                </a:lnTo>
                <a:close/>
              </a:path>
              <a:path fill="lighten" w="767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6721" h="21600">
                <a:moveTo>
                  <a:pt x="31354" y="3794"/>
                </a:moveTo>
                <a:lnTo>
                  <a:pt x="45367" y="10800"/>
                </a:lnTo>
                <a:lnTo>
                  <a:pt x="3135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>
            <a:hlinkClick r:id="" action="ppaction://hlinkshowjump?jump=previousslide"/>
          </p:cNvPr>
          <p:cNvSpPr/>
          <p:nvPr/>
        </p:nvSpPr>
        <p:spPr>
          <a:xfrm>
            <a:off x="6502320" y="6572160"/>
            <a:ext cx="812880" cy="228600"/>
          </a:xfrm>
          <a:custGeom>
            <a:avLst/>
            <a:gdLst>
              <a:gd name="textAreaLeft" fmla="*/ 14760 w 812880"/>
              <a:gd name="textAreaRight" fmla="*/ 798120 w 81288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76721" h="21600">
                <a:moveTo>
                  <a:pt x="0" y="0"/>
                </a:moveTo>
                <a:lnTo>
                  <a:pt x="76721" y="0"/>
                </a:lnTo>
                <a:lnTo>
                  <a:pt x="76721" y="21600"/>
                </a:lnTo>
                <a:lnTo>
                  <a:pt x="0" y="21600"/>
                </a:lnTo>
                <a:close/>
              </a:path>
              <a:path fill="lightenLess" w="76721" h="21600">
                <a:moveTo>
                  <a:pt x="0" y="0"/>
                </a:moveTo>
                <a:lnTo>
                  <a:pt x="76721" y="0"/>
                </a:lnTo>
                <a:lnTo>
                  <a:pt x="75321" y="1400"/>
                </a:lnTo>
                <a:lnTo>
                  <a:pt x="1400" y="1400"/>
                </a:lnTo>
                <a:close/>
              </a:path>
              <a:path fill="darken" w="76721" h="21600">
                <a:moveTo>
                  <a:pt x="76721" y="0"/>
                </a:moveTo>
                <a:lnTo>
                  <a:pt x="76721" y="21600"/>
                </a:lnTo>
                <a:lnTo>
                  <a:pt x="75321" y="20200"/>
                </a:lnTo>
                <a:lnTo>
                  <a:pt x="75321" y="1400"/>
                </a:lnTo>
                <a:close/>
              </a:path>
              <a:path fill="darkenLess" w="76721" h="21600">
                <a:moveTo>
                  <a:pt x="767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5321" y="20200"/>
                </a:lnTo>
                <a:close/>
              </a:path>
              <a:path fill="lighten" w="767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6721" h="21600">
                <a:moveTo>
                  <a:pt x="31354" y="10800"/>
                </a:moveTo>
                <a:lnTo>
                  <a:pt x="45367" y="3794"/>
                </a:lnTo>
                <a:lnTo>
                  <a:pt x="45367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2" name=""/>
          <p:cNvCxnSpPr>
            <a:stCxn id="89" idx="0"/>
            <a:endCxn id="82" idx="1"/>
          </p:cNvCxnSpPr>
          <p:nvPr/>
        </p:nvCxnSpPr>
        <p:spPr>
          <a:xfrm>
            <a:off x="4957560" y="1819440"/>
            <a:ext cx="423000" cy="360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93" name=""/>
          <p:cNvCxnSpPr>
            <a:stCxn id="84" idx="3"/>
            <a:endCxn id="81" idx="1"/>
          </p:cNvCxnSpPr>
          <p:nvPr/>
        </p:nvCxnSpPr>
        <p:spPr>
          <a:xfrm flipH="1" rot="16200000">
            <a:off x="4537080" y="3440880"/>
            <a:ext cx="621000" cy="3105720"/>
          </a:xfrm>
          <a:prstGeom prst="bentConnector2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94" name=""/>
          <p:cNvCxnSpPr>
            <a:stCxn id="80" idx="1"/>
            <a:endCxn id="84" idx="3"/>
          </p:cNvCxnSpPr>
          <p:nvPr/>
        </p:nvCxnSpPr>
        <p:spPr>
          <a:xfrm rot="10800000">
            <a:off x="3295080" y="4682520"/>
            <a:ext cx="3120120" cy="1410480"/>
          </a:xfrm>
          <a:prstGeom prst="bentConnector2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95" name=""/>
          <p:cNvCxnSpPr>
            <a:stCxn id="85" idx="0"/>
            <a:endCxn id="84" idx="3"/>
          </p:cNvCxnSpPr>
          <p:nvPr/>
        </p:nvCxnSpPr>
        <p:spPr>
          <a:xfrm flipH="1" flipV="1" rot="5400000">
            <a:off x="2116800" y="4089600"/>
            <a:ext cx="586440" cy="1772640"/>
          </a:xfrm>
          <a:prstGeom prst="bentConnector3">
            <a:avLst>
              <a:gd name="adj1" fmla="val 49815"/>
            </a:avLst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96" name=""/>
          <p:cNvCxnSpPr>
            <a:stCxn id="87" idx="0"/>
            <a:endCxn id="84" idx="0"/>
          </p:cNvCxnSpPr>
          <p:nvPr/>
        </p:nvCxnSpPr>
        <p:spPr>
          <a:xfrm flipH="1" rot="16200000">
            <a:off x="2170080" y="2410920"/>
            <a:ext cx="472320" cy="2199600"/>
          </a:xfrm>
          <a:prstGeom prst="bentConnector3">
            <a:avLst>
              <a:gd name="adj1" fmla="val 49809"/>
            </a:avLst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97" name=""/>
          <p:cNvCxnSpPr>
            <a:stCxn id="88" idx="0"/>
            <a:endCxn id="84" idx="0"/>
          </p:cNvCxnSpPr>
          <p:nvPr/>
        </p:nvCxnSpPr>
        <p:spPr>
          <a:xfrm rot="5400000">
            <a:off x="4041360" y="2741400"/>
            <a:ext cx="469080" cy="1542240"/>
          </a:xfrm>
          <a:prstGeom prst="bentConnector3">
            <a:avLst>
              <a:gd name="adj1" fmla="val 49769"/>
            </a:avLst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98" name=""/>
          <p:cNvCxnSpPr>
            <a:stCxn id="83" idx="2"/>
            <a:endCxn id="89" idx="1"/>
          </p:cNvCxnSpPr>
          <p:nvPr/>
        </p:nvCxnSpPr>
        <p:spPr>
          <a:xfrm rot="5400000">
            <a:off x="3322800" y="294120"/>
            <a:ext cx="477000" cy="1716840"/>
          </a:xfrm>
          <a:prstGeom prst="bentConnector3">
            <a:avLst>
              <a:gd name="adj1" fmla="val 50000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9" name=""/>
          <p:cNvSpPr/>
          <p:nvPr/>
        </p:nvSpPr>
        <p:spPr>
          <a:xfrm>
            <a:off x="7270920" y="2587680"/>
            <a:ext cx="1790640" cy="674640"/>
          </a:xfrm>
          <a:prstGeom prst="foldedCorner">
            <a:avLst>
              <a:gd name="adj" fmla="val 12500"/>
            </a:avLst>
          </a:prstGeom>
          <a:noFill/>
          <a:ln w="1260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PROVINC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64440" y="3633840"/>
            <a:ext cx="1790640" cy="674640"/>
          </a:xfrm>
          <a:prstGeom prst="foldedCorner">
            <a:avLst>
              <a:gd name="adj" fmla="val 12500"/>
            </a:avLst>
          </a:prstGeom>
          <a:noFill/>
          <a:ln w="1260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UTONOMI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LOCAL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2" idx="3"/>
            <a:endCxn id="86" idx="1"/>
          </p:cNvCxnSpPr>
          <p:nvPr/>
        </p:nvCxnSpPr>
        <p:spPr>
          <a:xfrm>
            <a:off x="6629400" y="1822320"/>
            <a:ext cx="635760" cy="75600"/>
          </a:xfrm>
          <a:prstGeom prst="bentConnector3">
            <a:avLst>
              <a:gd name="adj1" fmla="val 49971"/>
            </a:avLst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102" name=""/>
          <p:cNvCxnSpPr>
            <a:stCxn id="82" idx="3"/>
            <a:endCxn id="99" idx="1"/>
          </p:cNvCxnSpPr>
          <p:nvPr/>
        </p:nvCxnSpPr>
        <p:spPr>
          <a:xfrm>
            <a:off x="6629400" y="1821960"/>
            <a:ext cx="642240" cy="1104120"/>
          </a:xfrm>
          <a:prstGeom prst="bentConnector3">
            <a:avLst>
              <a:gd name="adj1" fmla="val 49971"/>
            </a:avLst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103" name=""/>
          <p:cNvCxnSpPr>
            <a:stCxn id="100" idx="1"/>
            <a:endCxn id="82" idx="3"/>
          </p:cNvCxnSpPr>
          <p:nvPr/>
        </p:nvCxnSpPr>
        <p:spPr>
          <a:xfrm rot="10800000">
            <a:off x="6628680" y="1821600"/>
            <a:ext cx="635760" cy="2150280"/>
          </a:xfrm>
          <a:prstGeom prst="bentConnector3">
            <a:avLst>
              <a:gd name="adj1" fmla="val 49971"/>
            </a:avLst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104" name=""/>
          <p:cNvCxnSpPr>
            <a:stCxn id="89" idx="2"/>
            <a:endCxn id="84" idx="0"/>
          </p:cNvCxnSpPr>
          <p:nvPr/>
        </p:nvCxnSpPr>
        <p:spPr>
          <a:xfrm>
            <a:off x="2703240" y="2247480"/>
            <a:ext cx="802440" cy="149940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5" name=""/>
          <p:cNvCxnSpPr>
            <a:stCxn id="89" idx="3"/>
            <a:endCxn id="87" idx="1"/>
          </p:cNvCxnSpPr>
          <p:nvPr/>
        </p:nvCxnSpPr>
        <p:spPr>
          <a:xfrm rot="5400000">
            <a:off x="1778760" y="1774440"/>
            <a:ext cx="451800" cy="1397880"/>
          </a:xfrm>
          <a:prstGeom prst="bentConnector3">
            <a:avLst>
              <a:gd name="adj1" fmla="val 50000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"/>
          <p:cNvCxnSpPr>
            <a:stCxn id="89" idx="4"/>
            <a:endCxn id="88" idx="1"/>
          </p:cNvCxnSpPr>
          <p:nvPr/>
        </p:nvCxnSpPr>
        <p:spPr>
          <a:xfrm flipH="1" rot="16200000">
            <a:off x="3648600" y="1301400"/>
            <a:ext cx="451800" cy="2343960"/>
          </a:xfrm>
          <a:prstGeom prst="bentConnector3">
            <a:avLst>
              <a:gd name="adj1" fmla="val 50000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88" idx="2"/>
          </p:cNvCxnSpPr>
          <p:nvPr/>
        </p:nvCxnSpPr>
        <p:spPr>
          <a:xfrm flipV="1">
            <a:off x="6278040" y="2985480"/>
            <a:ext cx="521640" cy="396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sp>
        <p:nvSpPr>
          <p:cNvPr id="108" name=""/>
          <p:cNvSpPr/>
          <p:nvPr/>
        </p:nvSpPr>
        <p:spPr>
          <a:xfrm>
            <a:off x="3860640" y="6559560"/>
            <a:ext cx="1422720" cy="241200"/>
          </a:xfrm>
          <a:custGeom>
            <a:avLst/>
            <a:gdLst>
              <a:gd name="textAreaLeft" fmla="*/ 15480 w 1422720"/>
              <a:gd name="textAreaRight" fmla="*/ 1407240 w 1422720"/>
              <a:gd name="textAreaTop" fmla="*/ 15480 h 241200"/>
              <a:gd name="textAreaBottom" fmla="*/ 225720 h 241200"/>
            </a:gdLst>
            <a:ahLst/>
            <a:rect l="textAreaLeft" t="textAreaTop" r="textAreaRight" b="textAreaBottom"/>
            <a:pathLst>
              <a:path w="127250" h="21600">
                <a:moveTo>
                  <a:pt x="0" y="0"/>
                </a:moveTo>
                <a:lnTo>
                  <a:pt x="127250" y="0"/>
                </a:lnTo>
                <a:lnTo>
                  <a:pt x="127250" y="21600"/>
                </a:lnTo>
                <a:lnTo>
                  <a:pt x="0" y="21600"/>
                </a:lnTo>
                <a:close/>
              </a:path>
              <a:path fill="lightenLess" w="127250" h="21600">
                <a:moveTo>
                  <a:pt x="0" y="0"/>
                </a:moveTo>
                <a:lnTo>
                  <a:pt x="127250" y="0"/>
                </a:lnTo>
                <a:lnTo>
                  <a:pt x="125850" y="1400"/>
                </a:lnTo>
                <a:lnTo>
                  <a:pt x="1400" y="1400"/>
                </a:lnTo>
                <a:close/>
              </a:path>
              <a:path fill="darken" w="127250" h="21600">
                <a:moveTo>
                  <a:pt x="127250" y="0"/>
                </a:moveTo>
                <a:lnTo>
                  <a:pt x="127250" y="21600"/>
                </a:lnTo>
                <a:lnTo>
                  <a:pt x="125850" y="20200"/>
                </a:lnTo>
                <a:lnTo>
                  <a:pt x="125850" y="1400"/>
                </a:lnTo>
                <a:close/>
              </a:path>
              <a:path fill="darkenLess" w="127250" h="21600">
                <a:moveTo>
                  <a:pt x="12725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5850" y="20200"/>
                </a:lnTo>
                <a:close/>
              </a:path>
              <a:path fill="lighten" w="12725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27250" h="21600">
                <a:moveTo>
                  <a:pt x="56619" y="7493"/>
                </a:moveTo>
                <a:lnTo>
                  <a:pt x="60126" y="7493"/>
                </a:lnTo>
                <a:lnTo>
                  <a:pt x="60126" y="12828"/>
                </a:lnTo>
                <a:cubicBezTo>
                  <a:pt x="60126" y="13751"/>
                  <a:pt x="60927" y="14482"/>
                  <a:pt x="61963" y="14482"/>
                </a:cubicBezTo>
                <a:lnTo>
                  <a:pt x="63625" y="14482"/>
                </a:lnTo>
                <a:cubicBezTo>
                  <a:pt x="64661" y="14482"/>
                  <a:pt x="65462" y="13751"/>
                  <a:pt x="65462" y="12828"/>
                </a:cubicBezTo>
                <a:lnTo>
                  <a:pt x="65462" y="7493"/>
                </a:lnTo>
                <a:lnTo>
                  <a:pt x="63625" y="7493"/>
                </a:lnTo>
                <a:lnTo>
                  <a:pt x="67133" y="3985"/>
                </a:lnTo>
                <a:lnTo>
                  <a:pt x="70806" y="7493"/>
                </a:lnTo>
                <a:lnTo>
                  <a:pt x="68969" y="7493"/>
                </a:lnTo>
                <a:lnTo>
                  <a:pt x="68969" y="12828"/>
                </a:lnTo>
                <a:cubicBezTo>
                  <a:pt x="68969" y="15596"/>
                  <a:pt x="66393" y="18155"/>
                  <a:pt x="63625" y="18155"/>
                </a:cubicBezTo>
                <a:lnTo>
                  <a:pt x="61963" y="18155"/>
                </a:lnTo>
                <a:cubicBezTo>
                  <a:pt x="59195" y="18155"/>
                  <a:pt x="56619" y="15596"/>
                  <a:pt x="56619" y="12828"/>
                </a:cubicBez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>
            <a:hlinkClick r:id="" action="ppaction://hlinkshowjump?jump=firstslide"/>
          </p:cNvPr>
          <p:cNvSpPr/>
          <p:nvPr/>
        </p:nvSpPr>
        <p:spPr>
          <a:xfrm>
            <a:off x="1011240" y="6559560"/>
            <a:ext cx="1631880" cy="241200"/>
          </a:xfrm>
          <a:custGeom>
            <a:avLst/>
            <a:gdLst>
              <a:gd name="textAreaLeft" fmla="*/ 15480 w 1631880"/>
              <a:gd name="textAreaRight" fmla="*/ 1616400 w 1631880"/>
              <a:gd name="textAreaTop" fmla="*/ 15480 h 241200"/>
              <a:gd name="textAreaBottom" fmla="*/ 225720 h 241200"/>
            </a:gdLst>
            <a:ahLst/>
            <a:rect l="textAreaLeft" t="textAreaTop" r="textAreaRight" b="textAreaBottom"/>
            <a:pathLst>
              <a:path w="145953" h="21600">
                <a:moveTo>
                  <a:pt x="0" y="0"/>
                </a:moveTo>
                <a:lnTo>
                  <a:pt x="145953" y="0"/>
                </a:lnTo>
                <a:lnTo>
                  <a:pt x="145953" y="21600"/>
                </a:lnTo>
                <a:lnTo>
                  <a:pt x="0" y="21600"/>
                </a:lnTo>
                <a:close/>
              </a:path>
              <a:path fill="lightenLess" w="145953" h="21600">
                <a:moveTo>
                  <a:pt x="0" y="0"/>
                </a:moveTo>
                <a:lnTo>
                  <a:pt x="145953" y="0"/>
                </a:lnTo>
                <a:lnTo>
                  <a:pt x="144553" y="1400"/>
                </a:lnTo>
                <a:lnTo>
                  <a:pt x="1400" y="1400"/>
                </a:lnTo>
                <a:close/>
              </a:path>
              <a:path fill="darken" w="145953" h="21600">
                <a:moveTo>
                  <a:pt x="145953" y="0"/>
                </a:moveTo>
                <a:lnTo>
                  <a:pt x="145953" y="21600"/>
                </a:lnTo>
                <a:lnTo>
                  <a:pt x="144553" y="20200"/>
                </a:lnTo>
                <a:lnTo>
                  <a:pt x="144553" y="1400"/>
                </a:lnTo>
                <a:close/>
              </a:path>
              <a:path fill="darkenLess" w="145953" h="21600">
                <a:moveTo>
                  <a:pt x="1459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44553" y="20200"/>
                </a:lnTo>
                <a:close/>
              </a:path>
              <a:path fill="lighten" w="1459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45953" h="21600">
                <a:moveTo>
                  <a:pt x="72976" y="3837"/>
                </a:moveTo>
                <a:lnTo>
                  <a:pt x="75553" y="6448"/>
                </a:lnTo>
                <a:lnTo>
                  <a:pt x="75553" y="4707"/>
                </a:lnTo>
                <a:lnTo>
                  <a:pt x="77328" y="4707"/>
                </a:lnTo>
                <a:lnTo>
                  <a:pt x="77328" y="8224"/>
                </a:lnTo>
                <a:lnTo>
                  <a:pt x="79939" y="10800"/>
                </a:lnTo>
                <a:lnTo>
                  <a:pt x="78286" y="10800"/>
                </a:lnTo>
                <a:lnTo>
                  <a:pt x="78286" y="17989"/>
                </a:lnTo>
                <a:lnTo>
                  <a:pt x="67667" y="17989"/>
                </a:lnTo>
                <a:lnTo>
                  <a:pt x="67667" y="10800"/>
                </a:lnTo>
                <a:lnTo>
                  <a:pt x="66013" y="10800"/>
                </a:lnTo>
                <a:close/>
              </a:path>
              <a:path fill="darkenLess" w="145953" h="21600">
                <a:moveTo>
                  <a:pt x="75553" y="6448"/>
                </a:moveTo>
                <a:lnTo>
                  <a:pt x="75553" y="4707"/>
                </a:lnTo>
                <a:lnTo>
                  <a:pt x="77328" y="4707"/>
                </a:lnTo>
                <a:lnTo>
                  <a:pt x="77328" y="8224"/>
                </a:lnTo>
                <a:close/>
              </a:path>
              <a:path fill="darkenLess" w="145953" h="21600">
                <a:moveTo>
                  <a:pt x="72054" y="14299"/>
                </a:moveTo>
                <a:lnTo>
                  <a:pt x="73899" y="14299"/>
                </a:lnTo>
                <a:lnTo>
                  <a:pt x="73899" y="17989"/>
                </a:lnTo>
                <a:lnTo>
                  <a:pt x="78286" y="17989"/>
                </a:lnTo>
                <a:lnTo>
                  <a:pt x="78286" y="10800"/>
                </a:lnTo>
                <a:lnTo>
                  <a:pt x="67667" y="10800"/>
                </a:lnTo>
                <a:lnTo>
                  <a:pt x="67667" y="17989"/>
                </a:lnTo>
                <a:lnTo>
                  <a:pt x="72054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EA1DA-A85C-4BF3-95F4-D7245ED72C13}" type="slidenum">
              <a:t>3</a:t>
            </a:fld>
          </a:p>
        </p:txBody>
      </p:sp>
    </p:spTree>
  </p:cSld>
  <p:transition>
    <p:randomBar dir="ver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982800" y="1793880"/>
            <a:ext cx="7315200" cy="4241880"/>
          </a:xfrm>
          <a:prstGeom prst="rect">
            <a:avLst/>
          </a:prstGeom>
          <a:solidFill>
            <a:srgbClr val="00ccff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. 139 Istituzioni Scolasti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mbiti C.P.O. n. 1 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de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ll’Ufficio Scolastico Provinciale di Salern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utture edilizie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da concordare con Provincia ed Enti Locali interessati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sorse umane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aranno assegnate, con provvedimento del Direttore Generale,  su proposta del Dirigente assegnato all'Ufficio,  nel rispetto della disciplina contrattuale e dei Protocolli di Intesa con le OO.SS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rtafoglio dei Servizi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 sarà  definito  dal  Direttore  Generale   previa  concertazione  regionale.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522360" y="450720"/>
            <a:ext cx="813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9. CENTRO  SERVIZI ISTITUZIONI SCOLASTICHE PER LA  PROVINCIA DI SALERNO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>
            <a:hlinkClick r:id="" action="ppaction://hlinkshowjump?jump=nextslide"/>
          </p:cNvPr>
          <p:cNvSpPr/>
          <p:nvPr/>
        </p:nvSpPr>
        <p:spPr>
          <a:xfrm>
            <a:off x="7315200" y="6572160"/>
            <a:ext cx="812880" cy="228600"/>
          </a:xfrm>
          <a:custGeom>
            <a:avLst/>
            <a:gdLst>
              <a:gd name="textAreaLeft" fmla="*/ 14760 w 812880"/>
              <a:gd name="textAreaRight" fmla="*/ 798120 w 81288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76721" h="21600">
                <a:moveTo>
                  <a:pt x="0" y="0"/>
                </a:moveTo>
                <a:lnTo>
                  <a:pt x="76721" y="0"/>
                </a:lnTo>
                <a:lnTo>
                  <a:pt x="76721" y="21600"/>
                </a:lnTo>
                <a:lnTo>
                  <a:pt x="0" y="21600"/>
                </a:lnTo>
                <a:close/>
              </a:path>
              <a:path fill="lightenLess" w="76721" h="21600">
                <a:moveTo>
                  <a:pt x="0" y="0"/>
                </a:moveTo>
                <a:lnTo>
                  <a:pt x="76721" y="0"/>
                </a:lnTo>
                <a:lnTo>
                  <a:pt x="75321" y="1400"/>
                </a:lnTo>
                <a:lnTo>
                  <a:pt x="1400" y="1400"/>
                </a:lnTo>
                <a:close/>
              </a:path>
              <a:path fill="darken" w="76721" h="21600">
                <a:moveTo>
                  <a:pt x="76721" y="0"/>
                </a:moveTo>
                <a:lnTo>
                  <a:pt x="76721" y="21600"/>
                </a:lnTo>
                <a:lnTo>
                  <a:pt x="75321" y="20200"/>
                </a:lnTo>
                <a:lnTo>
                  <a:pt x="75321" y="1400"/>
                </a:lnTo>
                <a:close/>
              </a:path>
              <a:path fill="darkenLess" w="76721" h="21600">
                <a:moveTo>
                  <a:pt x="767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5321" y="20200"/>
                </a:lnTo>
                <a:close/>
              </a:path>
              <a:path fill="lighten" w="767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6721" h="21600">
                <a:moveTo>
                  <a:pt x="31354" y="3794"/>
                </a:moveTo>
                <a:lnTo>
                  <a:pt x="45367" y="10800"/>
                </a:lnTo>
                <a:lnTo>
                  <a:pt x="3135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>
            <a:hlinkClick r:id="rId2" action="ppaction://hlinksldjump"/>
          </p:cNvPr>
          <p:cNvSpPr/>
          <p:nvPr/>
        </p:nvSpPr>
        <p:spPr>
          <a:xfrm>
            <a:off x="4025880" y="6559560"/>
            <a:ext cx="1117800" cy="228600"/>
          </a:xfrm>
          <a:custGeom>
            <a:avLst/>
            <a:gdLst>
              <a:gd name="textAreaLeft" fmla="*/ 14760 w 1117800"/>
              <a:gd name="textAreaRight" fmla="*/ 1103040 w 11178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5487" h="21600">
                <a:moveTo>
                  <a:pt x="0" y="0"/>
                </a:moveTo>
                <a:lnTo>
                  <a:pt x="105487" y="0"/>
                </a:lnTo>
                <a:lnTo>
                  <a:pt x="105487" y="21600"/>
                </a:lnTo>
                <a:lnTo>
                  <a:pt x="0" y="21600"/>
                </a:lnTo>
                <a:close/>
              </a:path>
              <a:path fill="lightenLess" w="105487" h="21600">
                <a:moveTo>
                  <a:pt x="0" y="0"/>
                </a:moveTo>
                <a:lnTo>
                  <a:pt x="105487" y="0"/>
                </a:lnTo>
                <a:lnTo>
                  <a:pt x="104087" y="1400"/>
                </a:lnTo>
                <a:lnTo>
                  <a:pt x="1400" y="1400"/>
                </a:lnTo>
                <a:close/>
              </a:path>
              <a:path fill="darken" w="105487" h="21600">
                <a:moveTo>
                  <a:pt x="105487" y="0"/>
                </a:moveTo>
                <a:lnTo>
                  <a:pt x="105487" y="21600"/>
                </a:lnTo>
                <a:lnTo>
                  <a:pt x="104087" y="20200"/>
                </a:lnTo>
                <a:lnTo>
                  <a:pt x="104087" y="1400"/>
                </a:lnTo>
                <a:close/>
              </a:path>
              <a:path fill="darkenLess" w="105487" h="21600">
                <a:moveTo>
                  <a:pt x="1054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4087" y="20200"/>
                </a:lnTo>
                <a:close/>
              </a:path>
              <a:path fill="lighten" w="1054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05487" h="21600">
                <a:moveTo>
                  <a:pt x="45737" y="7493"/>
                </a:moveTo>
                <a:lnTo>
                  <a:pt x="49245" y="7493"/>
                </a:lnTo>
                <a:lnTo>
                  <a:pt x="49245" y="12828"/>
                </a:lnTo>
                <a:cubicBezTo>
                  <a:pt x="49245" y="13751"/>
                  <a:pt x="50045" y="14482"/>
                  <a:pt x="51081" y="14482"/>
                </a:cubicBezTo>
                <a:lnTo>
                  <a:pt x="52743" y="14482"/>
                </a:lnTo>
                <a:cubicBezTo>
                  <a:pt x="53779" y="14482"/>
                  <a:pt x="54580" y="13751"/>
                  <a:pt x="54580" y="12828"/>
                </a:cubicBezTo>
                <a:lnTo>
                  <a:pt x="54580" y="7493"/>
                </a:lnTo>
                <a:lnTo>
                  <a:pt x="52743" y="7493"/>
                </a:lnTo>
                <a:lnTo>
                  <a:pt x="56251" y="3985"/>
                </a:lnTo>
                <a:lnTo>
                  <a:pt x="59924" y="7493"/>
                </a:lnTo>
                <a:lnTo>
                  <a:pt x="58087" y="7493"/>
                </a:lnTo>
                <a:lnTo>
                  <a:pt x="58087" y="12828"/>
                </a:lnTo>
                <a:cubicBezTo>
                  <a:pt x="58087" y="15596"/>
                  <a:pt x="55511" y="18155"/>
                  <a:pt x="52743" y="18155"/>
                </a:cubicBezTo>
                <a:lnTo>
                  <a:pt x="51081" y="18155"/>
                </a:lnTo>
                <a:cubicBezTo>
                  <a:pt x="48313" y="18155"/>
                  <a:pt x="45737" y="15596"/>
                  <a:pt x="45737" y="12828"/>
                </a:cubicBez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>
            <a:hlinkClick r:id="" action="ppaction://hlinkshowjump?jump=previousslide"/>
          </p:cNvPr>
          <p:cNvSpPr/>
          <p:nvPr/>
        </p:nvSpPr>
        <p:spPr>
          <a:xfrm>
            <a:off x="6502320" y="6572160"/>
            <a:ext cx="812880" cy="228600"/>
          </a:xfrm>
          <a:custGeom>
            <a:avLst/>
            <a:gdLst>
              <a:gd name="textAreaLeft" fmla="*/ 14760 w 812880"/>
              <a:gd name="textAreaRight" fmla="*/ 798120 w 81288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76721" h="21600">
                <a:moveTo>
                  <a:pt x="0" y="0"/>
                </a:moveTo>
                <a:lnTo>
                  <a:pt x="76721" y="0"/>
                </a:lnTo>
                <a:lnTo>
                  <a:pt x="76721" y="21600"/>
                </a:lnTo>
                <a:lnTo>
                  <a:pt x="0" y="21600"/>
                </a:lnTo>
                <a:close/>
              </a:path>
              <a:path fill="lightenLess" w="76721" h="21600">
                <a:moveTo>
                  <a:pt x="0" y="0"/>
                </a:moveTo>
                <a:lnTo>
                  <a:pt x="76721" y="0"/>
                </a:lnTo>
                <a:lnTo>
                  <a:pt x="75321" y="1400"/>
                </a:lnTo>
                <a:lnTo>
                  <a:pt x="1400" y="1400"/>
                </a:lnTo>
                <a:close/>
              </a:path>
              <a:path fill="darken" w="76721" h="21600">
                <a:moveTo>
                  <a:pt x="76721" y="0"/>
                </a:moveTo>
                <a:lnTo>
                  <a:pt x="76721" y="21600"/>
                </a:lnTo>
                <a:lnTo>
                  <a:pt x="75321" y="20200"/>
                </a:lnTo>
                <a:lnTo>
                  <a:pt x="75321" y="1400"/>
                </a:lnTo>
                <a:close/>
              </a:path>
              <a:path fill="darkenLess" w="76721" h="21600">
                <a:moveTo>
                  <a:pt x="767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5321" y="20200"/>
                </a:lnTo>
                <a:close/>
              </a:path>
              <a:path fill="lighten" w="767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6721" h="21600">
                <a:moveTo>
                  <a:pt x="31354" y="10800"/>
                </a:moveTo>
                <a:lnTo>
                  <a:pt x="45367" y="3794"/>
                </a:lnTo>
                <a:lnTo>
                  <a:pt x="45367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>
            <a:hlinkClick r:id="" action="ppaction://hlinkshowjump?jump=firstslide"/>
          </p:cNvPr>
          <p:cNvSpPr/>
          <p:nvPr/>
        </p:nvSpPr>
        <p:spPr>
          <a:xfrm>
            <a:off x="1011240" y="6559560"/>
            <a:ext cx="1631880" cy="241200"/>
          </a:xfrm>
          <a:custGeom>
            <a:avLst/>
            <a:gdLst>
              <a:gd name="textAreaLeft" fmla="*/ 15480 w 1631880"/>
              <a:gd name="textAreaRight" fmla="*/ 1616400 w 1631880"/>
              <a:gd name="textAreaTop" fmla="*/ 15480 h 241200"/>
              <a:gd name="textAreaBottom" fmla="*/ 225720 h 241200"/>
            </a:gdLst>
            <a:ahLst/>
            <a:rect l="textAreaLeft" t="textAreaTop" r="textAreaRight" b="textAreaBottom"/>
            <a:pathLst>
              <a:path w="145953" h="21600">
                <a:moveTo>
                  <a:pt x="0" y="0"/>
                </a:moveTo>
                <a:lnTo>
                  <a:pt x="145953" y="0"/>
                </a:lnTo>
                <a:lnTo>
                  <a:pt x="145953" y="21600"/>
                </a:lnTo>
                <a:lnTo>
                  <a:pt x="0" y="21600"/>
                </a:lnTo>
                <a:close/>
              </a:path>
              <a:path fill="lightenLess" w="145953" h="21600">
                <a:moveTo>
                  <a:pt x="0" y="0"/>
                </a:moveTo>
                <a:lnTo>
                  <a:pt x="145953" y="0"/>
                </a:lnTo>
                <a:lnTo>
                  <a:pt x="144553" y="1400"/>
                </a:lnTo>
                <a:lnTo>
                  <a:pt x="1400" y="1400"/>
                </a:lnTo>
                <a:close/>
              </a:path>
              <a:path fill="darken" w="145953" h="21600">
                <a:moveTo>
                  <a:pt x="145953" y="0"/>
                </a:moveTo>
                <a:lnTo>
                  <a:pt x="145953" y="21600"/>
                </a:lnTo>
                <a:lnTo>
                  <a:pt x="144553" y="20200"/>
                </a:lnTo>
                <a:lnTo>
                  <a:pt x="144553" y="1400"/>
                </a:lnTo>
                <a:close/>
              </a:path>
              <a:path fill="darkenLess" w="145953" h="21600">
                <a:moveTo>
                  <a:pt x="1459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44553" y="20200"/>
                </a:lnTo>
                <a:close/>
              </a:path>
              <a:path fill="lighten" w="1459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45953" h="21600">
                <a:moveTo>
                  <a:pt x="72976" y="3837"/>
                </a:moveTo>
                <a:lnTo>
                  <a:pt x="75553" y="6448"/>
                </a:lnTo>
                <a:lnTo>
                  <a:pt x="75553" y="4707"/>
                </a:lnTo>
                <a:lnTo>
                  <a:pt x="77328" y="4707"/>
                </a:lnTo>
                <a:lnTo>
                  <a:pt x="77328" y="8224"/>
                </a:lnTo>
                <a:lnTo>
                  <a:pt x="79939" y="10800"/>
                </a:lnTo>
                <a:lnTo>
                  <a:pt x="78286" y="10800"/>
                </a:lnTo>
                <a:lnTo>
                  <a:pt x="78286" y="17989"/>
                </a:lnTo>
                <a:lnTo>
                  <a:pt x="67667" y="17989"/>
                </a:lnTo>
                <a:lnTo>
                  <a:pt x="67667" y="10800"/>
                </a:lnTo>
                <a:lnTo>
                  <a:pt x="66013" y="10800"/>
                </a:lnTo>
                <a:close/>
              </a:path>
              <a:path fill="darkenLess" w="145953" h="21600">
                <a:moveTo>
                  <a:pt x="75553" y="6448"/>
                </a:moveTo>
                <a:lnTo>
                  <a:pt x="75553" y="4707"/>
                </a:lnTo>
                <a:lnTo>
                  <a:pt x="77328" y="4707"/>
                </a:lnTo>
                <a:lnTo>
                  <a:pt x="77328" y="8224"/>
                </a:lnTo>
                <a:close/>
              </a:path>
              <a:path fill="darkenLess" w="145953" h="21600">
                <a:moveTo>
                  <a:pt x="72054" y="14299"/>
                </a:moveTo>
                <a:lnTo>
                  <a:pt x="73899" y="14299"/>
                </a:lnTo>
                <a:lnTo>
                  <a:pt x="73899" y="17989"/>
                </a:lnTo>
                <a:lnTo>
                  <a:pt x="78286" y="17989"/>
                </a:lnTo>
                <a:lnTo>
                  <a:pt x="78286" y="10800"/>
                </a:lnTo>
                <a:lnTo>
                  <a:pt x="67667" y="10800"/>
                </a:lnTo>
                <a:lnTo>
                  <a:pt x="67667" y="17989"/>
                </a:lnTo>
                <a:lnTo>
                  <a:pt x="72054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7CF5A-0686-494C-BF59-663120DD034C}" type="slidenum">
              <a:t>30</a:t>
            </a:fld>
          </a:p>
        </p:txBody>
      </p:sp>
    </p:spTree>
  </p:cSld>
  <p:transition>
    <p:pull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/>
          <p:nvPr/>
        </p:nvSpPr>
        <p:spPr>
          <a:xfrm>
            <a:off x="914400" y="1581120"/>
            <a:ext cx="7315200" cy="4241880"/>
          </a:xfrm>
          <a:prstGeom prst="rect">
            <a:avLst/>
          </a:prstGeom>
          <a:solidFill>
            <a:srgbClr val="00ccff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.  135 Istituzioni Scolasti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mbiti C.P.O. n.3, 4 , 5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de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da concordare con  la Provincia e gli Enti Locali Interessat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utture edilizie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da concordare con Provincia ed Enti Locali interessa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sorse umane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aranno assegnate, con provvedimento del Direttore Generale,  su proposta del Dirigente assegnato all'Ufficio,  nel rispetto della disciplina contrattuale e dei Protocolli di Intesa con le OO.SS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rtafoglio dei Servizi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 sarà  definito  dal  Direttore  Generale   previa  concertazione  regionale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07960" y="398520"/>
            <a:ext cx="8412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10. CENTRO  SERVIZI ISTITUZIONI SCOLASTICHE PER LA PROVINCIA DI SALERNO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>
            <a:hlinkClick r:id="" action="ppaction://hlinkshowjump?jump=nextslide"/>
          </p:cNvPr>
          <p:cNvSpPr/>
          <p:nvPr/>
        </p:nvSpPr>
        <p:spPr>
          <a:xfrm>
            <a:off x="7315200" y="6572160"/>
            <a:ext cx="812880" cy="228600"/>
          </a:xfrm>
          <a:custGeom>
            <a:avLst/>
            <a:gdLst>
              <a:gd name="textAreaLeft" fmla="*/ 14760 w 812880"/>
              <a:gd name="textAreaRight" fmla="*/ 798120 w 81288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76721" h="21600">
                <a:moveTo>
                  <a:pt x="0" y="0"/>
                </a:moveTo>
                <a:lnTo>
                  <a:pt x="76721" y="0"/>
                </a:lnTo>
                <a:lnTo>
                  <a:pt x="76721" y="21600"/>
                </a:lnTo>
                <a:lnTo>
                  <a:pt x="0" y="21600"/>
                </a:lnTo>
                <a:close/>
              </a:path>
              <a:path fill="lightenLess" w="76721" h="21600">
                <a:moveTo>
                  <a:pt x="0" y="0"/>
                </a:moveTo>
                <a:lnTo>
                  <a:pt x="76721" y="0"/>
                </a:lnTo>
                <a:lnTo>
                  <a:pt x="75321" y="1400"/>
                </a:lnTo>
                <a:lnTo>
                  <a:pt x="1400" y="1400"/>
                </a:lnTo>
                <a:close/>
              </a:path>
              <a:path fill="darken" w="76721" h="21600">
                <a:moveTo>
                  <a:pt x="76721" y="0"/>
                </a:moveTo>
                <a:lnTo>
                  <a:pt x="76721" y="21600"/>
                </a:lnTo>
                <a:lnTo>
                  <a:pt x="75321" y="20200"/>
                </a:lnTo>
                <a:lnTo>
                  <a:pt x="75321" y="1400"/>
                </a:lnTo>
                <a:close/>
              </a:path>
              <a:path fill="darkenLess" w="76721" h="21600">
                <a:moveTo>
                  <a:pt x="767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5321" y="20200"/>
                </a:lnTo>
                <a:close/>
              </a:path>
              <a:path fill="lighten" w="767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6721" h="21600">
                <a:moveTo>
                  <a:pt x="31354" y="3794"/>
                </a:moveTo>
                <a:lnTo>
                  <a:pt x="45367" y="10800"/>
                </a:lnTo>
                <a:lnTo>
                  <a:pt x="3135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>
            <a:hlinkClick r:id="rId2" action="ppaction://hlinksldjump"/>
          </p:cNvPr>
          <p:cNvSpPr/>
          <p:nvPr/>
        </p:nvSpPr>
        <p:spPr>
          <a:xfrm>
            <a:off x="4000680" y="6559560"/>
            <a:ext cx="1117440" cy="228600"/>
          </a:xfrm>
          <a:custGeom>
            <a:avLst/>
            <a:gdLst>
              <a:gd name="textAreaLeft" fmla="*/ 14760 w 1117440"/>
              <a:gd name="textAreaRight" fmla="*/ 1102680 w 11174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5453" h="21600">
                <a:moveTo>
                  <a:pt x="0" y="0"/>
                </a:moveTo>
                <a:lnTo>
                  <a:pt x="105453" y="0"/>
                </a:lnTo>
                <a:lnTo>
                  <a:pt x="105453" y="21600"/>
                </a:lnTo>
                <a:lnTo>
                  <a:pt x="0" y="21600"/>
                </a:lnTo>
                <a:close/>
              </a:path>
              <a:path fill="lightenLess" w="105453" h="21600">
                <a:moveTo>
                  <a:pt x="0" y="0"/>
                </a:moveTo>
                <a:lnTo>
                  <a:pt x="105453" y="0"/>
                </a:lnTo>
                <a:lnTo>
                  <a:pt x="104053" y="1400"/>
                </a:lnTo>
                <a:lnTo>
                  <a:pt x="1400" y="1400"/>
                </a:lnTo>
                <a:close/>
              </a:path>
              <a:path fill="darken" w="105453" h="21600">
                <a:moveTo>
                  <a:pt x="105453" y="0"/>
                </a:moveTo>
                <a:lnTo>
                  <a:pt x="105453" y="21600"/>
                </a:lnTo>
                <a:lnTo>
                  <a:pt x="104053" y="20200"/>
                </a:lnTo>
                <a:lnTo>
                  <a:pt x="104053" y="1400"/>
                </a:lnTo>
                <a:close/>
              </a:path>
              <a:path fill="darkenLess" w="105453" h="21600">
                <a:moveTo>
                  <a:pt x="1054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4053" y="20200"/>
                </a:lnTo>
                <a:close/>
              </a:path>
              <a:path fill="lighten" w="1054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05453" h="21600">
                <a:moveTo>
                  <a:pt x="45720" y="7493"/>
                </a:moveTo>
                <a:lnTo>
                  <a:pt x="49228" y="7493"/>
                </a:lnTo>
                <a:lnTo>
                  <a:pt x="49228" y="12828"/>
                </a:lnTo>
                <a:cubicBezTo>
                  <a:pt x="49228" y="13751"/>
                  <a:pt x="50028" y="14482"/>
                  <a:pt x="51064" y="14482"/>
                </a:cubicBezTo>
                <a:lnTo>
                  <a:pt x="52726" y="14482"/>
                </a:lnTo>
                <a:cubicBezTo>
                  <a:pt x="53762" y="14482"/>
                  <a:pt x="54563" y="13751"/>
                  <a:pt x="54563" y="12828"/>
                </a:cubicBezTo>
                <a:lnTo>
                  <a:pt x="54563" y="7493"/>
                </a:lnTo>
                <a:lnTo>
                  <a:pt x="52726" y="7493"/>
                </a:lnTo>
                <a:lnTo>
                  <a:pt x="56234" y="3985"/>
                </a:lnTo>
                <a:lnTo>
                  <a:pt x="59907" y="7493"/>
                </a:lnTo>
                <a:lnTo>
                  <a:pt x="58070" y="7493"/>
                </a:lnTo>
                <a:lnTo>
                  <a:pt x="58070" y="12828"/>
                </a:lnTo>
                <a:cubicBezTo>
                  <a:pt x="58070" y="15596"/>
                  <a:pt x="55494" y="18155"/>
                  <a:pt x="52726" y="18155"/>
                </a:cubicBezTo>
                <a:lnTo>
                  <a:pt x="51064" y="18155"/>
                </a:lnTo>
                <a:cubicBezTo>
                  <a:pt x="48296" y="18155"/>
                  <a:pt x="45720" y="15596"/>
                  <a:pt x="45720" y="12828"/>
                </a:cubicBez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>
            <a:hlinkClick r:id="" action="ppaction://hlinkshowjump?jump=previousslide"/>
          </p:cNvPr>
          <p:cNvSpPr/>
          <p:nvPr/>
        </p:nvSpPr>
        <p:spPr>
          <a:xfrm>
            <a:off x="6502320" y="6572160"/>
            <a:ext cx="812880" cy="228600"/>
          </a:xfrm>
          <a:custGeom>
            <a:avLst/>
            <a:gdLst>
              <a:gd name="textAreaLeft" fmla="*/ 14760 w 812880"/>
              <a:gd name="textAreaRight" fmla="*/ 798120 w 81288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76721" h="21600">
                <a:moveTo>
                  <a:pt x="0" y="0"/>
                </a:moveTo>
                <a:lnTo>
                  <a:pt x="76721" y="0"/>
                </a:lnTo>
                <a:lnTo>
                  <a:pt x="76721" y="21600"/>
                </a:lnTo>
                <a:lnTo>
                  <a:pt x="0" y="21600"/>
                </a:lnTo>
                <a:close/>
              </a:path>
              <a:path fill="lightenLess" w="76721" h="21600">
                <a:moveTo>
                  <a:pt x="0" y="0"/>
                </a:moveTo>
                <a:lnTo>
                  <a:pt x="76721" y="0"/>
                </a:lnTo>
                <a:lnTo>
                  <a:pt x="75321" y="1400"/>
                </a:lnTo>
                <a:lnTo>
                  <a:pt x="1400" y="1400"/>
                </a:lnTo>
                <a:close/>
              </a:path>
              <a:path fill="darken" w="76721" h="21600">
                <a:moveTo>
                  <a:pt x="76721" y="0"/>
                </a:moveTo>
                <a:lnTo>
                  <a:pt x="76721" y="21600"/>
                </a:lnTo>
                <a:lnTo>
                  <a:pt x="75321" y="20200"/>
                </a:lnTo>
                <a:lnTo>
                  <a:pt x="75321" y="1400"/>
                </a:lnTo>
                <a:close/>
              </a:path>
              <a:path fill="darkenLess" w="76721" h="21600">
                <a:moveTo>
                  <a:pt x="767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5321" y="20200"/>
                </a:lnTo>
                <a:close/>
              </a:path>
              <a:path fill="lighten" w="767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6721" h="21600">
                <a:moveTo>
                  <a:pt x="31354" y="10800"/>
                </a:moveTo>
                <a:lnTo>
                  <a:pt x="45367" y="3794"/>
                </a:lnTo>
                <a:lnTo>
                  <a:pt x="45367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>
            <a:hlinkClick r:id="" action="ppaction://hlinkshowjump?jump=firstslide"/>
          </p:cNvPr>
          <p:cNvSpPr/>
          <p:nvPr/>
        </p:nvSpPr>
        <p:spPr>
          <a:xfrm>
            <a:off x="1011240" y="6559560"/>
            <a:ext cx="1631880" cy="241200"/>
          </a:xfrm>
          <a:custGeom>
            <a:avLst/>
            <a:gdLst>
              <a:gd name="textAreaLeft" fmla="*/ 15480 w 1631880"/>
              <a:gd name="textAreaRight" fmla="*/ 1616400 w 1631880"/>
              <a:gd name="textAreaTop" fmla="*/ 15480 h 241200"/>
              <a:gd name="textAreaBottom" fmla="*/ 225720 h 241200"/>
            </a:gdLst>
            <a:ahLst/>
            <a:rect l="textAreaLeft" t="textAreaTop" r="textAreaRight" b="textAreaBottom"/>
            <a:pathLst>
              <a:path w="145953" h="21600">
                <a:moveTo>
                  <a:pt x="0" y="0"/>
                </a:moveTo>
                <a:lnTo>
                  <a:pt x="145953" y="0"/>
                </a:lnTo>
                <a:lnTo>
                  <a:pt x="145953" y="21600"/>
                </a:lnTo>
                <a:lnTo>
                  <a:pt x="0" y="21600"/>
                </a:lnTo>
                <a:close/>
              </a:path>
              <a:path fill="lightenLess" w="145953" h="21600">
                <a:moveTo>
                  <a:pt x="0" y="0"/>
                </a:moveTo>
                <a:lnTo>
                  <a:pt x="145953" y="0"/>
                </a:lnTo>
                <a:lnTo>
                  <a:pt x="144553" y="1400"/>
                </a:lnTo>
                <a:lnTo>
                  <a:pt x="1400" y="1400"/>
                </a:lnTo>
                <a:close/>
              </a:path>
              <a:path fill="darken" w="145953" h="21600">
                <a:moveTo>
                  <a:pt x="145953" y="0"/>
                </a:moveTo>
                <a:lnTo>
                  <a:pt x="145953" y="21600"/>
                </a:lnTo>
                <a:lnTo>
                  <a:pt x="144553" y="20200"/>
                </a:lnTo>
                <a:lnTo>
                  <a:pt x="144553" y="1400"/>
                </a:lnTo>
                <a:close/>
              </a:path>
              <a:path fill="darkenLess" w="145953" h="21600">
                <a:moveTo>
                  <a:pt x="1459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44553" y="20200"/>
                </a:lnTo>
                <a:close/>
              </a:path>
              <a:path fill="lighten" w="1459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45953" h="21600">
                <a:moveTo>
                  <a:pt x="72976" y="3837"/>
                </a:moveTo>
                <a:lnTo>
                  <a:pt x="75553" y="6448"/>
                </a:lnTo>
                <a:lnTo>
                  <a:pt x="75553" y="4707"/>
                </a:lnTo>
                <a:lnTo>
                  <a:pt x="77328" y="4707"/>
                </a:lnTo>
                <a:lnTo>
                  <a:pt x="77328" y="8224"/>
                </a:lnTo>
                <a:lnTo>
                  <a:pt x="79939" y="10800"/>
                </a:lnTo>
                <a:lnTo>
                  <a:pt x="78286" y="10800"/>
                </a:lnTo>
                <a:lnTo>
                  <a:pt x="78286" y="17989"/>
                </a:lnTo>
                <a:lnTo>
                  <a:pt x="67667" y="17989"/>
                </a:lnTo>
                <a:lnTo>
                  <a:pt x="67667" y="10800"/>
                </a:lnTo>
                <a:lnTo>
                  <a:pt x="66013" y="10800"/>
                </a:lnTo>
                <a:close/>
              </a:path>
              <a:path fill="darkenLess" w="145953" h="21600">
                <a:moveTo>
                  <a:pt x="75553" y="6448"/>
                </a:moveTo>
                <a:lnTo>
                  <a:pt x="75553" y="4707"/>
                </a:lnTo>
                <a:lnTo>
                  <a:pt x="77328" y="4707"/>
                </a:lnTo>
                <a:lnTo>
                  <a:pt x="77328" y="8224"/>
                </a:lnTo>
                <a:close/>
              </a:path>
              <a:path fill="darkenLess" w="145953" h="21600">
                <a:moveTo>
                  <a:pt x="72054" y="14299"/>
                </a:moveTo>
                <a:lnTo>
                  <a:pt x="73899" y="14299"/>
                </a:lnTo>
                <a:lnTo>
                  <a:pt x="73899" y="17989"/>
                </a:lnTo>
                <a:lnTo>
                  <a:pt x="78286" y="17989"/>
                </a:lnTo>
                <a:lnTo>
                  <a:pt x="78286" y="10800"/>
                </a:lnTo>
                <a:lnTo>
                  <a:pt x="67667" y="10800"/>
                </a:lnTo>
                <a:lnTo>
                  <a:pt x="67667" y="17989"/>
                </a:lnTo>
                <a:lnTo>
                  <a:pt x="72054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4487C-27DA-4046-B39E-A194F622EB2B}" type="slidenum">
              <a:t>31</a:t>
            </a:fld>
          </a:p>
        </p:txBody>
      </p:sp>
    </p:spTree>
  </p:cSld>
  <p:transition>
    <p:pull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/>
          <p:nvPr/>
        </p:nvSpPr>
        <p:spPr>
          <a:xfrm>
            <a:off x="1422360" y="1468440"/>
            <a:ext cx="6299280" cy="43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  </a:t>
            </a:r>
            <a:r>
              <a:rPr b="1" i="1" lang="en-US" sz="20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Dirigenti Scolastici e docenti utilizzati  ex art. 26, comma 8, Legge 488/98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  </a:t>
            </a:r>
            <a:r>
              <a:rPr b="1" i="1" lang="en-US" sz="20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Personale scolastico utilizzato in altri compit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  </a:t>
            </a:r>
            <a:r>
              <a:rPr b="1" i="1" lang="en-US" sz="20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Personale degli Uffici di Segreterie delle Istituzioni Scolastich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  </a:t>
            </a:r>
            <a:r>
              <a:rPr b="1" i="1" lang="en-US" sz="20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Risorse professionali  impegnate nei Nuclei di Supporto all’Autonomia Scolastica e /o presso gli Snodi Territoriali di cui alla Lettera Circolare 194/’00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  </a:t>
            </a:r>
            <a:r>
              <a:rPr b="1" i="1" lang="en-US" sz="20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Altro personale da definire nella  sede permanente di confronto  prevista dall’Intesa M.P.I. – OO.SS. del 3 maggio 2001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636480" y="398520"/>
            <a:ext cx="7823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ff3300"/>
                </a:solidFill>
                <a:latin typeface="Comic Sans MS"/>
              </a:rPr>
              <a:t>RISORSE </a:t>
            </a:r>
            <a:r>
              <a:rPr b="1" i="1" lang="it-IT" sz="22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TECNICO - PROFESSIONALI DA ASSEGNARE AI C.S.I.</a:t>
            </a:r>
            <a:r>
              <a:rPr b="1" i="1" lang="it-IT" sz="20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>
            <a:hlinkClick r:id="" action="ppaction://hlinkshowjump?jump=nextslide"/>
          </p:cNvPr>
          <p:cNvSpPr/>
          <p:nvPr/>
        </p:nvSpPr>
        <p:spPr>
          <a:xfrm>
            <a:off x="7315200" y="6572160"/>
            <a:ext cx="812880" cy="228600"/>
          </a:xfrm>
          <a:custGeom>
            <a:avLst/>
            <a:gdLst>
              <a:gd name="textAreaLeft" fmla="*/ 14760 w 812880"/>
              <a:gd name="textAreaRight" fmla="*/ 798120 w 81288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76721" h="21600">
                <a:moveTo>
                  <a:pt x="0" y="0"/>
                </a:moveTo>
                <a:lnTo>
                  <a:pt x="76721" y="0"/>
                </a:lnTo>
                <a:lnTo>
                  <a:pt x="76721" y="21600"/>
                </a:lnTo>
                <a:lnTo>
                  <a:pt x="0" y="21600"/>
                </a:lnTo>
                <a:close/>
              </a:path>
              <a:path fill="lightenLess" w="76721" h="21600">
                <a:moveTo>
                  <a:pt x="0" y="0"/>
                </a:moveTo>
                <a:lnTo>
                  <a:pt x="76721" y="0"/>
                </a:lnTo>
                <a:lnTo>
                  <a:pt x="75321" y="1400"/>
                </a:lnTo>
                <a:lnTo>
                  <a:pt x="1400" y="1400"/>
                </a:lnTo>
                <a:close/>
              </a:path>
              <a:path fill="darken" w="76721" h="21600">
                <a:moveTo>
                  <a:pt x="76721" y="0"/>
                </a:moveTo>
                <a:lnTo>
                  <a:pt x="76721" y="21600"/>
                </a:lnTo>
                <a:lnTo>
                  <a:pt x="75321" y="20200"/>
                </a:lnTo>
                <a:lnTo>
                  <a:pt x="75321" y="1400"/>
                </a:lnTo>
                <a:close/>
              </a:path>
              <a:path fill="darkenLess" w="76721" h="21600">
                <a:moveTo>
                  <a:pt x="767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5321" y="20200"/>
                </a:lnTo>
                <a:close/>
              </a:path>
              <a:path fill="lighten" w="767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6721" h="21600">
                <a:moveTo>
                  <a:pt x="31354" y="3794"/>
                </a:moveTo>
                <a:lnTo>
                  <a:pt x="45367" y="10800"/>
                </a:lnTo>
                <a:lnTo>
                  <a:pt x="3135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>
            <a:hlinkClick r:id="" action="ppaction://hlinkshowjump?jump=previousslide"/>
          </p:cNvPr>
          <p:cNvSpPr/>
          <p:nvPr/>
        </p:nvSpPr>
        <p:spPr>
          <a:xfrm>
            <a:off x="6502320" y="6572160"/>
            <a:ext cx="812880" cy="228600"/>
          </a:xfrm>
          <a:custGeom>
            <a:avLst/>
            <a:gdLst>
              <a:gd name="textAreaLeft" fmla="*/ 14760 w 812880"/>
              <a:gd name="textAreaRight" fmla="*/ 798120 w 81288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76721" h="21600">
                <a:moveTo>
                  <a:pt x="0" y="0"/>
                </a:moveTo>
                <a:lnTo>
                  <a:pt x="76721" y="0"/>
                </a:lnTo>
                <a:lnTo>
                  <a:pt x="76721" y="21600"/>
                </a:lnTo>
                <a:lnTo>
                  <a:pt x="0" y="21600"/>
                </a:lnTo>
                <a:close/>
              </a:path>
              <a:path fill="lightenLess" w="76721" h="21600">
                <a:moveTo>
                  <a:pt x="0" y="0"/>
                </a:moveTo>
                <a:lnTo>
                  <a:pt x="76721" y="0"/>
                </a:lnTo>
                <a:lnTo>
                  <a:pt x="75321" y="1400"/>
                </a:lnTo>
                <a:lnTo>
                  <a:pt x="1400" y="1400"/>
                </a:lnTo>
                <a:close/>
              </a:path>
              <a:path fill="darken" w="76721" h="21600">
                <a:moveTo>
                  <a:pt x="76721" y="0"/>
                </a:moveTo>
                <a:lnTo>
                  <a:pt x="76721" y="21600"/>
                </a:lnTo>
                <a:lnTo>
                  <a:pt x="75321" y="20200"/>
                </a:lnTo>
                <a:lnTo>
                  <a:pt x="75321" y="1400"/>
                </a:lnTo>
                <a:close/>
              </a:path>
              <a:path fill="darkenLess" w="76721" h="21600">
                <a:moveTo>
                  <a:pt x="767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5321" y="20200"/>
                </a:lnTo>
                <a:close/>
              </a:path>
              <a:path fill="lighten" w="767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6721" h="21600">
                <a:moveTo>
                  <a:pt x="31354" y="10800"/>
                </a:moveTo>
                <a:lnTo>
                  <a:pt x="45367" y="3794"/>
                </a:lnTo>
                <a:lnTo>
                  <a:pt x="45367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>
            <a:hlinkClick r:id="" action="ppaction://hlinkshowjump?jump=firstslide"/>
          </p:cNvPr>
          <p:cNvSpPr/>
          <p:nvPr/>
        </p:nvSpPr>
        <p:spPr>
          <a:xfrm>
            <a:off x="1011240" y="6559560"/>
            <a:ext cx="1631880" cy="241200"/>
          </a:xfrm>
          <a:custGeom>
            <a:avLst/>
            <a:gdLst>
              <a:gd name="textAreaLeft" fmla="*/ 15480 w 1631880"/>
              <a:gd name="textAreaRight" fmla="*/ 1616400 w 1631880"/>
              <a:gd name="textAreaTop" fmla="*/ 15480 h 241200"/>
              <a:gd name="textAreaBottom" fmla="*/ 225720 h 241200"/>
            </a:gdLst>
            <a:ahLst/>
            <a:rect l="textAreaLeft" t="textAreaTop" r="textAreaRight" b="textAreaBottom"/>
            <a:pathLst>
              <a:path w="145953" h="21600">
                <a:moveTo>
                  <a:pt x="0" y="0"/>
                </a:moveTo>
                <a:lnTo>
                  <a:pt x="145953" y="0"/>
                </a:lnTo>
                <a:lnTo>
                  <a:pt x="145953" y="21600"/>
                </a:lnTo>
                <a:lnTo>
                  <a:pt x="0" y="21600"/>
                </a:lnTo>
                <a:close/>
              </a:path>
              <a:path fill="lightenLess" w="145953" h="21600">
                <a:moveTo>
                  <a:pt x="0" y="0"/>
                </a:moveTo>
                <a:lnTo>
                  <a:pt x="145953" y="0"/>
                </a:lnTo>
                <a:lnTo>
                  <a:pt x="144553" y="1400"/>
                </a:lnTo>
                <a:lnTo>
                  <a:pt x="1400" y="1400"/>
                </a:lnTo>
                <a:close/>
              </a:path>
              <a:path fill="darken" w="145953" h="21600">
                <a:moveTo>
                  <a:pt x="145953" y="0"/>
                </a:moveTo>
                <a:lnTo>
                  <a:pt x="145953" y="21600"/>
                </a:lnTo>
                <a:lnTo>
                  <a:pt x="144553" y="20200"/>
                </a:lnTo>
                <a:lnTo>
                  <a:pt x="144553" y="1400"/>
                </a:lnTo>
                <a:close/>
              </a:path>
              <a:path fill="darkenLess" w="145953" h="21600">
                <a:moveTo>
                  <a:pt x="1459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44553" y="20200"/>
                </a:lnTo>
                <a:close/>
              </a:path>
              <a:path fill="lighten" w="1459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45953" h="21600">
                <a:moveTo>
                  <a:pt x="72976" y="3837"/>
                </a:moveTo>
                <a:lnTo>
                  <a:pt x="75553" y="6448"/>
                </a:lnTo>
                <a:lnTo>
                  <a:pt x="75553" y="4707"/>
                </a:lnTo>
                <a:lnTo>
                  <a:pt x="77328" y="4707"/>
                </a:lnTo>
                <a:lnTo>
                  <a:pt x="77328" y="8224"/>
                </a:lnTo>
                <a:lnTo>
                  <a:pt x="79939" y="10800"/>
                </a:lnTo>
                <a:lnTo>
                  <a:pt x="78286" y="10800"/>
                </a:lnTo>
                <a:lnTo>
                  <a:pt x="78286" y="17989"/>
                </a:lnTo>
                <a:lnTo>
                  <a:pt x="67667" y="17989"/>
                </a:lnTo>
                <a:lnTo>
                  <a:pt x="67667" y="10800"/>
                </a:lnTo>
                <a:lnTo>
                  <a:pt x="66013" y="10800"/>
                </a:lnTo>
                <a:close/>
              </a:path>
              <a:path fill="darkenLess" w="145953" h="21600">
                <a:moveTo>
                  <a:pt x="75553" y="6448"/>
                </a:moveTo>
                <a:lnTo>
                  <a:pt x="75553" y="4707"/>
                </a:lnTo>
                <a:lnTo>
                  <a:pt x="77328" y="4707"/>
                </a:lnTo>
                <a:lnTo>
                  <a:pt x="77328" y="8224"/>
                </a:lnTo>
                <a:close/>
              </a:path>
              <a:path fill="darkenLess" w="145953" h="21600">
                <a:moveTo>
                  <a:pt x="72054" y="14299"/>
                </a:moveTo>
                <a:lnTo>
                  <a:pt x="73899" y="14299"/>
                </a:lnTo>
                <a:lnTo>
                  <a:pt x="73899" y="17989"/>
                </a:lnTo>
                <a:lnTo>
                  <a:pt x="78286" y="17989"/>
                </a:lnTo>
                <a:lnTo>
                  <a:pt x="78286" y="10800"/>
                </a:lnTo>
                <a:lnTo>
                  <a:pt x="67667" y="10800"/>
                </a:lnTo>
                <a:lnTo>
                  <a:pt x="67667" y="17989"/>
                </a:lnTo>
                <a:lnTo>
                  <a:pt x="72054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785A0-DBD1-46EE-9048-B0EC320AE1D7}" type="slidenum">
              <a:t>32</a:t>
            </a:fld>
          </a:p>
        </p:txBody>
      </p:sp>
    </p:spTree>
  </p:cSld>
  <p:transition>
    <p:wipe dir="d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/>
          <p:nvPr/>
        </p:nvSpPr>
        <p:spPr>
          <a:xfrm>
            <a:off x="979560" y="2544840"/>
            <a:ext cx="4640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cc99"/>
                </a:solidFill>
                <a:latin typeface="Elephant"/>
              </a:rPr>
              <a:t>TERMINE  DELLA PRESENTAZI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>
            <a:hlinkClick r:id="" action="ppaction://hlinkshowjump?jump=firstslide"/>
          </p:cNvPr>
          <p:cNvSpPr/>
          <p:nvPr/>
        </p:nvSpPr>
        <p:spPr>
          <a:xfrm>
            <a:off x="1011240" y="6559560"/>
            <a:ext cx="1631880" cy="241200"/>
          </a:xfrm>
          <a:custGeom>
            <a:avLst/>
            <a:gdLst>
              <a:gd name="textAreaLeft" fmla="*/ 15480 w 1631880"/>
              <a:gd name="textAreaRight" fmla="*/ 1616400 w 1631880"/>
              <a:gd name="textAreaTop" fmla="*/ 15480 h 241200"/>
              <a:gd name="textAreaBottom" fmla="*/ 225720 h 241200"/>
            </a:gdLst>
            <a:ahLst/>
            <a:rect l="textAreaLeft" t="textAreaTop" r="textAreaRight" b="textAreaBottom"/>
            <a:pathLst>
              <a:path w="145953" h="21600">
                <a:moveTo>
                  <a:pt x="0" y="0"/>
                </a:moveTo>
                <a:lnTo>
                  <a:pt x="145953" y="0"/>
                </a:lnTo>
                <a:lnTo>
                  <a:pt x="145953" y="21600"/>
                </a:lnTo>
                <a:lnTo>
                  <a:pt x="0" y="21600"/>
                </a:lnTo>
                <a:close/>
              </a:path>
              <a:path fill="lightenLess" w="145953" h="21600">
                <a:moveTo>
                  <a:pt x="0" y="0"/>
                </a:moveTo>
                <a:lnTo>
                  <a:pt x="145953" y="0"/>
                </a:lnTo>
                <a:lnTo>
                  <a:pt x="144553" y="1400"/>
                </a:lnTo>
                <a:lnTo>
                  <a:pt x="1400" y="1400"/>
                </a:lnTo>
                <a:close/>
              </a:path>
              <a:path fill="darken" w="145953" h="21600">
                <a:moveTo>
                  <a:pt x="145953" y="0"/>
                </a:moveTo>
                <a:lnTo>
                  <a:pt x="145953" y="21600"/>
                </a:lnTo>
                <a:lnTo>
                  <a:pt x="144553" y="20200"/>
                </a:lnTo>
                <a:lnTo>
                  <a:pt x="144553" y="1400"/>
                </a:lnTo>
                <a:close/>
              </a:path>
              <a:path fill="darkenLess" w="145953" h="21600">
                <a:moveTo>
                  <a:pt x="1459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44553" y="20200"/>
                </a:lnTo>
                <a:close/>
              </a:path>
              <a:path fill="lighten" w="1459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45953" h="21600">
                <a:moveTo>
                  <a:pt x="72976" y="3837"/>
                </a:moveTo>
                <a:lnTo>
                  <a:pt x="75553" y="6448"/>
                </a:lnTo>
                <a:lnTo>
                  <a:pt x="75553" y="4707"/>
                </a:lnTo>
                <a:lnTo>
                  <a:pt x="77328" y="4707"/>
                </a:lnTo>
                <a:lnTo>
                  <a:pt x="77328" y="8224"/>
                </a:lnTo>
                <a:lnTo>
                  <a:pt x="79939" y="10800"/>
                </a:lnTo>
                <a:lnTo>
                  <a:pt x="78286" y="10800"/>
                </a:lnTo>
                <a:lnTo>
                  <a:pt x="78286" y="17989"/>
                </a:lnTo>
                <a:lnTo>
                  <a:pt x="67667" y="17989"/>
                </a:lnTo>
                <a:lnTo>
                  <a:pt x="67667" y="10800"/>
                </a:lnTo>
                <a:lnTo>
                  <a:pt x="66013" y="10800"/>
                </a:lnTo>
                <a:close/>
              </a:path>
              <a:path fill="darkenLess" w="145953" h="21600">
                <a:moveTo>
                  <a:pt x="75553" y="6448"/>
                </a:moveTo>
                <a:lnTo>
                  <a:pt x="75553" y="4707"/>
                </a:lnTo>
                <a:lnTo>
                  <a:pt x="77328" y="4707"/>
                </a:lnTo>
                <a:lnTo>
                  <a:pt x="77328" y="8224"/>
                </a:lnTo>
                <a:close/>
              </a:path>
              <a:path fill="darkenLess" w="145953" h="21600">
                <a:moveTo>
                  <a:pt x="72054" y="14299"/>
                </a:moveTo>
                <a:lnTo>
                  <a:pt x="73899" y="14299"/>
                </a:lnTo>
                <a:lnTo>
                  <a:pt x="73899" y="17989"/>
                </a:lnTo>
                <a:lnTo>
                  <a:pt x="78286" y="17989"/>
                </a:lnTo>
                <a:lnTo>
                  <a:pt x="78286" y="10800"/>
                </a:lnTo>
                <a:lnTo>
                  <a:pt x="67667" y="10800"/>
                </a:lnTo>
                <a:lnTo>
                  <a:pt x="67667" y="17989"/>
                </a:lnTo>
                <a:lnTo>
                  <a:pt x="72054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>
            <a:hlinkClick r:id="" action="ppaction://hlinkshowjump?jump=previousslide"/>
          </p:cNvPr>
          <p:cNvSpPr/>
          <p:nvPr/>
        </p:nvSpPr>
        <p:spPr>
          <a:xfrm>
            <a:off x="6502320" y="6572160"/>
            <a:ext cx="812880" cy="228600"/>
          </a:xfrm>
          <a:custGeom>
            <a:avLst/>
            <a:gdLst>
              <a:gd name="textAreaLeft" fmla="*/ 14760 w 812880"/>
              <a:gd name="textAreaRight" fmla="*/ 798120 w 81288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76721" h="21600">
                <a:moveTo>
                  <a:pt x="0" y="0"/>
                </a:moveTo>
                <a:lnTo>
                  <a:pt x="76721" y="0"/>
                </a:lnTo>
                <a:lnTo>
                  <a:pt x="76721" y="21600"/>
                </a:lnTo>
                <a:lnTo>
                  <a:pt x="0" y="21600"/>
                </a:lnTo>
                <a:close/>
              </a:path>
              <a:path fill="lightenLess" w="76721" h="21600">
                <a:moveTo>
                  <a:pt x="0" y="0"/>
                </a:moveTo>
                <a:lnTo>
                  <a:pt x="76721" y="0"/>
                </a:lnTo>
                <a:lnTo>
                  <a:pt x="75321" y="1400"/>
                </a:lnTo>
                <a:lnTo>
                  <a:pt x="1400" y="1400"/>
                </a:lnTo>
                <a:close/>
              </a:path>
              <a:path fill="darken" w="76721" h="21600">
                <a:moveTo>
                  <a:pt x="76721" y="0"/>
                </a:moveTo>
                <a:lnTo>
                  <a:pt x="76721" y="21600"/>
                </a:lnTo>
                <a:lnTo>
                  <a:pt x="75321" y="20200"/>
                </a:lnTo>
                <a:lnTo>
                  <a:pt x="75321" y="1400"/>
                </a:lnTo>
                <a:close/>
              </a:path>
              <a:path fill="darkenLess" w="76721" h="21600">
                <a:moveTo>
                  <a:pt x="767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5321" y="20200"/>
                </a:lnTo>
                <a:close/>
              </a:path>
              <a:path fill="lighten" w="767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6721" h="21600">
                <a:moveTo>
                  <a:pt x="31354" y="10800"/>
                </a:moveTo>
                <a:lnTo>
                  <a:pt x="45367" y="3794"/>
                </a:lnTo>
                <a:lnTo>
                  <a:pt x="45367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>
            <a:hlinkClick r:id="rId2"/>
          </p:cNvPr>
          <p:cNvSpPr/>
          <p:nvPr/>
        </p:nvSpPr>
        <p:spPr>
          <a:xfrm>
            <a:off x="5773680" y="2549520"/>
            <a:ext cx="2062080" cy="841320"/>
          </a:xfrm>
          <a:custGeom>
            <a:avLst/>
            <a:gdLst>
              <a:gd name="textAreaLeft" fmla="*/ 54360 w 2062080"/>
              <a:gd name="textAreaRight" fmla="*/ 2007720 w 2062080"/>
              <a:gd name="textAreaTop" fmla="*/ 54360 h 841320"/>
              <a:gd name="textAreaBottom" fmla="*/ 786960 h 841320"/>
            </a:gdLst>
            <a:ahLst/>
            <a:rect l="textAreaLeft" t="textAreaTop" r="textAreaRight" b="textAreaBottom"/>
            <a:pathLst>
              <a:path w="52928" h="21600">
                <a:moveTo>
                  <a:pt x="0" y="0"/>
                </a:moveTo>
                <a:lnTo>
                  <a:pt x="52928" y="0"/>
                </a:lnTo>
                <a:lnTo>
                  <a:pt x="52928" y="21600"/>
                </a:lnTo>
                <a:lnTo>
                  <a:pt x="0" y="21600"/>
                </a:lnTo>
                <a:close/>
              </a:path>
              <a:path fill="lightenLess" w="52928" h="21600">
                <a:moveTo>
                  <a:pt x="0" y="0"/>
                </a:moveTo>
                <a:lnTo>
                  <a:pt x="52928" y="0"/>
                </a:lnTo>
                <a:lnTo>
                  <a:pt x="51528" y="1400"/>
                </a:lnTo>
                <a:lnTo>
                  <a:pt x="1400" y="1400"/>
                </a:lnTo>
                <a:close/>
              </a:path>
              <a:path fill="darken" w="52928" h="21600">
                <a:moveTo>
                  <a:pt x="52928" y="0"/>
                </a:moveTo>
                <a:lnTo>
                  <a:pt x="52928" y="21600"/>
                </a:lnTo>
                <a:lnTo>
                  <a:pt x="51528" y="20200"/>
                </a:lnTo>
                <a:lnTo>
                  <a:pt x="51528" y="1400"/>
                </a:lnTo>
                <a:close/>
              </a:path>
              <a:path fill="darkenLess" w="52928" h="21600">
                <a:moveTo>
                  <a:pt x="529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1528" y="20200"/>
                </a:lnTo>
                <a:close/>
              </a:path>
              <a:path fill="lighten" w="529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2928" h="21600">
                <a:moveTo>
                  <a:pt x="29963" y="10800"/>
                </a:moveTo>
                <a:lnTo>
                  <a:pt x="19458" y="17806"/>
                </a:lnTo>
                <a:lnTo>
                  <a:pt x="19458" y="3794"/>
                </a:lnTo>
                <a:close/>
              </a:path>
              <a:path fill="darken" w="52928" h="21600">
                <a:moveTo>
                  <a:pt x="31808" y="3794"/>
                </a:moveTo>
                <a:lnTo>
                  <a:pt x="31808" y="17806"/>
                </a:lnTo>
                <a:lnTo>
                  <a:pt x="33471" y="17806"/>
                </a:lnTo>
                <a:lnTo>
                  <a:pt x="33471" y="3794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655720" y="4100400"/>
            <a:ext cx="382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a cura dell’Ufficio IR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2405160" y="5386320"/>
            <a:ext cx="4330440" cy="48996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000000"/>
                </a:solidFill>
                <a:latin typeface="Times New Roman"/>
              </a:rPr>
              <a:t>www.qualitascuola.it 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2320920" y="4630680"/>
            <a:ext cx="4605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3333cc"/>
                </a:solidFill>
                <a:latin typeface="Times New Roman"/>
              </a:rPr>
              <a:t>qualitapolona@itb.i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1049400" y="2354400"/>
            <a:ext cx="7045200" cy="11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1238400" y="646200"/>
            <a:ext cx="6603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Arial Black"/>
              </a:rPr>
              <a:t>UFFICIO SCOLASTICO REGIONA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Arial Black"/>
              </a:rPr>
              <a:t>PER LA CAMPA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DACFB-E25A-4A1D-9613-4358A2B2CB4E}" type="slidenum">
              <a:t>33</a:t>
            </a:fld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>
            <a:hlinkClick r:id="" action="ppaction://hlinkshowjump?jump=nextslide"/>
          </p:cNvPr>
          <p:cNvSpPr/>
          <p:nvPr/>
        </p:nvSpPr>
        <p:spPr>
          <a:xfrm>
            <a:off x="7315200" y="6572160"/>
            <a:ext cx="812880" cy="228600"/>
          </a:xfrm>
          <a:custGeom>
            <a:avLst/>
            <a:gdLst>
              <a:gd name="textAreaLeft" fmla="*/ 14760 w 812880"/>
              <a:gd name="textAreaRight" fmla="*/ 798120 w 81288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76721" h="21600">
                <a:moveTo>
                  <a:pt x="0" y="0"/>
                </a:moveTo>
                <a:lnTo>
                  <a:pt x="76721" y="0"/>
                </a:lnTo>
                <a:lnTo>
                  <a:pt x="76721" y="21600"/>
                </a:lnTo>
                <a:lnTo>
                  <a:pt x="0" y="21600"/>
                </a:lnTo>
                <a:close/>
              </a:path>
              <a:path fill="lightenLess" w="76721" h="21600">
                <a:moveTo>
                  <a:pt x="0" y="0"/>
                </a:moveTo>
                <a:lnTo>
                  <a:pt x="76721" y="0"/>
                </a:lnTo>
                <a:lnTo>
                  <a:pt x="75321" y="1400"/>
                </a:lnTo>
                <a:lnTo>
                  <a:pt x="1400" y="1400"/>
                </a:lnTo>
                <a:close/>
              </a:path>
              <a:path fill="darken" w="76721" h="21600">
                <a:moveTo>
                  <a:pt x="76721" y="0"/>
                </a:moveTo>
                <a:lnTo>
                  <a:pt x="76721" y="21600"/>
                </a:lnTo>
                <a:lnTo>
                  <a:pt x="75321" y="20200"/>
                </a:lnTo>
                <a:lnTo>
                  <a:pt x="75321" y="1400"/>
                </a:lnTo>
                <a:close/>
              </a:path>
              <a:path fill="darkenLess" w="76721" h="21600">
                <a:moveTo>
                  <a:pt x="767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5321" y="20200"/>
                </a:lnTo>
                <a:close/>
              </a:path>
              <a:path fill="lighten" w="767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6721" h="21600">
                <a:moveTo>
                  <a:pt x="31354" y="3794"/>
                </a:moveTo>
                <a:lnTo>
                  <a:pt x="45367" y="10800"/>
                </a:lnTo>
                <a:lnTo>
                  <a:pt x="3135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>
            <a:hlinkClick r:id="" action="ppaction://hlinkshowjump?jump=previousslide"/>
          </p:cNvPr>
          <p:cNvSpPr/>
          <p:nvPr/>
        </p:nvSpPr>
        <p:spPr>
          <a:xfrm>
            <a:off x="6502320" y="6572160"/>
            <a:ext cx="812880" cy="228600"/>
          </a:xfrm>
          <a:custGeom>
            <a:avLst/>
            <a:gdLst>
              <a:gd name="textAreaLeft" fmla="*/ 14760 w 812880"/>
              <a:gd name="textAreaRight" fmla="*/ 798120 w 81288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76721" h="21600">
                <a:moveTo>
                  <a:pt x="0" y="0"/>
                </a:moveTo>
                <a:lnTo>
                  <a:pt x="76721" y="0"/>
                </a:lnTo>
                <a:lnTo>
                  <a:pt x="76721" y="21600"/>
                </a:lnTo>
                <a:lnTo>
                  <a:pt x="0" y="21600"/>
                </a:lnTo>
                <a:close/>
              </a:path>
              <a:path fill="lightenLess" w="76721" h="21600">
                <a:moveTo>
                  <a:pt x="0" y="0"/>
                </a:moveTo>
                <a:lnTo>
                  <a:pt x="76721" y="0"/>
                </a:lnTo>
                <a:lnTo>
                  <a:pt x="75321" y="1400"/>
                </a:lnTo>
                <a:lnTo>
                  <a:pt x="1400" y="1400"/>
                </a:lnTo>
                <a:close/>
              </a:path>
              <a:path fill="darken" w="76721" h="21600">
                <a:moveTo>
                  <a:pt x="76721" y="0"/>
                </a:moveTo>
                <a:lnTo>
                  <a:pt x="76721" y="21600"/>
                </a:lnTo>
                <a:lnTo>
                  <a:pt x="75321" y="20200"/>
                </a:lnTo>
                <a:lnTo>
                  <a:pt x="75321" y="1400"/>
                </a:lnTo>
                <a:close/>
              </a:path>
              <a:path fill="darkenLess" w="76721" h="21600">
                <a:moveTo>
                  <a:pt x="767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5321" y="20200"/>
                </a:lnTo>
                <a:close/>
              </a:path>
              <a:path fill="lighten" w="767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6721" h="21600">
                <a:moveTo>
                  <a:pt x="31354" y="10800"/>
                </a:moveTo>
                <a:lnTo>
                  <a:pt x="45367" y="3794"/>
                </a:lnTo>
                <a:lnTo>
                  <a:pt x="45367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>
            <a:hlinkClick r:id="rId2" action="ppaction://hlinksldjump"/>
          </p:cNvPr>
          <p:cNvSpPr/>
          <p:nvPr/>
        </p:nvSpPr>
        <p:spPr>
          <a:xfrm>
            <a:off x="3860640" y="6559560"/>
            <a:ext cx="1422720" cy="241200"/>
          </a:xfrm>
          <a:custGeom>
            <a:avLst/>
            <a:gdLst>
              <a:gd name="textAreaLeft" fmla="*/ 15480 w 1422720"/>
              <a:gd name="textAreaRight" fmla="*/ 1407240 w 1422720"/>
              <a:gd name="textAreaTop" fmla="*/ 15480 h 241200"/>
              <a:gd name="textAreaBottom" fmla="*/ 225720 h 241200"/>
            </a:gdLst>
            <a:ahLst/>
            <a:rect l="textAreaLeft" t="textAreaTop" r="textAreaRight" b="textAreaBottom"/>
            <a:pathLst>
              <a:path w="127250" h="21600">
                <a:moveTo>
                  <a:pt x="0" y="0"/>
                </a:moveTo>
                <a:lnTo>
                  <a:pt x="127250" y="0"/>
                </a:lnTo>
                <a:lnTo>
                  <a:pt x="127250" y="21600"/>
                </a:lnTo>
                <a:lnTo>
                  <a:pt x="0" y="21600"/>
                </a:lnTo>
                <a:close/>
              </a:path>
              <a:path fill="lightenLess" w="127250" h="21600">
                <a:moveTo>
                  <a:pt x="0" y="0"/>
                </a:moveTo>
                <a:lnTo>
                  <a:pt x="127250" y="0"/>
                </a:lnTo>
                <a:lnTo>
                  <a:pt x="125850" y="1400"/>
                </a:lnTo>
                <a:lnTo>
                  <a:pt x="1400" y="1400"/>
                </a:lnTo>
                <a:close/>
              </a:path>
              <a:path fill="darken" w="127250" h="21600">
                <a:moveTo>
                  <a:pt x="127250" y="0"/>
                </a:moveTo>
                <a:lnTo>
                  <a:pt x="127250" y="21600"/>
                </a:lnTo>
                <a:lnTo>
                  <a:pt x="125850" y="20200"/>
                </a:lnTo>
                <a:lnTo>
                  <a:pt x="125850" y="1400"/>
                </a:lnTo>
                <a:close/>
              </a:path>
              <a:path fill="darkenLess" w="127250" h="21600">
                <a:moveTo>
                  <a:pt x="12725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5850" y="20200"/>
                </a:lnTo>
                <a:close/>
              </a:path>
              <a:path fill="lighten" w="12725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27250" h="21600">
                <a:moveTo>
                  <a:pt x="56619" y="7493"/>
                </a:moveTo>
                <a:lnTo>
                  <a:pt x="60126" y="7493"/>
                </a:lnTo>
                <a:lnTo>
                  <a:pt x="60126" y="12828"/>
                </a:lnTo>
                <a:cubicBezTo>
                  <a:pt x="60126" y="13751"/>
                  <a:pt x="60927" y="14482"/>
                  <a:pt x="61963" y="14482"/>
                </a:cubicBezTo>
                <a:lnTo>
                  <a:pt x="63625" y="14482"/>
                </a:lnTo>
                <a:cubicBezTo>
                  <a:pt x="64661" y="14482"/>
                  <a:pt x="65462" y="13751"/>
                  <a:pt x="65462" y="12828"/>
                </a:cubicBezTo>
                <a:lnTo>
                  <a:pt x="65462" y="7493"/>
                </a:lnTo>
                <a:lnTo>
                  <a:pt x="63625" y="7493"/>
                </a:lnTo>
                <a:lnTo>
                  <a:pt x="67133" y="3985"/>
                </a:lnTo>
                <a:lnTo>
                  <a:pt x="70806" y="7493"/>
                </a:lnTo>
                <a:lnTo>
                  <a:pt x="68969" y="7493"/>
                </a:lnTo>
                <a:lnTo>
                  <a:pt x="68969" y="12828"/>
                </a:lnTo>
                <a:cubicBezTo>
                  <a:pt x="68969" y="15596"/>
                  <a:pt x="66393" y="18155"/>
                  <a:pt x="63625" y="18155"/>
                </a:cubicBezTo>
                <a:lnTo>
                  <a:pt x="61963" y="18155"/>
                </a:lnTo>
                <a:cubicBezTo>
                  <a:pt x="59195" y="18155"/>
                  <a:pt x="56619" y="15596"/>
                  <a:pt x="56619" y="12828"/>
                </a:cubicBez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>
            <a:hlinkClick r:id="" action="ppaction://hlinkshowjump?jump=firstslide"/>
          </p:cNvPr>
          <p:cNvSpPr/>
          <p:nvPr/>
        </p:nvSpPr>
        <p:spPr>
          <a:xfrm>
            <a:off x="1011240" y="6559560"/>
            <a:ext cx="1631880" cy="241200"/>
          </a:xfrm>
          <a:custGeom>
            <a:avLst/>
            <a:gdLst>
              <a:gd name="textAreaLeft" fmla="*/ 15480 w 1631880"/>
              <a:gd name="textAreaRight" fmla="*/ 1616400 w 1631880"/>
              <a:gd name="textAreaTop" fmla="*/ 15480 h 241200"/>
              <a:gd name="textAreaBottom" fmla="*/ 225720 h 241200"/>
            </a:gdLst>
            <a:ahLst/>
            <a:rect l="textAreaLeft" t="textAreaTop" r="textAreaRight" b="textAreaBottom"/>
            <a:pathLst>
              <a:path w="145953" h="21600">
                <a:moveTo>
                  <a:pt x="0" y="0"/>
                </a:moveTo>
                <a:lnTo>
                  <a:pt x="145953" y="0"/>
                </a:lnTo>
                <a:lnTo>
                  <a:pt x="145953" y="21600"/>
                </a:lnTo>
                <a:lnTo>
                  <a:pt x="0" y="21600"/>
                </a:lnTo>
                <a:close/>
              </a:path>
              <a:path fill="lightenLess" w="145953" h="21600">
                <a:moveTo>
                  <a:pt x="0" y="0"/>
                </a:moveTo>
                <a:lnTo>
                  <a:pt x="145953" y="0"/>
                </a:lnTo>
                <a:lnTo>
                  <a:pt x="144553" y="1400"/>
                </a:lnTo>
                <a:lnTo>
                  <a:pt x="1400" y="1400"/>
                </a:lnTo>
                <a:close/>
              </a:path>
              <a:path fill="darken" w="145953" h="21600">
                <a:moveTo>
                  <a:pt x="145953" y="0"/>
                </a:moveTo>
                <a:lnTo>
                  <a:pt x="145953" y="21600"/>
                </a:lnTo>
                <a:lnTo>
                  <a:pt x="144553" y="20200"/>
                </a:lnTo>
                <a:lnTo>
                  <a:pt x="144553" y="1400"/>
                </a:lnTo>
                <a:close/>
              </a:path>
              <a:path fill="darkenLess" w="145953" h="21600">
                <a:moveTo>
                  <a:pt x="1459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44553" y="20200"/>
                </a:lnTo>
                <a:close/>
              </a:path>
              <a:path fill="lighten" w="1459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45953" h="21600">
                <a:moveTo>
                  <a:pt x="72976" y="3837"/>
                </a:moveTo>
                <a:lnTo>
                  <a:pt x="75553" y="6448"/>
                </a:lnTo>
                <a:lnTo>
                  <a:pt x="75553" y="4707"/>
                </a:lnTo>
                <a:lnTo>
                  <a:pt x="77328" y="4707"/>
                </a:lnTo>
                <a:lnTo>
                  <a:pt x="77328" y="8224"/>
                </a:lnTo>
                <a:lnTo>
                  <a:pt x="79939" y="10800"/>
                </a:lnTo>
                <a:lnTo>
                  <a:pt x="78286" y="10800"/>
                </a:lnTo>
                <a:lnTo>
                  <a:pt x="78286" y="17989"/>
                </a:lnTo>
                <a:lnTo>
                  <a:pt x="67667" y="17989"/>
                </a:lnTo>
                <a:lnTo>
                  <a:pt x="67667" y="10800"/>
                </a:lnTo>
                <a:lnTo>
                  <a:pt x="66013" y="10800"/>
                </a:lnTo>
                <a:close/>
              </a:path>
              <a:path fill="darkenLess" w="145953" h="21600">
                <a:moveTo>
                  <a:pt x="75553" y="6448"/>
                </a:moveTo>
                <a:lnTo>
                  <a:pt x="75553" y="4707"/>
                </a:lnTo>
                <a:lnTo>
                  <a:pt x="77328" y="4707"/>
                </a:lnTo>
                <a:lnTo>
                  <a:pt x="77328" y="8224"/>
                </a:lnTo>
                <a:close/>
              </a:path>
              <a:path fill="darkenLess" w="145953" h="21600">
                <a:moveTo>
                  <a:pt x="72054" y="14299"/>
                </a:moveTo>
                <a:lnTo>
                  <a:pt x="73899" y="14299"/>
                </a:lnTo>
                <a:lnTo>
                  <a:pt x="73899" y="17989"/>
                </a:lnTo>
                <a:lnTo>
                  <a:pt x="78286" y="17989"/>
                </a:lnTo>
                <a:lnTo>
                  <a:pt x="78286" y="10800"/>
                </a:lnTo>
                <a:lnTo>
                  <a:pt x="67667" y="10800"/>
                </a:lnTo>
                <a:lnTo>
                  <a:pt x="67667" y="17989"/>
                </a:lnTo>
                <a:lnTo>
                  <a:pt x="72054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72960" y="3508200"/>
            <a:ext cx="8382240" cy="2752920"/>
          </a:xfrm>
          <a:prstGeom prst="rect">
            <a:avLst/>
          </a:prstGeom>
          <a:gradFill rotWithShape="0">
            <a:gsLst>
              <a:gs pos="0">
                <a:srgbClr val="66ccff"/>
              </a:gs>
              <a:gs pos="100000">
                <a:srgbClr val="00cc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87680" y="457200"/>
            <a:ext cx="57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IREZIONE GENER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72880" y="1622520"/>
            <a:ext cx="8583840" cy="113328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00cc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RETTORE  GENERA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Anna  Maria  Domini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941480" y="3540240"/>
            <a:ext cx="524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1. Ufficio di Segreteria Particolare del Direttore Gener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8800" y="4738680"/>
            <a:ext cx="8369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3. Ufficio Progetto U.S.R., Coordinamento OO.CC., Rapporti con I.R.R.E., I.N.D.I.R.E., I.N.V.A.S.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976320" y="4238640"/>
            <a:ext cx="720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2. Ufficio di Segreteria della Direzione Gener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092240" y="5511960"/>
            <a:ext cx="696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4. Ufficio per la Comunicazione ed i Rapporti con il Sistema Informativo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255680" y="779400"/>
            <a:ext cx="660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Via S. Giovanni in Corte n. 7 - Nap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00320" y="1122480"/>
            <a:ext cx="3270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3300"/>
                </a:solidFill>
                <a:latin typeface="Times New Roman"/>
              </a:rPr>
              <a:t>www.provveditorato.na.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570560" y="1125360"/>
            <a:ext cx="3333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3300"/>
                </a:solidFill>
                <a:latin typeface="Times New Roman"/>
              </a:rPr>
              <a:t>istruzionecampania.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790640" y="2903400"/>
            <a:ext cx="5535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Uffici di staff non dirigenziale alla diretta dipendenza  del Direttore Genera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764FF-E129-460D-9BE6-B38DCF3C8B2B}" type="slidenum">
              <a:t>4</a:t>
            </a:fld>
          </a:p>
        </p:txBody>
      </p:sp>
    </p:spTree>
  </p:cSld>
  <p:transition>
    <p:split dir="out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1015920" y="399960"/>
            <a:ext cx="7112160" cy="1600200"/>
          </a:xfrm>
          <a:prstGeom prst="horizontalScroll">
            <a:avLst>
              <a:gd name="adj" fmla="val 0"/>
            </a:avLst>
          </a:prstGeom>
          <a:gradFill rotWithShape="0">
            <a:gsLst>
              <a:gs pos="0">
                <a:srgbClr val="0099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miter/>
          </a:ln>
          <a:effectLst>
            <a:outerShdw dist="107932" dir="135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015920" y="2286000"/>
            <a:ext cx="6604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A - Area di pianificazione, programmazione e integrazione delle politiche formative.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015920" y="2914560"/>
            <a:ext cx="650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B - Area di supporto e sviluppo delle Istituzioni Scolastiche autonom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015920" y="3429000"/>
            <a:ext cx="5994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C - Organizzazione e politiche di gestione delle risorse umane della scuola.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015920" y="4000680"/>
            <a:ext cx="680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D - Area amministrativa e gestione delle risorse finanziarie.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015920" y="4572000"/>
            <a:ext cx="680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E - Area gestione delle risorse e dei servizi  della Direzione Generale.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015920" y="5143680"/>
            <a:ext cx="5283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F - Ufficio trasversale di livello dirigenziale non generale.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15920" y="5772240"/>
            <a:ext cx="5689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G - Uffici di staff non dirigenziale alla diretta dipendenza  del Direttore Generale.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>
            <a:hlinkClick r:id="rId2"/>
          </p:cNvPr>
          <p:cNvSpPr/>
          <p:nvPr/>
        </p:nvSpPr>
        <p:spPr>
          <a:xfrm>
            <a:off x="7746840" y="2228760"/>
            <a:ext cx="609840" cy="343080"/>
          </a:xfrm>
          <a:custGeom>
            <a:avLst/>
            <a:gdLst>
              <a:gd name="textAreaLeft" fmla="*/ 21960 w 609840"/>
              <a:gd name="textAreaRight" fmla="*/ 587880 w 609840"/>
              <a:gd name="textAreaTop" fmla="*/ 21960 h 343080"/>
              <a:gd name="textAreaBottom" fmla="*/ 321120 h 343080"/>
            </a:gdLst>
            <a:ahLst/>
            <a:rect l="textAreaLeft" t="textAreaTop" r="textAreaRight" b="textAreaBottom"/>
            <a:pathLst>
              <a:path w="38377" h="21600">
                <a:moveTo>
                  <a:pt x="0" y="0"/>
                </a:moveTo>
                <a:lnTo>
                  <a:pt x="38377" y="0"/>
                </a:lnTo>
                <a:lnTo>
                  <a:pt x="38377" y="21600"/>
                </a:lnTo>
                <a:lnTo>
                  <a:pt x="0" y="21600"/>
                </a:lnTo>
                <a:close/>
              </a:path>
              <a:path fill="lightenLess" w="38377" h="21600">
                <a:moveTo>
                  <a:pt x="0" y="0"/>
                </a:moveTo>
                <a:lnTo>
                  <a:pt x="38377" y="0"/>
                </a:lnTo>
                <a:lnTo>
                  <a:pt x="36977" y="1400"/>
                </a:lnTo>
                <a:lnTo>
                  <a:pt x="1400" y="1400"/>
                </a:lnTo>
                <a:close/>
              </a:path>
              <a:path fill="darken" w="38377" h="21600">
                <a:moveTo>
                  <a:pt x="38377" y="0"/>
                </a:moveTo>
                <a:lnTo>
                  <a:pt x="38377" y="21600"/>
                </a:lnTo>
                <a:lnTo>
                  <a:pt x="36977" y="20200"/>
                </a:lnTo>
                <a:lnTo>
                  <a:pt x="36977" y="1400"/>
                </a:lnTo>
                <a:close/>
              </a:path>
              <a:path fill="darkenLess" w="38377" h="21600">
                <a:moveTo>
                  <a:pt x="383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977" y="20200"/>
                </a:lnTo>
                <a:close/>
              </a:path>
              <a:path fill="lighten" w="383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38377" h="21600">
                <a:moveTo>
                  <a:pt x="13662" y="3985"/>
                </a:moveTo>
                <a:lnTo>
                  <a:pt x="20660" y="3985"/>
                </a:lnTo>
                <a:lnTo>
                  <a:pt x="24716" y="7484"/>
                </a:lnTo>
                <a:lnTo>
                  <a:pt x="24716" y="17615"/>
                </a:lnTo>
                <a:lnTo>
                  <a:pt x="13662" y="17615"/>
                </a:lnTo>
                <a:close/>
              </a:path>
              <a:path fill="darken" w="38377" h="21600">
                <a:moveTo>
                  <a:pt x="20660" y="3985"/>
                </a:moveTo>
                <a:lnTo>
                  <a:pt x="24716" y="7484"/>
                </a:lnTo>
                <a:lnTo>
                  <a:pt x="20660" y="7484"/>
                </a:lnTo>
                <a:close/>
              </a:path>
            </a:pathLst>
          </a:cu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>
            <a:hlinkClick r:id="rId3"/>
          </p:cNvPr>
          <p:cNvSpPr/>
          <p:nvPr/>
        </p:nvSpPr>
        <p:spPr>
          <a:xfrm>
            <a:off x="7746840" y="2914560"/>
            <a:ext cx="609840" cy="343080"/>
          </a:xfrm>
          <a:custGeom>
            <a:avLst/>
            <a:gdLst>
              <a:gd name="textAreaLeft" fmla="*/ 21960 w 609840"/>
              <a:gd name="textAreaRight" fmla="*/ 587880 w 609840"/>
              <a:gd name="textAreaTop" fmla="*/ 21960 h 343080"/>
              <a:gd name="textAreaBottom" fmla="*/ 321120 h 343080"/>
            </a:gdLst>
            <a:ahLst/>
            <a:rect l="textAreaLeft" t="textAreaTop" r="textAreaRight" b="textAreaBottom"/>
            <a:pathLst>
              <a:path w="38377" h="21600">
                <a:moveTo>
                  <a:pt x="0" y="0"/>
                </a:moveTo>
                <a:lnTo>
                  <a:pt x="38377" y="0"/>
                </a:lnTo>
                <a:lnTo>
                  <a:pt x="38377" y="21600"/>
                </a:lnTo>
                <a:lnTo>
                  <a:pt x="0" y="21600"/>
                </a:lnTo>
                <a:close/>
              </a:path>
              <a:path fill="lightenLess" w="38377" h="21600">
                <a:moveTo>
                  <a:pt x="0" y="0"/>
                </a:moveTo>
                <a:lnTo>
                  <a:pt x="38377" y="0"/>
                </a:lnTo>
                <a:lnTo>
                  <a:pt x="36977" y="1400"/>
                </a:lnTo>
                <a:lnTo>
                  <a:pt x="1400" y="1400"/>
                </a:lnTo>
                <a:close/>
              </a:path>
              <a:path fill="darken" w="38377" h="21600">
                <a:moveTo>
                  <a:pt x="38377" y="0"/>
                </a:moveTo>
                <a:lnTo>
                  <a:pt x="38377" y="21600"/>
                </a:lnTo>
                <a:lnTo>
                  <a:pt x="36977" y="20200"/>
                </a:lnTo>
                <a:lnTo>
                  <a:pt x="36977" y="1400"/>
                </a:lnTo>
                <a:close/>
              </a:path>
              <a:path fill="darkenLess" w="38377" h="21600">
                <a:moveTo>
                  <a:pt x="383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977" y="20200"/>
                </a:lnTo>
                <a:close/>
              </a:path>
              <a:path fill="lighten" w="383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38377" h="21600">
                <a:moveTo>
                  <a:pt x="13662" y="3985"/>
                </a:moveTo>
                <a:lnTo>
                  <a:pt x="20660" y="3985"/>
                </a:lnTo>
                <a:lnTo>
                  <a:pt x="24716" y="7484"/>
                </a:lnTo>
                <a:lnTo>
                  <a:pt x="24716" y="17615"/>
                </a:lnTo>
                <a:lnTo>
                  <a:pt x="13662" y="17615"/>
                </a:lnTo>
                <a:close/>
              </a:path>
              <a:path fill="darken" w="38377" h="21600">
                <a:moveTo>
                  <a:pt x="20660" y="3985"/>
                </a:moveTo>
                <a:lnTo>
                  <a:pt x="24716" y="7484"/>
                </a:lnTo>
                <a:lnTo>
                  <a:pt x="20660" y="7484"/>
                </a:lnTo>
                <a:close/>
              </a:path>
            </a:pathLst>
          </a:cu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>
            <a:hlinkClick r:id="rId4"/>
          </p:cNvPr>
          <p:cNvSpPr/>
          <p:nvPr/>
        </p:nvSpPr>
        <p:spPr>
          <a:xfrm>
            <a:off x="7746840" y="3429000"/>
            <a:ext cx="609840" cy="343080"/>
          </a:xfrm>
          <a:custGeom>
            <a:avLst/>
            <a:gdLst>
              <a:gd name="textAreaLeft" fmla="*/ 21960 w 609840"/>
              <a:gd name="textAreaRight" fmla="*/ 587880 w 609840"/>
              <a:gd name="textAreaTop" fmla="*/ 21960 h 343080"/>
              <a:gd name="textAreaBottom" fmla="*/ 321120 h 343080"/>
            </a:gdLst>
            <a:ahLst/>
            <a:rect l="textAreaLeft" t="textAreaTop" r="textAreaRight" b="textAreaBottom"/>
            <a:pathLst>
              <a:path w="38377" h="21600">
                <a:moveTo>
                  <a:pt x="0" y="0"/>
                </a:moveTo>
                <a:lnTo>
                  <a:pt x="38377" y="0"/>
                </a:lnTo>
                <a:lnTo>
                  <a:pt x="38377" y="21600"/>
                </a:lnTo>
                <a:lnTo>
                  <a:pt x="0" y="21600"/>
                </a:lnTo>
                <a:close/>
              </a:path>
              <a:path fill="lightenLess" w="38377" h="21600">
                <a:moveTo>
                  <a:pt x="0" y="0"/>
                </a:moveTo>
                <a:lnTo>
                  <a:pt x="38377" y="0"/>
                </a:lnTo>
                <a:lnTo>
                  <a:pt x="36977" y="1400"/>
                </a:lnTo>
                <a:lnTo>
                  <a:pt x="1400" y="1400"/>
                </a:lnTo>
                <a:close/>
              </a:path>
              <a:path fill="darken" w="38377" h="21600">
                <a:moveTo>
                  <a:pt x="38377" y="0"/>
                </a:moveTo>
                <a:lnTo>
                  <a:pt x="38377" y="21600"/>
                </a:lnTo>
                <a:lnTo>
                  <a:pt x="36977" y="20200"/>
                </a:lnTo>
                <a:lnTo>
                  <a:pt x="36977" y="1400"/>
                </a:lnTo>
                <a:close/>
              </a:path>
              <a:path fill="darkenLess" w="38377" h="21600">
                <a:moveTo>
                  <a:pt x="383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977" y="20200"/>
                </a:lnTo>
                <a:close/>
              </a:path>
              <a:path fill="lighten" w="383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38377" h="21600">
                <a:moveTo>
                  <a:pt x="13662" y="3985"/>
                </a:moveTo>
                <a:lnTo>
                  <a:pt x="20660" y="3985"/>
                </a:lnTo>
                <a:lnTo>
                  <a:pt x="24716" y="7484"/>
                </a:lnTo>
                <a:lnTo>
                  <a:pt x="24716" y="17615"/>
                </a:lnTo>
                <a:lnTo>
                  <a:pt x="13662" y="17615"/>
                </a:lnTo>
                <a:close/>
              </a:path>
              <a:path fill="darken" w="38377" h="21600">
                <a:moveTo>
                  <a:pt x="20660" y="3985"/>
                </a:moveTo>
                <a:lnTo>
                  <a:pt x="24716" y="7484"/>
                </a:lnTo>
                <a:lnTo>
                  <a:pt x="20660" y="7484"/>
                </a:lnTo>
                <a:close/>
              </a:path>
            </a:pathLst>
          </a:cu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>
            <a:hlinkClick r:id="rId5"/>
          </p:cNvPr>
          <p:cNvSpPr/>
          <p:nvPr/>
        </p:nvSpPr>
        <p:spPr>
          <a:xfrm>
            <a:off x="7746840" y="4000680"/>
            <a:ext cx="609840" cy="342720"/>
          </a:xfrm>
          <a:custGeom>
            <a:avLst/>
            <a:gdLst>
              <a:gd name="textAreaLeft" fmla="*/ 21960 w 609840"/>
              <a:gd name="textAreaRight" fmla="*/ 587880 w 609840"/>
              <a:gd name="textAreaTop" fmla="*/ 21960 h 342720"/>
              <a:gd name="textAreaBottom" fmla="*/ 320760 h 342720"/>
            </a:gdLst>
            <a:ahLst/>
            <a:rect l="textAreaLeft" t="textAreaTop" r="textAreaRight" b="textAreaBottom"/>
            <a:pathLst>
              <a:path w="38418" h="21600">
                <a:moveTo>
                  <a:pt x="0" y="0"/>
                </a:moveTo>
                <a:lnTo>
                  <a:pt x="38418" y="0"/>
                </a:lnTo>
                <a:lnTo>
                  <a:pt x="38418" y="21600"/>
                </a:lnTo>
                <a:lnTo>
                  <a:pt x="0" y="21600"/>
                </a:lnTo>
                <a:close/>
              </a:path>
              <a:path fill="lightenLess" w="38418" h="21600">
                <a:moveTo>
                  <a:pt x="0" y="0"/>
                </a:moveTo>
                <a:lnTo>
                  <a:pt x="38418" y="0"/>
                </a:lnTo>
                <a:lnTo>
                  <a:pt x="37018" y="1400"/>
                </a:lnTo>
                <a:lnTo>
                  <a:pt x="1400" y="1400"/>
                </a:lnTo>
                <a:close/>
              </a:path>
              <a:path fill="darken" w="38418" h="21600">
                <a:moveTo>
                  <a:pt x="38418" y="0"/>
                </a:moveTo>
                <a:lnTo>
                  <a:pt x="38418" y="21600"/>
                </a:lnTo>
                <a:lnTo>
                  <a:pt x="37018" y="20200"/>
                </a:lnTo>
                <a:lnTo>
                  <a:pt x="37018" y="1400"/>
                </a:lnTo>
                <a:close/>
              </a:path>
              <a:path fill="darkenLess" w="38418" h="21600">
                <a:moveTo>
                  <a:pt x="384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018" y="20200"/>
                </a:lnTo>
                <a:close/>
              </a:path>
              <a:path fill="lighten" w="384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38418" h="21600">
                <a:moveTo>
                  <a:pt x="13682" y="3985"/>
                </a:moveTo>
                <a:lnTo>
                  <a:pt x="20680" y="3985"/>
                </a:lnTo>
                <a:lnTo>
                  <a:pt x="24736" y="7484"/>
                </a:lnTo>
                <a:lnTo>
                  <a:pt x="24736" y="17615"/>
                </a:lnTo>
                <a:lnTo>
                  <a:pt x="13682" y="17615"/>
                </a:lnTo>
                <a:close/>
              </a:path>
              <a:path fill="darken" w="38418" h="21600">
                <a:moveTo>
                  <a:pt x="20680" y="3985"/>
                </a:moveTo>
                <a:lnTo>
                  <a:pt x="24736" y="7484"/>
                </a:lnTo>
                <a:lnTo>
                  <a:pt x="20680" y="7484"/>
                </a:lnTo>
                <a:close/>
              </a:path>
            </a:pathLst>
          </a:cu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>
            <a:hlinkClick r:id="rId6"/>
          </p:cNvPr>
          <p:cNvSpPr/>
          <p:nvPr/>
        </p:nvSpPr>
        <p:spPr>
          <a:xfrm>
            <a:off x="7746840" y="4572000"/>
            <a:ext cx="609840" cy="343080"/>
          </a:xfrm>
          <a:custGeom>
            <a:avLst/>
            <a:gdLst>
              <a:gd name="textAreaLeft" fmla="*/ 21960 w 609840"/>
              <a:gd name="textAreaRight" fmla="*/ 587880 w 609840"/>
              <a:gd name="textAreaTop" fmla="*/ 21960 h 343080"/>
              <a:gd name="textAreaBottom" fmla="*/ 321120 h 343080"/>
            </a:gdLst>
            <a:ahLst/>
            <a:rect l="textAreaLeft" t="textAreaTop" r="textAreaRight" b="textAreaBottom"/>
            <a:pathLst>
              <a:path w="38377" h="21600">
                <a:moveTo>
                  <a:pt x="0" y="0"/>
                </a:moveTo>
                <a:lnTo>
                  <a:pt x="38377" y="0"/>
                </a:lnTo>
                <a:lnTo>
                  <a:pt x="38377" y="21600"/>
                </a:lnTo>
                <a:lnTo>
                  <a:pt x="0" y="21600"/>
                </a:lnTo>
                <a:close/>
              </a:path>
              <a:path fill="lightenLess" w="38377" h="21600">
                <a:moveTo>
                  <a:pt x="0" y="0"/>
                </a:moveTo>
                <a:lnTo>
                  <a:pt x="38377" y="0"/>
                </a:lnTo>
                <a:lnTo>
                  <a:pt x="36977" y="1400"/>
                </a:lnTo>
                <a:lnTo>
                  <a:pt x="1400" y="1400"/>
                </a:lnTo>
                <a:close/>
              </a:path>
              <a:path fill="darken" w="38377" h="21600">
                <a:moveTo>
                  <a:pt x="38377" y="0"/>
                </a:moveTo>
                <a:lnTo>
                  <a:pt x="38377" y="21600"/>
                </a:lnTo>
                <a:lnTo>
                  <a:pt x="36977" y="20200"/>
                </a:lnTo>
                <a:lnTo>
                  <a:pt x="36977" y="1400"/>
                </a:lnTo>
                <a:close/>
              </a:path>
              <a:path fill="darkenLess" w="38377" h="21600">
                <a:moveTo>
                  <a:pt x="383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977" y="20200"/>
                </a:lnTo>
                <a:close/>
              </a:path>
              <a:path fill="lighten" w="383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38377" h="21600">
                <a:moveTo>
                  <a:pt x="13662" y="3985"/>
                </a:moveTo>
                <a:lnTo>
                  <a:pt x="20660" y="3985"/>
                </a:lnTo>
                <a:lnTo>
                  <a:pt x="24716" y="7484"/>
                </a:lnTo>
                <a:lnTo>
                  <a:pt x="24716" y="17615"/>
                </a:lnTo>
                <a:lnTo>
                  <a:pt x="13662" y="17615"/>
                </a:lnTo>
                <a:close/>
              </a:path>
              <a:path fill="darken" w="38377" h="21600">
                <a:moveTo>
                  <a:pt x="20660" y="3985"/>
                </a:moveTo>
                <a:lnTo>
                  <a:pt x="24716" y="7484"/>
                </a:lnTo>
                <a:lnTo>
                  <a:pt x="20660" y="7484"/>
                </a:lnTo>
                <a:close/>
              </a:path>
            </a:pathLst>
          </a:cu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>
            <a:hlinkClick r:id="rId7"/>
          </p:cNvPr>
          <p:cNvSpPr/>
          <p:nvPr/>
        </p:nvSpPr>
        <p:spPr>
          <a:xfrm>
            <a:off x="7746840" y="5143680"/>
            <a:ext cx="609840" cy="342720"/>
          </a:xfrm>
          <a:custGeom>
            <a:avLst/>
            <a:gdLst>
              <a:gd name="textAreaLeft" fmla="*/ 21960 w 609840"/>
              <a:gd name="textAreaRight" fmla="*/ 587880 w 609840"/>
              <a:gd name="textAreaTop" fmla="*/ 21960 h 342720"/>
              <a:gd name="textAreaBottom" fmla="*/ 320760 h 342720"/>
            </a:gdLst>
            <a:ahLst/>
            <a:rect l="textAreaLeft" t="textAreaTop" r="textAreaRight" b="textAreaBottom"/>
            <a:pathLst>
              <a:path w="38418" h="21600">
                <a:moveTo>
                  <a:pt x="0" y="0"/>
                </a:moveTo>
                <a:lnTo>
                  <a:pt x="38418" y="0"/>
                </a:lnTo>
                <a:lnTo>
                  <a:pt x="38418" y="21600"/>
                </a:lnTo>
                <a:lnTo>
                  <a:pt x="0" y="21600"/>
                </a:lnTo>
                <a:close/>
              </a:path>
              <a:path fill="lightenLess" w="38418" h="21600">
                <a:moveTo>
                  <a:pt x="0" y="0"/>
                </a:moveTo>
                <a:lnTo>
                  <a:pt x="38418" y="0"/>
                </a:lnTo>
                <a:lnTo>
                  <a:pt x="37018" y="1400"/>
                </a:lnTo>
                <a:lnTo>
                  <a:pt x="1400" y="1400"/>
                </a:lnTo>
                <a:close/>
              </a:path>
              <a:path fill="darken" w="38418" h="21600">
                <a:moveTo>
                  <a:pt x="38418" y="0"/>
                </a:moveTo>
                <a:lnTo>
                  <a:pt x="38418" y="21600"/>
                </a:lnTo>
                <a:lnTo>
                  <a:pt x="37018" y="20200"/>
                </a:lnTo>
                <a:lnTo>
                  <a:pt x="37018" y="1400"/>
                </a:lnTo>
                <a:close/>
              </a:path>
              <a:path fill="darkenLess" w="38418" h="21600">
                <a:moveTo>
                  <a:pt x="384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018" y="20200"/>
                </a:lnTo>
                <a:close/>
              </a:path>
              <a:path fill="lighten" w="384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38418" h="21600">
                <a:moveTo>
                  <a:pt x="13682" y="3985"/>
                </a:moveTo>
                <a:lnTo>
                  <a:pt x="20680" y="3985"/>
                </a:lnTo>
                <a:lnTo>
                  <a:pt x="24736" y="7484"/>
                </a:lnTo>
                <a:lnTo>
                  <a:pt x="24736" y="17615"/>
                </a:lnTo>
                <a:lnTo>
                  <a:pt x="13682" y="17615"/>
                </a:lnTo>
                <a:close/>
              </a:path>
              <a:path fill="darken" w="38418" h="21600">
                <a:moveTo>
                  <a:pt x="20680" y="3985"/>
                </a:moveTo>
                <a:lnTo>
                  <a:pt x="24736" y="7484"/>
                </a:lnTo>
                <a:lnTo>
                  <a:pt x="20680" y="7484"/>
                </a:lnTo>
                <a:close/>
              </a:path>
            </a:pathLst>
          </a:cu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>
            <a:hlinkClick r:id="rId8"/>
          </p:cNvPr>
          <p:cNvSpPr/>
          <p:nvPr/>
        </p:nvSpPr>
        <p:spPr>
          <a:xfrm>
            <a:off x="7746840" y="5772240"/>
            <a:ext cx="609840" cy="342720"/>
          </a:xfrm>
          <a:custGeom>
            <a:avLst/>
            <a:gdLst>
              <a:gd name="textAreaLeft" fmla="*/ 21960 w 609840"/>
              <a:gd name="textAreaRight" fmla="*/ 587880 w 609840"/>
              <a:gd name="textAreaTop" fmla="*/ 21960 h 342720"/>
              <a:gd name="textAreaBottom" fmla="*/ 320760 h 342720"/>
            </a:gdLst>
            <a:ahLst/>
            <a:rect l="textAreaLeft" t="textAreaTop" r="textAreaRight" b="textAreaBottom"/>
            <a:pathLst>
              <a:path w="38418" h="21600">
                <a:moveTo>
                  <a:pt x="0" y="0"/>
                </a:moveTo>
                <a:lnTo>
                  <a:pt x="38418" y="0"/>
                </a:lnTo>
                <a:lnTo>
                  <a:pt x="38418" y="21600"/>
                </a:lnTo>
                <a:lnTo>
                  <a:pt x="0" y="21600"/>
                </a:lnTo>
                <a:close/>
              </a:path>
              <a:path fill="lightenLess" w="38418" h="21600">
                <a:moveTo>
                  <a:pt x="0" y="0"/>
                </a:moveTo>
                <a:lnTo>
                  <a:pt x="38418" y="0"/>
                </a:lnTo>
                <a:lnTo>
                  <a:pt x="37018" y="1400"/>
                </a:lnTo>
                <a:lnTo>
                  <a:pt x="1400" y="1400"/>
                </a:lnTo>
                <a:close/>
              </a:path>
              <a:path fill="darken" w="38418" h="21600">
                <a:moveTo>
                  <a:pt x="38418" y="0"/>
                </a:moveTo>
                <a:lnTo>
                  <a:pt x="38418" y="21600"/>
                </a:lnTo>
                <a:lnTo>
                  <a:pt x="37018" y="20200"/>
                </a:lnTo>
                <a:lnTo>
                  <a:pt x="37018" y="1400"/>
                </a:lnTo>
                <a:close/>
              </a:path>
              <a:path fill="darkenLess" w="38418" h="21600">
                <a:moveTo>
                  <a:pt x="384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018" y="20200"/>
                </a:lnTo>
                <a:close/>
              </a:path>
              <a:path fill="lighten" w="384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38418" h="21600">
                <a:moveTo>
                  <a:pt x="13682" y="3985"/>
                </a:moveTo>
                <a:lnTo>
                  <a:pt x="20680" y="3985"/>
                </a:lnTo>
                <a:lnTo>
                  <a:pt x="24736" y="7484"/>
                </a:lnTo>
                <a:lnTo>
                  <a:pt x="24736" y="17615"/>
                </a:lnTo>
                <a:lnTo>
                  <a:pt x="13682" y="17615"/>
                </a:lnTo>
                <a:close/>
              </a:path>
              <a:path fill="darken" w="38418" h="21600">
                <a:moveTo>
                  <a:pt x="20680" y="3985"/>
                </a:moveTo>
                <a:lnTo>
                  <a:pt x="24736" y="7484"/>
                </a:lnTo>
                <a:lnTo>
                  <a:pt x="20680" y="7484"/>
                </a:lnTo>
                <a:close/>
              </a:path>
            </a:pathLst>
          </a:cu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438280" y="1028880"/>
            <a:ext cx="548640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498680" y="853920"/>
            <a:ext cx="619740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REE  FUNZIONALI  DI  INTERVENTO  E  UFFICI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I  LIVELLO  DIRIGENZIALE  NON  GENERAL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M  30.01.2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>
            <a:hlinkClick r:id="rId9" action="ppaction://hlinksldjump"/>
          </p:cNvPr>
          <p:cNvSpPr/>
          <p:nvPr/>
        </p:nvSpPr>
        <p:spPr>
          <a:xfrm>
            <a:off x="3860640" y="6559560"/>
            <a:ext cx="1422720" cy="241200"/>
          </a:xfrm>
          <a:custGeom>
            <a:avLst/>
            <a:gdLst>
              <a:gd name="textAreaLeft" fmla="*/ 15480 w 1422720"/>
              <a:gd name="textAreaRight" fmla="*/ 1407240 w 1422720"/>
              <a:gd name="textAreaTop" fmla="*/ 15480 h 241200"/>
              <a:gd name="textAreaBottom" fmla="*/ 225720 h 241200"/>
            </a:gdLst>
            <a:ahLst/>
            <a:rect l="textAreaLeft" t="textAreaTop" r="textAreaRight" b="textAreaBottom"/>
            <a:pathLst>
              <a:path w="127250" h="21600">
                <a:moveTo>
                  <a:pt x="0" y="0"/>
                </a:moveTo>
                <a:lnTo>
                  <a:pt x="127250" y="0"/>
                </a:lnTo>
                <a:lnTo>
                  <a:pt x="127250" y="21600"/>
                </a:lnTo>
                <a:lnTo>
                  <a:pt x="0" y="21600"/>
                </a:lnTo>
                <a:close/>
              </a:path>
              <a:path fill="lightenLess" w="127250" h="21600">
                <a:moveTo>
                  <a:pt x="0" y="0"/>
                </a:moveTo>
                <a:lnTo>
                  <a:pt x="127250" y="0"/>
                </a:lnTo>
                <a:lnTo>
                  <a:pt x="125850" y="1400"/>
                </a:lnTo>
                <a:lnTo>
                  <a:pt x="1400" y="1400"/>
                </a:lnTo>
                <a:close/>
              </a:path>
              <a:path fill="darken" w="127250" h="21600">
                <a:moveTo>
                  <a:pt x="127250" y="0"/>
                </a:moveTo>
                <a:lnTo>
                  <a:pt x="127250" y="21600"/>
                </a:lnTo>
                <a:lnTo>
                  <a:pt x="125850" y="20200"/>
                </a:lnTo>
                <a:lnTo>
                  <a:pt x="125850" y="1400"/>
                </a:lnTo>
                <a:close/>
              </a:path>
              <a:path fill="darkenLess" w="127250" h="21600">
                <a:moveTo>
                  <a:pt x="12725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5850" y="20200"/>
                </a:lnTo>
                <a:close/>
              </a:path>
              <a:path fill="lighten" w="12725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27250" h="21600">
                <a:moveTo>
                  <a:pt x="56619" y="7493"/>
                </a:moveTo>
                <a:lnTo>
                  <a:pt x="60126" y="7493"/>
                </a:lnTo>
                <a:lnTo>
                  <a:pt x="60126" y="12828"/>
                </a:lnTo>
                <a:cubicBezTo>
                  <a:pt x="60126" y="13751"/>
                  <a:pt x="60927" y="14482"/>
                  <a:pt x="61963" y="14482"/>
                </a:cubicBezTo>
                <a:lnTo>
                  <a:pt x="63625" y="14482"/>
                </a:lnTo>
                <a:cubicBezTo>
                  <a:pt x="64661" y="14482"/>
                  <a:pt x="65462" y="13751"/>
                  <a:pt x="65462" y="12828"/>
                </a:cubicBezTo>
                <a:lnTo>
                  <a:pt x="65462" y="7493"/>
                </a:lnTo>
                <a:lnTo>
                  <a:pt x="63625" y="7493"/>
                </a:lnTo>
                <a:lnTo>
                  <a:pt x="67133" y="3985"/>
                </a:lnTo>
                <a:lnTo>
                  <a:pt x="70806" y="7493"/>
                </a:lnTo>
                <a:lnTo>
                  <a:pt x="68969" y="7493"/>
                </a:lnTo>
                <a:lnTo>
                  <a:pt x="68969" y="12828"/>
                </a:lnTo>
                <a:cubicBezTo>
                  <a:pt x="68969" y="15596"/>
                  <a:pt x="66393" y="18155"/>
                  <a:pt x="63625" y="18155"/>
                </a:cubicBezTo>
                <a:lnTo>
                  <a:pt x="61963" y="18155"/>
                </a:lnTo>
                <a:cubicBezTo>
                  <a:pt x="59195" y="18155"/>
                  <a:pt x="56619" y="15596"/>
                  <a:pt x="56619" y="12828"/>
                </a:cubicBez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>
            <a:hlinkClick r:id="" action="ppaction://hlinkshowjump?jump=nextslide"/>
          </p:cNvPr>
          <p:cNvSpPr/>
          <p:nvPr/>
        </p:nvSpPr>
        <p:spPr>
          <a:xfrm>
            <a:off x="7315200" y="6572160"/>
            <a:ext cx="812880" cy="228600"/>
          </a:xfrm>
          <a:custGeom>
            <a:avLst/>
            <a:gdLst>
              <a:gd name="textAreaLeft" fmla="*/ 14760 w 812880"/>
              <a:gd name="textAreaRight" fmla="*/ 798120 w 81288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76721" h="21600">
                <a:moveTo>
                  <a:pt x="0" y="0"/>
                </a:moveTo>
                <a:lnTo>
                  <a:pt x="76721" y="0"/>
                </a:lnTo>
                <a:lnTo>
                  <a:pt x="76721" y="21600"/>
                </a:lnTo>
                <a:lnTo>
                  <a:pt x="0" y="21600"/>
                </a:lnTo>
                <a:close/>
              </a:path>
              <a:path fill="lightenLess" w="76721" h="21600">
                <a:moveTo>
                  <a:pt x="0" y="0"/>
                </a:moveTo>
                <a:lnTo>
                  <a:pt x="76721" y="0"/>
                </a:lnTo>
                <a:lnTo>
                  <a:pt x="75321" y="1400"/>
                </a:lnTo>
                <a:lnTo>
                  <a:pt x="1400" y="1400"/>
                </a:lnTo>
                <a:close/>
              </a:path>
              <a:path fill="darken" w="76721" h="21600">
                <a:moveTo>
                  <a:pt x="76721" y="0"/>
                </a:moveTo>
                <a:lnTo>
                  <a:pt x="76721" y="21600"/>
                </a:lnTo>
                <a:lnTo>
                  <a:pt x="75321" y="20200"/>
                </a:lnTo>
                <a:lnTo>
                  <a:pt x="75321" y="1400"/>
                </a:lnTo>
                <a:close/>
              </a:path>
              <a:path fill="darkenLess" w="76721" h="21600">
                <a:moveTo>
                  <a:pt x="767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5321" y="20200"/>
                </a:lnTo>
                <a:close/>
              </a:path>
              <a:path fill="lighten" w="767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6721" h="21600">
                <a:moveTo>
                  <a:pt x="31354" y="3794"/>
                </a:moveTo>
                <a:lnTo>
                  <a:pt x="45367" y="10800"/>
                </a:lnTo>
                <a:lnTo>
                  <a:pt x="3135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>
            <a:hlinkClick r:id="" action="ppaction://hlinkshowjump?jump=previousslide"/>
          </p:cNvPr>
          <p:cNvSpPr/>
          <p:nvPr/>
        </p:nvSpPr>
        <p:spPr>
          <a:xfrm>
            <a:off x="6502320" y="6572160"/>
            <a:ext cx="812880" cy="228600"/>
          </a:xfrm>
          <a:custGeom>
            <a:avLst/>
            <a:gdLst>
              <a:gd name="textAreaLeft" fmla="*/ 14760 w 812880"/>
              <a:gd name="textAreaRight" fmla="*/ 798120 w 81288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76721" h="21600">
                <a:moveTo>
                  <a:pt x="0" y="0"/>
                </a:moveTo>
                <a:lnTo>
                  <a:pt x="76721" y="0"/>
                </a:lnTo>
                <a:lnTo>
                  <a:pt x="76721" y="21600"/>
                </a:lnTo>
                <a:lnTo>
                  <a:pt x="0" y="21600"/>
                </a:lnTo>
                <a:close/>
              </a:path>
              <a:path fill="lightenLess" w="76721" h="21600">
                <a:moveTo>
                  <a:pt x="0" y="0"/>
                </a:moveTo>
                <a:lnTo>
                  <a:pt x="76721" y="0"/>
                </a:lnTo>
                <a:lnTo>
                  <a:pt x="75321" y="1400"/>
                </a:lnTo>
                <a:lnTo>
                  <a:pt x="1400" y="1400"/>
                </a:lnTo>
                <a:close/>
              </a:path>
              <a:path fill="darken" w="76721" h="21600">
                <a:moveTo>
                  <a:pt x="76721" y="0"/>
                </a:moveTo>
                <a:lnTo>
                  <a:pt x="76721" y="21600"/>
                </a:lnTo>
                <a:lnTo>
                  <a:pt x="75321" y="20200"/>
                </a:lnTo>
                <a:lnTo>
                  <a:pt x="75321" y="1400"/>
                </a:lnTo>
                <a:close/>
              </a:path>
              <a:path fill="darkenLess" w="76721" h="21600">
                <a:moveTo>
                  <a:pt x="767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5321" y="20200"/>
                </a:lnTo>
                <a:close/>
              </a:path>
              <a:path fill="lighten" w="767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6721" h="21600">
                <a:moveTo>
                  <a:pt x="31354" y="10800"/>
                </a:moveTo>
                <a:lnTo>
                  <a:pt x="45367" y="3794"/>
                </a:lnTo>
                <a:lnTo>
                  <a:pt x="45367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>
            <a:hlinkClick r:id="" action="ppaction://hlinkshowjump?jump=firstslide"/>
          </p:cNvPr>
          <p:cNvSpPr/>
          <p:nvPr/>
        </p:nvSpPr>
        <p:spPr>
          <a:xfrm>
            <a:off x="1011240" y="6559560"/>
            <a:ext cx="1631880" cy="241200"/>
          </a:xfrm>
          <a:custGeom>
            <a:avLst/>
            <a:gdLst>
              <a:gd name="textAreaLeft" fmla="*/ 15480 w 1631880"/>
              <a:gd name="textAreaRight" fmla="*/ 1616400 w 1631880"/>
              <a:gd name="textAreaTop" fmla="*/ 15480 h 241200"/>
              <a:gd name="textAreaBottom" fmla="*/ 225720 h 241200"/>
            </a:gdLst>
            <a:ahLst/>
            <a:rect l="textAreaLeft" t="textAreaTop" r="textAreaRight" b="textAreaBottom"/>
            <a:pathLst>
              <a:path w="145953" h="21600">
                <a:moveTo>
                  <a:pt x="0" y="0"/>
                </a:moveTo>
                <a:lnTo>
                  <a:pt x="145953" y="0"/>
                </a:lnTo>
                <a:lnTo>
                  <a:pt x="145953" y="21600"/>
                </a:lnTo>
                <a:lnTo>
                  <a:pt x="0" y="21600"/>
                </a:lnTo>
                <a:close/>
              </a:path>
              <a:path fill="lightenLess" w="145953" h="21600">
                <a:moveTo>
                  <a:pt x="0" y="0"/>
                </a:moveTo>
                <a:lnTo>
                  <a:pt x="145953" y="0"/>
                </a:lnTo>
                <a:lnTo>
                  <a:pt x="144553" y="1400"/>
                </a:lnTo>
                <a:lnTo>
                  <a:pt x="1400" y="1400"/>
                </a:lnTo>
                <a:close/>
              </a:path>
              <a:path fill="darken" w="145953" h="21600">
                <a:moveTo>
                  <a:pt x="145953" y="0"/>
                </a:moveTo>
                <a:lnTo>
                  <a:pt x="145953" y="21600"/>
                </a:lnTo>
                <a:lnTo>
                  <a:pt x="144553" y="20200"/>
                </a:lnTo>
                <a:lnTo>
                  <a:pt x="144553" y="1400"/>
                </a:lnTo>
                <a:close/>
              </a:path>
              <a:path fill="darkenLess" w="145953" h="21600">
                <a:moveTo>
                  <a:pt x="1459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44553" y="20200"/>
                </a:lnTo>
                <a:close/>
              </a:path>
              <a:path fill="lighten" w="1459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45953" h="21600">
                <a:moveTo>
                  <a:pt x="72976" y="3837"/>
                </a:moveTo>
                <a:lnTo>
                  <a:pt x="75553" y="6448"/>
                </a:lnTo>
                <a:lnTo>
                  <a:pt x="75553" y="4707"/>
                </a:lnTo>
                <a:lnTo>
                  <a:pt x="77328" y="4707"/>
                </a:lnTo>
                <a:lnTo>
                  <a:pt x="77328" y="8224"/>
                </a:lnTo>
                <a:lnTo>
                  <a:pt x="79939" y="10800"/>
                </a:lnTo>
                <a:lnTo>
                  <a:pt x="78286" y="10800"/>
                </a:lnTo>
                <a:lnTo>
                  <a:pt x="78286" y="17989"/>
                </a:lnTo>
                <a:lnTo>
                  <a:pt x="67667" y="17989"/>
                </a:lnTo>
                <a:lnTo>
                  <a:pt x="67667" y="10800"/>
                </a:lnTo>
                <a:lnTo>
                  <a:pt x="66013" y="10800"/>
                </a:lnTo>
                <a:close/>
              </a:path>
              <a:path fill="darkenLess" w="145953" h="21600">
                <a:moveTo>
                  <a:pt x="75553" y="6448"/>
                </a:moveTo>
                <a:lnTo>
                  <a:pt x="75553" y="4707"/>
                </a:lnTo>
                <a:lnTo>
                  <a:pt x="77328" y="4707"/>
                </a:lnTo>
                <a:lnTo>
                  <a:pt x="77328" y="8224"/>
                </a:lnTo>
                <a:close/>
              </a:path>
              <a:path fill="darkenLess" w="145953" h="21600">
                <a:moveTo>
                  <a:pt x="72054" y="14299"/>
                </a:moveTo>
                <a:lnTo>
                  <a:pt x="73899" y="14299"/>
                </a:lnTo>
                <a:lnTo>
                  <a:pt x="73899" y="17989"/>
                </a:lnTo>
                <a:lnTo>
                  <a:pt x="78286" y="17989"/>
                </a:lnTo>
                <a:lnTo>
                  <a:pt x="78286" y="10800"/>
                </a:lnTo>
                <a:lnTo>
                  <a:pt x="67667" y="10800"/>
                </a:lnTo>
                <a:lnTo>
                  <a:pt x="67667" y="17989"/>
                </a:lnTo>
                <a:lnTo>
                  <a:pt x="72054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ED8EF-9453-4F3A-B33F-DE74EBC88331}" type="slidenum">
              <a:t>5</a:t>
            </a:fld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812880" y="399960"/>
            <a:ext cx="7721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mic Sans MS"/>
              </a:rPr>
              <a:t>A. AREA DI PIANIFICAZIONE, DI PROGRAMMAZIONE E DI INTEGRAZIONE DELLE POLITICHE FORMATIV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14400" y="2400480"/>
            <a:ext cx="5486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550880" y="1494000"/>
            <a:ext cx="59943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Ufficio 1. Ordinamenti - Programmi e Curricoli scolastici - Esami di Stato  Autonomia Scolastica e valutazione degli apprendimenti - Parità Scolastica e Vigilanza sulle Scuole non Statali e sulle Scuole Stranie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851120" y="3459240"/>
            <a:ext cx="5486400" cy="23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Ufficio 2. Politiche formative integrate - Rapporti con la Regione e gli Enti Locali - Rapporti con il Mondo Produttivo - Obbligo Formativo - IFTS -  EDA Dimensionamento - Edilizia Scolastica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Monitoraggio del Sistema formativo locale in relazione al contesto economico - sociale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>
            <a:hlinkClick r:id="rId2" action="ppaction://hlinksldjump"/>
          </p:cNvPr>
          <p:cNvSpPr/>
          <p:nvPr/>
        </p:nvSpPr>
        <p:spPr>
          <a:xfrm>
            <a:off x="4013280" y="6556320"/>
            <a:ext cx="1117440" cy="228600"/>
          </a:xfrm>
          <a:custGeom>
            <a:avLst/>
            <a:gdLst>
              <a:gd name="textAreaLeft" fmla="*/ 14760 w 1117440"/>
              <a:gd name="textAreaRight" fmla="*/ 1102680 w 11174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5453" h="21600">
                <a:moveTo>
                  <a:pt x="0" y="0"/>
                </a:moveTo>
                <a:lnTo>
                  <a:pt x="105453" y="0"/>
                </a:lnTo>
                <a:lnTo>
                  <a:pt x="105453" y="21600"/>
                </a:lnTo>
                <a:lnTo>
                  <a:pt x="0" y="21600"/>
                </a:lnTo>
                <a:close/>
              </a:path>
              <a:path fill="lightenLess" w="105453" h="21600">
                <a:moveTo>
                  <a:pt x="0" y="0"/>
                </a:moveTo>
                <a:lnTo>
                  <a:pt x="105453" y="0"/>
                </a:lnTo>
                <a:lnTo>
                  <a:pt x="104053" y="1400"/>
                </a:lnTo>
                <a:lnTo>
                  <a:pt x="1400" y="1400"/>
                </a:lnTo>
                <a:close/>
              </a:path>
              <a:path fill="darken" w="105453" h="21600">
                <a:moveTo>
                  <a:pt x="105453" y="0"/>
                </a:moveTo>
                <a:lnTo>
                  <a:pt x="105453" y="21600"/>
                </a:lnTo>
                <a:lnTo>
                  <a:pt x="104053" y="20200"/>
                </a:lnTo>
                <a:lnTo>
                  <a:pt x="104053" y="1400"/>
                </a:lnTo>
                <a:close/>
              </a:path>
              <a:path fill="darkenLess" w="105453" h="21600">
                <a:moveTo>
                  <a:pt x="1054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4053" y="20200"/>
                </a:lnTo>
                <a:close/>
              </a:path>
              <a:path fill="lighten" w="1054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05453" h="21600">
                <a:moveTo>
                  <a:pt x="45720" y="7493"/>
                </a:moveTo>
                <a:lnTo>
                  <a:pt x="49228" y="7493"/>
                </a:lnTo>
                <a:lnTo>
                  <a:pt x="49228" y="12828"/>
                </a:lnTo>
                <a:cubicBezTo>
                  <a:pt x="49228" y="13751"/>
                  <a:pt x="50028" y="14482"/>
                  <a:pt x="51064" y="14482"/>
                </a:cubicBezTo>
                <a:lnTo>
                  <a:pt x="52726" y="14482"/>
                </a:lnTo>
                <a:cubicBezTo>
                  <a:pt x="53762" y="14482"/>
                  <a:pt x="54563" y="13751"/>
                  <a:pt x="54563" y="12828"/>
                </a:cubicBezTo>
                <a:lnTo>
                  <a:pt x="54563" y="7493"/>
                </a:lnTo>
                <a:lnTo>
                  <a:pt x="52726" y="7493"/>
                </a:lnTo>
                <a:lnTo>
                  <a:pt x="56234" y="3985"/>
                </a:lnTo>
                <a:lnTo>
                  <a:pt x="59907" y="7493"/>
                </a:lnTo>
                <a:lnTo>
                  <a:pt x="58070" y="7493"/>
                </a:lnTo>
                <a:lnTo>
                  <a:pt x="58070" y="12828"/>
                </a:lnTo>
                <a:cubicBezTo>
                  <a:pt x="58070" y="15596"/>
                  <a:pt x="55494" y="18155"/>
                  <a:pt x="52726" y="18155"/>
                </a:cubicBezTo>
                <a:lnTo>
                  <a:pt x="51064" y="18155"/>
                </a:lnTo>
                <a:cubicBezTo>
                  <a:pt x="48296" y="18155"/>
                  <a:pt x="45720" y="15596"/>
                  <a:pt x="45720" y="12828"/>
                </a:cubicBez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>
            <a:hlinkClick r:id="" action="ppaction://hlinkshowjump?jump=nextslide"/>
          </p:cNvPr>
          <p:cNvSpPr/>
          <p:nvPr/>
        </p:nvSpPr>
        <p:spPr>
          <a:xfrm>
            <a:off x="7315200" y="6572160"/>
            <a:ext cx="812880" cy="228600"/>
          </a:xfrm>
          <a:custGeom>
            <a:avLst/>
            <a:gdLst>
              <a:gd name="textAreaLeft" fmla="*/ 14760 w 812880"/>
              <a:gd name="textAreaRight" fmla="*/ 798120 w 81288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76721" h="21600">
                <a:moveTo>
                  <a:pt x="0" y="0"/>
                </a:moveTo>
                <a:lnTo>
                  <a:pt x="76721" y="0"/>
                </a:lnTo>
                <a:lnTo>
                  <a:pt x="76721" y="21600"/>
                </a:lnTo>
                <a:lnTo>
                  <a:pt x="0" y="21600"/>
                </a:lnTo>
                <a:close/>
              </a:path>
              <a:path fill="lightenLess" w="76721" h="21600">
                <a:moveTo>
                  <a:pt x="0" y="0"/>
                </a:moveTo>
                <a:lnTo>
                  <a:pt x="76721" y="0"/>
                </a:lnTo>
                <a:lnTo>
                  <a:pt x="75321" y="1400"/>
                </a:lnTo>
                <a:lnTo>
                  <a:pt x="1400" y="1400"/>
                </a:lnTo>
                <a:close/>
              </a:path>
              <a:path fill="darken" w="76721" h="21600">
                <a:moveTo>
                  <a:pt x="76721" y="0"/>
                </a:moveTo>
                <a:lnTo>
                  <a:pt x="76721" y="21600"/>
                </a:lnTo>
                <a:lnTo>
                  <a:pt x="75321" y="20200"/>
                </a:lnTo>
                <a:lnTo>
                  <a:pt x="75321" y="1400"/>
                </a:lnTo>
                <a:close/>
              </a:path>
              <a:path fill="darkenLess" w="76721" h="21600">
                <a:moveTo>
                  <a:pt x="767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5321" y="20200"/>
                </a:lnTo>
                <a:close/>
              </a:path>
              <a:path fill="lighten" w="767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6721" h="21600">
                <a:moveTo>
                  <a:pt x="31354" y="3794"/>
                </a:moveTo>
                <a:lnTo>
                  <a:pt x="45367" y="10800"/>
                </a:lnTo>
                <a:lnTo>
                  <a:pt x="3135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>
            <a:hlinkClick r:id="" action="ppaction://hlinkshowjump?jump=previousslide"/>
          </p:cNvPr>
          <p:cNvSpPr/>
          <p:nvPr/>
        </p:nvSpPr>
        <p:spPr>
          <a:xfrm>
            <a:off x="6502320" y="6572160"/>
            <a:ext cx="812880" cy="228600"/>
          </a:xfrm>
          <a:custGeom>
            <a:avLst/>
            <a:gdLst>
              <a:gd name="textAreaLeft" fmla="*/ 14760 w 812880"/>
              <a:gd name="textAreaRight" fmla="*/ 798120 w 81288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76721" h="21600">
                <a:moveTo>
                  <a:pt x="0" y="0"/>
                </a:moveTo>
                <a:lnTo>
                  <a:pt x="76721" y="0"/>
                </a:lnTo>
                <a:lnTo>
                  <a:pt x="76721" y="21600"/>
                </a:lnTo>
                <a:lnTo>
                  <a:pt x="0" y="21600"/>
                </a:lnTo>
                <a:close/>
              </a:path>
              <a:path fill="lightenLess" w="76721" h="21600">
                <a:moveTo>
                  <a:pt x="0" y="0"/>
                </a:moveTo>
                <a:lnTo>
                  <a:pt x="76721" y="0"/>
                </a:lnTo>
                <a:lnTo>
                  <a:pt x="75321" y="1400"/>
                </a:lnTo>
                <a:lnTo>
                  <a:pt x="1400" y="1400"/>
                </a:lnTo>
                <a:close/>
              </a:path>
              <a:path fill="darken" w="76721" h="21600">
                <a:moveTo>
                  <a:pt x="76721" y="0"/>
                </a:moveTo>
                <a:lnTo>
                  <a:pt x="76721" y="21600"/>
                </a:lnTo>
                <a:lnTo>
                  <a:pt x="75321" y="20200"/>
                </a:lnTo>
                <a:lnTo>
                  <a:pt x="75321" y="1400"/>
                </a:lnTo>
                <a:close/>
              </a:path>
              <a:path fill="darkenLess" w="76721" h="21600">
                <a:moveTo>
                  <a:pt x="767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5321" y="20200"/>
                </a:lnTo>
                <a:close/>
              </a:path>
              <a:path fill="lighten" w="767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6721" h="21600">
                <a:moveTo>
                  <a:pt x="31354" y="10800"/>
                </a:moveTo>
                <a:lnTo>
                  <a:pt x="45367" y="3794"/>
                </a:lnTo>
                <a:lnTo>
                  <a:pt x="45367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>
            <a:hlinkClick r:id="" action="ppaction://hlinkshowjump?jump=firstslide"/>
          </p:cNvPr>
          <p:cNvSpPr/>
          <p:nvPr/>
        </p:nvSpPr>
        <p:spPr>
          <a:xfrm>
            <a:off x="1011240" y="6559560"/>
            <a:ext cx="1631880" cy="241200"/>
          </a:xfrm>
          <a:custGeom>
            <a:avLst/>
            <a:gdLst>
              <a:gd name="textAreaLeft" fmla="*/ 15480 w 1631880"/>
              <a:gd name="textAreaRight" fmla="*/ 1616400 w 1631880"/>
              <a:gd name="textAreaTop" fmla="*/ 15480 h 241200"/>
              <a:gd name="textAreaBottom" fmla="*/ 225720 h 241200"/>
            </a:gdLst>
            <a:ahLst/>
            <a:rect l="textAreaLeft" t="textAreaTop" r="textAreaRight" b="textAreaBottom"/>
            <a:pathLst>
              <a:path w="145953" h="21600">
                <a:moveTo>
                  <a:pt x="0" y="0"/>
                </a:moveTo>
                <a:lnTo>
                  <a:pt x="145953" y="0"/>
                </a:lnTo>
                <a:lnTo>
                  <a:pt x="145953" y="21600"/>
                </a:lnTo>
                <a:lnTo>
                  <a:pt x="0" y="21600"/>
                </a:lnTo>
                <a:close/>
              </a:path>
              <a:path fill="lightenLess" w="145953" h="21600">
                <a:moveTo>
                  <a:pt x="0" y="0"/>
                </a:moveTo>
                <a:lnTo>
                  <a:pt x="145953" y="0"/>
                </a:lnTo>
                <a:lnTo>
                  <a:pt x="144553" y="1400"/>
                </a:lnTo>
                <a:lnTo>
                  <a:pt x="1400" y="1400"/>
                </a:lnTo>
                <a:close/>
              </a:path>
              <a:path fill="darken" w="145953" h="21600">
                <a:moveTo>
                  <a:pt x="145953" y="0"/>
                </a:moveTo>
                <a:lnTo>
                  <a:pt x="145953" y="21600"/>
                </a:lnTo>
                <a:lnTo>
                  <a:pt x="144553" y="20200"/>
                </a:lnTo>
                <a:lnTo>
                  <a:pt x="144553" y="1400"/>
                </a:lnTo>
                <a:close/>
              </a:path>
              <a:path fill="darkenLess" w="145953" h="21600">
                <a:moveTo>
                  <a:pt x="1459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44553" y="20200"/>
                </a:lnTo>
                <a:close/>
              </a:path>
              <a:path fill="lighten" w="1459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45953" h="21600">
                <a:moveTo>
                  <a:pt x="72976" y="3837"/>
                </a:moveTo>
                <a:lnTo>
                  <a:pt x="75553" y="6448"/>
                </a:lnTo>
                <a:lnTo>
                  <a:pt x="75553" y="4707"/>
                </a:lnTo>
                <a:lnTo>
                  <a:pt x="77328" y="4707"/>
                </a:lnTo>
                <a:lnTo>
                  <a:pt x="77328" y="8224"/>
                </a:lnTo>
                <a:lnTo>
                  <a:pt x="79939" y="10800"/>
                </a:lnTo>
                <a:lnTo>
                  <a:pt x="78286" y="10800"/>
                </a:lnTo>
                <a:lnTo>
                  <a:pt x="78286" y="17989"/>
                </a:lnTo>
                <a:lnTo>
                  <a:pt x="67667" y="17989"/>
                </a:lnTo>
                <a:lnTo>
                  <a:pt x="67667" y="10800"/>
                </a:lnTo>
                <a:lnTo>
                  <a:pt x="66013" y="10800"/>
                </a:lnTo>
                <a:close/>
              </a:path>
              <a:path fill="darkenLess" w="145953" h="21600">
                <a:moveTo>
                  <a:pt x="75553" y="6448"/>
                </a:moveTo>
                <a:lnTo>
                  <a:pt x="75553" y="4707"/>
                </a:lnTo>
                <a:lnTo>
                  <a:pt x="77328" y="4707"/>
                </a:lnTo>
                <a:lnTo>
                  <a:pt x="77328" y="8224"/>
                </a:lnTo>
                <a:close/>
              </a:path>
              <a:path fill="darkenLess" w="145953" h="21600">
                <a:moveTo>
                  <a:pt x="72054" y="14299"/>
                </a:moveTo>
                <a:lnTo>
                  <a:pt x="73899" y="14299"/>
                </a:lnTo>
                <a:lnTo>
                  <a:pt x="73899" y="17989"/>
                </a:lnTo>
                <a:lnTo>
                  <a:pt x="78286" y="17989"/>
                </a:lnTo>
                <a:lnTo>
                  <a:pt x="78286" y="10800"/>
                </a:lnTo>
                <a:lnTo>
                  <a:pt x="67667" y="10800"/>
                </a:lnTo>
                <a:lnTo>
                  <a:pt x="67667" y="17989"/>
                </a:lnTo>
                <a:lnTo>
                  <a:pt x="72054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BB06B-7A14-4BC0-894A-8C3750895064}" type="slidenum">
              <a:t>6</a:t>
            </a:fld>
          </a:p>
        </p:txBody>
      </p:sp>
    </p:spTree>
  </p:cSld>
  <p:transition>
    <p:pull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1219320" y="1916280"/>
            <a:ext cx="7010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3300"/>
                </a:solidFill>
                <a:latin typeface="Times New Roman"/>
              </a:rPr>
              <a:t>Supporto alla  Didattica  ed all’utilizzo delle Tecnologi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3300"/>
                </a:solidFill>
                <a:latin typeface="Times New Roman"/>
              </a:rPr>
              <a:t>Supporto all’Automia di Ricerca, Sperimentazione e Sviluppo alle Istituzioni Scolastiche in collaborazione con l’I.R.R.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3300"/>
                </a:solidFill>
                <a:latin typeface="Times New Roman"/>
              </a:rPr>
              <a:t>Sistemi per lo sviluppo della pianificazione, controllo e valutazione del servizio scolastic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219320" y="4743360"/>
            <a:ext cx="65023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Times New Roman"/>
              </a:rPr>
              <a:t>Attività per l’Educazione Motoria.  Integrazione dei soggetti in situazione di handicap. Accoglienza ed integrazione dei soggetti immigrati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Times New Roman"/>
              </a:rPr>
              <a:t>Servizi formativi in contesti non scolastici.</a:t>
            </a:r>
            <a:r>
              <a:rPr b="1" i="1" lang="en-US" sz="18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Times New Roman"/>
              </a:rPr>
              <a:t>Polo Qualità Napoli (D.M. 230/’00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219320" y="3630600"/>
            <a:ext cx="6603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Times New Roman"/>
              </a:rPr>
              <a:t>Promozione ed assistenza. Progetti Speciali Nazionali, Europei ed Internazionali. Diritto allo Studio, Politiche giovanili, Associazionismo e Servizi agli studenti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19320" y="1428840"/>
            <a:ext cx="680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Times New Roman"/>
              </a:rPr>
              <a:t>Sviluppo dei centri di Servizio per le istituzioni Scolastich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-2336760" y="343080"/>
            <a:ext cx="11480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13716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09480" y="399960"/>
            <a:ext cx="8128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mic Sans MS"/>
              </a:rPr>
              <a:t>B. AREA DI SUPPORTO E DI SVILUPPO DELLE ISTITUZIONI SCOLASTICHE AUTONOME - UFFICIO UN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>
            <a:hlinkClick r:id="" action="ppaction://hlinkshowjump?jump=nextslide"/>
          </p:cNvPr>
          <p:cNvSpPr/>
          <p:nvPr/>
        </p:nvSpPr>
        <p:spPr>
          <a:xfrm>
            <a:off x="7315200" y="6572160"/>
            <a:ext cx="812880" cy="228600"/>
          </a:xfrm>
          <a:custGeom>
            <a:avLst/>
            <a:gdLst>
              <a:gd name="textAreaLeft" fmla="*/ 14760 w 812880"/>
              <a:gd name="textAreaRight" fmla="*/ 798120 w 81288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76721" h="21600">
                <a:moveTo>
                  <a:pt x="0" y="0"/>
                </a:moveTo>
                <a:lnTo>
                  <a:pt x="76721" y="0"/>
                </a:lnTo>
                <a:lnTo>
                  <a:pt x="76721" y="21600"/>
                </a:lnTo>
                <a:lnTo>
                  <a:pt x="0" y="21600"/>
                </a:lnTo>
                <a:close/>
              </a:path>
              <a:path fill="lightenLess" w="76721" h="21600">
                <a:moveTo>
                  <a:pt x="0" y="0"/>
                </a:moveTo>
                <a:lnTo>
                  <a:pt x="76721" y="0"/>
                </a:lnTo>
                <a:lnTo>
                  <a:pt x="75321" y="1400"/>
                </a:lnTo>
                <a:lnTo>
                  <a:pt x="1400" y="1400"/>
                </a:lnTo>
                <a:close/>
              </a:path>
              <a:path fill="darken" w="76721" h="21600">
                <a:moveTo>
                  <a:pt x="76721" y="0"/>
                </a:moveTo>
                <a:lnTo>
                  <a:pt x="76721" y="21600"/>
                </a:lnTo>
                <a:lnTo>
                  <a:pt x="75321" y="20200"/>
                </a:lnTo>
                <a:lnTo>
                  <a:pt x="75321" y="1400"/>
                </a:lnTo>
                <a:close/>
              </a:path>
              <a:path fill="darkenLess" w="76721" h="21600">
                <a:moveTo>
                  <a:pt x="767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5321" y="20200"/>
                </a:lnTo>
                <a:close/>
              </a:path>
              <a:path fill="lighten" w="767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6721" h="21600">
                <a:moveTo>
                  <a:pt x="31354" y="3794"/>
                </a:moveTo>
                <a:lnTo>
                  <a:pt x="45367" y="10800"/>
                </a:lnTo>
                <a:lnTo>
                  <a:pt x="3135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>
            <a:hlinkClick r:id="rId2" action="ppaction://hlinksldjump"/>
          </p:cNvPr>
          <p:cNvSpPr/>
          <p:nvPr/>
        </p:nvSpPr>
        <p:spPr>
          <a:xfrm>
            <a:off x="4019400" y="6556320"/>
            <a:ext cx="1117800" cy="228600"/>
          </a:xfrm>
          <a:custGeom>
            <a:avLst/>
            <a:gdLst>
              <a:gd name="textAreaLeft" fmla="*/ 14760 w 1117800"/>
              <a:gd name="textAreaRight" fmla="*/ 1103040 w 11178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5487" h="21600">
                <a:moveTo>
                  <a:pt x="0" y="0"/>
                </a:moveTo>
                <a:lnTo>
                  <a:pt x="105487" y="0"/>
                </a:lnTo>
                <a:lnTo>
                  <a:pt x="105487" y="21600"/>
                </a:lnTo>
                <a:lnTo>
                  <a:pt x="0" y="21600"/>
                </a:lnTo>
                <a:close/>
              </a:path>
              <a:path fill="lightenLess" w="105487" h="21600">
                <a:moveTo>
                  <a:pt x="0" y="0"/>
                </a:moveTo>
                <a:lnTo>
                  <a:pt x="105487" y="0"/>
                </a:lnTo>
                <a:lnTo>
                  <a:pt x="104087" y="1400"/>
                </a:lnTo>
                <a:lnTo>
                  <a:pt x="1400" y="1400"/>
                </a:lnTo>
                <a:close/>
              </a:path>
              <a:path fill="darken" w="105487" h="21600">
                <a:moveTo>
                  <a:pt x="105487" y="0"/>
                </a:moveTo>
                <a:lnTo>
                  <a:pt x="105487" y="21600"/>
                </a:lnTo>
                <a:lnTo>
                  <a:pt x="104087" y="20200"/>
                </a:lnTo>
                <a:lnTo>
                  <a:pt x="104087" y="1400"/>
                </a:lnTo>
                <a:close/>
              </a:path>
              <a:path fill="darkenLess" w="105487" h="21600">
                <a:moveTo>
                  <a:pt x="1054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4087" y="20200"/>
                </a:lnTo>
                <a:close/>
              </a:path>
              <a:path fill="lighten" w="1054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05487" h="21600">
                <a:moveTo>
                  <a:pt x="45737" y="7493"/>
                </a:moveTo>
                <a:lnTo>
                  <a:pt x="49245" y="7493"/>
                </a:lnTo>
                <a:lnTo>
                  <a:pt x="49245" y="12828"/>
                </a:lnTo>
                <a:cubicBezTo>
                  <a:pt x="49245" y="13751"/>
                  <a:pt x="50045" y="14482"/>
                  <a:pt x="51081" y="14482"/>
                </a:cubicBezTo>
                <a:lnTo>
                  <a:pt x="52743" y="14482"/>
                </a:lnTo>
                <a:cubicBezTo>
                  <a:pt x="53779" y="14482"/>
                  <a:pt x="54580" y="13751"/>
                  <a:pt x="54580" y="12828"/>
                </a:cubicBezTo>
                <a:lnTo>
                  <a:pt x="54580" y="7493"/>
                </a:lnTo>
                <a:lnTo>
                  <a:pt x="52743" y="7493"/>
                </a:lnTo>
                <a:lnTo>
                  <a:pt x="56251" y="3985"/>
                </a:lnTo>
                <a:lnTo>
                  <a:pt x="59924" y="7493"/>
                </a:lnTo>
                <a:lnTo>
                  <a:pt x="58087" y="7493"/>
                </a:lnTo>
                <a:lnTo>
                  <a:pt x="58087" y="12828"/>
                </a:lnTo>
                <a:cubicBezTo>
                  <a:pt x="58087" y="15596"/>
                  <a:pt x="55511" y="18155"/>
                  <a:pt x="52743" y="18155"/>
                </a:cubicBezTo>
                <a:lnTo>
                  <a:pt x="51081" y="18155"/>
                </a:lnTo>
                <a:cubicBezTo>
                  <a:pt x="48313" y="18155"/>
                  <a:pt x="45737" y="15596"/>
                  <a:pt x="45737" y="12828"/>
                </a:cubicBez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>
            <a:hlinkClick r:id="" action="ppaction://hlinkshowjump?jump=previousslide"/>
          </p:cNvPr>
          <p:cNvSpPr/>
          <p:nvPr/>
        </p:nvSpPr>
        <p:spPr>
          <a:xfrm>
            <a:off x="6502320" y="6572160"/>
            <a:ext cx="812880" cy="228600"/>
          </a:xfrm>
          <a:custGeom>
            <a:avLst/>
            <a:gdLst>
              <a:gd name="textAreaLeft" fmla="*/ 14760 w 812880"/>
              <a:gd name="textAreaRight" fmla="*/ 798120 w 81288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76721" h="21600">
                <a:moveTo>
                  <a:pt x="0" y="0"/>
                </a:moveTo>
                <a:lnTo>
                  <a:pt x="76721" y="0"/>
                </a:lnTo>
                <a:lnTo>
                  <a:pt x="76721" y="21600"/>
                </a:lnTo>
                <a:lnTo>
                  <a:pt x="0" y="21600"/>
                </a:lnTo>
                <a:close/>
              </a:path>
              <a:path fill="lightenLess" w="76721" h="21600">
                <a:moveTo>
                  <a:pt x="0" y="0"/>
                </a:moveTo>
                <a:lnTo>
                  <a:pt x="76721" y="0"/>
                </a:lnTo>
                <a:lnTo>
                  <a:pt x="75321" y="1400"/>
                </a:lnTo>
                <a:lnTo>
                  <a:pt x="1400" y="1400"/>
                </a:lnTo>
                <a:close/>
              </a:path>
              <a:path fill="darken" w="76721" h="21600">
                <a:moveTo>
                  <a:pt x="76721" y="0"/>
                </a:moveTo>
                <a:lnTo>
                  <a:pt x="76721" y="21600"/>
                </a:lnTo>
                <a:lnTo>
                  <a:pt x="75321" y="20200"/>
                </a:lnTo>
                <a:lnTo>
                  <a:pt x="75321" y="1400"/>
                </a:lnTo>
                <a:close/>
              </a:path>
              <a:path fill="darkenLess" w="76721" h="21600">
                <a:moveTo>
                  <a:pt x="767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5321" y="20200"/>
                </a:lnTo>
                <a:close/>
              </a:path>
              <a:path fill="lighten" w="767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6721" h="21600">
                <a:moveTo>
                  <a:pt x="31354" y="10800"/>
                </a:moveTo>
                <a:lnTo>
                  <a:pt x="45367" y="3794"/>
                </a:lnTo>
                <a:lnTo>
                  <a:pt x="45367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>
            <a:hlinkClick r:id="" action="ppaction://hlinkshowjump?jump=firstslide"/>
          </p:cNvPr>
          <p:cNvSpPr/>
          <p:nvPr/>
        </p:nvSpPr>
        <p:spPr>
          <a:xfrm>
            <a:off x="1011240" y="6559560"/>
            <a:ext cx="1631880" cy="241200"/>
          </a:xfrm>
          <a:custGeom>
            <a:avLst/>
            <a:gdLst>
              <a:gd name="textAreaLeft" fmla="*/ 15480 w 1631880"/>
              <a:gd name="textAreaRight" fmla="*/ 1616400 w 1631880"/>
              <a:gd name="textAreaTop" fmla="*/ 15480 h 241200"/>
              <a:gd name="textAreaBottom" fmla="*/ 225720 h 241200"/>
            </a:gdLst>
            <a:ahLst/>
            <a:rect l="textAreaLeft" t="textAreaTop" r="textAreaRight" b="textAreaBottom"/>
            <a:pathLst>
              <a:path w="145953" h="21600">
                <a:moveTo>
                  <a:pt x="0" y="0"/>
                </a:moveTo>
                <a:lnTo>
                  <a:pt x="145953" y="0"/>
                </a:lnTo>
                <a:lnTo>
                  <a:pt x="145953" y="21600"/>
                </a:lnTo>
                <a:lnTo>
                  <a:pt x="0" y="21600"/>
                </a:lnTo>
                <a:close/>
              </a:path>
              <a:path fill="lightenLess" w="145953" h="21600">
                <a:moveTo>
                  <a:pt x="0" y="0"/>
                </a:moveTo>
                <a:lnTo>
                  <a:pt x="145953" y="0"/>
                </a:lnTo>
                <a:lnTo>
                  <a:pt x="144553" y="1400"/>
                </a:lnTo>
                <a:lnTo>
                  <a:pt x="1400" y="1400"/>
                </a:lnTo>
                <a:close/>
              </a:path>
              <a:path fill="darken" w="145953" h="21600">
                <a:moveTo>
                  <a:pt x="145953" y="0"/>
                </a:moveTo>
                <a:lnTo>
                  <a:pt x="145953" y="21600"/>
                </a:lnTo>
                <a:lnTo>
                  <a:pt x="144553" y="20200"/>
                </a:lnTo>
                <a:lnTo>
                  <a:pt x="144553" y="1400"/>
                </a:lnTo>
                <a:close/>
              </a:path>
              <a:path fill="darkenLess" w="145953" h="21600">
                <a:moveTo>
                  <a:pt x="1459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44553" y="20200"/>
                </a:lnTo>
                <a:close/>
              </a:path>
              <a:path fill="lighten" w="1459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45953" h="21600">
                <a:moveTo>
                  <a:pt x="72976" y="3837"/>
                </a:moveTo>
                <a:lnTo>
                  <a:pt x="75553" y="6448"/>
                </a:lnTo>
                <a:lnTo>
                  <a:pt x="75553" y="4707"/>
                </a:lnTo>
                <a:lnTo>
                  <a:pt x="77328" y="4707"/>
                </a:lnTo>
                <a:lnTo>
                  <a:pt x="77328" y="8224"/>
                </a:lnTo>
                <a:lnTo>
                  <a:pt x="79939" y="10800"/>
                </a:lnTo>
                <a:lnTo>
                  <a:pt x="78286" y="10800"/>
                </a:lnTo>
                <a:lnTo>
                  <a:pt x="78286" y="17989"/>
                </a:lnTo>
                <a:lnTo>
                  <a:pt x="67667" y="17989"/>
                </a:lnTo>
                <a:lnTo>
                  <a:pt x="67667" y="10800"/>
                </a:lnTo>
                <a:lnTo>
                  <a:pt x="66013" y="10800"/>
                </a:lnTo>
                <a:close/>
              </a:path>
              <a:path fill="darkenLess" w="145953" h="21600">
                <a:moveTo>
                  <a:pt x="75553" y="6448"/>
                </a:moveTo>
                <a:lnTo>
                  <a:pt x="75553" y="4707"/>
                </a:lnTo>
                <a:lnTo>
                  <a:pt x="77328" y="4707"/>
                </a:lnTo>
                <a:lnTo>
                  <a:pt x="77328" y="8224"/>
                </a:lnTo>
                <a:close/>
              </a:path>
              <a:path fill="darkenLess" w="145953" h="21600">
                <a:moveTo>
                  <a:pt x="72054" y="14299"/>
                </a:moveTo>
                <a:lnTo>
                  <a:pt x="73899" y="14299"/>
                </a:lnTo>
                <a:lnTo>
                  <a:pt x="73899" y="17989"/>
                </a:lnTo>
                <a:lnTo>
                  <a:pt x="78286" y="17989"/>
                </a:lnTo>
                <a:lnTo>
                  <a:pt x="78286" y="10800"/>
                </a:lnTo>
                <a:lnTo>
                  <a:pt x="67667" y="10800"/>
                </a:lnTo>
                <a:lnTo>
                  <a:pt x="67667" y="17989"/>
                </a:lnTo>
                <a:lnTo>
                  <a:pt x="72054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A176C-84D9-4A04-A13B-49289785A37E}" type="slidenum">
              <a:t>7</a:t>
            </a:fld>
          </a:p>
        </p:txBody>
      </p:sp>
    </p:spTree>
  </p:cSld>
  <p:transition>
    <p:pull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015920" y="399960"/>
            <a:ext cx="7213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mic Sans MS"/>
              </a:rPr>
              <a:t>C. ORGANIZZAZIONE E POLITICHE DI GESTIONE DELLE  RISORSE UMANE DELLA SCUOL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2560" y="1657440"/>
            <a:ext cx="8127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Ufficio 1. Pianificazione del fabbisogno delle Risorse Uman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Reclutamento, incarichi, formazione continua, aggiornamento</a:t>
            </a:r>
            <a:r>
              <a:rPr b="1" i="1" lang="en-US" sz="20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dotazioni organiche</a:t>
            </a:r>
            <a:r>
              <a:rPr b="1" i="1" lang="en-US" sz="2000" spc="-1" strike="noStrike">
                <a:solidFill>
                  <a:srgbClr val="ff3300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politiche  di gestione e valutazione dei Dirigenti Scolastici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Relazioni sindacali e consulenza contrattua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3714840"/>
            <a:ext cx="81835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Ufficio 2. Pianificazione del fabbisogno delle Risorse Uman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Reclutamento, politiche di gestione, dotazioni organiche e mobilità del personale della Scuol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Formazione continua ed aggiornament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Relazioni sindacali e consulenza contrattua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>
            <a:hlinkClick r:id="" action="ppaction://hlinkshowjump?jump=nextslide"/>
          </p:cNvPr>
          <p:cNvSpPr/>
          <p:nvPr/>
        </p:nvSpPr>
        <p:spPr>
          <a:xfrm>
            <a:off x="7315200" y="6572160"/>
            <a:ext cx="812880" cy="228600"/>
          </a:xfrm>
          <a:custGeom>
            <a:avLst/>
            <a:gdLst>
              <a:gd name="textAreaLeft" fmla="*/ 14760 w 812880"/>
              <a:gd name="textAreaRight" fmla="*/ 798120 w 81288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76721" h="21600">
                <a:moveTo>
                  <a:pt x="0" y="0"/>
                </a:moveTo>
                <a:lnTo>
                  <a:pt x="76721" y="0"/>
                </a:lnTo>
                <a:lnTo>
                  <a:pt x="76721" y="21600"/>
                </a:lnTo>
                <a:lnTo>
                  <a:pt x="0" y="21600"/>
                </a:lnTo>
                <a:close/>
              </a:path>
              <a:path fill="lightenLess" w="76721" h="21600">
                <a:moveTo>
                  <a:pt x="0" y="0"/>
                </a:moveTo>
                <a:lnTo>
                  <a:pt x="76721" y="0"/>
                </a:lnTo>
                <a:lnTo>
                  <a:pt x="75321" y="1400"/>
                </a:lnTo>
                <a:lnTo>
                  <a:pt x="1400" y="1400"/>
                </a:lnTo>
                <a:close/>
              </a:path>
              <a:path fill="darken" w="76721" h="21600">
                <a:moveTo>
                  <a:pt x="76721" y="0"/>
                </a:moveTo>
                <a:lnTo>
                  <a:pt x="76721" y="21600"/>
                </a:lnTo>
                <a:lnTo>
                  <a:pt x="75321" y="20200"/>
                </a:lnTo>
                <a:lnTo>
                  <a:pt x="75321" y="1400"/>
                </a:lnTo>
                <a:close/>
              </a:path>
              <a:path fill="darkenLess" w="76721" h="21600">
                <a:moveTo>
                  <a:pt x="767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5321" y="20200"/>
                </a:lnTo>
                <a:close/>
              </a:path>
              <a:path fill="lighten" w="767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6721" h="21600">
                <a:moveTo>
                  <a:pt x="31354" y="3794"/>
                </a:moveTo>
                <a:lnTo>
                  <a:pt x="45367" y="10800"/>
                </a:lnTo>
                <a:lnTo>
                  <a:pt x="3135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>
            <a:hlinkClick r:id="rId2" action="ppaction://hlinksldjump"/>
          </p:cNvPr>
          <p:cNvSpPr/>
          <p:nvPr/>
        </p:nvSpPr>
        <p:spPr>
          <a:xfrm>
            <a:off x="4025880" y="6559560"/>
            <a:ext cx="1117800" cy="228600"/>
          </a:xfrm>
          <a:custGeom>
            <a:avLst/>
            <a:gdLst>
              <a:gd name="textAreaLeft" fmla="*/ 14760 w 1117800"/>
              <a:gd name="textAreaRight" fmla="*/ 1103040 w 11178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5487" h="21600">
                <a:moveTo>
                  <a:pt x="0" y="0"/>
                </a:moveTo>
                <a:lnTo>
                  <a:pt x="105487" y="0"/>
                </a:lnTo>
                <a:lnTo>
                  <a:pt x="105487" y="21600"/>
                </a:lnTo>
                <a:lnTo>
                  <a:pt x="0" y="21600"/>
                </a:lnTo>
                <a:close/>
              </a:path>
              <a:path fill="lightenLess" w="105487" h="21600">
                <a:moveTo>
                  <a:pt x="0" y="0"/>
                </a:moveTo>
                <a:lnTo>
                  <a:pt x="105487" y="0"/>
                </a:lnTo>
                <a:lnTo>
                  <a:pt x="104087" y="1400"/>
                </a:lnTo>
                <a:lnTo>
                  <a:pt x="1400" y="1400"/>
                </a:lnTo>
                <a:close/>
              </a:path>
              <a:path fill="darken" w="105487" h="21600">
                <a:moveTo>
                  <a:pt x="105487" y="0"/>
                </a:moveTo>
                <a:lnTo>
                  <a:pt x="105487" y="21600"/>
                </a:lnTo>
                <a:lnTo>
                  <a:pt x="104087" y="20200"/>
                </a:lnTo>
                <a:lnTo>
                  <a:pt x="104087" y="1400"/>
                </a:lnTo>
                <a:close/>
              </a:path>
              <a:path fill="darkenLess" w="105487" h="21600">
                <a:moveTo>
                  <a:pt x="1054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4087" y="20200"/>
                </a:lnTo>
                <a:close/>
              </a:path>
              <a:path fill="lighten" w="1054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05487" h="21600">
                <a:moveTo>
                  <a:pt x="45737" y="7493"/>
                </a:moveTo>
                <a:lnTo>
                  <a:pt x="49245" y="7493"/>
                </a:lnTo>
                <a:lnTo>
                  <a:pt x="49245" y="12828"/>
                </a:lnTo>
                <a:cubicBezTo>
                  <a:pt x="49245" y="13751"/>
                  <a:pt x="50045" y="14482"/>
                  <a:pt x="51081" y="14482"/>
                </a:cubicBezTo>
                <a:lnTo>
                  <a:pt x="52743" y="14482"/>
                </a:lnTo>
                <a:cubicBezTo>
                  <a:pt x="53779" y="14482"/>
                  <a:pt x="54580" y="13751"/>
                  <a:pt x="54580" y="12828"/>
                </a:cubicBezTo>
                <a:lnTo>
                  <a:pt x="54580" y="7493"/>
                </a:lnTo>
                <a:lnTo>
                  <a:pt x="52743" y="7493"/>
                </a:lnTo>
                <a:lnTo>
                  <a:pt x="56251" y="3985"/>
                </a:lnTo>
                <a:lnTo>
                  <a:pt x="59924" y="7493"/>
                </a:lnTo>
                <a:lnTo>
                  <a:pt x="58087" y="7493"/>
                </a:lnTo>
                <a:lnTo>
                  <a:pt x="58087" y="12828"/>
                </a:lnTo>
                <a:cubicBezTo>
                  <a:pt x="58087" y="15596"/>
                  <a:pt x="55511" y="18155"/>
                  <a:pt x="52743" y="18155"/>
                </a:cubicBezTo>
                <a:lnTo>
                  <a:pt x="51081" y="18155"/>
                </a:lnTo>
                <a:cubicBezTo>
                  <a:pt x="48313" y="18155"/>
                  <a:pt x="45737" y="15596"/>
                  <a:pt x="45737" y="12828"/>
                </a:cubicBez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>
            <a:hlinkClick r:id="" action="ppaction://hlinkshowjump?jump=previousslide"/>
          </p:cNvPr>
          <p:cNvSpPr/>
          <p:nvPr/>
        </p:nvSpPr>
        <p:spPr>
          <a:xfrm>
            <a:off x="6502320" y="6572160"/>
            <a:ext cx="812880" cy="228600"/>
          </a:xfrm>
          <a:custGeom>
            <a:avLst/>
            <a:gdLst>
              <a:gd name="textAreaLeft" fmla="*/ 14760 w 812880"/>
              <a:gd name="textAreaRight" fmla="*/ 798120 w 81288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76721" h="21600">
                <a:moveTo>
                  <a:pt x="0" y="0"/>
                </a:moveTo>
                <a:lnTo>
                  <a:pt x="76721" y="0"/>
                </a:lnTo>
                <a:lnTo>
                  <a:pt x="76721" y="21600"/>
                </a:lnTo>
                <a:lnTo>
                  <a:pt x="0" y="21600"/>
                </a:lnTo>
                <a:close/>
              </a:path>
              <a:path fill="lightenLess" w="76721" h="21600">
                <a:moveTo>
                  <a:pt x="0" y="0"/>
                </a:moveTo>
                <a:lnTo>
                  <a:pt x="76721" y="0"/>
                </a:lnTo>
                <a:lnTo>
                  <a:pt x="75321" y="1400"/>
                </a:lnTo>
                <a:lnTo>
                  <a:pt x="1400" y="1400"/>
                </a:lnTo>
                <a:close/>
              </a:path>
              <a:path fill="darken" w="76721" h="21600">
                <a:moveTo>
                  <a:pt x="76721" y="0"/>
                </a:moveTo>
                <a:lnTo>
                  <a:pt x="76721" y="21600"/>
                </a:lnTo>
                <a:lnTo>
                  <a:pt x="75321" y="20200"/>
                </a:lnTo>
                <a:lnTo>
                  <a:pt x="75321" y="1400"/>
                </a:lnTo>
                <a:close/>
              </a:path>
              <a:path fill="darkenLess" w="76721" h="21600">
                <a:moveTo>
                  <a:pt x="767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5321" y="20200"/>
                </a:lnTo>
                <a:close/>
              </a:path>
              <a:path fill="lighten" w="767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6721" h="21600">
                <a:moveTo>
                  <a:pt x="31354" y="10800"/>
                </a:moveTo>
                <a:lnTo>
                  <a:pt x="45367" y="3794"/>
                </a:lnTo>
                <a:lnTo>
                  <a:pt x="45367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>
            <a:hlinkClick r:id="" action="ppaction://hlinkshowjump?jump=firstslide"/>
          </p:cNvPr>
          <p:cNvSpPr/>
          <p:nvPr/>
        </p:nvSpPr>
        <p:spPr>
          <a:xfrm>
            <a:off x="1011240" y="6559560"/>
            <a:ext cx="1631880" cy="241200"/>
          </a:xfrm>
          <a:custGeom>
            <a:avLst/>
            <a:gdLst>
              <a:gd name="textAreaLeft" fmla="*/ 15480 w 1631880"/>
              <a:gd name="textAreaRight" fmla="*/ 1616400 w 1631880"/>
              <a:gd name="textAreaTop" fmla="*/ 15480 h 241200"/>
              <a:gd name="textAreaBottom" fmla="*/ 225720 h 241200"/>
            </a:gdLst>
            <a:ahLst/>
            <a:rect l="textAreaLeft" t="textAreaTop" r="textAreaRight" b="textAreaBottom"/>
            <a:pathLst>
              <a:path w="145953" h="21600">
                <a:moveTo>
                  <a:pt x="0" y="0"/>
                </a:moveTo>
                <a:lnTo>
                  <a:pt x="145953" y="0"/>
                </a:lnTo>
                <a:lnTo>
                  <a:pt x="145953" y="21600"/>
                </a:lnTo>
                <a:lnTo>
                  <a:pt x="0" y="21600"/>
                </a:lnTo>
                <a:close/>
              </a:path>
              <a:path fill="lightenLess" w="145953" h="21600">
                <a:moveTo>
                  <a:pt x="0" y="0"/>
                </a:moveTo>
                <a:lnTo>
                  <a:pt x="145953" y="0"/>
                </a:lnTo>
                <a:lnTo>
                  <a:pt x="144553" y="1400"/>
                </a:lnTo>
                <a:lnTo>
                  <a:pt x="1400" y="1400"/>
                </a:lnTo>
                <a:close/>
              </a:path>
              <a:path fill="darken" w="145953" h="21600">
                <a:moveTo>
                  <a:pt x="145953" y="0"/>
                </a:moveTo>
                <a:lnTo>
                  <a:pt x="145953" y="21600"/>
                </a:lnTo>
                <a:lnTo>
                  <a:pt x="144553" y="20200"/>
                </a:lnTo>
                <a:lnTo>
                  <a:pt x="144553" y="1400"/>
                </a:lnTo>
                <a:close/>
              </a:path>
              <a:path fill="darkenLess" w="145953" h="21600">
                <a:moveTo>
                  <a:pt x="1459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44553" y="20200"/>
                </a:lnTo>
                <a:close/>
              </a:path>
              <a:path fill="lighten" w="1459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45953" h="21600">
                <a:moveTo>
                  <a:pt x="72976" y="3837"/>
                </a:moveTo>
                <a:lnTo>
                  <a:pt x="75553" y="6448"/>
                </a:lnTo>
                <a:lnTo>
                  <a:pt x="75553" y="4707"/>
                </a:lnTo>
                <a:lnTo>
                  <a:pt x="77328" y="4707"/>
                </a:lnTo>
                <a:lnTo>
                  <a:pt x="77328" y="8224"/>
                </a:lnTo>
                <a:lnTo>
                  <a:pt x="79939" y="10800"/>
                </a:lnTo>
                <a:lnTo>
                  <a:pt x="78286" y="10800"/>
                </a:lnTo>
                <a:lnTo>
                  <a:pt x="78286" y="17989"/>
                </a:lnTo>
                <a:lnTo>
                  <a:pt x="67667" y="17989"/>
                </a:lnTo>
                <a:lnTo>
                  <a:pt x="67667" y="10800"/>
                </a:lnTo>
                <a:lnTo>
                  <a:pt x="66013" y="10800"/>
                </a:lnTo>
                <a:close/>
              </a:path>
              <a:path fill="darkenLess" w="145953" h="21600">
                <a:moveTo>
                  <a:pt x="75553" y="6448"/>
                </a:moveTo>
                <a:lnTo>
                  <a:pt x="75553" y="4707"/>
                </a:lnTo>
                <a:lnTo>
                  <a:pt x="77328" y="4707"/>
                </a:lnTo>
                <a:lnTo>
                  <a:pt x="77328" y="8224"/>
                </a:lnTo>
                <a:close/>
              </a:path>
              <a:path fill="darkenLess" w="145953" h="21600">
                <a:moveTo>
                  <a:pt x="72054" y="14299"/>
                </a:moveTo>
                <a:lnTo>
                  <a:pt x="73899" y="14299"/>
                </a:lnTo>
                <a:lnTo>
                  <a:pt x="73899" y="17989"/>
                </a:lnTo>
                <a:lnTo>
                  <a:pt x="78286" y="17989"/>
                </a:lnTo>
                <a:lnTo>
                  <a:pt x="78286" y="10800"/>
                </a:lnTo>
                <a:lnTo>
                  <a:pt x="67667" y="10800"/>
                </a:lnTo>
                <a:lnTo>
                  <a:pt x="67667" y="17989"/>
                </a:lnTo>
                <a:lnTo>
                  <a:pt x="72054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5B0C8-9110-4BAD-BCE4-6613714F7D82}" type="slidenum">
              <a:t>8</a:t>
            </a:fld>
          </a:p>
        </p:txBody>
      </p:sp>
    </p:spTree>
  </p:cSld>
  <p:transition>
    <p:pull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943280" y="3081240"/>
            <a:ext cx="5181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Controllo e verifiche sulla gestione dei bilanc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765440" y="1851120"/>
            <a:ext cx="5689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Pianificazione, programmazione e amministrazione delle risorse finanziarie per le Istituzioni Scolastich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47920" y="3821040"/>
            <a:ext cx="61974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Supporto alla Gestione Amministrativo - Contabile delle Scuo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Programmazione, amministrazione e gestione economica e finanziaria dell’Amministrazione Scolastica Regiona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914400" y="399960"/>
            <a:ext cx="741672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mic Sans MS"/>
              </a:rPr>
              <a:t>D.  AREA AMMINISTRATIVA E GESTIONE DELLE RISORSE FINANZIARI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mic Sans MS"/>
              </a:rPr>
              <a:t>UFFICIO UN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>
            <a:hlinkClick r:id="" action="ppaction://hlinkshowjump?jump=nextslide"/>
          </p:cNvPr>
          <p:cNvSpPr/>
          <p:nvPr/>
        </p:nvSpPr>
        <p:spPr>
          <a:xfrm>
            <a:off x="7315200" y="6572160"/>
            <a:ext cx="812880" cy="228600"/>
          </a:xfrm>
          <a:custGeom>
            <a:avLst/>
            <a:gdLst>
              <a:gd name="textAreaLeft" fmla="*/ 14760 w 812880"/>
              <a:gd name="textAreaRight" fmla="*/ 798120 w 81288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76721" h="21600">
                <a:moveTo>
                  <a:pt x="0" y="0"/>
                </a:moveTo>
                <a:lnTo>
                  <a:pt x="76721" y="0"/>
                </a:lnTo>
                <a:lnTo>
                  <a:pt x="76721" y="21600"/>
                </a:lnTo>
                <a:lnTo>
                  <a:pt x="0" y="21600"/>
                </a:lnTo>
                <a:close/>
              </a:path>
              <a:path fill="lightenLess" w="76721" h="21600">
                <a:moveTo>
                  <a:pt x="0" y="0"/>
                </a:moveTo>
                <a:lnTo>
                  <a:pt x="76721" y="0"/>
                </a:lnTo>
                <a:lnTo>
                  <a:pt x="75321" y="1400"/>
                </a:lnTo>
                <a:lnTo>
                  <a:pt x="1400" y="1400"/>
                </a:lnTo>
                <a:close/>
              </a:path>
              <a:path fill="darken" w="76721" h="21600">
                <a:moveTo>
                  <a:pt x="76721" y="0"/>
                </a:moveTo>
                <a:lnTo>
                  <a:pt x="76721" y="21600"/>
                </a:lnTo>
                <a:lnTo>
                  <a:pt x="75321" y="20200"/>
                </a:lnTo>
                <a:lnTo>
                  <a:pt x="75321" y="1400"/>
                </a:lnTo>
                <a:close/>
              </a:path>
              <a:path fill="darkenLess" w="76721" h="21600">
                <a:moveTo>
                  <a:pt x="767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5321" y="20200"/>
                </a:lnTo>
                <a:close/>
              </a:path>
              <a:path fill="lighten" w="767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6721" h="21600">
                <a:moveTo>
                  <a:pt x="31354" y="3794"/>
                </a:moveTo>
                <a:lnTo>
                  <a:pt x="45367" y="10800"/>
                </a:lnTo>
                <a:lnTo>
                  <a:pt x="3135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>
            <a:hlinkClick r:id="rId2" action="ppaction://hlinksldjump"/>
          </p:cNvPr>
          <p:cNvSpPr/>
          <p:nvPr/>
        </p:nvSpPr>
        <p:spPr>
          <a:xfrm>
            <a:off x="4025880" y="6559560"/>
            <a:ext cx="1117800" cy="228600"/>
          </a:xfrm>
          <a:custGeom>
            <a:avLst/>
            <a:gdLst>
              <a:gd name="textAreaLeft" fmla="*/ 14760 w 1117800"/>
              <a:gd name="textAreaRight" fmla="*/ 1103040 w 11178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5487" h="21600">
                <a:moveTo>
                  <a:pt x="0" y="0"/>
                </a:moveTo>
                <a:lnTo>
                  <a:pt x="105487" y="0"/>
                </a:lnTo>
                <a:lnTo>
                  <a:pt x="105487" y="21600"/>
                </a:lnTo>
                <a:lnTo>
                  <a:pt x="0" y="21600"/>
                </a:lnTo>
                <a:close/>
              </a:path>
              <a:path fill="lightenLess" w="105487" h="21600">
                <a:moveTo>
                  <a:pt x="0" y="0"/>
                </a:moveTo>
                <a:lnTo>
                  <a:pt x="105487" y="0"/>
                </a:lnTo>
                <a:lnTo>
                  <a:pt x="104087" y="1400"/>
                </a:lnTo>
                <a:lnTo>
                  <a:pt x="1400" y="1400"/>
                </a:lnTo>
                <a:close/>
              </a:path>
              <a:path fill="darken" w="105487" h="21600">
                <a:moveTo>
                  <a:pt x="105487" y="0"/>
                </a:moveTo>
                <a:lnTo>
                  <a:pt x="105487" y="21600"/>
                </a:lnTo>
                <a:lnTo>
                  <a:pt x="104087" y="20200"/>
                </a:lnTo>
                <a:lnTo>
                  <a:pt x="104087" y="1400"/>
                </a:lnTo>
                <a:close/>
              </a:path>
              <a:path fill="darkenLess" w="105487" h="21600">
                <a:moveTo>
                  <a:pt x="1054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4087" y="20200"/>
                </a:lnTo>
                <a:close/>
              </a:path>
              <a:path fill="lighten" w="1054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05487" h="21600">
                <a:moveTo>
                  <a:pt x="45737" y="7493"/>
                </a:moveTo>
                <a:lnTo>
                  <a:pt x="49245" y="7493"/>
                </a:lnTo>
                <a:lnTo>
                  <a:pt x="49245" y="12828"/>
                </a:lnTo>
                <a:cubicBezTo>
                  <a:pt x="49245" y="13751"/>
                  <a:pt x="50045" y="14482"/>
                  <a:pt x="51081" y="14482"/>
                </a:cubicBezTo>
                <a:lnTo>
                  <a:pt x="52743" y="14482"/>
                </a:lnTo>
                <a:cubicBezTo>
                  <a:pt x="53779" y="14482"/>
                  <a:pt x="54580" y="13751"/>
                  <a:pt x="54580" y="12828"/>
                </a:cubicBezTo>
                <a:lnTo>
                  <a:pt x="54580" y="7493"/>
                </a:lnTo>
                <a:lnTo>
                  <a:pt x="52743" y="7493"/>
                </a:lnTo>
                <a:lnTo>
                  <a:pt x="56251" y="3985"/>
                </a:lnTo>
                <a:lnTo>
                  <a:pt x="59924" y="7493"/>
                </a:lnTo>
                <a:lnTo>
                  <a:pt x="58087" y="7493"/>
                </a:lnTo>
                <a:lnTo>
                  <a:pt x="58087" y="12828"/>
                </a:lnTo>
                <a:cubicBezTo>
                  <a:pt x="58087" y="15596"/>
                  <a:pt x="55511" y="18155"/>
                  <a:pt x="52743" y="18155"/>
                </a:cubicBezTo>
                <a:lnTo>
                  <a:pt x="51081" y="18155"/>
                </a:lnTo>
                <a:cubicBezTo>
                  <a:pt x="48313" y="18155"/>
                  <a:pt x="45737" y="15596"/>
                  <a:pt x="45737" y="12828"/>
                </a:cubicBez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>
            <a:hlinkClick r:id="" action="ppaction://hlinkshowjump?jump=previousslide"/>
          </p:cNvPr>
          <p:cNvSpPr/>
          <p:nvPr/>
        </p:nvSpPr>
        <p:spPr>
          <a:xfrm>
            <a:off x="6502320" y="6572160"/>
            <a:ext cx="812880" cy="228600"/>
          </a:xfrm>
          <a:custGeom>
            <a:avLst/>
            <a:gdLst>
              <a:gd name="textAreaLeft" fmla="*/ 14760 w 812880"/>
              <a:gd name="textAreaRight" fmla="*/ 798120 w 81288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76721" h="21600">
                <a:moveTo>
                  <a:pt x="0" y="0"/>
                </a:moveTo>
                <a:lnTo>
                  <a:pt x="76721" y="0"/>
                </a:lnTo>
                <a:lnTo>
                  <a:pt x="76721" y="21600"/>
                </a:lnTo>
                <a:lnTo>
                  <a:pt x="0" y="21600"/>
                </a:lnTo>
                <a:close/>
              </a:path>
              <a:path fill="lightenLess" w="76721" h="21600">
                <a:moveTo>
                  <a:pt x="0" y="0"/>
                </a:moveTo>
                <a:lnTo>
                  <a:pt x="76721" y="0"/>
                </a:lnTo>
                <a:lnTo>
                  <a:pt x="75321" y="1400"/>
                </a:lnTo>
                <a:lnTo>
                  <a:pt x="1400" y="1400"/>
                </a:lnTo>
                <a:close/>
              </a:path>
              <a:path fill="darken" w="76721" h="21600">
                <a:moveTo>
                  <a:pt x="76721" y="0"/>
                </a:moveTo>
                <a:lnTo>
                  <a:pt x="76721" y="21600"/>
                </a:lnTo>
                <a:lnTo>
                  <a:pt x="75321" y="20200"/>
                </a:lnTo>
                <a:lnTo>
                  <a:pt x="75321" y="1400"/>
                </a:lnTo>
                <a:close/>
              </a:path>
              <a:path fill="darkenLess" w="76721" h="21600">
                <a:moveTo>
                  <a:pt x="767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5321" y="20200"/>
                </a:lnTo>
                <a:close/>
              </a:path>
              <a:path fill="lighten" w="767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6721" h="21600">
                <a:moveTo>
                  <a:pt x="31354" y="10800"/>
                </a:moveTo>
                <a:lnTo>
                  <a:pt x="45367" y="3794"/>
                </a:lnTo>
                <a:lnTo>
                  <a:pt x="45367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>
            <a:hlinkClick r:id="" action="ppaction://hlinkshowjump?jump=firstslide"/>
          </p:cNvPr>
          <p:cNvSpPr/>
          <p:nvPr/>
        </p:nvSpPr>
        <p:spPr>
          <a:xfrm>
            <a:off x="1011240" y="6559560"/>
            <a:ext cx="1631880" cy="241200"/>
          </a:xfrm>
          <a:custGeom>
            <a:avLst/>
            <a:gdLst>
              <a:gd name="textAreaLeft" fmla="*/ 15480 w 1631880"/>
              <a:gd name="textAreaRight" fmla="*/ 1616400 w 1631880"/>
              <a:gd name="textAreaTop" fmla="*/ 15480 h 241200"/>
              <a:gd name="textAreaBottom" fmla="*/ 225720 h 241200"/>
            </a:gdLst>
            <a:ahLst/>
            <a:rect l="textAreaLeft" t="textAreaTop" r="textAreaRight" b="textAreaBottom"/>
            <a:pathLst>
              <a:path w="145953" h="21600">
                <a:moveTo>
                  <a:pt x="0" y="0"/>
                </a:moveTo>
                <a:lnTo>
                  <a:pt x="145953" y="0"/>
                </a:lnTo>
                <a:lnTo>
                  <a:pt x="145953" y="21600"/>
                </a:lnTo>
                <a:lnTo>
                  <a:pt x="0" y="21600"/>
                </a:lnTo>
                <a:close/>
              </a:path>
              <a:path fill="lightenLess" w="145953" h="21600">
                <a:moveTo>
                  <a:pt x="0" y="0"/>
                </a:moveTo>
                <a:lnTo>
                  <a:pt x="145953" y="0"/>
                </a:lnTo>
                <a:lnTo>
                  <a:pt x="144553" y="1400"/>
                </a:lnTo>
                <a:lnTo>
                  <a:pt x="1400" y="1400"/>
                </a:lnTo>
                <a:close/>
              </a:path>
              <a:path fill="darken" w="145953" h="21600">
                <a:moveTo>
                  <a:pt x="145953" y="0"/>
                </a:moveTo>
                <a:lnTo>
                  <a:pt x="145953" y="21600"/>
                </a:lnTo>
                <a:lnTo>
                  <a:pt x="144553" y="20200"/>
                </a:lnTo>
                <a:lnTo>
                  <a:pt x="144553" y="1400"/>
                </a:lnTo>
                <a:close/>
              </a:path>
              <a:path fill="darkenLess" w="145953" h="21600">
                <a:moveTo>
                  <a:pt x="1459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44553" y="20200"/>
                </a:lnTo>
                <a:close/>
              </a:path>
              <a:path fill="lighten" w="1459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45953" h="21600">
                <a:moveTo>
                  <a:pt x="72976" y="3837"/>
                </a:moveTo>
                <a:lnTo>
                  <a:pt x="75553" y="6448"/>
                </a:lnTo>
                <a:lnTo>
                  <a:pt x="75553" y="4707"/>
                </a:lnTo>
                <a:lnTo>
                  <a:pt x="77328" y="4707"/>
                </a:lnTo>
                <a:lnTo>
                  <a:pt x="77328" y="8224"/>
                </a:lnTo>
                <a:lnTo>
                  <a:pt x="79939" y="10800"/>
                </a:lnTo>
                <a:lnTo>
                  <a:pt x="78286" y="10800"/>
                </a:lnTo>
                <a:lnTo>
                  <a:pt x="78286" y="17989"/>
                </a:lnTo>
                <a:lnTo>
                  <a:pt x="67667" y="17989"/>
                </a:lnTo>
                <a:lnTo>
                  <a:pt x="67667" y="10800"/>
                </a:lnTo>
                <a:lnTo>
                  <a:pt x="66013" y="10800"/>
                </a:lnTo>
                <a:close/>
              </a:path>
              <a:path fill="darkenLess" w="145953" h="21600">
                <a:moveTo>
                  <a:pt x="75553" y="6448"/>
                </a:moveTo>
                <a:lnTo>
                  <a:pt x="75553" y="4707"/>
                </a:lnTo>
                <a:lnTo>
                  <a:pt x="77328" y="4707"/>
                </a:lnTo>
                <a:lnTo>
                  <a:pt x="77328" y="8224"/>
                </a:lnTo>
                <a:close/>
              </a:path>
              <a:path fill="darkenLess" w="145953" h="21600">
                <a:moveTo>
                  <a:pt x="72054" y="14299"/>
                </a:moveTo>
                <a:lnTo>
                  <a:pt x="73899" y="14299"/>
                </a:lnTo>
                <a:lnTo>
                  <a:pt x="73899" y="17989"/>
                </a:lnTo>
                <a:lnTo>
                  <a:pt x="78286" y="17989"/>
                </a:lnTo>
                <a:lnTo>
                  <a:pt x="78286" y="10800"/>
                </a:lnTo>
                <a:lnTo>
                  <a:pt x="67667" y="10800"/>
                </a:lnTo>
                <a:lnTo>
                  <a:pt x="67667" y="17989"/>
                </a:lnTo>
                <a:lnTo>
                  <a:pt x="72054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93F32-5C35-499E-AFC6-2148BD94830A}" type="slidenum">
              <a:t>9</a:t>
            </a:fld>
          </a:p>
        </p:txBody>
      </p:sp>
    </p:spTree>
  </p:cSld>
  <p:transition>
    <p:pull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29T19:47:51Z</dcterms:created>
  <dc:creator>IRIS</dc:creator>
  <dc:description/>
  <dc:language>en-US</dc:language>
  <cp:lastModifiedBy>Manuela Parrocchia</cp:lastModifiedBy>
  <dcterms:modified xsi:type="dcterms:W3CDTF">2001-06-11T18:02:04Z</dcterms:modified>
  <cp:revision>189</cp:revision>
  <dc:subject/>
  <dc:title>USR</dc:title>
</cp:coreProperties>
</file>