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384-8FD3-4D23-9F6F-77AEBB24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73A-6D7F-4829-9AD7-781C5E2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4F9-9C27-4E9B-B33F-95DAD041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C28-54EF-4E49-B63B-C0C87224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69B-A491-41F5-A48E-03F3E85F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447-097E-4CC3-BC06-45AD4AE5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50B-E37C-4039-ABEC-58362115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776-1538-4703-B513-BEAB3DBF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0EC-B329-47C3-89E9-7FE57C9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076-FFDF-4C62-82D3-0A9DAE03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B47-9629-489F-AF0A-FF050028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7DB-F10F-4E6D-B6EE-0F9786D4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FF82-8AA2-4BDC-83B8-EFED2DFA37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2238480"/>
            <a:ext cx="67820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 e istru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one dell’accesso al 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e cartacea de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e digitale 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 per la rilevazione delle attività svolte dalle istituzioni scola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14520" y="12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1" descr=""/>
          <p:cNvPicPr/>
          <p:nvPr/>
        </p:nvPicPr>
        <p:blipFill>
          <a:blip r:embed="rId1"/>
          <a:stretch/>
        </p:blipFill>
        <p:spPr>
          <a:xfrm>
            <a:off x="380880" y="1284120"/>
            <a:ext cx="6096240" cy="511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533520"/>
            <a:ext cx="35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one dell’accesso al 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1494000"/>
            <a:ext cx="2286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e dedicate alle diverse attività da realizzarsi per la somministrazione informatica del Progetto Pilota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i [RIF.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Questionario delle attività delle scuole [RIF.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Somministrazione Informatica [RIF.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Referenti regionali e provinciali Riservata [RIF.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zione Scuole Somministrazione Informatica [RIF.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 – Help  [RIF.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e di accesso e interazione con il siro [RIF.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cando con il tasto sinistro del mouse sui link evidenziati, si ottiene l’accesso alle diverse a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2767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274320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600200" y="44197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80988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4876920"/>
            <a:ext cx="609840" cy="457200"/>
          </a:xfrm>
          <a:prstGeom prst="leftArrow">
            <a:avLst>
              <a:gd name="adj1" fmla="val 50000"/>
              <a:gd name="adj2" fmla="val 3334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1371600" y="220968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34340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6019920" cy="5060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29400" y="1343160"/>
            <a:ext cx="22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1389240"/>
            <a:ext cx="22860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accedere al questionario l’utente de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ire nei campi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1]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2]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dice meccanografic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proprio Istituto di appartenenza (che deve essere digitato in caratteri maiuscoli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zionare  il pulsante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erm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3]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avvia la procedura di identificazione da parte del sistema centr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74320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20040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1676520" y="365760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145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11599" r="0" b="7082"/>
          <a:stretch/>
        </p:blipFill>
        <p:spPr>
          <a:xfrm>
            <a:off x="1600200" y="2467080"/>
            <a:ext cx="5943600" cy="3628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6520" y="129528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gina presenta il link alla versione digitale sia del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videnziata in blu nella figura)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1]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a del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o di osservaz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a parte centrale della pagina è presente una zona informativa, nella quale sono indicati gli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vis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l’utente partecipante all’indagine, che riguardano specificatamente la compilazione del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el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2928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2928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312408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1452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12480" r="0" b="2810"/>
          <a:stretch/>
        </p:blipFill>
        <p:spPr>
          <a:xfrm>
            <a:off x="380880" y="2286000"/>
            <a:ext cx="6248520" cy="398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1219320"/>
            <a:ext cx="6248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pre la finestra d’interazione rappresentata in figura. Sulla sua sinistra viene visualizzata la struttura del questionario che serve per accedere alle sue parti, sezioni e sottosezioni. Ad esempio la seconda parte del questionario è intitolat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olazione scolastic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RIF.1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sua prima sezi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rse e dotazio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che a sua volta è divisa in tre sottosezioni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sic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ecnologic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nanziari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1198080"/>
            <a:ext cx="20574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olta visualizzata la versione digitale de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barra delle funzioni in alto sulla destra presenta tre nuove funzio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ulsan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prim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2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e di visualizzare e stampare un copia del questionario con le risposte registrate in una precedente sessione di lavor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ulsan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3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e di salvare le risposte immesse nel formato digitale de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i poter riprendere il lavoro successivamente per modificare le risposte già registrate o per completare la compilazion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ulsan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4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e di inviare il questionario in formato digitale all’INValS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89080"/>
            <a:ext cx="83822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e digitale del Quest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rilevazione delle attività svolte dalle istituzioni scolasti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68580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943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749840" y="287784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124080"/>
            <a:ext cx="609840" cy="457200"/>
          </a:xfrm>
          <a:prstGeom prst="leftArrow">
            <a:avLst>
              <a:gd name="adj1" fmla="val 50000"/>
              <a:gd name="adj2" fmla="val 3334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5360760" y="287784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5883120" y="287784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quest1" descr=""/>
          <p:cNvPicPr/>
          <p:nvPr/>
        </p:nvPicPr>
        <p:blipFill>
          <a:blip r:embed="rId1"/>
          <a:stretch/>
        </p:blipFill>
        <p:spPr>
          <a:xfrm>
            <a:off x="344520" y="1295280"/>
            <a:ext cx="6361200" cy="2186280"/>
          </a:xfrm>
          <a:prstGeom prst="rect">
            <a:avLst/>
          </a:prstGeom>
          <a:ln w="0">
            <a:noFill/>
          </a:ln>
        </p:spPr>
      </p:pic>
      <p:pic>
        <p:nvPicPr>
          <p:cNvPr id="81" name="quest2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632484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quest3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6324840" cy="1673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0" y="1295280"/>
            <a:ext cx="19051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serire le risposte è sufficiente digitarle nel campo tes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1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o alla domanda; anche se il campo visibile risulta ridotto, è comunque possibile inserire un indirizzo completo nell’omonimo cam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3581280"/>
            <a:ext cx="1905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trumento di selezione delle domande appartenenti ad una stessa sezione è costituito dalla barr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2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ppresentata nella fig. a la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4724280"/>
            <a:ext cx="289548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selezionare le domande è possibile sia aprire il menù a tendina (cliccando sul pulsante frecci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3]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selezionare il titolo di una domand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4]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a utilizzare le due frecce azzurr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5]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i lati della barr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F.2]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In questo caso, vengono visualizzate le domande immediatamente precedenti o success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678168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895480"/>
            <a:ext cx="608040" cy="457200"/>
          </a:xfrm>
          <a:prstGeom prst="rightArrow">
            <a:avLst>
              <a:gd name="adj1" fmla="val 50000"/>
              <a:gd name="adj2" fmla="val 3324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3505680" y="4191120"/>
            <a:ext cx="608040" cy="457200"/>
          </a:xfrm>
          <a:prstGeom prst="rightArrow">
            <a:avLst>
              <a:gd name="adj1" fmla="val 50000"/>
              <a:gd name="adj2" fmla="val 3324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5258520" y="4115160"/>
            <a:ext cx="608040" cy="457200"/>
          </a:xfrm>
          <a:prstGeom prst="rightArrow">
            <a:avLst>
              <a:gd name="adj1" fmla="val 50000"/>
              <a:gd name="adj2" fmla="val 3324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02920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05280" y="4189680"/>
            <a:ext cx="608040" cy="457200"/>
          </a:xfrm>
          <a:prstGeom prst="rightArrow">
            <a:avLst>
              <a:gd name="adj1" fmla="val 50000"/>
              <a:gd name="adj2" fmla="val 3324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6020280" y="4115160"/>
            <a:ext cx="608040" cy="457200"/>
          </a:xfrm>
          <a:prstGeom prst="rightArrow">
            <a:avLst>
              <a:gd name="adj1" fmla="val 50000"/>
              <a:gd name="adj2" fmla="val 3324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F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oc" descr=""/>
          <p:cNvPicPr/>
          <p:nvPr/>
        </p:nvPicPr>
        <p:blipFill>
          <a:blip r:embed="rId1"/>
          <a:stretch/>
        </p:blipFill>
        <p:spPr>
          <a:xfrm>
            <a:off x="457200" y="1805040"/>
            <a:ext cx="5791320" cy="451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477120" y="1784520"/>
            <a:ext cx="2286000" cy="34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menti relativi al complesso delle attività previste per la compilazione de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vver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o per le osservazio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i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 per la rilevazione delle attività svolte dalle istituzioni scolastic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tà di compilazione per il Questionar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il presen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e di accesso e interazione con il si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rsione cartacea de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ar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 essere distribuita a tutti i membri componenti il Gruppo di discussi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65530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0813" y="3837"/>
                </a:moveTo>
                <a:lnTo>
                  <a:pt x="13389" y="6448"/>
                </a:lnTo>
                <a:lnTo>
                  <a:pt x="13389" y="4707"/>
                </a:lnTo>
                <a:lnTo>
                  <a:pt x="15165" y="4707"/>
                </a:lnTo>
                <a:lnTo>
                  <a:pt x="15165" y="8224"/>
                </a:lnTo>
                <a:lnTo>
                  <a:pt x="17776" y="10800"/>
                </a:lnTo>
                <a:lnTo>
                  <a:pt x="16122" y="10800"/>
                </a:lnTo>
                <a:lnTo>
                  <a:pt x="16122" y="17989"/>
                </a:lnTo>
                <a:lnTo>
                  <a:pt x="5503" y="17989"/>
                </a:lnTo>
                <a:lnTo>
                  <a:pt x="5503" y="10800"/>
                </a:lnTo>
                <a:lnTo>
                  <a:pt x="3850" y="10800"/>
                </a:lnTo>
                <a:close/>
              </a:path>
              <a:path fill="darkenLess" w="21626" h="21600">
                <a:moveTo>
                  <a:pt x="13389" y="6448"/>
                </a:moveTo>
                <a:lnTo>
                  <a:pt x="13389" y="4707"/>
                </a:lnTo>
                <a:lnTo>
                  <a:pt x="15165" y="4707"/>
                </a:lnTo>
                <a:lnTo>
                  <a:pt x="15165" y="8224"/>
                </a:lnTo>
                <a:close/>
              </a:path>
              <a:path fill="darkenLess" w="21626" h="21600">
                <a:moveTo>
                  <a:pt x="9890" y="14299"/>
                </a:moveTo>
                <a:lnTo>
                  <a:pt x="11735" y="14299"/>
                </a:lnTo>
                <a:lnTo>
                  <a:pt x="11735" y="17989"/>
                </a:lnTo>
                <a:lnTo>
                  <a:pt x="16122" y="17989"/>
                </a:lnTo>
                <a:lnTo>
                  <a:pt x="16122" y="10800"/>
                </a:lnTo>
                <a:lnTo>
                  <a:pt x="5503" y="10800"/>
                </a:lnTo>
                <a:lnTo>
                  <a:pt x="5503" y="17989"/>
                </a:lnTo>
                <a:lnTo>
                  <a:pt x="9890" y="1798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fo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219720" cy="482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746280"/>
            <a:ext cx="617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ina di presentazione del portale che riporta anche le indicazioni per contattare l’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de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0813" y="3837"/>
                </a:moveTo>
                <a:lnTo>
                  <a:pt x="13389" y="6448"/>
                </a:lnTo>
                <a:lnTo>
                  <a:pt x="13389" y="4707"/>
                </a:lnTo>
                <a:lnTo>
                  <a:pt x="15165" y="4707"/>
                </a:lnTo>
                <a:lnTo>
                  <a:pt x="15165" y="8224"/>
                </a:lnTo>
                <a:lnTo>
                  <a:pt x="17776" y="10800"/>
                </a:lnTo>
                <a:lnTo>
                  <a:pt x="16122" y="10800"/>
                </a:lnTo>
                <a:lnTo>
                  <a:pt x="16122" y="17989"/>
                </a:lnTo>
                <a:lnTo>
                  <a:pt x="5503" y="17989"/>
                </a:lnTo>
                <a:lnTo>
                  <a:pt x="5503" y="10800"/>
                </a:lnTo>
                <a:lnTo>
                  <a:pt x="3850" y="10800"/>
                </a:lnTo>
                <a:close/>
              </a:path>
              <a:path fill="darkenLess" w="21626" h="21600">
                <a:moveTo>
                  <a:pt x="13389" y="6448"/>
                </a:moveTo>
                <a:lnTo>
                  <a:pt x="13389" y="4707"/>
                </a:lnTo>
                <a:lnTo>
                  <a:pt x="15165" y="4707"/>
                </a:lnTo>
                <a:lnTo>
                  <a:pt x="15165" y="8224"/>
                </a:lnTo>
                <a:close/>
              </a:path>
              <a:path fill="darkenLess" w="21626" h="21600">
                <a:moveTo>
                  <a:pt x="9890" y="14299"/>
                </a:moveTo>
                <a:lnTo>
                  <a:pt x="11735" y="14299"/>
                </a:lnTo>
                <a:lnTo>
                  <a:pt x="11735" y="17989"/>
                </a:lnTo>
                <a:lnTo>
                  <a:pt x="16122" y="17989"/>
                </a:lnTo>
                <a:lnTo>
                  <a:pt x="16122" y="10800"/>
                </a:lnTo>
                <a:lnTo>
                  <a:pt x="5503" y="10800"/>
                </a:lnTo>
                <a:lnTo>
                  <a:pt x="5503" y="17989"/>
                </a:lnTo>
                <a:lnTo>
                  <a:pt x="9890" y="17989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18:08:37Z</dcterms:created>
  <dc:creator>pegaso</dc:creator>
  <dc:description/>
  <dc:language>en-US</dc:language>
  <cp:lastModifiedBy>francesca.veglione</cp:lastModifiedBy>
  <dcterms:modified xsi:type="dcterms:W3CDTF">2003-02-13T10:57:07Z</dcterms:modified>
  <cp:revision>23</cp:revision>
  <dc:subject/>
  <dc:title>Presentazione di PowerPoint</dc:title>
</cp:coreProperties>
</file>