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6012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F7FE-C5EB-454F-B921-DCBC318CA8B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no i docenti che curano la somministrazione delle prove, in classi d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a quelle di titolarità (vedi compiti dirigente scolastico), con i seguen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pi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onosc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in modo approfondito il manuale del somministrato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contatta </a:t>
            </a: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il coordinatore della scuola per ogni dubbio o quesi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aiuta </a:t>
            </a: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il coordinatore ad applicar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le etichette autoadesive con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dici identificativi di ogni studente sulla copertina di ciascun fascicol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una settimana prima della somminist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incontra</a:t>
            </a: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 il coordinatore della scuola e il Dirigente Scolastico p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pianificare tutte le operazioni necessa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compila </a:t>
            </a: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il </a:t>
            </a:r>
            <a:r>
              <a:rPr b="0" i="1" lang="it-IT" sz="1200" spc="-1" strike="noStrike">
                <a:solidFill>
                  <a:srgbClr val="ff0000"/>
                </a:solidFill>
                <a:latin typeface="Times New Roman"/>
              </a:rPr>
              <a:t>Modulo di somministrazione della prova</a:t>
            </a: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 dal punto 1 al punto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si accorda </a:t>
            </a: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con il docente di sostegno e il coordinatore per consent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agli studenti non vedenti, al termine della somministrazione ordinaria,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completare le prove nei tempi stabiliti dall'INValS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qualche giorno prima della somministrazion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i accert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ella pres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l materiale necess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no i docenti che curano la somministrazione delle prove, in classi d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a quelle di titolarità (vedi compiti dirigente scolastico), con i seguen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pi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onosc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in modo approfondito il manuale del somministrato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contatta </a:t>
            </a: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il coordinatore della scuola per ogni dubbio o quesi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aiuta </a:t>
            </a: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il coordinatore ad applicar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le etichette autoadesive con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dici identificativi di ogni studente sulla copertina di ciascun fascicol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una settimana prima della somminist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incontra</a:t>
            </a: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 il coordinatore della scuola e il Dirigente Scolastico p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pianificare tutte le operazioni necessa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compila </a:t>
            </a: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il </a:t>
            </a:r>
            <a:r>
              <a:rPr b="0" i="1" lang="it-IT" sz="1200" spc="-1" strike="noStrike">
                <a:solidFill>
                  <a:srgbClr val="ff0000"/>
                </a:solidFill>
                <a:latin typeface="Times New Roman"/>
              </a:rPr>
              <a:t>Modulo di somministrazione della prova</a:t>
            </a: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 dal punto 1 al punto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si accorda </a:t>
            </a: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con il docente di sostegno e il coordinatore per consent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agli studenti non vedenti, al termine della somministrazione ordinaria,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Times New Roman"/>
              </a:rPr>
              <a:t>completare le prove nei tempi stabiliti dall'INValS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imes New Roman"/>
              </a:rPr>
              <a:t>qualche giorno prima della somministrazion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i accert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ella pres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l materiale necess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B85-8C42-401B-B616-51040B26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065-07DE-48EA-9ECF-A6A56BE5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432-5063-4237-9283-804691D7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025-626C-4DA3-A36D-A8CDFDBA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9F56-ADD5-47AB-BF1F-3CDFF411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532F-9B36-4319-B469-968C9746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BF65-E957-4129-B3E5-D81EF7B6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4835-1D24-4A9A-BD3A-5F91A50E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E621-6FDE-4F00-9275-9F84AB55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1295-DD0D-4923-9173-54F9356E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B418-E376-4305-AF51-08E8BC1A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904-CA11-49BD-BD51-793B7821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F225-D9F9-4B1F-A962-E740E4F7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C30A-AA62-4522-94E4-AB48C23A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5D0B-CDF8-465F-B07E-5CFD1016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366A-A118-4C15-B289-66BEDE9F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5570-36FA-4AB0-99B0-FB2DFCCC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E7E-FC7F-44D4-91A8-750BBFA0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AA7-D40B-4394-A791-9FB59EB1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3F0-4C59-4D5D-B6C0-1779770D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11A-AE49-49B1-94EF-49E9F4F0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E27-4461-45DB-AB11-DB8F9882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8BB-66AE-49AA-A5F4-F8CC623A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C6E-4FE9-4217-92BB-08C3E820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E0E9-8D7E-4385-968B-5A17A0CC90FA}" type="slidenum">
              <a:rPr b="0" lang="en-US" sz="1400" spc="-1" strike="noStrike">
                <a:solidFill>
                  <a:srgbClr val="ffff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E721-CECC-4422-BE6C-2EAFA703F8EA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Progetto Pilota 2</a:t>
            </a:r>
            <a:endParaRPr b="0" lang="en-US" sz="6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90360" y="39625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c002a"/>
                </a:solidFill>
                <a:latin typeface="Comic Sans MS"/>
              </a:rPr>
              <a:t>Funzioni e compiti</a:t>
            </a:r>
            <a:r>
              <a:rPr b="0" i="1" lang="en-US" sz="3600" spc="-1" strike="noStrike">
                <a:solidFill>
                  <a:srgbClr val="dc002a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c002a"/>
                </a:solidFill>
                <a:latin typeface="Comic Sans MS"/>
              </a:rPr>
              <a:t>di coordinatori e somministrator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5FA1-D5F7-48E2-93AC-A70087989A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f01"/>
                </a:solidFill>
                <a:latin typeface="Tahoma"/>
              </a:rPr>
              <a:t>tempi delle sessioni :  </a:t>
            </a:r>
            <a:r>
              <a:rPr b="1" i="1" lang="en-US" sz="4800" spc="-1" strike="noStrike">
                <a:solidFill>
                  <a:srgbClr val="3366ff"/>
                </a:solidFill>
                <a:latin typeface="Tahoma"/>
              </a:rPr>
              <a:t>4^elem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66680" y="2286000"/>
          <a:ext cx="7723440" cy="42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77234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761840" y="1752480"/>
            <a:ext cx="15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alian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19760" y="175248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atemat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57720" y="175248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cienz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0B2-97CC-4149-8E95-E3CE879970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f01"/>
                </a:solidFill>
                <a:latin typeface="Tahoma"/>
              </a:rPr>
              <a:t>tempi delle sessioni :  </a:t>
            </a:r>
            <a:r>
              <a:rPr b="1" i="1" lang="en-US" sz="4000" spc="-1" strike="noStrike">
                <a:solidFill>
                  <a:srgbClr val="3366ff"/>
                </a:solidFill>
                <a:latin typeface="Tahoma"/>
              </a:rPr>
              <a:t>1^media</a:t>
            </a:r>
            <a:endParaRPr b="0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33640" y="2575080"/>
          <a:ext cx="7721280" cy="376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2575080"/>
                    <a:ext cx="7721280" cy="37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609560" y="2133720"/>
            <a:ext cx="15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alian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67480" y="213372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atemat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05080" y="213372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cienz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C94-B578-4E81-B2C4-E7C18A6588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f01"/>
                </a:solidFill>
                <a:latin typeface="Tahoma"/>
              </a:rPr>
              <a:t>tempi delle sessioni :  </a:t>
            </a:r>
            <a:r>
              <a:rPr b="1" i="1" lang="en-US" sz="4000" spc="-1" strike="noStrike">
                <a:solidFill>
                  <a:srgbClr val="3366ff"/>
                </a:solidFill>
                <a:latin typeface="Tahoma"/>
              </a:rPr>
              <a:t>1^sup.</a:t>
            </a:r>
            <a:endParaRPr b="0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33640" y="2575080"/>
          <a:ext cx="7721280" cy="376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2575080"/>
                    <a:ext cx="7721280" cy="37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609560" y="2133720"/>
            <a:ext cx="15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alian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67480" y="213372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atemat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05080" y="213372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cienz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61E-3E49-4684-B536-90795FCC83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f01"/>
                </a:solidFill>
                <a:latin typeface="Tahoma"/>
              </a:rPr>
              <a:t>tempi delle sessioni :  </a:t>
            </a:r>
            <a:r>
              <a:rPr b="1" i="1" lang="en-US" sz="4000" spc="-1" strike="noStrike">
                <a:solidFill>
                  <a:srgbClr val="3366ff"/>
                </a:solidFill>
                <a:latin typeface="Tahoma"/>
              </a:rPr>
              <a:t>3^sup.</a:t>
            </a:r>
            <a:endParaRPr b="0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33640" y="2575080"/>
          <a:ext cx="7721280" cy="376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2575080"/>
                    <a:ext cx="7721280" cy="37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609560" y="2133720"/>
            <a:ext cx="15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alian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67480" y="2133720"/>
            <a:ext cx="23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atemat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05080" y="213372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cienz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791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N.B.</a:t>
            </a:r>
            <a:r>
              <a:rPr b="1" i="1" lang="en-US" sz="2400" spc="-1" strike="noStrike">
                <a:solidFill>
                  <a:srgbClr val="ffff66"/>
                </a:solidFill>
                <a:latin typeface="Tahoma"/>
              </a:rPr>
              <a:t>   Per gli studenti non vedenti + 20 minut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8E2-C79F-4477-B7E4-E72E94C1D1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f01"/>
                </a:solidFill>
                <a:latin typeface="Tahoma"/>
              </a:rPr>
              <a:t>invio  dati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19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3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entro i termini prefissati 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673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673200" indent="-673200">
              <a:spcBef>
                <a:spcPts val="799"/>
              </a:spcBef>
              <a:buClr>
                <a:srgbClr val="ff0000"/>
              </a:buClr>
              <a:buSzPct val="11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20 / 21 marzo  = prelievo pacchi da parte del corriere INValS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673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673200" indent="-673200">
              <a:spcBef>
                <a:spcPts val="799"/>
              </a:spcBef>
              <a:buClr>
                <a:srgbClr val="ff0000"/>
              </a:buClr>
              <a:buSzPct val="11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31 marzo = termine ultimo registrazione risposte questionari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673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1D7D-FFF9-4891-826F-A86B046F12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oordinatore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ahoma"/>
              </a:rPr>
              <a:t>È responsabile dell’organizzazione della somministrazione delle prove e del rispetto delle procedure: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3581280"/>
            <a:ext cx="4419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Informazione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3366ff"/>
                </a:solidFill>
                <a:latin typeface="Tahoma"/>
              </a:rPr>
              <a:t>(somministratori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Materiali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Proced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Riconsegn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7E4B-8B30-47D9-961A-73C88B114F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f01"/>
                </a:solidFill>
                <a:latin typeface="Tahoma"/>
              </a:rPr>
              <a:t>informazione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forma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omministratori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  e il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personale ATA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sulle finalità del Progetto e le modalità di somministrazione delle prove, deve pertanto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2" marL="380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SzPct val="55000"/>
              <a:buFont typeface="Wingdings 3" charset="2"/>
              <a:buChar char="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3366ff"/>
                </a:solidFill>
                <a:latin typeface="Tahoma"/>
              </a:rPr>
              <a:t>conoscere alla  perfezione i contenuti  </a:t>
            </a:r>
            <a:r>
              <a:rPr b="1" i="1" lang="en-US" sz="24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3366ff"/>
                </a:solidFill>
                <a:latin typeface="Tahoma"/>
              </a:rPr>
              <a:t>del manuale del  coordinatore  e  del  </a:t>
            </a:r>
            <a:r>
              <a:rPr b="1" i="1" lang="en-US" sz="24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3366ff"/>
                </a:solidFill>
                <a:latin typeface="Tahoma"/>
              </a:rPr>
              <a:t>somministratore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SzPct val="55000"/>
              <a:buFont typeface="Wingdings 3" charset="2"/>
              <a:buChar char="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ffcf01"/>
                </a:solidFill>
                <a:latin typeface="Tahoma"/>
              </a:rPr>
              <a:t>padroneggiare le procedure in essi </a:t>
            </a:r>
            <a:r>
              <a:rPr b="1" i="1" lang="en-US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cf01"/>
                </a:solidFill>
                <a:latin typeface="Tahoma"/>
              </a:rPr>
              <a:t>descritte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SzPct val="55000"/>
              <a:buFont typeface="Wingdings 3" charset="2"/>
              <a:buChar char="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3366ff"/>
                </a:solidFill>
                <a:latin typeface="Tahoma"/>
              </a:rPr>
              <a:t>riferirsi sempre ai manuali in caso di </a:t>
            </a:r>
            <a:r>
              <a:rPr b="1" i="1" lang="en-US" sz="24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3366ff"/>
                </a:solidFill>
                <a:latin typeface="Tahoma"/>
              </a:rPr>
              <a:t>incertezze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062-79D6-486E-A268-74B885B9AD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1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f01"/>
                </a:solidFill>
                <a:latin typeface="Tahoma"/>
              </a:rPr>
              <a:t>materiali    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ontrolla i materiali ricevuti, assicurandosi ch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  <a:p>
            <a:pPr lvl="1" marL="1135080" indent="-285840">
              <a:lnSpc>
                <a:spcPct val="80000"/>
              </a:lnSpc>
              <a:spcBef>
                <a:spcPts val="2001"/>
              </a:spcBef>
              <a:buClr>
                <a:srgbClr val="ff0000"/>
              </a:buClr>
              <a:buSzPct val="55000"/>
              <a:buFont typeface="Wingdings 3" charset="2"/>
              <a:buChar char="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siano quelli previsti per le classi    interessat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1135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ahoma"/>
            </a:endParaRPr>
          </a:p>
          <a:p>
            <a:pPr lvl="1" marL="1135080" indent="-285840">
              <a:lnSpc>
                <a:spcPct val="80000"/>
              </a:lnSpc>
              <a:spcBef>
                <a:spcPts val="2001"/>
              </a:spcBef>
              <a:buClr>
                <a:srgbClr val="ff0000"/>
              </a:buClr>
              <a:buSzPct val="55000"/>
              <a:buFont typeface="Wingdings 3" charset="2"/>
              <a:buChar char="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ci siano copie dei fascicoli </a:t>
            </a: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 sufficienti per tutti gli alunn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8DA-2286-4A43-8679-F92B923B31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f01"/>
                </a:solidFill>
                <a:latin typeface="Tahoma"/>
              </a:rPr>
              <a:t>Materiali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Fascicoli delle prove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Etichette adesive codici identificativ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Elenco delle class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Elenchi degli stude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Manuale del somministrator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Modulo di somministrazione della pro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Modulo osservazion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Etichetta indirizzo prestampat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Lettera di vettur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0FF-4097-4E00-89B7-1864211BA9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f01"/>
                </a:solidFill>
                <a:latin typeface="Tahoma"/>
              </a:rPr>
              <a:t>Materiali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05740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47880" indent="-474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 3" charset="2"/>
              <a:buChar char="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i assicura che i materiali, essendo riservati, siano conservati in un luogo sicuro fino alla data della somministrazi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47880" indent="-474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lvl="1" marL="947880" indent="-474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 3" charset="2"/>
              <a:buChar char="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provvede ad applicare, qualche giorno prima della somministrazione, le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etichette autoadesive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con i codici identificativi dei singoli studenti sulle copertine di ciascun fascicolo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(può farsi aiutare dagli applicati di segreteria o affidare l’incarico ai somministratori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D4D-3EC3-4ADD-BB80-E4783002FB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ahoma"/>
              </a:rPr>
              <a:t>Azioni del Progetto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777240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001"/>
              </a:spcBef>
              <a:buClr>
                <a:srgbClr val="cc0027"/>
              </a:buClr>
              <a:buSzPct val="60000"/>
              <a:buFont typeface="Wingdings" charset="2"/>
              <a:buChar char=""/>
              <a:tabLst>
                <a:tab algn="l" pos="58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Comic Sans MS"/>
              </a:rPr>
              <a:t>Questionario di rilevazione delle attività della scuol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582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58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582480" indent="-582480">
              <a:lnSpc>
                <a:spcPct val="90000"/>
              </a:lnSpc>
              <a:spcBef>
                <a:spcPts val="1001"/>
              </a:spcBef>
              <a:buClr>
                <a:srgbClr val="cc0027"/>
              </a:buClr>
              <a:buSzPct val="60000"/>
              <a:buFont typeface="Wingdings" charset="2"/>
              <a:buChar char=""/>
              <a:tabLst>
                <a:tab algn="l" pos="58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Comic Sans MS"/>
              </a:rPr>
              <a:t>Somministrazione di prove oggettiv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65A-E114-47F5-8796-0431B7F163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720" y="1066320"/>
            <a:ext cx="3657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ahoma"/>
              </a:rPr>
              <a:t>Prove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80720" y="251424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Italian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365760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ahoma"/>
              </a:rPr>
              <a:t>Matematic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487692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f01"/>
                </a:solidFill>
                <a:latin typeface="Tahoma"/>
              </a:rPr>
              <a:t>Scienze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82F4-FDAE-4011-91B4-E5EBD436FC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33720" y="1066320"/>
            <a:ext cx="3657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Italiano</a:t>
            </a:r>
            <a:endParaRPr b="0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4114800"/>
            <a:ext cx="289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4^ element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40384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Tahoma"/>
              </a:rPr>
              <a:t>2 testi  (1 narrativo + 1 informativo-funzionale) 30 quesiti a scelta multipla (4 alternativ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1828800"/>
            <a:ext cx="731520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La prova vuole individuare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capacità di comprensione di aspetti pragmatici e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semantici del tes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conoscenze lessical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conoscenze grammatical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51814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1^ med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510552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3 testi  (1 narrativo + 1 informativo-funzionale + 1 espositivo) 30 quesiti a scelta multipla (4 alternativ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F53-71D8-4276-8196-C462EE8F17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33720" y="1066320"/>
            <a:ext cx="3657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Italiano</a:t>
            </a:r>
            <a:endParaRPr b="0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114800"/>
            <a:ext cx="289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^ superio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40384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Tahoma"/>
              </a:rPr>
              <a:t>2 testi  (1 narrativo + 1 informativo) 36 quesiti a scelta multipla (4 alternativ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1828800"/>
            <a:ext cx="731520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La prova vuole individuare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capacità di comprensione globale e particolare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del tes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capacità di comprensione e conoscenze lessical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conoscenze delle strutture grammatical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51814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3^ superio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51055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2 testi  (1 narrativo + 1 espositivo) 40 quesiti a scelta multipla (4 alternativ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867-6228-4264-970E-1199963EEC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33720" y="1066320"/>
            <a:ext cx="3657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ahoma"/>
              </a:rPr>
              <a:t>Matematica</a:t>
            </a:r>
            <a:endParaRPr b="0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5562720"/>
            <a:ext cx="289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^ element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5638680"/>
            <a:ext cx="63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f01"/>
                </a:solidFill>
                <a:latin typeface="Tahoma"/>
              </a:rPr>
              <a:t>24 quesiti a scelta multipla (4 alternative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1828800"/>
            <a:ext cx="7315200" cy="33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La prova intende saggiare 4 nuclei di conoscenze - competenze: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aritmetica, numerazione, significato posizionale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delle cifre (numeri interi naturali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aritmetica, significato delle operazioni, calcolo,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confronto di numeri /numeri interi naturali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geometria (conoscenza delle principali figure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piane e proprietà), osservazione, mis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f01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logica, ragionamento, linguaggio (semplici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problemi in contesti concreti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3C5-8098-46EC-B5E6-C28FB0486B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33720" y="1066320"/>
            <a:ext cx="3657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ahoma"/>
              </a:rPr>
              <a:t>Matematica</a:t>
            </a:r>
            <a:endParaRPr b="0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57150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^ med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5791320"/>
            <a:ext cx="63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f01"/>
                </a:solidFill>
                <a:latin typeface="Tahoma"/>
              </a:rPr>
              <a:t>28 quesiti a scelta multipla (4 alternative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1828800"/>
            <a:ext cx="7315200" cy="38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La prova intende saggiare 4 nuclei di conoscenze - competenze: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numero (calcoli con numeri naturali e decimali,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confrontare ed ordinare numeri naturali e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decimali, significato posizionale delle cifre,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frazioni e decimali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geometria (rette incidenti, conoscenza di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elementi significativi e semplici proprietà delle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principali figure piane e solide, simmetri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misura (unità di misura, ordini di grandezza,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calcolo di are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f01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dati (comprensione di grafici e tabell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A48-6DE9-4DA6-9783-F28F9B0860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720" y="1066320"/>
            <a:ext cx="3657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ahoma"/>
              </a:rPr>
              <a:t>Matematica</a:t>
            </a:r>
            <a:endParaRPr b="0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9436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^ superio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6019920"/>
            <a:ext cx="63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f01"/>
                </a:solidFill>
                <a:latin typeface="Tahoma"/>
              </a:rPr>
              <a:t>26 quesiti a scelta multipla (5 alternative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1828800"/>
            <a:ext cx="731520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La prova intende saggiare 5 nuclei di conoscenze - competenze: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numero (calcoli decimali e frazioni, significato di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numero, ordinament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misura (calcolo di are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geometria (proprietà delle figure piane,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simmetria, rappresentazione di punti sul piano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cartesian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f01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dati (comprensione di grafici e tabelle,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probabilità semplic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algebra (rappresentazione con formule di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situazioni problematiche, espressioni letterali,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equazioni di 1° grad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4BF-8005-4867-9242-DC3F0F778D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3720" y="1066320"/>
            <a:ext cx="3657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ahoma"/>
              </a:rPr>
              <a:t>Matematica</a:t>
            </a:r>
            <a:endParaRPr b="0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9436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^ superio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6019920"/>
            <a:ext cx="63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f01"/>
                </a:solidFill>
                <a:latin typeface="Tahoma"/>
              </a:rPr>
              <a:t>28 quesiti a scelta multipla (5 alternative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1828800"/>
            <a:ext cx="731520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cc"/>
                </a:solidFill>
                <a:latin typeface="Tahoma"/>
              </a:rPr>
              <a:t>La prova intende saggiare 5 nuclei di conoscenze - competenze: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numero (calcoli con frazioni, ordinamento di 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numeri elevati a potenza, proprietà e significato 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delle operazioni, rappresentazione dei numeri 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sulla retta orienta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misura (calcolo dell’area e del perimetro di 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figure piane compless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geometria (proprietà delle figure piane, 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traslazione, rotazione, simmetria, rette e 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parabole sul piano cartesian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cf01"/>
                </a:solidFill>
                <a:latin typeface="Tahoma"/>
              </a:rPr>
              <a:t>    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dati (comprensione di grafici e tabelle, 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probabilità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algebra (equazioni di 2° grado, disequazioni di 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it-IT" sz="2000" spc="-1" strike="noStrike">
                <a:solidFill>
                  <a:srgbClr val="ffffcc"/>
                </a:solidFill>
                <a:latin typeface="Tahoma"/>
              </a:rPr>
              <a:t>1° grado, funzioni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FAF-F942-4780-9F15-8798ADFDA9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33360" y="1066320"/>
            <a:ext cx="65530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f01"/>
                </a:solidFill>
                <a:latin typeface="Tahoma"/>
              </a:rPr>
              <a:t>Scienze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cf01"/>
                </a:solidFill>
                <a:latin typeface="Tahoma"/>
              </a:rPr>
              <a:t>(contenuti  prove)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1828800"/>
            <a:ext cx="731520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La prova è corredata di immagini a cui fare riferimento e  si propone di indagare le abilità legate all’identificazione delle caratteristiche dell’oggetto, il riconoscimento e le somiglianze, la costruzione di nessi, nonché abilità trasversali quali l’osservazione, l’uso di un linguaggio ordinario o tecnico, la comprensione di un test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cf01"/>
                </a:solidFill>
                <a:latin typeface="Tahoma"/>
              </a:rPr>
              <a:t>Le tematiche della prova sono 5 :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cambiamenti e/o trasformazion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natura del metodo scientif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uomo e/o ambien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f01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esseri vivent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energ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EAE-3C4F-47D4-9D91-083953107D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f01"/>
                </a:solidFill>
                <a:latin typeface="Tahoma"/>
              </a:rPr>
              <a:t>   </a:t>
            </a:r>
            <a:r>
              <a:rPr b="1" i="1" lang="en-US" sz="4000" spc="-1" strike="noStrike">
                <a:solidFill>
                  <a:srgbClr val="ffcf01"/>
                </a:solidFill>
                <a:latin typeface="Tahoma"/>
              </a:rPr>
              <a:t>Scienze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cf01"/>
                </a:solidFill>
                <a:latin typeface="Tahoma"/>
              </a:rPr>
              <a:t>(tipologia prove)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2438280"/>
            <a:ext cx="2895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^ element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4290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1^med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4419720"/>
            <a:ext cx="289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1^ superi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3886200"/>
            <a:ext cx="49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25 quesiti a scelta multipla (4 alternativ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5410080"/>
            <a:ext cx="2895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3^ superi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2438280"/>
            <a:ext cx="380880" cy="3581640"/>
          </a:xfrm>
          <a:custGeom>
            <a:avLst/>
            <a:gdLst>
              <a:gd name="textAreaLeft" fmla="*/ 0 w 380880"/>
              <a:gd name="textAreaRight" fmla="*/ 137520 w 38088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C1B-D6D5-4997-A967-475A35D216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omministratore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ahoma"/>
              </a:rPr>
              <a:t>È responsabile della somministrazione delle prove e del rispetto delle procedure: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3581280"/>
            <a:ext cx="4419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Informazi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Studenti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Material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Riconsegn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1AE8-64DD-4306-9732-E8ED7CB478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cc0027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nazionale</a:t>
            </a:r>
            <a:endParaRPr b="0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819520"/>
            <a:ext cx="4419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cc0027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regiona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cc0027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66ff"/>
                </a:solidFill>
                <a:latin typeface="Tahoma"/>
              </a:rPr>
              <a:t>provincia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4495680"/>
            <a:ext cx="464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cc0027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di scuol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5334120"/>
            <a:ext cx="3657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cc0027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99ff"/>
                </a:solidFill>
                <a:latin typeface="Tahoma"/>
              </a:rPr>
              <a:t>di clas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4572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c002a"/>
                </a:solidFill>
                <a:latin typeface="Arial"/>
              </a:rPr>
              <a:t>Livelli di coinvolgimento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5A4-FC39-4A8F-B8FF-D5B0E5E6A2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omministratore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90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cf01"/>
                </a:solidFill>
                <a:latin typeface="Tahoma"/>
              </a:rPr>
              <a:t>una settimana prima della somministrazione: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2" marL="3906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2" marL="390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&gt;  incontra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il coordinatore della scuola e il 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Dirigente Scolastico per pianificare tutte 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le operazioni necessarie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2" marL="390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ahoma"/>
            </a:endParaRPr>
          </a:p>
          <a:p>
            <a:pPr lvl="2" marL="390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&gt;  aiuta 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il coordinatore ad applicare le 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etichette autoadesive con i codici 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identificativi di ogni studente sulla 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copertina di ciascun fascicolo;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2" marL="390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ahoma"/>
            </a:endParaRPr>
          </a:p>
          <a:p>
            <a:pPr lvl="2" marL="390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&gt;  compila 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il </a:t>
            </a:r>
            <a:r>
              <a:rPr b="1" i="1" lang="it-IT" sz="2400" spc="-1" strike="noStrike">
                <a:solidFill>
                  <a:srgbClr val="ffffcc"/>
                </a:solidFill>
                <a:latin typeface="Tahoma"/>
              </a:rPr>
              <a:t>Modulo di somministrazione </a:t>
            </a:r>
            <a:r>
              <a:rPr b="1" i="1" lang="it-IT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it-IT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i="1" lang="it-IT" sz="2400" spc="-1" strike="noStrike">
                <a:solidFill>
                  <a:srgbClr val="ffffcc"/>
                </a:solidFill>
                <a:latin typeface="Tahoma"/>
              </a:rPr>
              <a:t>della prova</a:t>
            </a: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 dal punto 1 al punto 8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B3A-84B5-43C8-8A5A-500C017227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omministratore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374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ahoma"/>
            </a:endParaRPr>
          </a:p>
          <a:p>
            <a:pPr lvl="2" marL="3747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qualche giorno prima della somministrazione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2"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gt;  si accerta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della presenza  del materiale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     necessario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2" marL="3747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ahoma"/>
            </a:endParaRPr>
          </a:p>
          <a:p>
            <a:pPr lvl="2"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gt;  si accorda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on il docente di sostegno e il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     coordinatore per consentire agli studenti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     non vedenti, al termine della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     somministrazione ordinaria, di completare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     le prove nei tempi stabiliti dall'INValSI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2" marL="374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ahoma"/>
            </a:endParaRPr>
          </a:p>
          <a:p>
            <a:pPr lvl="2" marL="374760" indent="-9000">
              <a:spcBef>
                <a:spcPts val="700"/>
              </a:spcBef>
              <a:buClr>
                <a:srgbClr val="ff0000"/>
              </a:buClr>
              <a:buSzPct val="5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contatta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f01"/>
                </a:solidFill>
                <a:latin typeface="Tahoma"/>
              </a:rPr>
              <a:t>il coordinatore della scuola per ogni </a:t>
            </a:r>
            <a:r>
              <a:rPr b="0" i="1" lang="en-US" sz="28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cf01"/>
                </a:solidFill>
                <a:latin typeface="Tahoma"/>
              </a:rPr>
              <a:t>dubbio o quesit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92F-60DE-4F01-ABE9-D67517A23D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Aspetti problematici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Controllo material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Rispetto rigido delle procedur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Rispetto puntuale dei temp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tudenti (privacy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Riconsegna materiali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116-5D9E-4856-B37C-51A4E7C455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81080" y="685800"/>
            <a:ext cx="54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Livello di scuola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797280" y="449568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Somministrato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7720" y="5334120"/>
            <a:ext cx="21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Studen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26400" y="342900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Coordinato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34720" y="2514600"/>
            <a:ext cx="23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Dirigen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37D-F716-41C3-90BB-F13A3E2A38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Dirigente Scolastico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438280"/>
            <a:ext cx="7772400" cy="36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cc"/>
                </a:solidFill>
                <a:latin typeface="Tahoma"/>
              </a:rPr>
              <a:t>Organizza una riunione, curata dal </a:t>
            </a: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coordinatore</a:t>
            </a:r>
            <a:r>
              <a:rPr b="1" lang="it-IT" sz="2600" spc="-1" strike="noStrike">
                <a:solidFill>
                  <a:srgbClr val="ffffcc"/>
                </a:solidFill>
                <a:latin typeface="Tahoma"/>
              </a:rPr>
              <a:t>, destinata ai docenti </a:t>
            </a:r>
            <a:r>
              <a:rPr b="1" lang="it-IT" sz="2600" spc="-1" strike="noStrike">
                <a:solidFill>
                  <a:srgbClr val="ffcf01"/>
                </a:solidFill>
                <a:latin typeface="Tahoma"/>
              </a:rPr>
              <a:t>somministratori </a:t>
            </a:r>
            <a:r>
              <a:rPr b="1" lang="it-IT" sz="2600" spc="-1" strike="noStrike">
                <a:solidFill>
                  <a:srgbClr val="ffffcc"/>
                </a:solidFill>
                <a:latin typeface="Tahoma"/>
              </a:rPr>
              <a:t>ed al personale ATA coinvolto, in modo da fornire informazioni sul progetto </a:t>
            </a:r>
            <a:r>
              <a:rPr b="1" i="1" lang="it-IT" sz="2600" spc="-1" strike="noStrike">
                <a:solidFill>
                  <a:srgbClr val="ffffcc"/>
                </a:solidFill>
                <a:latin typeface="Tahoma"/>
              </a:rPr>
              <a:t>(scopi, compiti, procedure)</a:t>
            </a:r>
            <a:r>
              <a:rPr b="1" lang="it-IT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cc"/>
                </a:solidFill>
                <a:latin typeface="Tahoma"/>
              </a:rPr>
              <a:t>Sovrintende lo svolgimento delle fasi di compilazione del </a:t>
            </a:r>
            <a:r>
              <a:rPr b="1" i="1" lang="it-IT" sz="2600" spc="-1" strike="noStrike">
                <a:solidFill>
                  <a:srgbClr val="ffff00"/>
                </a:solidFill>
                <a:latin typeface="Tahoma"/>
              </a:rPr>
              <a:t>Questionario di rilevazione delle attività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C6B-DB2A-45D5-8D6D-F482BB78FF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Dirigente Scolastico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Organizza la gestione della somministrazione delle prove oggettive 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3581280"/>
            <a:ext cx="4876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Somministratori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Material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Rispetto proced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cf01"/>
                </a:solidFill>
                <a:latin typeface="Tahoma"/>
              </a:rPr>
              <a:t>Invio da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8CF-4E33-4861-A65F-B25CCFBFDB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f01"/>
                </a:solidFill>
                <a:latin typeface="Tahoma"/>
              </a:rPr>
              <a:t>docenti somministratori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3200" indent="-673200">
              <a:spcBef>
                <a:spcPts val="751"/>
              </a:spcBef>
              <a:buClr>
                <a:srgbClr val="ff0000"/>
              </a:buClr>
              <a:buSzPct val="11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cc"/>
                </a:solidFill>
                <a:latin typeface="Tahoma"/>
              </a:rPr>
              <a:t>Sono individuati tra i docenti in servizio nelle classi interessate nelle ore e nei giorni fissati a livello regionale per le prove. 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  <a:p>
            <a:pPr marL="673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ahoma"/>
            </a:endParaRPr>
          </a:p>
          <a:p>
            <a:pPr marL="673200" indent="-673200">
              <a:spcBef>
                <a:spcPts val="751"/>
              </a:spcBef>
              <a:buClr>
                <a:srgbClr val="ff0000"/>
              </a:buClr>
              <a:buSzPct val="11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cc"/>
                </a:solidFill>
                <a:latin typeface="Tahoma"/>
              </a:rPr>
              <a:t>Durante lo svolgimento delle prove a ciascun somministratore va affidata una classe diversa da quella di titolarità.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8B7-D536-404F-BF7C-73CB6990A9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f01"/>
                </a:solidFill>
                <a:latin typeface="Tahoma"/>
              </a:rPr>
              <a:t>materiali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52680" indent="-652680">
              <a:spcBef>
                <a:spcPts val="799"/>
              </a:spcBef>
              <a:buClr>
                <a:srgbClr val="ff0000"/>
              </a:buClr>
              <a:buSzPct val="11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cc"/>
                </a:solidFill>
                <a:latin typeface="Tahoma"/>
              </a:rPr>
              <a:t>sono consegnati direttamente alle scuole</a:t>
            </a:r>
            <a:r>
              <a:rPr b="1" lang="it-IT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652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ahoma"/>
            </a:endParaRPr>
          </a:p>
          <a:p>
            <a:pPr marL="652680" indent="-652680">
              <a:spcBef>
                <a:spcPts val="751"/>
              </a:spcBef>
              <a:buClr>
                <a:srgbClr val="ff0000"/>
              </a:buClr>
              <a:buSzPct val="11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cc"/>
                </a:solidFill>
                <a:latin typeface="Tahoma"/>
              </a:rPr>
              <a:t>va garantita la riservatezza delle prove custodendo i materiali in un luogo riservato e  sicuro fino alla data della somministrazione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  <a:p>
            <a:pPr marL="652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ahoma"/>
            </a:endParaRPr>
          </a:p>
          <a:p>
            <a:pPr marL="652680" indent="-652680">
              <a:spcBef>
                <a:spcPts val="751"/>
              </a:spcBef>
              <a:buClr>
                <a:srgbClr val="ff0000"/>
              </a:buClr>
              <a:buSzPct val="11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cc"/>
                </a:solidFill>
                <a:latin typeface="Tahoma"/>
              </a:rPr>
              <a:t>non è permesso fotocopiare o trattenere</a:t>
            </a:r>
            <a:r>
              <a:rPr b="0" lang="it-IT" sz="3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it-IT" sz="3000" spc="-1" strike="noStrike">
                <a:solidFill>
                  <a:srgbClr val="ffffcc"/>
                </a:solidFill>
                <a:latin typeface="Tahoma"/>
              </a:rPr>
              <a:t>fascicoli delle prove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  <a:p>
            <a:pPr marL="652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908-5FCF-4873-AFB0-69C68C5CB8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f01"/>
                </a:solidFill>
                <a:latin typeface="Tahoma"/>
              </a:rPr>
              <a:t>rispetto  procedure:</a:t>
            </a:r>
            <a:r>
              <a:rPr b="1" i="1" lang="en-US" sz="44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1" i="1" lang="en-US" sz="4800" spc="-1" strike="noStrike">
                <a:solidFill>
                  <a:srgbClr val="ff0000"/>
                </a:solidFill>
                <a:latin typeface="Tahoma"/>
              </a:rPr>
              <a:t>TEMPI</a:t>
            </a:r>
            <a:endParaRPr b="0" lang="en-US" sz="48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285640"/>
            <a:ext cx="77724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3200" indent="-673200">
              <a:spcBef>
                <a:spcPts val="751"/>
              </a:spcBef>
              <a:buClr>
                <a:srgbClr val="ff0000"/>
              </a:buClr>
              <a:buSzPct val="6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ahoma"/>
              </a:rPr>
              <a:t>date somministrazione prove comunicate dall’USR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  <a:p>
            <a:pPr marL="673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ahoma"/>
            </a:endParaRPr>
          </a:p>
          <a:p>
            <a:pPr marL="673200" indent="-673200">
              <a:spcBef>
                <a:spcPts val="751"/>
              </a:spcBef>
              <a:buClr>
                <a:srgbClr val="ff0000"/>
              </a:buClr>
              <a:buSzPct val="6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ahoma"/>
              </a:rPr>
              <a:t>svolgimento delle prove nella prima parte della giornata scolastica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  <a:p>
            <a:pPr marL="673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ahoma"/>
            </a:endParaRPr>
          </a:p>
          <a:p>
            <a:pPr marL="673200" indent="-673200">
              <a:spcBef>
                <a:spcPts val="751"/>
              </a:spcBef>
              <a:buClr>
                <a:srgbClr val="ff0000"/>
              </a:buClr>
              <a:buSzPct val="6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ahoma"/>
              </a:rPr>
              <a:t>rispetto assoluto dei limiti di tempo assegnati  dall’INValSI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  <a:p>
            <a:pPr marL="67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ida scarpa - USR campan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62C-1978-4B0F-BB0F-F803214181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3T19:00:43Z</dcterms:created>
  <dc:creator>I.N.D.I.R.E.</dc:creator>
  <dc:description/>
  <dc:language>en-US</dc:language>
  <cp:lastModifiedBy>francesca.veglione</cp:lastModifiedBy>
  <cp:lastPrinted>2003-02-10T21:37:30Z</cp:lastPrinted>
  <dcterms:modified xsi:type="dcterms:W3CDTF">2003-02-13T11:04:56Z</dcterms:modified>
  <cp:revision>66</cp:revision>
  <dc:subject/>
  <dc:title>Sperimentazione della riforma   Formazione docenti informatica</dc:title>
</cp:coreProperties>
</file>