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301-4F54-43C0-9AEB-B6B3C16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1FA-AE52-406D-846F-8A851AA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286-7DE7-49DF-884B-A63D09A4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5C8-7341-4CAE-9D57-677897FF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E92-C6CD-4BC6-A8F3-03F28B1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2C8-92FE-4C55-B0AE-43EA4D4A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73E-9433-4B12-A459-1BB3FB86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01D-B5D6-434D-8222-EAEFBC5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50B-8811-4F37-8224-9DEF8743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CAD-DDF4-4EFF-A066-B557E352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768-ACF7-4E25-AEED-48924DA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5D8-B561-4B45-A931-29478D7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868C-680F-45C7-A564-B0E5E252C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17800" y="914400"/>
            <a:ext cx="2133720" cy="2819520"/>
            <a:chOff x="3817800" y="914400"/>
            <a:chExt cx="2133720" cy="2819520"/>
          </a:xfrm>
        </p:grpSpPr>
        <p:sp>
          <p:nvSpPr>
            <p:cNvPr id="42" name=""/>
            <p:cNvSpPr/>
            <p:nvPr/>
          </p:nvSpPr>
          <p:spPr>
            <a:xfrm>
              <a:off x="3817800" y="914400"/>
              <a:ext cx="2133720" cy="281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94120" y="1066680"/>
              <a:ext cx="19810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elle famiglie (1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94120" y="1523880"/>
              <a:ext cx="19810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el PERSONALE   (1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94120" y="266688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el MONDO DEL LAVORO (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94120" y="320040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el CICLO SUCCESSIVO (1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94120" y="1981080"/>
              <a:ext cx="19810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elle ISTITUZIONI del TERROTORIO nella stesura POF (1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2362320" y="76320"/>
            <a:ext cx="2361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FFERT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992880" y="609480"/>
            <a:ext cx="164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e attività per analizzare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ntesto di riferimen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4419720"/>
            <a:ext cx="2286000" cy="2156760"/>
            <a:chOff x="685800" y="4419720"/>
            <a:chExt cx="2286000" cy="215676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4852800"/>
              <a:ext cx="2286000" cy="1723680"/>
              <a:chOff x="685800" y="4852800"/>
              <a:chExt cx="2286000" cy="1723680"/>
            </a:xfrm>
          </p:grpSpPr>
          <p:sp>
            <p:nvSpPr>
              <p:cNvPr id="52" name=""/>
              <p:cNvSpPr/>
              <p:nvPr/>
            </p:nvSpPr>
            <p:spPr>
              <a:xfrm>
                <a:off x="685800" y="4852800"/>
                <a:ext cx="2286000" cy="1723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8080" y="4976280"/>
                <a:ext cx="198144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Analisi  delle risorse strutturali della scuola (6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5509800"/>
                <a:ext cx="198144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Analisi risorse del personale (7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6043320"/>
                <a:ext cx="198144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Analisi della risorsa  genitori e loro coinvolgimento  (8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988920" y="4419720"/>
              <a:ext cx="1616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e attività per individu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e risorse disponibi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887640" y="533520"/>
            <a:ext cx="207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Il coinvolgimento nella definizi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ell’of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707640" y="4329000"/>
            <a:ext cx="2352600" cy="2338560"/>
            <a:chOff x="3707640" y="4329000"/>
            <a:chExt cx="2352600" cy="2338560"/>
          </a:xfrm>
        </p:grpSpPr>
        <p:grpSp>
          <p:nvGrpSpPr>
            <p:cNvPr id="59" name=""/>
            <p:cNvGrpSpPr/>
            <p:nvPr/>
          </p:nvGrpSpPr>
          <p:grpSpPr>
            <a:xfrm>
              <a:off x="3733920" y="4686120"/>
              <a:ext cx="2286000" cy="1981440"/>
              <a:chOff x="3733920" y="4686120"/>
              <a:chExt cx="2286000" cy="1981440"/>
            </a:xfrm>
          </p:grpSpPr>
          <p:sp>
            <p:nvSpPr>
              <p:cNvPr id="60" name=""/>
              <p:cNvSpPr/>
              <p:nvPr/>
            </p:nvSpPr>
            <p:spPr>
              <a:xfrm>
                <a:off x="3733920" y="4686120"/>
                <a:ext cx="2286000" cy="1981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86200" y="4838760"/>
                <a:ext cx="198108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Selezione bisogni formativi  in relazione alla missione dell'istituto (11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86200" y="5448240"/>
                <a:ext cx="198108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Definizione  formale della politica formativa e delle priorità dell'istituto (17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86200" y="6134040"/>
                <a:ext cx="19810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Descrizione profili formativi  in uscita per competenze (18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707640" y="4329000"/>
              <a:ext cx="23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e attività per la definizione dell’offer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33920" y="7162920"/>
            <a:ext cx="2286000" cy="1523520"/>
            <a:chOff x="3733920" y="7162920"/>
            <a:chExt cx="2286000" cy="1523520"/>
          </a:xfrm>
        </p:grpSpPr>
        <p:grpSp>
          <p:nvGrpSpPr>
            <p:cNvPr id="66" name=""/>
            <p:cNvGrpSpPr/>
            <p:nvPr/>
          </p:nvGrpSpPr>
          <p:grpSpPr>
            <a:xfrm>
              <a:off x="3733920" y="7467480"/>
              <a:ext cx="2286000" cy="1218960"/>
              <a:chOff x="3733920" y="7467480"/>
              <a:chExt cx="2286000" cy="1218960"/>
            </a:xfrm>
          </p:grpSpPr>
          <p:sp>
            <p:nvSpPr>
              <p:cNvPr id="67" name=""/>
              <p:cNvSpPr/>
              <p:nvPr/>
            </p:nvSpPr>
            <p:spPr>
              <a:xfrm>
                <a:off x="3733920" y="7467480"/>
                <a:ext cx="2286000" cy="1218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6200" y="7619400"/>
                <a:ext cx="198144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Presentazione offerta formativa all’utenza (19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86200" y="8229240"/>
                <a:ext cx="198144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Diffusione politica formativa (2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067640" y="716292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e attività di promozi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85800" y="1066680"/>
            <a:ext cx="2286000" cy="2514600"/>
            <a:chOff x="685800" y="1066680"/>
            <a:chExt cx="2286000" cy="2514600"/>
          </a:xfrm>
        </p:grpSpPr>
        <p:sp>
          <p:nvSpPr>
            <p:cNvPr id="72" name=""/>
            <p:cNvSpPr/>
            <p:nvPr/>
          </p:nvSpPr>
          <p:spPr>
            <a:xfrm>
              <a:off x="685800" y="1066680"/>
              <a:ext cx="2286000" cy="251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1143000"/>
              <a:ext cx="198144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isi contesto socioeconomico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2666880"/>
              <a:ext cx="19814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isi bisogni famiglie (4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1600200"/>
              <a:ext cx="1981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isi  bisogni formativi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l territorio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3124080"/>
              <a:ext cx="1981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isi  strutture e servizi  messi a disposizioni da soggetti territoriali (9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8080" y="2133360"/>
              <a:ext cx="1981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isi offerta formativa del territorio (5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71800" y="11430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1430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295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2952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32004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2004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3526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3526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6765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6765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18288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8288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71800" y="2209680"/>
            <a:ext cx="304920" cy="296280"/>
            <a:chOff x="2971800" y="2209680"/>
            <a:chExt cx="304920" cy="296280"/>
          </a:xfrm>
        </p:grpSpPr>
        <p:sp>
          <p:nvSpPr>
            <p:cNvPr id="91" name=""/>
            <p:cNvSpPr/>
            <p:nvPr/>
          </p:nvSpPr>
          <p:spPr>
            <a:xfrm>
              <a:off x="2971800" y="22096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4080" y="220968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23623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971800" y="2666880"/>
            <a:ext cx="304920" cy="296280"/>
            <a:chOff x="2971800" y="2666880"/>
            <a:chExt cx="304920" cy="296280"/>
          </a:xfrm>
        </p:grpSpPr>
        <p:sp>
          <p:nvSpPr>
            <p:cNvPr id="96" name=""/>
            <p:cNvSpPr/>
            <p:nvPr/>
          </p:nvSpPr>
          <p:spPr>
            <a:xfrm>
              <a:off x="2971800" y="26668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266688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28195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4080" y="28195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943600" y="10666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0666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2193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12193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7432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74320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8954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89548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2767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276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429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4290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971800" y="5029200"/>
            <a:ext cx="304920" cy="296280"/>
            <a:chOff x="2971800" y="5029200"/>
            <a:chExt cx="304920" cy="296280"/>
          </a:xfrm>
        </p:grpSpPr>
        <p:sp>
          <p:nvSpPr>
            <p:cNvPr id="113" name=""/>
            <p:cNvSpPr/>
            <p:nvPr/>
          </p:nvSpPr>
          <p:spPr>
            <a:xfrm>
              <a:off x="2971800" y="50292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02920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51818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4080" y="518184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971800" y="55627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55627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715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57150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6095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0958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62485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9528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9528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51055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1055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19920" y="5562720"/>
            <a:ext cx="304200" cy="296280"/>
            <a:chOff x="6019920" y="5562720"/>
            <a:chExt cx="304200" cy="296280"/>
          </a:xfrm>
        </p:grpSpPr>
        <p:sp>
          <p:nvSpPr>
            <p:cNvPr id="130" name=""/>
            <p:cNvSpPr/>
            <p:nvPr/>
          </p:nvSpPr>
          <p:spPr>
            <a:xfrm>
              <a:off x="6019920" y="55627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71840" y="5562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9920" y="571536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1840" y="57153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019920" y="61722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61722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63244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63244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19920" y="7696080"/>
            <a:ext cx="304200" cy="296280"/>
            <a:chOff x="6019920" y="7696080"/>
            <a:chExt cx="304200" cy="296280"/>
          </a:xfrm>
        </p:grpSpPr>
        <p:sp>
          <p:nvSpPr>
            <p:cNvPr id="139" name=""/>
            <p:cNvSpPr/>
            <p:nvPr/>
          </p:nvSpPr>
          <p:spPr>
            <a:xfrm>
              <a:off x="6019920" y="769608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71840" y="76960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19920" y="78487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71840" y="7848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019920" y="8229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82296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8381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8381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943600" y="1600200"/>
            <a:ext cx="304920" cy="296280"/>
            <a:chOff x="5943600" y="1600200"/>
            <a:chExt cx="304920" cy="296280"/>
          </a:xfrm>
        </p:grpSpPr>
        <p:sp>
          <p:nvSpPr>
            <p:cNvPr id="148" name=""/>
            <p:cNvSpPr/>
            <p:nvPr/>
          </p:nvSpPr>
          <p:spPr>
            <a:xfrm>
              <a:off x="5943600" y="16002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160020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17528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175284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43600" y="21337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133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286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2860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886200" y="1143000"/>
            <a:ext cx="2438280" cy="2819520"/>
            <a:chOff x="3886200" y="1143000"/>
            <a:chExt cx="2438280" cy="2819520"/>
          </a:xfrm>
        </p:grpSpPr>
        <p:sp>
          <p:nvSpPr>
            <p:cNvPr id="157" name=""/>
            <p:cNvSpPr/>
            <p:nvPr/>
          </p:nvSpPr>
          <p:spPr>
            <a:xfrm>
              <a:off x="3886200" y="1143000"/>
              <a:ext cx="2438280" cy="281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14440" y="12193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isi  delle competenze in ingresso che costituiscono prerequisito (10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440" y="175284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Rilevazione delle carenze nei prerequisiti (1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4440" y="2286000"/>
              <a:ext cx="19810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rogettazione e realizzazione  interventi di sostegno e recupero (1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440" y="335304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rogettazione dei servizi di assistenza  e consulenza (1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440" y="28195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rogettazione degli interventi di orientamento (1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295280" y="76320"/>
            <a:ext cx="4114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OGETTAZI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115520" y="4114800"/>
            <a:ext cx="204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a progettazione della valu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41720" y="685800"/>
            <a:ext cx="189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a progettazione dei servizi 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acilitare l’apprendi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9480" y="685800"/>
            <a:ext cx="2438640" cy="5638680"/>
            <a:chOff x="609480" y="685800"/>
            <a:chExt cx="2438640" cy="5638680"/>
          </a:xfrm>
        </p:grpSpPr>
        <p:sp>
          <p:nvSpPr>
            <p:cNvPr id="167" name=""/>
            <p:cNvSpPr/>
            <p:nvPr/>
          </p:nvSpPr>
          <p:spPr>
            <a:xfrm>
              <a:off x="609480" y="1143000"/>
              <a:ext cx="2438640" cy="5181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3048120"/>
              <a:ext cx="1981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finizione dei criteri per distribuzione temporale discipline e criteri di flessibilità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733920"/>
              <a:ext cx="1981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dozione di soluzioni di flessibilità rispetto a: orario, gruppo classe, modularità, ecc) (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2514600"/>
              <a:ext cx="1981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finizione funzioni, tempi e modalità OOCC per progettazione didattica (3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4419720"/>
              <a:ext cx="1981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Definizione di un modello comune  per la progettazione (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5105520"/>
              <a:ext cx="1981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rogrammazione di: contenuti, obiettivi , attività, tempi e risorse della didattica (7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5791320"/>
              <a:ext cx="1981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finizione risultati attesi e prodotti osservabili (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9160" y="685800"/>
              <a:ext cx="198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a progettazione dei contenut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e della articolazione del currico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1295280"/>
              <a:ext cx="19814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finizione dei criteri per il curriculum obbligatori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1905120"/>
              <a:ext cx="19814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finizione dei criteri per l’ampliamento dell’offerta formativa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886200" y="4419720"/>
            <a:ext cx="2438280" cy="3352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76640" y="4495680"/>
            <a:ext cx="2057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finizione di strumenti comuni di verifica per la valutazione degli apprendimenti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8672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nalisi degli esiti di progetti simili prima della progettazione di nuovi progetti  (1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76640" y="5181480"/>
            <a:ext cx="2057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finizione degli strumenti per il monitoraggio e la valutazione (1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670572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evisione e riprogettazione di progetti e attività sulla base dei risultati raggiunti (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8862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8862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40384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0384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324480" y="1295280"/>
            <a:ext cx="304920" cy="296280"/>
            <a:chOff x="6324480" y="1295280"/>
            <a:chExt cx="304920" cy="296280"/>
          </a:xfrm>
        </p:grpSpPr>
        <p:sp>
          <p:nvSpPr>
            <p:cNvPr id="187" name=""/>
            <p:cNvSpPr/>
            <p:nvPr/>
          </p:nvSpPr>
          <p:spPr>
            <a:xfrm>
              <a:off x="6324480" y="12952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6760" y="129528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4480" y="14479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6760" y="14479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048120" y="1371600"/>
            <a:ext cx="304200" cy="296280"/>
            <a:chOff x="3048120" y="1371600"/>
            <a:chExt cx="304200" cy="296280"/>
          </a:xfrm>
        </p:grpSpPr>
        <p:sp>
          <p:nvSpPr>
            <p:cNvPr id="192" name=""/>
            <p:cNvSpPr/>
            <p:nvPr/>
          </p:nvSpPr>
          <p:spPr>
            <a:xfrm>
              <a:off x="3048120" y="137160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040" y="13716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152424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15242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8120" y="1981080"/>
            <a:ext cx="304200" cy="296280"/>
            <a:chOff x="3048120" y="1981080"/>
            <a:chExt cx="304200" cy="296280"/>
          </a:xfrm>
        </p:grpSpPr>
        <p:sp>
          <p:nvSpPr>
            <p:cNvPr id="197" name=""/>
            <p:cNvSpPr/>
            <p:nvPr/>
          </p:nvSpPr>
          <p:spPr>
            <a:xfrm>
              <a:off x="3048120" y="198108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040" y="19810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8120" y="21337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040" y="2133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8120" y="2590920"/>
            <a:ext cx="304200" cy="296280"/>
            <a:chOff x="3048120" y="2590920"/>
            <a:chExt cx="304200" cy="296280"/>
          </a:xfrm>
        </p:grpSpPr>
        <p:sp>
          <p:nvSpPr>
            <p:cNvPr id="202" name=""/>
            <p:cNvSpPr/>
            <p:nvPr/>
          </p:nvSpPr>
          <p:spPr>
            <a:xfrm>
              <a:off x="3048120" y="25909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040" y="25909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8120" y="274356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00040" y="27435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048120" y="3200400"/>
            <a:ext cx="304200" cy="296280"/>
            <a:chOff x="3048120" y="3200400"/>
            <a:chExt cx="304200" cy="296280"/>
          </a:xfrm>
        </p:grpSpPr>
        <p:sp>
          <p:nvSpPr>
            <p:cNvPr id="207" name=""/>
            <p:cNvSpPr/>
            <p:nvPr/>
          </p:nvSpPr>
          <p:spPr>
            <a:xfrm>
              <a:off x="3048120" y="320040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0040" y="32004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8120" y="335304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040" y="33530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48120" y="4495680"/>
            <a:ext cx="304200" cy="296280"/>
            <a:chOff x="3048120" y="4495680"/>
            <a:chExt cx="304200" cy="296280"/>
          </a:xfrm>
        </p:grpSpPr>
        <p:sp>
          <p:nvSpPr>
            <p:cNvPr id="212" name=""/>
            <p:cNvSpPr/>
            <p:nvPr/>
          </p:nvSpPr>
          <p:spPr>
            <a:xfrm>
              <a:off x="3048120" y="449568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0040" y="44956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46483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00040" y="46483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048120" y="5257800"/>
            <a:ext cx="304200" cy="296280"/>
            <a:chOff x="3048120" y="5257800"/>
            <a:chExt cx="304200" cy="296280"/>
          </a:xfrm>
        </p:grpSpPr>
        <p:sp>
          <p:nvSpPr>
            <p:cNvPr id="217" name=""/>
            <p:cNvSpPr/>
            <p:nvPr/>
          </p:nvSpPr>
          <p:spPr>
            <a:xfrm>
              <a:off x="3048120" y="525780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0040" y="52578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48120" y="541044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040" y="54104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048120" y="5867280"/>
            <a:ext cx="304200" cy="296280"/>
            <a:chOff x="3048120" y="5867280"/>
            <a:chExt cx="304200" cy="296280"/>
          </a:xfrm>
        </p:grpSpPr>
        <p:sp>
          <p:nvSpPr>
            <p:cNvPr id="222" name=""/>
            <p:cNvSpPr/>
            <p:nvPr/>
          </p:nvSpPr>
          <p:spPr>
            <a:xfrm>
              <a:off x="3048120" y="586728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040" y="58672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60199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0040" y="60199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324480" y="1828800"/>
            <a:ext cx="304920" cy="296280"/>
            <a:chOff x="6324480" y="1828800"/>
            <a:chExt cx="304920" cy="296280"/>
          </a:xfrm>
        </p:grpSpPr>
        <p:sp>
          <p:nvSpPr>
            <p:cNvPr id="227" name=""/>
            <p:cNvSpPr/>
            <p:nvPr/>
          </p:nvSpPr>
          <p:spPr>
            <a:xfrm>
              <a:off x="6324480" y="18288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76760" y="182880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19814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6760" y="198144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324480" y="2286000"/>
            <a:ext cx="304920" cy="296280"/>
            <a:chOff x="6324480" y="2286000"/>
            <a:chExt cx="304920" cy="296280"/>
          </a:xfrm>
        </p:grpSpPr>
        <p:sp>
          <p:nvSpPr>
            <p:cNvPr id="232" name=""/>
            <p:cNvSpPr/>
            <p:nvPr/>
          </p:nvSpPr>
          <p:spPr>
            <a:xfrm>
              <a:off x="6324480" y="228600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6760" y="228600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24480" y="243864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76760" y="243864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324480" y="28954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8954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0481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0481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34290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3429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35812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581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6483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46483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48006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800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324480" y="5334120"/>
            <a:ext cx="304920" cy="296280"/>
            <a:chOff x="6324480" y="5334120"/>
            <a:chExt cx="304920" cy="296280"/>
          </a:xfrm>
        </p:grpSpPr>
        <p:sp>
          <p:nvSpPr>
            <p:cNvPr id="249" name=""/>
            <p:cNvSpPr/>
            <p:nvPr/>
          </p:nvSpPr>
          <p:spPr>
            <a:xfrm>
              <a:off x="6324480" y="53341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6760" y="53341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24480" y="54867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6760" y="54867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324480" y="6019920"/>
            <a:ext cx="304920" cy="296280"/>
            <a:chOff x="6324480" y="6019920"/>
            <a:chExt cx="304920" cy="296280"/>
          </a:xfrm>
        </p:grpSpPr>
        <p:sp>
          <p:nvSpPr>
            <p:cNvPr id="254" name=""/>
            <p:cNvSpPr/>
            <p:nvPr/>
          </p:nvSpPr>
          <p:spPr>
            <a:xfrm>
              <a:off x="6324480" y="60199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6760" y="60199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24480" y="61725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6760" y="61725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324480" y="68580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68580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70102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7010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371600" y="1522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GANIZZAZI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38080" y="1523880"/>
            <a:ext cx="2133360" cy="3124080"/>
            <a:chOff x="838080" y="1523880"/>
            <a:chExt cx="2133360" cy="3124080"/>
          </a:xfrm>
        </p:grpSpPr>
        <p:grpSp>
          <p:nvGrpSpPr>
            <p:cNvPr id="264" name=""/>
            <p:cNvGrpSpPr/>
            <p:nvPr/>
          </p:nvGrpSpPr>
          <p:grpSpPr>
            <a:xfrm>
              <a:off x="838080" y="1828800"/>
              <a:ext cx="2133360" cy="2819160"/>
              <a:chOff x="838080" y="1828800"/>
              <a:chExt cx="2133360" cy="2819160"/>
            </a:xfrm>
          </p:grpSpPr>
          <p:sp>
            <p:nvSpPr>
              <p:cNvPr id="265" name=""/>
              <p:cNvSpPr/>
              <p:nvPr/>
            </p:nvSpPr>
            <p:spPr>
              <a:xfrm>
                <a:off x="838080" y="1828800"/>
                <a:ext cx="2133360" cy="2819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14040" y="2514600"/>
                <a:ext cx="19814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Definizione dell’organigramma (2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14040" y="2971800"/>
                <a:ext cx="198144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Definizione compiti e responsabilità a collaboratori, coordinatori, ecc. (4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14040" y="4190760"/>
                <a:ext cx="198144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Analisi dei risultati ottenuti dai vari servizi (1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14040" y="3504960"/>
                <a:ext cx="198144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Definizione orario sportelli funzionale ai bisogni degli utenti (17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914040" y="1981080"/>
                <a:ext cx="198144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Pianificazione dei servizi attivati e loro interconnessioni (3 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993600" y="1523880"/>
              <a:ext cx="169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’organizzazione dei serviz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733920" y="1523880"/>
            <a:ext cx="2286000" cy="5867640"/>
            <a:chOff x="3733920" y="1523880"/>
            <a:chExt cx="2286000" cy="5867640"/>
          </a:xfrm>
        </p:grpSpPr>
        <p:grpSp>
          <p:nvGrpSpPr>
            <p:cNvPr id="273" name=""/>
            <p:cNvGrpSpPr/>
            <p:nvPr/>
          </p:nvGrpSpPr>
          <p:grpSpPr>
            <a:xfrm>
              <a:off x="3733920" y="1905120"/>
              <a:ext cx="2209680" cy="5486400"/>
              <a:chOff x="3733920" y="1905120"/>
              <a:chExt cx="2209680" cy="5486400"/>
            </a:xfrm>
          </p:grpSpPr>
          <p:sp>
            <p:nvSpPr>
              <p:cNvPr id="274" name=""/>
              <p:cNvSpPr/>
              <p:nvPr/>
            </p:nvSpPr>
            <p:spPr>
              <a:xfrm>
                <a:off x="3733920" y="1905120"/>
                <a:ext cx="2209680" cy="5486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48400" y="396252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Selezione delle candidature  per ricoprire gli incarichi (5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48400" y="274320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Programmazione degli impegni degli OOCC (6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48400" y="4495680"/>
                <a:ext cx="198108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Piano di sviluppo  delle competenze del personale (7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48400" y="3276720"/>
                <a:ext cx="198108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Definizione delle modalità di controllo delle verifiche  delle deliberazioni OOCC (8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48400" y="2057400"/>
                <a:ext cx="198108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900" spc="-1" strike="noStrike">
                    <a:solidFill>
                      <a:srgbClr val="000000"/>
                    </a:solidFill>
                    <a:latin typeface="Times New Roman"/>
                  </a:rPr>
                  <a:t>Programmazione da parte del DS delle azioni di coordinamento  e raccordo fra i responsabili (9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48400" y="5029200"/>
                <a:ext cx="19810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Pianificazione impiego personale tecnico (1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48400" y="5638680"/>
                <a:ext cx="198108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Piano di manutenzione laboratori e aule speciali (16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8400" y="6172200"/>
                <a:ext cx="19810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Pianificazione impiego personale ausiliario (1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48400" y="6705720"/>
                <a:ext cx="198108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Realizzazione del coordinamento fra responsabili dei servizi e della didattica (18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733920" y="1523880"/>
              <a:ext cx="228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’organizzazione delle risor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interne e il controll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38080" y="4724280"/>
            <a:ext cx="2286000" cy="2743200"/>
            <a:chOff x="838080" y="4724280"/>
            <a:chExt cx="2286000" cy="2743200"/>
          </a:xfrm>
        </p:grpSpPr>
        <p:sp>
          <p:nvSpPr>
            <p:cNvPr id="286" name=""/>
            <p:cNvSpPr/>
            <p:nvPr/>
          </p:nvSpPr>
          <p:spPr>
            <a:xfrm>
              <a:off x="876240" y="5181480"/>
              <a:ext cx="2209680" cy="228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90360" y="5334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Accordi di rete con EELL e agenzie (1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90360" y="5867280"/>
              <a:ext cx="19810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ei genitori per collaborare al miglioramento dei servizi (1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360" y="6629400"/>
              <a:ext cx="19810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Coinvolgimento di partner esterni per il miglioramento dei servizi: aziende, enti pubblici, associazioni, ecc. (2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080" y="4724280"/>
              <a:ext cx="228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’organizzazione dell’apporto delle risorse ester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971800" y="19810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19810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21337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133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33526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335268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350532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35053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2514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25146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2666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26668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971800" y="3048120"/>
            <a:ext cx="304920" cy="296280"/>
            <a:chOff x="2971800" y="3048120"/>
            <a:chExt cx="304920" cy="296280"/>
          </a:xfrm>
        </p:grpSpPr>
        <p:sp>
          <p:nvSpPr>
            <p:cNvPr id="304" name=""/>
            <p:cNvSpPr/>
            <p:nvPr/>
          </p:nvSpPr>
          <p:spPr>
            <a:xfrm>
              <a:off x="2971800" y="30481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24080" y="30481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71800" y="32007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24080" y="32007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971800" y="3581280"/>
            <a:ext cx="304920" cy="296280"/>
            <a:chOff x="2971800" y="3581280"/>
            <a:chExt cx="304920" cy="296280"/>
          </a:xfrm>
        </p:grpSpPr>
        <p:sp>
          <p:nvSpPr>
            <p:cNvPr id="309" name=""/>
            <p:cNvSpPr/>
            <p:nvPr/>
          </p:nvSpPr>
          <p:spPr>
            <a:xfrm>
              <a:off x="2971800" y="35812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358128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37339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37339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971800" y="42670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426708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41972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4419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124080" y="5410080"/>
            <a:ext cx="304920" cy="296280"/>
            <a:chOff x="3124080" y="5410080"/>
            <a:chExt cx="304920" cy="296280"/>
          </a:xfrm>
        </p:grpSpPr>
        <p:sp>
          <p:nvSpPr>
            <p:cNvPr id="318" name=""/>
            <p:cNvSpPr/>
            <p:nvPr/>
          </p:nvSpPr>
          <p:spPr>
            <a:xfrm>
              <a:off x="3124080" y="54100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76360" y="541008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24080" y="5562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5627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124080" y="60199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60199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617220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1722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85656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85656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701028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7010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943600" y="2133720"/>
            <a:ext cx="304920" cy="296280"/>
            <a:chOff x="5943600" y="2133720"/>
            <a:chExt cx="304920" cy="296280"/>
          </a:xfrm>
        </p:grpSpPr>
        <p:sp>
          <p:nvSpPr>
            <p:cNvPr id="331" name=""/>
            <p:cNvSpPr/>
            <p:nvPr/>
          </p:nvSpPr>
          <p:spPr>
            <a:xfrm>
              <a:off x="5943600" y="2133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5880" y="21337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2863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5880" y="22863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943600" y="2819520"/>
            <a:ext cx="304920" cy="296280"/>
            <a:chOff x="5943600" y="2819520"/>
            <a:chExt cx="304920" cy="296280"/>
          </a:xfrm>
        </p:grpSpPr>
        <p:sp>
          <p:nvSpPr>
            <p:cNvPr id="336" name=""/>
            <p:cNvSpPr/>
            <p:nvPr/>
          </p:nvSpPr>
          <p:spPr>
            <a:xfrm>
              <a:off x="5943600" y="28195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5880" y="28195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43600" y="29721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29721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943600" y="39625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39625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41148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41148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44956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4956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6483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46483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3600" y="51055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10552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52578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52578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5715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57150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5867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58672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943600" y="6248520"/>
            <a:ext cx="304920" cy="296280"/>
            <a:chOff x="5943600" y="6248520"/>
            <a:chExt cx="304920" cy="296280"/>
          </a:xfrm>
        </p:grpSpPr>
        <p:sp>
          <p:nvSpPr>
            <p:cNvPr id="357" name=""/>
            <p:cNvSpPr/>
            <p:nvPr/>
          </p:nvSpPr>
          <p:spPr>
            <a:xfrm>
              <a:off x="5943600" y="62485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62485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3600" y="64011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5880" y="64011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943600" y="6858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685656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7010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70102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3962520" y="785880"/>
            <a:ext cx="2133360" cy="3023640"/>
            <a:chOff x="3962520" y="785880"/>
            <a:chExt cx="2133360" cy="3023640"/>
          </a:xfrm>
        </p:grpSpPr>
        <p:sp>
          <p:nvSpPr>
            <p:cNvPr id="366" name=""/>
            <p:cNvSpPr/>
            <p:nvPr/>
          </p:nvSpPr>
          <p:spPr>
            <a:xfrm>
              <a:off x="3962520" y="1142640"/>
              <a:ext cx="2133360" cy="2666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38480" y="2514240"/>
              <a:ext cx="1981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Revisione della programmazione in caso di risultati inattesi  (5) (7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8480" y="1295280"/>
              <a:ext cx="19814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Uso di strumenti condivisi  di osservazione del comportamen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degli studenti (6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38480" y="1981080"/>
              <a:ext cx="1981440" cy="38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terventi correttivi a fronte di ottenimento risultati diversi  (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38480" y="3047760"/>
              <a:ext cx="198144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lteriori interventi di sostegno e recupero in caso di risultati insufficienti (1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26600" y="785880"/>
              <a:ext cx="200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Erogazione del servizio form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805120" y="31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47920" y="76320"/>
            <a:ext cx="3962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ROGAZION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032840" y="785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ntrollo dei proc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09480" y="1066680"/>
            <a:ext cx="2210040" cy="5715000"/>
            <a:chOff x="609480" y="1066680"/>
            <a:chExt cx="2210040" cy="5715000"/>
          </a:xfrm>
        </p:grpSpPr>
        <p:sp>
          <p:nvSpPr>
            <p:cNvPr id="376" name=""/>
            <p:cNvSpPr/>
            <p:nvPr/>
          </p:nvSpPr>
          <p:spPr>
            <a:xfrm>
              <a:off x="609480" y="1066680"/>
              <a:ext cx="2210040" cy="571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3960" y="3352680"/>
              <a:ext cx="19810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ontrollo dell’applicazione dei criteri di valutazione  (1) (2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960" y="502920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Gestione della non conformit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(4) (17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3960" y="114300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ontrollo dell’attuazione del contratto formativo (1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3960" y="388620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levazione risultati per interventi di recupero (1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960" y="441972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levazione risultati per interventi di sostegno individualizzato (1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3960" y="2209680"/>
              <a:ext cx="19810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Verifica dei tempi di attuazione delle attività (1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3960" y="609588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levazione punti di forza e debolezza dei servizi erogati (2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3960" y="16765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ontrollo della attuazione della programmazione didatt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960" y="274320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Verifiche  periodiche  del grado di realizzazione delle attività (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3960" y="549576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laborazione statistica dei  risultati per classe  e materia  (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895480" y="342900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34290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95480" y="35812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35812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5480" y="17524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17524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19051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19051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22860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2286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43828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4382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895480" y="2819520"/>
            <a:ext cx="304920" cy="296280"/>
            <a:chOff x="2895480" y="2819520"/>
            <a:chExt cx="304920" cy="296280"/>
          </a:xfrm>
        </p:grpSpPr>
        <p:sp>
          <p:nvSpPr>
            <p:cNvPr id="400" name=""/>
            <p:cNvSpPr/>
            <p:nvPr/>
          </p:nvSpPr>
          <p:spPr>
            <a:xfrm>
              <a:off x="2895480" y="28195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7760" y="28195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95480" y="297216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7760" y="297216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3276720" y="34290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34290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5812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35812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121932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121932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137160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13716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5480" y="39625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9625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41148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8120" y="41148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44956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8120" y="44956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46483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46483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51055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51055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95480" y="52578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52578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52680" y="51055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51055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52578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2578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95480" y="5562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556272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57150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57150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5480" y="61722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61722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63244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8120" y="63244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13716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13716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15238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1523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5880" y="19810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48520" y="19810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2133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21337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5880" y="25146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2514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26668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8520" y="2666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58040" y="2514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10320" y="2514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58040" y="2666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10320" y="26668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5880" y="32004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32004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5880" y="33526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335268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3520" y="4800600"/>
            <a:ext cx="5410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95288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a soddisfazi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i studenti e famig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l’attività didattica (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2880" y="1285920"/>
            <a:ext cx="2209680" cy="221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514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nalisi di dettaglio dei risultati delle valutazioni d’istituto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0574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nalisi di dettaglio dei risultati delle singole classi e materie (5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29718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nalisi dei risultati degli ex allievi nel percorso successivo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1447920"/>
            <a:ext cx="1981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nalisi di efficacia nel raggiungimento obiettivi didattici (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563868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a soddisfazione  degli allievi per servizi ricevuti (1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632448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a soddisfazione  delle famiglie per la qualità dei servizi offerti (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56386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a soddisfazione  delle aziende per la preparazione degli allievi in stage  (1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49528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a soddisfazione  degli ex allievi per la preparazione ricevuta (1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6324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a soddisfazione  del personale per le modalità di lavoro nella scuola (1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7010280"/>
            <a:ext cx="1981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levazione dell’immagine della scuola presso la comunità (1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7010280"/>
            <a:ext cx="1981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estione dei reclami di studenti e famiglie (1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95280" y="1522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ALUTAZI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1982160" y="4419720"/>
            <a:ext cx="258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a valutazione della soddisfazione dei cli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48880" y="981000"/>
            <a:ext cx="163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a valutazione dei risult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86200" y="990720"/>
            <a:ext cx="2209680" cy="2209320"/>
            <a:chOff x="3886200" y="990720"/>
            <a:chExt cx="2209680" cy="2209320"/>
          </a:xfrm>
        </p:grpSpPr>
        <p:sp>
          <p:nvSpPr>
            <p:cNvPr id="474" name=""/>
            <p:cNvSpPr/>
            <p:nvPr/>
          </p:nvSpPr>
          <p:spPr>
            <a:xfrm>
              <a:off x="3886200" y="1295280"/>
              <a:ext cx="2209680" cy="190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00680" y="144756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onfronto con i risultati degli anni precedenti (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00680" y="1981080"/>
              <a:ext cx="1981080" cy="38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Individuazione delle priorità dei nodi problematici (6) (7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00680" y="2514600"/>
              <a:ext cx="198108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so dei risultati dell’autovalutazione per ridefinire il POF (2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9240" y="990720"/>
              <a:ext cx="172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La valutazione delle criticit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743200" y="304812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304812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32004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3200400"/>
            <a:ext cx="15264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1320" y="70866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70866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91320" y="72388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43600" y="72388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25909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25909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27432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48520" y="27432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43200" y="15238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15238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6765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95480" y="16765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095880" y="1981080"/>
            <a:ext cx="304920" cy="296280"/>
            <a:chOff x="6095880" y="1981080"/>
            <a:chExt cx="304920" cy="296280"/>
          </a:xfrm>
        </p:grpSpPr>
        <p:sp>
          <p:nvSpPr>
            <p:cNvPr id="496" name=""/>
            <p:cNvSpPr/>
            <p:nvPr/>
          </p:nvSpPr>
          <p:spPr>
            <a:xfrm>
              <a:off x="6095880" y="19810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160" y="198108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5880" y="2133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48160" y="2133720"/>
              <a:ext cx="15264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095880" y="149544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149544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5880" y="16477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16477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43200" y="20574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20574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43200" y="22096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95480" y="220968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25146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25146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26668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26668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58040" y="1981080"/>
            <a:ext cx="304200" cy="296280"/>
            <a:chOff x="6458040" y="1981080"/>
            <a:chExt cx="304200" cy="296280"/>
          </a:xfrm>
        </p:grpSpPr>
        <p:sp>
          <p:nvSpPr>
            <p:cNvPr id="513" name=""/>
            <p:cNvSpPr/>
            <p:nvPr/>
          </p:nvSpPr>
          <p:spPr>
            <a:xfrm>
              <a:off x="6458040" y="198108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09960" y="198108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8040" y="2133720"/>
              <a:ext cx="15192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09960" y="2133720"/>
              <a:ext cx="152280" cy="1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791320" y="50292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50292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1320" y="51814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51814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57150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43600" y="571500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58672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5867280"/>
            <a:ext cx="152280" cy="14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64771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64771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66294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43600" y="66294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66880" y="510552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510552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52578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52578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579132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19520" y="579132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59436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19520" y="59436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6400800"/>
            <a:ext cx="15264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6400800"/>
            <a:ext cx="152280" cy="1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66880" y="65530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19520" y="65530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66880" y="708660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708660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66880" y="7238880"/>
            <a:ext cx="15264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7238880"/>
            <a:ext cx="152280" cy="14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22:14:17Z</dcterms:created>
  <dc:creator>Angelo Maraschiello</dc:creator>
  <dc:description/>
  <dc:language>en-US</dc:language>
  <cp:lastModifiedBy>Angelo Maraschiello</cp:lastModifiedBy>
  <cp:lastPrinted>2002-12-15T14:13:22Z</cp:lastPrinted>
  <dcterms:modified xsi:type="dcterms:W3CDTF">2002-12-16T07:33:40Z</dcterms:modified>
  <cp:revision>52</cp:revision>
  <dc:subject/>
  <dc:title>Nessun titolo diapositiva</dc:title>
</cp:coreProperties>
</file>