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F745-8EF8-4008-9B7A-4309433EE2DA}" type="slidenum">
              <a:rPr b="0" lang="it-IT" sz="1200" spc="-1" strike="noStrike">
                <a:solidFill>
                  <a:srgbClr val="0000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agine 3 e 4 del manu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guono indicazioni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trumenti di rilevazione a cura della singola scuola a cura del referente e/o del dirigente scolast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000099"/>
                </a:solidFill>
                <a:latin typeface="Verdana"/>
                <a:ea typeface="Times New Roman"/>
              </a:rPr>
              <a:t>l’indagine si pone come una ricerca di tipo esplorativo, non valutativ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intenzioni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(ad esempio le scelte relative alla flessibilità, all’organizzazione scolastica, all’insegnament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condizioni di sviluppo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delle attività dichiarate (ad esempio le risorse disponibili, le variazioni della popolazione scolastica, gli esiti raccolti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hem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perativ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di analisi funzionale ad individuare quali aspetti, modalità, metodi e attività sono principalmente utilizzati dalle scuole, e descritti nel POF, per lo sviluppo, la realizzazione e la regolazione del proceddo di formazione ed istr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CD5-2768-4297-85CD-59E005EC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207-3649-4B9B-AA07-9EFBA468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C50-730F-4F4E-84C1-48C84FE3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BC0-2E95-4E0D-8BB8-0FEA78E5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DBA3-F325-4E68-92D6-73845BFC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5D64-64C0-44DA-80D7-2ED90F8E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9C2C-8912-4919-B9B3-2E2F0BF3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1C59-BA6B-4CA9-9F41-39E65660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248-FAD4-47D1-AA96-58AA1E90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8E77-7B3D-45A3-9B7B-3E83B7E1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CA94-4440-43F7-8B96-FDF62C97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0E8-8C56-431A-9A25-4B7A9E3F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1516-357D-42EB-85AF-B9D140F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9842-81A4-486F-8873-45C47F88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CBF5-1BE2-4475-9DD2-785E77F6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8498-8F1E-46FC-A085-27F8D13B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4DB2-F3C5-4935-9651-1B99FA72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CD7-5E6C-4087-9B74-FD4DD9EF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033-21E8-4781-B04B-964C5A85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DAB-1E36-473F-93D9-0D528AA7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FA6-8291-4008-B58C-CBCD2193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E29-09A9-44F5-9E34-CBFB64AB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D97-5A53-4F53-A40E-45C43690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B9F-4A1A-40AC-9EC7-0901FF0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0C15-BBD1-4B60-B22F-E01685F3F2CF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4765-49B6-4D3E-BE9B-538EDBCAD59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veduta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85800" y="1371600"/>
            <a:ext cx="7924680" cy="4589640"/>
          </a:xfrm>
          <a:prstGeom prst="rect">
            <a:avLst/>
          </a:prstGeom>
          <a:ln w="57240">
            <a:solidFill>
              <a:srgbClr val="ff0033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828800" y="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Ministero dell’Istruzione, dell’Università e della Ricer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572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Verdana"/>
              </a:rPr>
              <a:t>Ufficio Scolastico Regionale per la Campa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Verdana"/>
              </a:rPr>
              <a:t>Direzione Gener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3716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ff"/>
                </a:solidFill>
                <a:latin typeface="Verdana"/>
              </a:rPr>
              <a:t>P</a:t>
            </a:r>
            <a:r>
              <a:rPr b="1" lang="it-IT" sz="2400" spc="-1" strike="noStrike">
                <a:solidFill>
                  <a:srgbClr val="cc00ff"/>
                </a:solidFill>
                <a:latin typeface="Verdana"/>
              </a:rPr>
              <a:t>ROGETTO PILOTA </a:t>
            </a:r>
            <a:br>
              <a:rPr sz="2400"/>
            </a:br>
            <a:r>
              <a:rPr b="1" lang="it-IT" sz="2400" spc="-1" strike="noStrike">
                <a:solidFill>
                  <a:srgbClr val="cc00ff"/>
                </a:solidFill>
                <a:latin typeface="Verdana"/>
              </a:rPr>
              <a:t>PER LA VALUTAZIONE</a:t>
            </a:r>
            <a:br>
              <a:rPr sz="2400"/>
            </a:br>
            <a:r>
              <a:rPr b="1" lang="it-IT" sz="2400" spc="-1" strike="noStrike">
                <a:solidFill>
                  <a:srgbClr val="cc00ff"/>
                </a:solidFill>
                <a:latin typeface="Verdana"/>
              </a:rPr>
              <a:t>DEL SERVIZIO SCOLA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466-C959-4CB6-94F8-5257CB8CBB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Black"/>
              </a:rPr>
              <a:t>eccezionalmente . . . 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922400"/>
            <a:ext cx="82296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e il </a:t>
            </a:r>
            <a:r>
              <a:rPr b="1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Questionario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è compilato dal dirigente o dal legale rappresentante ( o preside) della istituzione scolastica, nel rispondere bisogna  indicare il motivo di tale scelta, che sarà fatta, quindi, in particolari situazioni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2A6-CF31-4D5F-ABA8-D54C9A25FB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PROCEDURE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914400"/>
            <a:ext cx="9144000" cy="34448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98360">
              <a:lnSpc>
                <a:spcPct val="10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relevare il </a:t>
            </a:r>
            <a:r>
              <a:rPr b="1" i="1" lang="it-IT" sz="2000" spc="-1" strike="noStrike" u="sng">
                <a:solidFill>
                  <a:srgbClr val="fe0422"/>
                </a:solidFill>
                <a:uFillTx/>
                <a:latin typeface="Tahoma"/>
              </a:rPr>
              <a:t>Questionario</a:t>
            </a:r>
            <a:r>
              <a:rPr b="1" lang="it-IT" sz="2000" spc="-1" strike="noStrike">
                <a:solidFill>
                  <a:srgbClr val="fe0422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e il relativo </a:t>
            </a:r>
            <a:r>
              <a:rPr b="1" i="1" lang="it-IT" sz="2000" spc="-1" strike="noStrike" u="sng">
                <a:solidFill>
                  <a:srgbClr val="fe0422"/>
                </a:solidFill>
                <a:uFillTx/>
                <a:latin typeface="Tahoma"/>
              </a:rPr>
              <a:t>Manuale di compilazione</a:t>
            </a:r>
            <a:r>
              <a:rPr b="1" i="1" lang="it-IT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irettamente dal sito dell’INVal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198360" algn="just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stituire il </a:t>
            </a:r>
            <a:r>
              <a:rPr b="1" i="1" lang="it-IT" sz="2000" spc="-1" strike="noStrike" u="sng">
                <a:solidFill>
                  <a:srgbClr val="fe0422"/>
                </a:solidFill>
                <a:uFillTx/>
                <a:latin typeface="Tahoma"/>
              </a:rPr>
              <a:t>Gruppo di Discuss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19836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istribuire una copia cartacea del questionario a tutti i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mponenti del gruppo, per consentirne una conoscenza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approfondita, e tutti i materiali di documentazione della scu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198360" algn="just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ianificare gli incontri necessari (tre o quattro), tenendo conto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ella data di invio del questionario all’INValSI, nel rispetto de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tempi stabil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257800"/>
            <a:ext cx="9144000" cy="1051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042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e0422"/>
                </a:solidFill>
                <a:latin typeface="Tahoma"/>
                <a:ea typeface="Tahoma"/>
              </a:rPr>
              <a:t> </a:t>
            </a:r>
            <a:r>
              <a:rPr b="1" lang="it-IT" sz="2000" spc="-1" strike="noStrike">
                <a:solidFill>
                  <a:srgbClr val="fe0422"/>
                </a:solidFill>
                <a:latin typeface="Tahoma"/>
                <a:ea typeface="Tahoma"/>
              </a:rPr>
              <a:t>redigere il </a:t>
            </a:r>
            <a:r>
              <a:rPr b="1" i="1" lang="it-IT" sz="2000" spc="-1" strike="noStrike" u="sng">
                <a:solidFill>
                  <a:srgbClr val="fe0422"/>
                </a:solidFill>
                <a:uFillTx/>
                <a:latin typeface="Tahoma"/>
                <a:ea typeface="Tahoma"/>
              </a:rPr>
              <a:t>Modulo di osservazione</a:t>
            </a:r>
            <a:r>
              <a:rPr b="1" lang="it-IT" sz="2000" spc="-1" strike="noStrike">
                <a:solidFill>
                  <a:srgbClr val="fe0422"/>
                </a:solidFill>
                <a:latin typeface="Tahoma"/>
                <a:ea typeface="Tahoma"/>
              </a:rPr>
              <a:t> al termine della compilazione de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e0422"/>
                </a:solidFill>
                <a:latin typeface="Tahoma"/>
                <a:ea typeface="Tahoma"/>
              </a:rPr>
              <a:t>   </a:t>
            </a:r>
            <a:r>
              <a:rPr b="1" lang="it-IT" sz="2000" spc="-1" strike="noStrike">
                <a:solidFill>
                  <a:srgbClr val="fe0422"/>
                </a:solidFill>
                <a:latin typeface="Tahoma"/>
                <a:ea typeface="Tahoma"/>
              </a:rPr>
              <a:t>questio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042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95680"/>
            <a:ext cx="9144000" cy="67896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effettuare gli incontri per i focus group con la guida de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coordinatore,  che annoterà osservazioni e aspetti emers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AB0-A528-4E65-8272-9933311D25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Particolarità da consider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184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ff"/>
                </a:solidFill>
                <a:latin typeface="Verdana"/>
              </a:rPr>
              <a:t>Nel caso si istituzioni scolastiche con diversi ordini o tipologie di scuole è possibile compilare uno o più questionar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760" y="2249640"/>
            <a:ext cx="8610480" cy="2288520"/>
          </a:xfrm>
          <a:prstGeom prst="rect">
            <a:avLst/>
          </a:prstGeom>
          <a:noFill/>
          <a:ln w="76320">
            <a:solidFill>
              <a:srgbClr val="fe0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e bisogna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compilare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+ questionari, si deve identificare una sede “principale” (ordine di scuola o tipologia di istituto) e compilare </a:t>
            </a: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 primo questionario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in cui indicare tutte le informazioni comuni e valide per tutto l’istituto; poi si possono compilare altri questionari (uno per ogni ordine e/o tipologia e/o plesso) dove si riporteranno soltanto le specificità rela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N.B.: SU TUTTI I QUESTIONARI SI DEVE RIPORTARE LO STESSO CODICE MECCANOGRAFICO (quello della istituzione “principale”), sempre maiusc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5D5-2D8C-4795-92FE-8D982C5224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Black"/>
              </a:rPr>
              <a:t>IL GRUPPO DI DISCUSSIO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480" y="1365120"/>
            <a:ext cx="902952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In base all’ordine di scuola, può essere costituito da un numero di rappresentanti rispondenti alle esigenze dell’istituzione scolastic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il Dirigente scolastico (o suo delegato), con funzioni d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ordin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tre docenti di ambiti disciplinari diversi (di plessi diversi e/o 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gradi di scuola differenti se presenti nell’istituzione scolastic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11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due genitori scelti tra i rappresentanti di classe o d’Istitu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il Direttore amministrativo e un rappresentante del persona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TA, per quanto di loro competenz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6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due alunni, solo per le scuole superiori, scelti tra i rappresentan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di classe o d’Istitu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9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docenti componenti del nucleo per  la valutazione, se opera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9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nella istituzione scolas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9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lnSpc>
                <a:spcPct val="11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B0A-198D-410D-8DF4-15194EFD88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ffffff"/>
                </a:solidFill>
                <a:uFillTx/>
                <a:latin typeface="Verdana"/>
              </a:rPr>
              <a:t>Modulo di Osservazio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630440"/>
            <a:ext cx="86868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Arial"/>
              </a:rPr>
              <a:t>Il modulo deve essere </a:t>
            </a:r>
            <a:r>
              <a:rPr b="1" lang="it-IT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redatto, direttamente on line, al termine delle attività del gruppo di discussione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Arial"/>
              </a:rPr>
              <a:t> a cura del dirigente scolastico o del referente della scuola </a:t>
            </a:r>
            <a:r>
              <a:rPr b="1" i="1" lang="it-IT" sz="2400" spc="-1" strike="noStrike">
                <a:solidFill>
                  <a:srgbClr val="ffffff"/>
                </a:solidFill>
                <a:latin typeface="Verdana"/>
                <a:ea typeface="Arial"/>
              </a:rPr>
              <a:t>(nel caso delle scuole non statali dal Preside o dal Direttore)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Arial"/>
              </a:rPr>
              <a:t> per esprimere le osservazioni e i rilievi sulle attività svolte relativamente alla compilazione del </a:t>
            </a:r>
            <a:r>
              <a:rPr b="1" i="1" lang="it-IT" sz="2400" spc="-1" strike="noStrike">
                <a:solidFill>
                  <a:srgbClr val="ffffff"/>
                </a:solidFill>
                <a:latin typeface="Verdana"/>
                <a:ea typeface="Arial"/>
              </a:rPr>
              <a:t>Questionario di rilevazione delle attività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440" y="5715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Il dirigente scolastico è il responsabile ufficiale della compil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993-94CE-4B22-802E-5994AC18B6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Articolazione del modul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752480"/>
            <a:ext cx="8076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ateriali di supporto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fruibilità dei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anuali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, difficoltà, utilizzo dell’Help Desk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74320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dure (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ignificatività delle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iscussion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680" y="3429000"/>
            <a:ext cx="8001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trumento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(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ossiblità di analisi offerta dal  Questionario, l’utilità rilevata, anche rispetto al modello di autovalutazione</a:t>
            </a:r>
            <a:r>
              <a:rPr b="1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adottato dall’istituzione scolast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680" y="5105520"/>
            <a:ext cx="8001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uggeriment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nell’intento di migliorare lo stesso strumento e le relative  proced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914400"/>
            <a:ext cx="8076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Descrizione dell’attività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(chi, come, quando, punti critici, …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ADF-9083-48D9-93AE-BBF0392C6D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 rot="16185600">
            <a:off x="-2670120" y="319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ATTENZIO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762120"/>
            <a:ext cx="6705720" cy="468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69" y="7837"/>
                </a:moveTo>
                <a:lnTo>
                  <a:pt x="-245" y="527"/>
                </a:lnTo>
              </a:path>
              <a:path w="21600" h="21600">
                <a:moveTo>
                  <a:pt x="-245" y="0"/>
                </a:moveTo>
                <a:lnTo>
                  <a:pt x="-245" y="21600"/>
                </a:lnTo>
              </a:path>
            </a:pathLst>
          </a:custGeom>
          <a:solidFill>
            <a:srgbClr val="00ccff"/>
          </a:solidFill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Il </a:t>
            </a:r>
            <a:r>
              <a:rPr b="1" lang="it-IT" sz="2400" spc="-1" strike="noStrike" u="sng">
                <a:solidFill>
                  <a:srgbClr val="ffff00"/>
                </a:solidFill>
                <a:uFillTx/>
                <a:latin typeface="Verdana"/>
              </a:rPr>
              <a:t>Questionario di Rilev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il </a:t>
            </a:r>
            <a:r>
              <a:rPr b="1" lang="it-IT" sz="2400" spc="-1" strike="noStrike" u="sng">
                <a:solidFill>
                  <a:srgbClr val="ffff00"/>
                </a:solidFill>
                <a:uFillTx/>
                <a:latin typeface="Verdana"/>
              </a:rPr>
              <a:t>Modulo di Osservazi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devono essere inviati all’INValSI al termine delle attiv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00"/>
                </a:solidFill>
                <a:uFillTx/>
                <a:latin typeface="Verdana"/>
              </a:rPr>
              <a:t>esclusivamente in versione digit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entro il 31 marzo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09D-3305-43E5-AF9E-F58EDFBC28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IL QUESTIONARIO DI RILEVAZIO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523880"/>
            <a:ext cx="8229600" cy="1068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it-IT" sz="3200" spc="-1" strike="noStrike">
                <a:solidFill>
                  <a:srgbClr val="000099"/>
                </a:solidFill>
                <a:latin typeface="Verdana"/>
              </a:rPr>
              <a:t>È COMPILATO DA TUTTE LE SCUOLE CHE ADERISCONO AL  PROGET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429000"/>
            <a:ext cx="8229600" cy="216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it-IT" sz="3200" spc="-1" strike="noStrike">
                <a:solidFill>
                  <a:srgbClr val="000099"/>
                </a:solidFill>
                <a:latin typeface="Verdana"/>
              </a:rPr>
              <a:t>LE RISPOSTE DEVONO ESSERE RIPORTATE SUL QUESTIONARIO ON LINE DISPONIBILE SUL SITO DELL’INValSI</a:t>
            </a:r>
            <a:r>
              <a:rPr b="1" lang="it-IT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5715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ull’apposito sito InValSI è possibile prelevarne la forma a stamp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F9C-D693-420D-9EBD-6A75F23D2E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. . . in conclusio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6240" y="9907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 Black"/>
              </a:rPr>
              <a:t>Lo scopo del 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questionario</a:t>
            </a:r>
            <a:r>
              <a:rPr b="1" lang="it-IT" sz="20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523880"/>
            <a:ext cx="8229600" cy="67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Condurre una ricerca esplorativa per individu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aspet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modal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metod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attiv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che caratterizzano la vita di un’istituzione scolas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e impront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4664160" indent="1725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del 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processo 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form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4648320"/>
            <a:ext cx="3065760" cy="1317600"/>
          </a:xfrm>
          <a:solidFill>
            <a:srgbClr val="00ccff"/>
          </a:solidFill>
          <a:ln w="38160">
            <a:solidFill>
              <a:srgbClr val="00cc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lo svilup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la realizz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la regolazi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AEC-927D-43F4-882D-7D607D2A32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 Black"/>
              </a:rPr>
              <a:t>Punti di attenzio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6002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760" y="762120"/>
            <a:ext cx="8572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Compilazione rigidamente on line sia del questionario, sia del modulo (no cartaceo e no e-ma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Archiviazione errata: contattare INVal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Compilazione questionario per scuole con + ordini e/o tipologie e/o pl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ogin e password: in maiuscolo, stesso codice meccanografic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Consultare costantemente faq e forum per trovare soluzioni a proble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e procedure, i tempi e i calendari da rispett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Atteggiamento proposi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5DF-1EB0-4B11-81C1-9F9FF8B55C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 Black"/>
              </a:rPr>
              <a:t>GLI STRUMENT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066680"/>
            <a:ext cx="8610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Questionario di rilevazione delle        attività svolte nelle istituzioni scolasti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9098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Modulo di osservazione del Dirig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962520"/>
            <a:ext cx="85341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Manuale per la compilazione de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questio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334120"/>
            <a:ext cx="85341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Manuale di accesso e interazione co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il s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2A6-CAEF-4704-8A28-496ADA24CB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 Black"/>
              </a:rPr>
              <a:t>Finalità</a:t>
            </a:r>
            <a:r>
              <a:rPr b="1" lang="it-IT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Arial Black"/>
              </a:rPr>
              <a:t>del questionari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295280"/>
            <a:ext cx="8534160" cy="4042440"/>
          </a:xfrm>
          <a:prstGeom prst="rect">
            <a:avLst/>
          </a:prstGeom>
          <a:noFill/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testare uno strumento di riflessione con cui le istituzioni scolastiche possano riflettere sulle politiche formative e sulle scelte organizzative che  adottano, sulle proprie azioni e sui risultati ottenuti, tenendo presente sia le risorse e le dotazioni a disposizione, sia l’ambiente dove si collocano e oper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ACD-2952-43E0-AD3F-D58EE86E06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 Black"/>
              </a:rPr>
              <a:t>Obiettiv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295280"/>
            <a:ext cx="8686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Wingdings 3" charset="2"/>
              <a:buChar char="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crizione del funzionamento delle istituzioni scolastiche di ogni ordine e g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760" y="2666880"/>
            <a:ext cx="861048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buClr>
                <a:srgbClr val="ffffff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rilevazione della situazione di </a:t>
            </a:r>
            <a:r>
              <a:rPr b="0" i="1" lang="it-IT" sz="2400" spc="-1" strike="noStrike">
                <a:solidFill>
                  <a:srgbClr val="ffffff"/>
                </a:solidFill>
                <a:latin typeface="Arial Black"/>
              </a:rPr>
              <a:t>stato 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della scuola che risponde, in termini d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fe0422"/>
                </a:solidFill>
                <a:uFillTx/>
                <a:latin typeface="Arial Black"/>
              </a:rPr>
              <a:t>intenzioni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  e  </a:t>
            </a:r>
            <a:r>
              <a:rPr b="0" i="1" lang="it-IT" sz="2400" spc="-1" strike="noStrike" u="sng">
                <a:solidFill>
                  <a:srgbClr val="fe0422"/>
                </a:solidFill>
                <a:uFillTx/>
                <a:latin typeface="Arial Black"/>
              </a:rPr>
              <a:t>condizioni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 di sviluppo delle attività dichia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A5B-5C9B-4ADC-8CF1-AEEB8C835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 Black"/>
              </a:rPr>
              <a:t>Le</a:t>
            </a: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 caratteristiche del questionari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9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e dimensioni conoscitive considerate sono esplicitate come attività raggruppate per ambi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4120" y="1482840"/>
          <a:ext cx="837576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482840"/>
                    <a:ext cx="837576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DC6-CAAD-4D1B-8BC4-DA084392CB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ff"/>
                </a:solidFill>
                <a:latin typeface="Verdana"/>
              </a:rPr>
              <a:t>La struttura del questionari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5238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480" y="936720"/>
            <a:ext cx="8915400" cy="66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00ff"/>
                </a:solidFill>
                <a:latin typeface="Tahoma"/>
                <a:ea typeface="Arial"/>
              </a:rPr>
              <a:t>Dati generali: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Anagrafica, composizione istituto, popolazi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scolastica, risorse e dotazioni ( fisiche, tecnologiche, finanziari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00ff"/>
                </a:solidFill>
                <a:latin typeface="Tahoma"/>
                <a:ea typeface="Arial"/>
              </a:rPr>
              <a:t>Attività</a:t>
            </a:r>
            <a:r>
              <a:rPr b="1" lang="it-IT" sz="2000" spc="-1" strike="noStrike">
                <a:solidFill>
                  <a:srgbClr val="cc00ff"/>
                </a:solidFill>
                <a:latin typeface="Tahoma"/>
                <a:ea typeface="Arial"/>
              </a:rPr>
              <a:t> </a:t>
            </a:r>
            <a:r>
              <a:rPr b="1" i="1" lang="it-IT" sz="2000" spc="-1" strike="noStrike">
                <a:solidFill>
                  <a:srgbClr val="cc00ff"/>
                </a:solidFill>
                <a:latin typeface="Tahoma"/>
                <a:ea typeface="Arial"/>
              </a:rPr>
              <a:t>di definizione del contesto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(interno-estern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Comunicazioni genitori, reti di scuole, Enti locali e altri enti,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accoglien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00ff"/>
                </a:solidFill>
                <a:latin typeface="Tahoma"/>
                <a:ea typeface="Arial"/>
              </a:rPr>
              <a:t>Attività</a:t>
            </a:r>
            <a:r>
              <a:rPr b="1" lang="it-IT" sz="2000" spc="-1" strike="noStrike">
                <a:solidFill>
                  <a:srgbClr val="cc00ff"/>
                </a:solidFill>
                <a:latin typeface="Tahoma"/>
                <a:ea typeface="Arial"/>
              </a:rPr>
              <a:t> </a:t>
            </a:r>
            <a:r>
              <a:rPr b="1" i="1" lang="it-IT" sz="2000" spc="-1" strike="noStrike">
                <a:solidFill>
                  <a:srgbClr val="cc00ff"/>
                </a:solidFill>
                <a:latin typeface="Tahoma"/>
                <a:ea typeface="Arial"/>
              </a:rPr>
              <a:t>di organizzazione dell’istituto scolastico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Responsabilità, comunicazione, flessibilità, integrazione, monitoraggio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e verifica delle attività, valutazione interna o autovalutazio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00ff"/>
                </a:solidFill>
                <a:latin typeface="Tahoma"/>
                <a:ea typeface="Arial"/>
              </a:rPr>
              <a:t>Attività di sviluppo dell’istruzione e della form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a.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Attività di organizzazione: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costruzione del curricolo, insegnamenti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integrativi, recupero, supporto, continuità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b. </a:t>
            </a:r>
            <a:r>
              <a:rPr b="0" i="1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Attività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d’insegnamento: programmazione didattica, valutazion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Arial"/>
              </a:rPr>
              <a:t>profitto, individualizzazio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00ff"/>
                </a:solidFill>
                <a:latin typeface="Tahoma"/>
                <a:ea typeface="Arial"/>
              </a:rPr>
              <a:t>Attività di analisi sui risultati ottenuti dalle scuole</a:t>
            </a:r>
            <a:r>
              <a:rPr b="1" i="1" lang="it-IT" sz="2000" spc="-1" strike="noStrike">
                <a:solidFill>
                  <a:srgbClr val="f02e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azione degli studenti,  soddisfazione degli utenti, miglioramento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444-3137-4A02-8427-FF81A7CCB2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Arial Black"/>
              </a:rPr>
              <a:t>… </a:t>
            </a:r>
            <a:r>
              <a:rPr b="0" lang="it-IT" sz="3200" spc="-1" strike="noStrike">
                <a:solidFill>
                  <a:srgbClr val="ffffcc"/>
                </a:solidFill>
                <a:latin typeface="Arial Black"/>
              </a:rPr>
              <a:t>in conclusio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040" y="2421000"/>
            <a:ext cx="8305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Il questionario può risultare </a:t>
            </a:r>
            <a:r>
              <a:rPr b="0" i="1" lang="it-IT" sz="2800" spc="-1" strike="noStrike" u="sng">
                <a:solidFill>
                  <a:srgbClr val="ffffcc"/>
                </a:solidFill>
                <a:uFillTx/>
                <a:latin typeface="Arial Black"/>
                <a:ea typeface="Times New Roman"/>
              </a:rPr>
              <a:t>un modello concettuale di riferimento</a:t>
            </a:r>
            <a:r>
              <a:rPr b="0" lang="it-IT" sz="28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 per le scuole che intendono condurre una valutazione di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C6D-2DDA-4FB8-B25A-56E0FCF27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Arial Black"/>
              </a:rPr>
              <a:t>Le fasi della compilazio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28880" y="1828800"/>
            <a:ext cx="3848040" cy="581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prepar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3429000"/>
            <a:ext cx="3809880" cy="5814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cc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svolg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5029200"/>
            <a:ext cx="38862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conclus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86A-8106-4FC8-9FD0-134216AE23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 Black"/>
              </a:rPr>
              <a:t>MODALITÀ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Black"/>
              </a:rPr>
              <a:t>indicate</a:t>
            </a:r>
            <a:r>
              <a:rPr b="1" lang="it-IT" sz="2800" spc="-1" strike="noStrike">
                <a:solidFill>
                  <a:srgbClr val="ffffff"/>
                </a:solidFill>
                <a:latin typeface="Arial Black"/>
              </a:rPr>
              <a:t> per la compilazi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 Black"/>
              </a:rPr>
              <a:t>del questionario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332080"/>
            <a:ext cx="86868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 Black"/>
              </a:rPr>
              <a:t>Per la compilazione del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Arial Black"/>
              </a:rPr>
              <a:t>Questionario di rilevazione</a:t>
            </a:r>
            <a:r>
              <a:rPr b="0" i="1" lang="it-IT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 Black"/>
              </a:rPr>
              <a:t>sono possibili due soluzion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 Black"/>
              </a:rPr>
              <a:t>il dirigente scolastico costituisce un GRUPPO di DISCUSSIONE che risponde al questionario, coordinato da un referente della scuola o dallo stesso dirigente scolas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760" y="48769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 Black"/>
              </a:rPr>
              <a:t>il dirigente scolastico, responsabile della compilazione, eccezionalmente, può rispondere da solo non costituendo, cioè, il gruppo  di discussi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ia patalano  -  irre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138-BF8C-4504-A075-323C8DE008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cesca.veglione</cp:lastModifiedBy>
  <dcterms:modified xsi:type="dcterms:W3CDTF">2003-02-13T09:47:17Z</dcterms:modified>
  <cp:revision>47</cp:revision>
  <dc:subject/>
  <dc:title>PowerPoint Presentation</dc:title>
</cp:coreProperties>
</file>