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D242-FDA8-4292-A782-BB25369165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32040" y="703440"/>
            <a:ext cx="4968720" cy="34416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"/>
          <p:cNvSpPr/>
          <p:nvPr/>
        </p:nvSpPr>
        <p:spPr>
          <a:xfrm>
            <a:off x="533520" y="4343400"/>
            <a:ext cx="586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"/>
          <p:cNvSpPr/>
          <p:nvPr/>
        </p:nvSpPr>
        <p:spPr>
          <a:xfrm>
            <a:off x="533520" y="419112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D92-BF01-49D2-9FFB-448C64F9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E61-C68C-4C9C-8481-A65A5373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617-3853-47F7-8608-08AE0F72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D2E-33F7-40B1-8F0C-340FE200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45E-A0C0-4480-91A9-30B7AFB7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3EF-59D9-4CE7-8A7F-6EBEE3D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50D-6C12-4CDF-B523-050EFAC8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2E0-E6A0-47C8-9D28-80476EAC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373-06C7-4C18-9619-726D080E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155-21A1-40F1-8430-709FDE44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7D6-5FA1-4B36-82C4-0C49EF9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204-6F73-4887-B118-0A85F71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67E3-9014-4C49-AD04-48AB97426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8760" y="838080"/>
            <a:ext cx="9747360" cy="5361120"/>
            <a:chOff x="158760" y="838080"/>
            <a:chExt cx="9747360" cy="5361120"/>
          </a:xfrm>
        </p:grpSpPr>
        <p:sp>
          <p:nvSpPr>
            <p:cNvPr id="49" name=""/>
            <p:cNvSpPr/>
            <p:nvPr/>
          </p:nvSpPr>
          <p:spPr>
            <a:xfrm>
              <a:off x="158760" y="838080"/>
              <a:ext cx="974736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6360" y="6199200"/>
              <a:ext cx="968940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22440" y="1295280"/>
            <a:ext cx="8753400" cy="2792520"/>
          </a:xfrm>
          <a:custGeom>
            <a:avLst/>
            <a:gdLst/>
            <a:ahLst/>
            <a:rect l="l" t="t" r="r" b="b"/>
            <a:pathLst>
              <a:path w="5599" h="1994">
                <a:moveTo>
                  <a:pt x="5163" y="1993"/>
                </a:moveTo>
                <a:lnTo>
                  <a:pt x="5204" y="1991"/>
                </a:lnTo>
                <a:lnTo>
                  <a:pt x="5245" y="1986"/>
                </a:lnTo>
                <a:lnTo>
                  <a:pt x="5284" y="1980"/>
                </a:lnTo>
                <a:lnTo>
                  <a:pt x="5323" y="1972"/>
                </a:lnTo>
                <a:lnTo>
                  <a:pt x="5359" y="1963"/>
                </a:lnTo>
                <a:lnTo>
                  <a:pt x="5394" y="1952"/>
                </a:lnTo>
                <a:lnTo>
                  <a:pt x="5426" y="1939"/>
                </a:lnTo>
                <a:lnTo>
                  <a:pt x="5457" y="1924"/>
                </a:lnTo>
                <a:lnTo>
                  <a:pt x="5485" y="1910"/>
                </a:lnTo>
                <a:lnTo>
                  <a:pt x="5510" y="1894"/>
                </a:lnTo>
                <a:lnTo>
                  <a:pt x="5533" y="1877"/>
                </a:lnTo>
                <a:lnTo>
                  <a:pt x="5552" y="1858"/>
                </a:lnTo>
                <a:lnTo>
                  <a:pt x="5568" y="1839"/>
                </a:lnTo>
                <a:lnTo>
                  <a:pt x="5582" y="1820"/>
                </a:lnTo>
                <a:lnTo>
                  <a:pt x="5591" y="1799"/>
                </a:lnTo>
                <a:lnTo>
                  <a:pt x="5598" y="1778"/>
                </a:lnTo>
                <a:lnTo>
                  <a:pt x="5598" y="216"/>
                </a:lnTo>
                <a:lnTo>
                  <a:pt x="5591" y="196"/>
                </a:lnTo>
                <a:lnTo>
                  <a:pt x="5582" y="175"/>
                </a:lnTo>
                <a:lnTo>
                  <a:pt x="5568" y="156"/>
                </a:lnTo>
                <a:lnTo>
                  <a:pt x="5552" y="137"/>
                </a:lnTo>
                <a:lnTo>
                  <a:pt x="5533" y="119"/>
                </a:lnTo>
                <a:lnTo>
                  <a:pt x="5510" y="102"/>
                </a:lnTo>
                <a:lnTo>
                  <a:pt x="5485" y="86"/>
                </a:lnTo>
                <a:lnTo>
                  <a:pt x="5457" y="70"/>
                </a:lnTo>
                <a:lnTo>
                  <a:pt x="5426" y="57"/>
                </a:lnTo>
                <a:lnTo>
                  <a:pt x="5394" y="45"/>
                </a:lnTo>
                <a:lnTo>
                  <a:pt x="5359" y="33"/>
                </a:lnTo>
                <a:lnTo>
                  <a:pt x="5323" y="23"/>
                </a:lnTo>
                <a:lnTo>
                  <a:pt x="5284" y="15"/>
                </a:lnTo>
                <a:lnTo>
                  <a:pt x="5245" y="9"/>
                </a:lnTo>
                <a:lnTo>
                  <a:pt x="5204" y="4"/>
                </a:lnTo>
                <a:lnTo>
                  <a:pt x="5163" y="0"/>
                </a:lnTo>
                <a:lnTo>
                  <a:pt x="436" y="0"/>
                </a:lnTo>
                <a:lnTo>
                  <a:pt x="394" y="4"/>
                </a:lnTo>
                <a:lnTo>
                  <a:pt x="352" y="9"/>
                </a:lnTo>
                <a:lnTo>
                  <a:pt x="312" y="15"/>
                </a:lnTo>
                <a:lnTo>
                  <a:pt x="274" y="23"/>
                </a:lnTo>
                <a:lnTo>
                  <a:pt x="237" y="33"/>
                </a:lnTo>
                <a:lnTo>
                  <a:pt x="203" y="45"/>
                </a:lnTo>
                <a:lnTo>
                  <a:pt x="169" y="57"/>
                </a:lnTo>
                <a:lnTo>
                  <a:pt x="140" y="70"/>
                </a:lnTo>
                <a:lnTo>
                  <a:pt x="111" y="86"/>
                </a:lnTo>
                <a:lnTo>
                  <a:pt x="86" y="102"/>
                </a:lnTo>
                <a:lnTo>
                  <a:pt x="63" y="119"/>
                </a:lnTo>
                <a:lnTo>
                  <a:pt x="44" y="137"/>
                </a:lnTo>
                <a:lnTo>
                  <a:pt x="27" y="156"/>
                </a:lnTo>
                <a:lnTo>
                  <a:pt x="14" y="175"/>
                </a:lnTo>
                <a:lnTo>
                  <a:pt x="5" y="196"/>
                </a:lnTo>
                <a:lnTo>
                  <a:pt x="0" y="216"/>
                </a:lnTo>
                <a:lnTo>
                  <a:pt x="0" y="1778"/>
                </a:lnTo>
                <a:lnTo>
                  <a:pt x="5" y="1799"/>
                </a:lnTo>
                <a:lnTo>
                  <a:pt x="14" y="1820"/>
                </a:lnTo>
                <a:lnTo>
                  <a:pt x="27" y="1839"/>
                </a:lnTo>
                <a:lnTo>
                  <a:pt x="44" y="1858"/>
                </a:lnTo>
                <a:lnTo>
                  <a:pt x="63" y="1877"/>
                </a:lnTo>
                <a:lnTo>
                  <a:pt x="86" y="1894"/>
                </a:lnTo>
                <a:lnTo>
                  <a:pt x="111" y="1910"/>
                </a:lnTo>
                <a:lnTo>
                  <a:pt x="140" y="1924"/>
                </a:lnTo>
                <a:lnTo>
                  <a:pt x="169" y="1939"/>
                </a:lnTo>
                <a:lnTo>
                  <a:pt x="203" y="1952"/>
                </a:lnTo>
                <a:lnTo>
                  <a:pt x="237" y="1963"/>
                </a:lnTo>
                <a:lnTo>
                  <a:pt x="274" y="1972"/>
                </a:lnTo>
                <a:lnTo>
                  <a:pt x="312" y="1980"/>
                </a:lnTo>
                <a:lnTo>
                  <a:pt x="352" y="1986"/>
                </a:lnTo>
                <a:lnTo>
                  <a:pt x="394" y="1991"/>
                </a:lnTo>
                <a:lnTo>
                  <a:pt x="436" y="1993"/>
                </a:lnTo>
                <a:lnTo>
                  <a:pt x="5163" y="1993"/>
                </a:lnTo>
                <a:lnTo>
                  <a:pt x="5163" y="1993"/>
                </a:lnTo>
              </a:path>
            </a:pathLst>
          </a:custGeom>
          <a:solidFill>
            <a:srgbClr val="ffffff"/>
          </a:solidFill>
          <a:ln w="31320">
            <a:solidFill>
              <a:srgbClr val="0000ff"/>
            </a:solidFill>
            <a:round/>
          </a:ln>
          <a:effectLst>
            <a:outerShdw dist="102841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04840" y="1905120"/>
            <a:ext cx="7696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CHMARK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3500280" y="43434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gelo Maraschi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FD4-2768-4A19-9ADD-CE487E0832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8884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78000"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'OGGETTO DEL BENCHMARK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 processi e i servizi dell'Istituto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  (un esempi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5000" y="83808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1440" y="990720"/>
            <a:ext cx="478152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AREA SERVIZI CENTRALI / CARATTERIZZAN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ttività didatt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 Didattici Educativi Integra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cogli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mento in entrata, in itinere, in us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zione alla sal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ortello CIC/ Psicol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erimento portatori di 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aggi di istruzione /uscite didatt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ferta formativa aggiunti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rsi lingue straniere, informatica, attività sportiva..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ambi /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zione ambi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toraggio di c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toraggio di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3640" y="990720"/>
            <a:ext cx="39895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AREA STRUMENTA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scri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zione cla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e laboratori, biblioteca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rvizi Amministrativ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320" indent="-4752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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abil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320" indent="-4752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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e  Personale interno / es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lascio certific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rvizio di portin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rvizio  magazz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rvizio puliz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rvizio fotocop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vig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or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20" y="4648320"/>
            <a:ext cx="48783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azione piano offerta f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azione servizi innova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ianificazione (es. Integrazione piano quali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on bilanc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iglio d'Istitu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per la quali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es. ruoli e responsabil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erso organi collegial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pporti con il territor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pporti con altre Istituzioni scolastiche (Reti di scuo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ttività negoziale reperimento risorse finanzia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5200" y="4654440"/>
            <a:ext cx="51469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zione e inform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e della docum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cevimento genitor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o competenze del pers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lutazione prestazioni professio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torio di Area/Distretto (es. indagini statistiche studenti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entrata / usci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e Custom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atisf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89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e sistema di indic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4267080"/>
            <a:ext cx="3408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  <a:ea typeface="Times New Roman"/>
              </a:rPr>
              <a:t>AREA DI SIST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480" y="4168440"/>
            <a:ext cx="9758160" cy="2155320"/>
            <a:chOff x="60480" y="4168440"/>
            <a:chExt cx="9758160" cy="2155320"/>
          </a:xfrm>
        </p:grpSpPr>
        <p:sp>
          <p:nvSpPr>
            <p:cNvPr id="158" name=""/>
            <p:cNvSpPr/>
            <p:nvPr/>
          </p:nvSpPr>
          <p:spPr>
            <a:xfrm flipV="1">
              <a:off x="60480" y="4167720"/>
              <a:ext cx="9758160" cy="2155320"/>
            </a:xfrm>
            <a:prstGeom prst="roundRect">
              <a:avLst>
                <a:gd name="adj" fmla="val 6245"/>
              </a:avLst>
            </a:prstGeom>
            <a:noFill/>
            <a:ln w="18720">
              <a:solidFill>
                <a:srgbClr val="0000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480" y="4523760"/>
              <a:ext cx="9723600" cy="0"/>
            </a:xfrm>
            <a:prstGeom prst="line">
              <a:avLst/>
            </a:prstGeom>
            <a:ln w="18720">
              <a:solidFill>
                <a:srgbClr val="0000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0" y="914040"/>
            <a:ext cx="9758520" cy="3124080"/>
          </a:xfrm>
          <a:prstGeom prst="roundRect">
            <a:avLst>
              <a:gd name="adj" fmla="val 6245"/>
            </a:avLst>
          </a:prstGeom>
          <a:noFill/>
          <a:ln w="18720">
            <a:solidFill>
              <a:srgbClr val="000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0" y="1295280"/>
            <a:ext cx="9723240" cy="0"/>
          </a:xfrm>
          <a:prstGeom prst="line">
            <a:avLst/>
          </a:prstGeom>
          <a:ln w="18720">
            <a:solidFill>
              <a:srgbClr val="000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0520" y="914400"/>
            <a:ext cx="0" cy="3124080"/>
          </a:xfrm>
          <a:prstGeom prst="line">
            <a:avLst/>
          </a:prstGeom>
          <a:ln w="18720">
            <a:solidFill>
              <a:srgbClr val="000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05200" y="3962520"/>
            <a:ext cx="684000" cy="303120"/>
            <a:chOff x="4705200" y="3962520"/>
            <a:chExt cx="684000" cy="303120"/>
          </a:xfrm>
        </p:grpSpPr>
        <p:sp>
          <p:nvSpPr>
            <p:cNvPr id="164" name=""/>
            <p:cNvSpPr/>
            <p:nvPr/>
          </p:nvSpPr>
          <p:spPr>
            <a:xfrm>
              <a:off x="4705200" y="3962520"/>
              <a:ext cx="342000" cy="215640"/>
            </a:xfrm>
            <a:custGeom>
              <a:avLst/>
              <a:gdLst/>
              <a:ahLst/>
              <a:rect l="l" t="t" r="r" b="b"/>
              <a:pathLst>
                <a:path w="219" h="154">
                  <a:moveTo>
                    <a:pt x="0" y="153"/>
                  </a:moveTo>
                  <a:lnTo>
                    <a:pt x="218" y="0"/>
                  </a:lnTo>
                  <a:lnTo>
                    <a:pt x="218" y="38"/>
                  </a:lnTo>
                  <a:lnTo>
                    <a:pt x="104" y="119"/>
                  </a:lnTo>
                  <a:lnTo>
                    <a:pt x="0" y="153"/>
                  </a:lnTo>
                  <a:lnTo>
                    <a:pt x="0" y="153"/>
                  </a:lnTo>
                </a:path>
              </a:pathLst>
            </a:custGeom>
            <a:solidFill>
              <a:srgbClr val="c21212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05200" y="4080240"/>
              <a:ext cx="384120" cy="97920"/>
            </a:xfrm>
            <a:custGeom>
              <a:avLst/>
              <a:gdLst/>
              <a:ahLst/>
              <a:rect l="l" t="t" r="r" b="b"/>
              <a:pathLst>
                <a:path w="246" h="70">
                  <a:moveTo>
                    <a:pt x="185" y="58"/>
                  </a:moveTo>
                  <a:lnTo>
                    <a:pt x="120" y="50"/>
                  </a:lnTo>
                  <a:lnTo>
                    <a:pt x="0" y="69"/>
                  </a:lnTo>
                  <a:lnTo>
                    <a:pt x="72" y="41"/>
                  </a:lnTo>
                  <a:lnTo>
                    <a:pt x="245" y="0"/>
                  </a:lnTo>
                  <a:lnTo>
                    <a:pt x="185" y="58"/>
                  </a:lnTo>
                  <a:lnTo>
                    <a:pt x="185" y="58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42520" y="3962520"/>
              <a:ext cx="346680" cy="218520"/>
            </a:xfrm>
            <a:custGeom>
              <a:avLst/>
              <a:gdLst/>
              <a:ahLst/>
              <a:rect l="l" t="t" r="r" b="b"/>
              <a:pathLst>
                <a:path w="222" h="156">
                  <a:moveTo>
                    <a:pt x="221" y="155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14" y="119"/>
                  </a:lnTo>
                  <a:lnTo>
                    <a:pt x="221" y="155"/>
                  </a:lnTo>
                  <a:lnTo>
                    <a:pt x="221" y="155"/>
                  </a:lnTo>
                </a:path>
              </a:pathLst>
            </a:custGeom>
            <a:solidFill>
              <a:srgbClr val="e1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4197960"/>
              <a:ext cx="318600" cy="67320"/>
            </a:xfrm>
            <a:custGeom>
              <a:avLst/>
              <a:gdLst/>
              <a:ahLst/>
              <a:rect l="l" t="t" r="r" b="b"/>
              <a:pathLst>
                <a:path w="204" h="48">
                  <a:moveTo>
                    <a:pt x="203" y="47"/>
                  </a:moveTo>
                  <a:lnTo>
                    <a:pt x="0" y="47"/>
                  </a:lnTo>
                  <a:lnTo>
                    <a:pt x="62" y="0"/>
                  </a:lnTo>
                  <a:lnTo>
                    <a:pt x="160" y="0"/>
                  </a:lnTo>
                  <a:lnTo>
                    <a:pt x="203" y="47"/>
                  </a:lnTo>
                  <a:lnTo>
                    <a:pt x="203" y="47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06520" y="4082760"/>
              <a:ext cx="382680" cy="98280"/>
            </a:xfrm>
            <a:custGeom>
              <a:avLst/>
              <a:gdLst/>
              <a:ahLst/>
              <a:rect l="l" t="t" r="r" b="b"/>
              <a:pathLst>
                <a:path w="245" h="70">
                  <a:moveTo>
                    <a:pt x="56" y="58"/>
                  </a:moveTo>
                  <a:lnTo>
                    <a:pt x="122" y="49"/>
                  </a:lnTo>
                  <a:lnTo>
                    <a:pt x="244" y="69"/>
                  </a:lnTo>
                  <a:lnTo>
                    <a:pt x="169" y="42"/>
                  </a:lnTo>
                  <a:lnTo>
                    <a:pt x="0" y="0"/>
                  </a:lnTo>
                  <a:lnTo>
                    <a:pt x="56" y="58"/>
                  </a:lnTo>
                  <a:lnTo>
                    <a:pt x="56" y="58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34680" y="4105440"/>
              <a:ext cx="64080" cy="159840"/>
            </a:xfrm>
            <a:custGeom>
              <a:avLst/>
              <a:gdLst/>
              <a:ahLst/>
              <a:rect l="l" t="t" r="r" b="b"/>
              <a:pathLst>
                <a:path w="41" h="114">
                  <a:moveTo>
                    <a:pt x="7" y="96"/>
                  </a:moveTo>
                  <a:lnTo>
                    <a:pt x="38" y="113"/>
                  </a:lnTo>
                  <a:lnTo>
                    <a:pt x="40" y="33"/>
                  </a:lnTo>
                  <a:lnTo>
                    <a:pt x="0" y="0"/>
                  </a:lnTo>
                  <a:lnTo>
                    <a:pt x="7" y="96"/>
                  </a:lnTo>
                  <a:lnTo>
                    <a:pt x="7" y="96"/>
                  </a:lnTo>
                </a:path>
              </a:pathLst>
            </a:custGeom>
            <a:solidFill>
              <a:srgbClr val="ff9f7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4104360"/>
              <a:ext cx="65880" cy="161280"/>
            </a:xfrm>
            <a:custGeom>
              <a:avLst/>
              <a:gdLst/>
              <a:ahLst/>
              <a:rect l="l" t="t" r="r" b="b"/>
              <a:pathLst>
                <a:path w="42" h="115">
                  <a:moveTo>
                    <a:pt x="41" y="92"/>
                  </a:moveTo>
                  <a:lnTo>
                    <a:pt x="0" y="114"/>
                  </a:lnTo>
                  <a:lnTo>
                    <a:pt x="0" y="34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41" y="92"/>
                  </a:lnTo>
                </a:path>
              </a:pathLst>
            </a:custGeom>
            <a:solidFill>
              <a:srgbClr val="e1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98800" y="3994920"/>
              <a:ext cx="482760" cy="257760"/>
            </a:xfrm>
            <a:custGeom>
              <a:avLst/>
              <a:gdLst/>
              <a:ahLst/>
              <a:rect l="l" t="t" r="r" b="b"/>
              <a:pathLst>
                <a:path w="309" h="184">
                  <a:moveTo>
                    <a:pt x="157" y="0"/>
                  </a:moveTo>
                  <a:lnTo>
                    <a:pt x="157" y="0"/>
                  </a:lnTo>
                  <a:lnTo>
                    <a:pt x="308" y="107"/>
                  </a:lnTo>
                  <a:lnTo>
                    <a:pt x="233" y="95"/>
                  </a:lnTo>
                  <a:lnTo>
                    <a:pt x="233" y="183"/>
                  </a:lnTo>
                  <a:lnTo>
                    <a:pt x="71" y="183"/>
                  </a:lnTo>
                  <a:lnTo>
                    <a:pt x="71" y="95"/>
                  </a:lnTo>
                  <a:lnTo>
                    <a:pt x="0" y="107"/>
                  </a:lnTo>
                  <a:lnTo>
                    <a:pt x="157" y="0"/>
                  </a:lnTo>
                  <a:lnTo>
                    <a:pt x="157" y="0"/>
                  </a:lnTo>
                </a:path>
              </a:pathLst>
            </a:custGeom>
            <a:solidFill>
              <a:srgbClr val="ff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280-4A7C-4E86-AF6F-25E0614551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520" y="396720"/>
            <a:ext cx="1040760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IPI DI BENCH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82560" y="2142000"/>
            <a:ext cx="8520120" cy="30812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ff"/>
            </a:solidFill>
            <a:miter/>
          </a:ln>
          <a:effectLst>
            <a:outerShdw dist="102841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2560" y="3165480"/>
            <a:ext cx="8499600" cy="0"/>
          </a:xfrm>
          <a:prstGeom prst="line">
            <a:avLst/>
          </a:prstGeom>
          <a:ln w="18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91000" y="4189320"/>
            <a:ext cx="5599080" cy="1022400"/>
            <a:chOff x="3591000" y="4189320"/>
            <a:chExt cx="5599080" cy="1022400"/>
          </a:xfrm>
        </p:grpSpPr>
        <p:sp>
          <p:nvSpPr>
            <p:cNvPr id="176" name=""/>
            <p:cNvSpPr/>
            <p:nvPr/>
          </p:nvSpPr>
          <p:spPr>
            <a:xfrm>
              <a:off x="3591000" y="4189320"/>
              <a:ext cx="5599080" cy="0"/>
            </a:xfrm>
            <a:prstGeom prst="line">
              <a:avLst/>
            </a:prstGeom>
            <a:ln w="187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91000" y="5211720"/>
              <a:ext cx="5599080" cy="0"/>
            </a:xfrm>
            <a:prstGeom prst="line">
              <a:avLst/>
            </a:prstGeom>
            <a:ln w="187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86320" y="2143080"/>
            <a:ext cx="0" cy="3075120"/>
          </a:xfrm>
          <a:prstGeom prst="line">
            <a:avLst/>
          </a:prstGeom>
          <a:ln w="187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2560" y="2459160"/>
            <a:ext cx="3049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2560" y="3787920"/>
            <a:ext cx="3049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S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5120" y="2438280"/>
            <a:ext cx="56898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1. BENCHMARKING DELLE ATTIVITA'  INTER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93960" y="3406680"/>
            <a:ext cx="545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. BENCHMARKING DI PROCESS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5000" y="80640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9280" y="4491000"/>
            <a:ext cx="504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3. BENCHMARKING "COMPETITIVO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A0B-FDD0-4A5D-BB6D-CEB765D9CE0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1520" y="396720"/>
            <a:ext cx="1040760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IPI DI BENCH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4200" y="1063800"/>
            <a:ext cx="931068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09680" indent="-409680">
              <a:lnSpc>
                <a:spcPct val="100000"/>
              </a:lnSpc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1" lang="en-GB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TERN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'INTERNO DELLO STESSO ISTIT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 UNITA'/SEZIONI CHE SVOLGONO ATTIVITA' SIMILI NELLA STESSA SEDE O IN LOCALITA' DI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1" lang="en-GB" sz="1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VANTAGG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N OCCORRE RICERCARE PARTNER   DI RI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I E INFORMAZIONI PROBABILMENTE PIU' OMOGENEE E FACILI DA REPER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VORISCE LA SINERGIA TRA LE UNI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A LA COMUNICAZIONE ALL'INTERNO DELLO STESSO ISTITUTO E LA CIRCOLAZIONE DELLE ID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1" lang="en-GB" sz="1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SVANTAGG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TTI E RIVALITA' TRA UNITA'/SE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409680">
              <a:lnSpc>
                <a:spcPct val="100000"/>
              </a:lnSpc>
              <a:tabLst>
                <a:tab algn="l" pos="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  <a:tab algn="l" pos="89820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"DIFESA DEL PROPRIO TERRITORIO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  <a:tab algn="l" pos="8591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CANZA DI RIFERIMENTI ESTERNI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000" y="80496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086-51E1-48D1-BEAE-850FBB80C5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760" y="993600"/>
            <a:ext cx="963936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0000ff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imes New Roman"/>
              </a:rPr>
              <a:t>2. DI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RONTO CON ALTRE SCUOLE (ISTITUTI), NON "CONCORRENTI", IN DETERMINATI PROCESSI/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100" spc="-1" strike="noStrike" u="sng">
                <a:solidFill>
                  <a:srgbClr val="0000ff"/>
                </a:solidFill>
                <a:uFillTx/>
                <a:latin typeface="Times New Roman"/>
              </a:rPr>
              <a:t>VANTAGG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RONTABILITA': LINGUAGGIO E METRICHE OMOGE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' OTTENIMENTO INFORMAZIONI RISER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ILITA' DI METTERE IN DISCUSSIONE I PARADIG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ILITA' DI INTRODURRE INNOVAZIONI RADI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' CONSIDERATO DA MOLTI COME LA "VERA ESSENZA" DEL BENCHMARKI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100" spc="-1" strike="noStrike" u="sng">
                <a:solidFill>
                  <a:srgbClr val="0000ff"/>
                </a:solidFill>
                <a:uFillTx/>
                <a:latin typeface="Times New Roman"/>
              </a:rPr>
              <a:t>SVANTAGG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ICOLTA' A TRADURRE "PRASSI MIGLIORI" DI CONTESTI DIVERSI, IN AZIONI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76040">
              <a:lnSpc>
                <a:spcPct val="9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SCUOLE LEADER NON SONO SEMPRE DISPOSTE A "DARE"; VOGLIONO ANCHE "RICEVERE" (WIN-WIN STRATE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" y="396720"/>
            <a:ext cx="10407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TIPI DI BENCHMAR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5000" y="8161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2F5-BC0F-4096-A773-4687529A9E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1520" y="396720"/>
            <a:ext cx="1040760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IPI DI BENCH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680" y="1211400"/>
            <a:ext cx="91742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3. COMPETI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O CON SCUOLE PRIVATE PRESENTI SUL 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VANTAGG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O SU PROBLEMATICHE AFF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' DI TRADURRE I RISULTATI IN AZIONI CONCR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SVANTAGG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ABILITA': LINGUAGGIO E METRICHE NON SEMPRE OMOGEN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OLTA' DI OTTENERE INFORMAZIONI DA SCUOLE "CONCORRENTI": DEVE ESSERE UNA "WIN-WIN STRATEGY" (STRATEGIA VINCENTE PER ENTRAM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5876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SCHIO DI CADERE NELL'EFFETTO “QUANTO SIAMO BRAVI" (OGNUNO FA VEDERE QUANTO E' BRA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5000" y="8161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4B1-94D6-4761-941D-7465BB606E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15840" y="441000"/>
            <a:ext cx="992016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SA E' IL BENCH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120760"/>
            <a:ext cx="87678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L BENCHMARKING NON E' UN MECCANISMO PER OTTENERE UNA DIMINUZIONE DELLE RISORSE IMPIEGATE, MA PER UTILIZZARLE IN MODO PIU' EFFIC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3333cc"/>
                </a:solidFill>
                <a:latin typeface="Arial"/>
                <a:ea typeface="Times New Roman"/>
              </a:rPr>
              <a:t>N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' LA COSID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TTA "</a:t>
            </a:r>
            <a:r>
              <a:rPr b="1" lang="en-GB" sz="1900" spc="-1" strike="noStrike">
                <a:solidFill>
                  <a:srgbClr val="3333cc"/>
                </a:solidFill>
                <a:latin typeface="Arial"/>
                <a:ea typeface="Times New Roman"/>
              </a:rPr>
              <a:t>MEDICINA PER TUTTI I MALI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' UN </a:t>
            </a:r>
            <a:r>
              <a:rPr b="1" lang="en-GB" sz="1900" spc="-1" strike="noStrike">
                <a:solidFill>
                  <a:srgbClr val="3333cc"/>
                </a:solidFill>
                <a:latin typeface="Arial"/>
                <a:ea typeface="Times New Roman"/>
              </a:rPr>
              <a:t>PROCESSO GESTIONALE CONTINU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640" y="852480"/>
            <a:ext cx="98726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D1D-D457-44DF-A239-6735DE36BEB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1160" y="456840"/>
            <a:ext cx="98046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PREREQUIS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560" y="1219320"/>
            <a:ext cx="87613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OCCORRE CONOSCERE BENE COSA E COME SI OPERA ALL'INTERNO DELL'ISTITUTO (AREA, SERVIZIO/PROCESSO) OGGETTO DEL CONFRONTO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NON VA USATO PERCHE' E' UNA "MODA". OCCORRE AVERE COME TRAGUARDO IL MIGLIORAMENTO DELL'EFFICACIA/EFFICIEN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FATTORI CRITICI DI SUCCESS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VOLONTA' DI IMPAR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ZIONE DI OBIETTIVI (PERCHE' FACCIAMO IL BENCHMARKING?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ERCEPIRE IL CAMBIAMENTO IN TEMPO UT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E CHE BENCHMARKING NON E' UNA LISTA DI AZIONI, MA UNA METODOLOGIA STRUTTURATA DI APPRENDIMENTO CONTINU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L CONFRONTO NON DEVE ESSERE PERCEPITO DAGLI OPERATORI DELLA SCUOLA, GENITORI E STUDENTI COME STRUMENTO DI VALUTAZIONE INDIVIDUALE, MA COME TECNICA PER INDIVIDUARE  LE OPPORTUNITA' DI MIGLIORAMENTO DEI PROCESSI/SERVIZI  E PER RIPENSARLI IN MANIERA INNOVATIV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460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80" y="874800"/>
            <a:ext cx="978048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EB7-245E-4ADF-A50F-4C0C4CC6DE0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436320"/>
            <a:ext cx="98298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Times New Roman"/>
              </a:rPr>
              <a:t>I MIGLIORI RISULTATI SI OTTENGONO QUAND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8880" y="1771560"/>
            <a:ext cx="900432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ISTE L'APPOGGIO DEL DIRIGENTE SCOLAST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L BENCHMARKING E' PARTE INTEGRANTE DI UNA STRATEGIA DI CAMBIAMENTO, MEGLIO SE ACCOMPAGNATA DA UN PROGETTO DI TOTAL QUALITY MANAG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' UTILIZZATO COME STRUMENTO DI “APPRENDIMENTO CONTINUO”; APPROCCIO PRAGMATICO PER LA RICERCA DELLE IDEE  "DA CHI HA FATTO!“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ISTE ALL'INTERNO DELL'ISTITUTO UN'ORGANIZZAZIONE PER LA QUALITA' PER VALUTARE LE PRASSI MIGLIORI E IMPLEMENTAR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5000" y="8701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j0078837" descr=""/>
          <p:cNvPicPr/>
          <p:nvPr/>
        </p:nvPicPr>
        <p:blipFill>
          <a:blip r:embed="rId1"/>
          <a:stretch/>
        </p:blipFill>
        <p:spPr>
          <a:xfrm>
            <a:off x="6686640" y="4343400"/>
            <a:ext cx="2244600" cy="195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902-C192-4067-9E29-BF31376407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1520" y="436320"/>
            <a:ext cx="104076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PRASSI "MIGLIORE" E PRASSI "BUON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109520"/>
            <a:ext cx="9010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LCUNI ANNI FA SI PARLAVA SOLO DI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“MIGLIORI PRATICHE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DESSO SI PARLA DI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“BUONE PRACTICHE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' FORSE PERCHE' LE ORGANIZZAZIONI NON POSSONO PIU' PERMETTERSI DI RICERCARE LE PRASSI MIGLIORI E DEVONO ACCONTENTARSI DI POSIZIONARSI SU PRASSI SEMPLICEMENTE BUO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NO. NEL TEMPO, E' AUMENTATA LA CONSAPEVOLEZZA CHE CIO' CHE E' MEGLIO PER UN'ORGANIZZAZIONE, NON SEMPRE LO E' PER UN'ALT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 CHE UNA PRASSI MIGLIORE DEVE ESSERE INTERPRETATA ALLA LUCE DEL CONTESTO LOCALE,  DELLA CULTURA, DELLA DIMENSIONE, EC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5000" y="8701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3320" y="4446720"/>
            <a:ext cx="1071360" cy="618840"/>
          </a:xfrm>
          <a:custGeom>
            <a:avLst/>
            <a:gdLst/>
            <a:ahLst/>
            <a:rect l="l" t="t" r="r" b="b"/>
            <a:pathLst>
              <a:path w="686" h="443">
                <a:moveTo>
                  <a:pt x="125" y="0"/>
                </a:moveTo>
                <a:lnTo>
                  <a:pt x="125" y="0"/>
                </a:lnTo>
                <a:lnTo>
                  <a:pt x="125" y="224"/>
                </a:lnTo>
                <a:lnTo>
                  <a:pt x="0" y="224"/>
                </a:lnTo>
                <a:lnTo>
                  <a:pt x="341" y="442"/>
                </a:lnTo>
                <a:lnTo>
                  <a:pt x="685" y="224"/>
                </a:lnTo>
                <a:lnTo>
                  <a:pt x="565" y="224"/>
                </a:lnTo>
                <a:lnTo>
                  <a:pt x="565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e0f1ff"/>
          </a:solidFill>
          <a:ln w="18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9560" y="5403960"/>
            <a:ext cx="8991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ASSI E' BUONA SE FUNZIONA BENE PER LA PROPRIA ORGANIZZAZIONE IN TERMINI DI EFFICACIA ED EFFICI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45A-C2B3-4AFF-820A-D59EE13FCA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360" y="436320"/>
            <a:ext cx="990612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DOVE SONO I PROBLEM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0720" y="1254240"/>
            <a:ext cx="9455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NOI SIAMO DIVERSI”, “DA NOI NON ATTACCA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L CONFRONTO RICHIEDE COMPLETA TRASPARENZA SU COME SI FANNO LE COSE ALL'INTERNO DELL'ISTITU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NON CHIARA VOLONTA' E DETERMIN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MPEGNO DI RISO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CERTEZZA SUI BENEFIC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L CAMBIAMENTO MODIFICA GLI EQUILIBRI DI POTERE ALL'INTERNO DELL'ORGANIZZ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ENDENZA A CONCENTRARSI SUI RISULTATI, PIUTTOSTO CHE SU "COME"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I FANNO LE CO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000" y="8701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 flipH="1">
            <a:off x="7848360" y="2666880"/>
            <a:ext cx="1320840" cy="119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0DE-718A-4AD2-8C5F-C917078C1B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80424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85800"/>
            <a:ext cx="9712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990720"/>
            <a:ext cx="9277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LL'INGLESE </a:t>
            </a:r>
            <a:r>
              <a:rPr b="0" lang="en-GB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BENCHMARK</a:t>
            </a:r>
            <a:r>
              <a:rPr b="0" lang="it-IT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RIFERIMENTO, CONF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1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1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BENCHMARKING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 CONFRONTO STRUTTURATO DI PRASSI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/O RISULTATI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APPROCCI, MODALITA' OPERATIVE, PROCEDURE, PROCESSI, SERVIZI, SOLUZION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RISULTATI DI PERFORM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TRA PIU' ORGANIZZAZIONI, CON UN PRECISO OBIETTIVO COMUNE: GENERARE OPPORTUNITA' DI APPRENDIMENTO E DI MIGLIO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590920"/>
            <a:ext cx="8994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RICERC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ELL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IGLIORI PRASS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HE PORTANO AD UNA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ZIONE SUPERIOR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R.CAMP, 198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048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UN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TINU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ATICO PROCESS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ER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VALUTAR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I PRODOTTI, SERVIZI E PROCESS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I ORGANIZZAZIONI CHE SONO RICONOSCIUTE COME "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BEST PRACTIC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 ALLO SCOPO DEL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IGLIORAMENT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I UN'ORGANIZZAZIONE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M.J. SPENDOLINI, 1992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8994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IL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ETOD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TRAVERSO CUI LE ORGANIZZAZIONI POSSONO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IGLIORAR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PROPRI PROCESSI, I PROPRI SERVIZI, LE PROPRIE PRASSI E PERFORMANCE ATTRAVERSO UN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FRONTO SISTEMATIC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 ALTRE ORGANIZZAZION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NDIPENDENTEMENTE DAL  SETTORE DI APPARTENENZA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 BENCHMARKING CLUB-BUSINESS  INTERNA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8994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SOTTO LA DENOMINAZIONE DI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BENCHMARKING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VANNO TUTTE QUELL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ETODOLOGI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I ANALISI 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FRONT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VOLTE ALLA INDIVIDUAZIONE DI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RASSI E SOLUZIONI ORGANIZZATIVE ECCELLENT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ERGIO BERETTA, DIRETTORE BENCHMARKING NETWORK SDA BOCCON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AE3-23A0-4897-8D5A-11FFD6D9710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980280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UNA  PROVO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2520" y="1447920"/>
            <a:ext cx="9148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"NOI VEDIAMO IL BENCHMARKING COME UN ESERCIZIO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SGRADEVOLE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EVE "DARE FASTIDIO" PER FUNZIONA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ON E' UN SISTEMA PER FARSI I COMPLIMENTI A VICENDA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 UN METODO CHE ABITUA A MISURARE  SISTEMATICAMENT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A PROPRIA DEBOLEZZA ALLO SCOPO DI  ELIMINARL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ON E' UN GIOCO DI SOCIETA‘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100000"/>
              </a:lnSpc>
              <a:buClr>
                <a:srgbClr val="ff0000"/>
              </a:buClr>
              <a:buSzPct val="70000"/>
              <a:buFont typeface="Monotype Sorts" charset="2"/>
              <a:buChar char="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O RIPETO, E' QUALCOSA DI SGRADEVOLE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707080"/>
            <a:ext cx="4572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EFANO MICOSSI, DIRETTORE GENE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LA DG III, UNIONE EUROPE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5000" y="96696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46F-AA3B-461E-B296-5CE7F25099F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58760" y="838080"/>
            <a:ext cx="9747360" cy="5361120"/>
            <a:chOff x="158760" y="838080"/>
            <a:chExt cx="9747360" cy="5361120"/>
          </a:xfrm>
        </p:grpSpPr>
        <p:sp>
          <p:nvSpPr>
            <p:cNvPr id="218" name=""/>
            <p:cNvSpPr/>
            <p:nvPr/>
          </p:nvSpPr>
          <p:spPr>
            <a:xfrm>
              <a:off x="158760" y="838080"/>
              <a:ext cx="974736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360" y="6199200"/>
              <a:ext cx="968940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2440" y="1295280"/>
            <a:ext cx="8753400" cy="2792520"/>
          </a:xfrm>
          <a:custGeom>
            <a:avLst/>
            <a:gdLst/>
            <a:ahLst/>
            <a:rect l="l" t="t" r="r" b="b"/>
            <a:pathLst>
              <a:path w="5599" h="1994">
                <a:moveTo>
                  <a:pt x="5163" y="1993"/>
                </a:moveTo>
                <a:lnTo>
                  <a:pt x="5204" y="1991"/>
                </a:lnTo>
                <a:lnTo>
                  <a:pt x="5245" y="1986"/>
                </a:lnTo>
                <a:lnTo>
                  <a:pt x="5284" y="1980"/>
                </a:lnTo>
                <a:lnTo>
                  <a:pt x="5323" y="1972"/>
                </a:lnTo>
                <a:lnTo>
                  <a:pt x="5359" y="1963"/>
                </a:lnTo>
                <a:lnTo>
                  <a:pt x="5394" y="1952"/>
                </a:lnTo>
                <a:lnTo>
                  <a:pt x="5426" y="1939"/>
                </a:lnTo>
                <a:lnTo>
                  <a:pt x="5457" y="1924"/>
                </a:lnTo>
                <a:lnTo>
                  <a:pt x="5485" y="1910"/>
                </a:lnTo>
                <a:lnTo>
                  <a:pt x="5510" y="1894"/>
                </a:lnTo>
                <a:lnTo>
                  <a:pt x="5533" y="1877"/>
                </a:lnTo>
                <a:lnTo>
                  <a:pt x="5552" y="1858"/>
                </a:lnTo>
                <a:lnTo>
                  <a:pt x="5568" y="1839"/>
                </a:lnTo>
                <a:lnTo>
                  <a:pt x="5582" y="1820"/>
                </a:lnTo>
                <a:lnTo>
                  <a:pt x="5591" y="1799"/>
                </a:lnTo>
                <a:lnTo>
                  <a:pt x="5598" y="1778"/>
                </a:lnTo>
                <a:lnTo>
                  <a:pt x="5598" y="216"/>
                </a:lnTo>
                <a:lnTo>
                  <a:pt x="5591" y="196"/>
                </a:lnTo>
                <a:lnTo>
                  <a:pt x="5582" y="175"/>
                </a:lnTo>
                <a:lnTo>
                  <a:pt x="5568" y="156"/>
                </a:lnTo>
                <a:lnTo>
                  <a:pt x="5552" y="137"/>
                </a:lnTo>
                <a:lnTo>
                  <a:pt x="5533" y="119"/>
                </a:lnTo>
                <a:lnTo>
                  <a:pt x="5510" y="102"/>
                </a:lnTo>
                <a:lnTo>
                  <a:pt x="5485" y="86"/>
                </a:lnTo>
                <a:lnTo>
                  <a:pt x="5457" y="70"/>
                </a:lnTo>
                <a:lnTo>
                  <a:pt x="5426" y="57"/>
                </a:lnTo>
                <a:lnTo>
                  <a:pt x="5394" y="45"/>
                </a:lnTo>
                <a:lnTo>
                  <a:pt x="5359" y="33"/>
                </a:lnTo>
                <a:lnTo>
                  <a:pt x="5323" y="23"/>
                </a:lnTo>
                <a:lnTo>
                  <a:pt x="5284" y="15"/>
                </a:lnTo>
                <a:lnTo>
                  <a:pt x="5245" y="9"/>
                </a:lnTo>
                <a:lnTo>
                  <a:pt x="5204" y="4"/>
                </a:lnTo>
                <a:lnTo>
                  <a:pt x="5163" y="0"/>
                </a:lnTo>
                <a:lnTo>
                  <a:pt x="436" y="0"/>
                </a:lnTo>
                <a:lnTo>
                  <a:pt x="394" y="4"/>
                </a:lnTo>
                <a:lnTo>
                  <a:pt x="352" y="9"/>
                </a:lnTo>
                <a:lnTo>
                  <a:pt x="312" y="15"/>
                </a:lnTo>
                <a:lnTo>
                  <a:pt x="274" y="23"/>
                </a:lnTo>
                <a:lnTo>
                  <a:pt x="237" y="33"/>
                </a:lnTo>
                <a:lnTo>
                  <a:pt x="203" y="45"/>
                </a:lnTo>
                <a:lnTo>
                  <a:pt x="169" y="57"/>
                </a:lnTo>
                <a:lnTo>
                  <a:pt x="140" y="70"/>
                </a:lnTo>
                <a:lnTo>
                  <a:pt x="111" y="86"/>
                </a:lnTo>
                <a:lnTo>
                  <a:pt x="86" y="102"/>
                </a:lnTo>
                <a:lnTo>
                  <a:pt x="63" y="119"/>
                </a:lnTo>
                <a:lnTo>
                  <a:pt x="44" y="137"/>
                </a:lnTo>
                <a:lnTo>
                  <a:pt x="27" y="156"/>
                </a:lnTo>
                <a:lnTo>
                  <a:pt x="14" y="175"/>
                </a:lnTo>
                <a:lnTo>
                  <a:pt x="5" y="196"/>
                </a:lnTo>
                <a:lnTo>
                  <a:pt x="0" y="216"/>
                </a:lnTo>
                <a:lnTo>
                  <a:pt x="0" y="1778"/>
                </a:lnTo>
                <a:lnTo>
                  <a:pt x="5" y="1799"/>
                </a:lnTo>
                <a:lnTo>
                  <a:pt x="14" y="1820"/>
                </a:lnTo>
                <a:lnTo>
                  <a:pt x="27" y="1839"/>
                </a:lnTo>
                <a:lnTo>
                  <a:pt x="44" y="1858"/>
                </a:lnTo>
                <a:lnTo>
                  <a:pt x="63" y="1877"/>
                </a:lnTo>
                <a:lnTo>
                  <a:pt x="86" y="1894"/>
                </a:lnTo>
                <a:lnTo>
                  <a:pt x="111" y="1910"/>
                </a:lnTo>
                <a:lnTo>
                  <a:pt x="140" y="1924"/>
                </a:lnTo>
                <a:lnTo>
                  <a:pt x="169" y="1939"/>
                </a:lnTo>
                <a:lnTo>
                  <a:pt x="203" y="1952"/>
                </a:lnTo>
                <a:lnTo>
                  <a:pt x="237" y="1963"/>
                </a:lnTo>
                <a:lnTo>
                  <a:pt x="274" y="1972"/>
                </a:lnTo>
                <a:lnTo>
                  <a:pt x="312" y="1980"/>
                </a:lnTo>
                <a:lnTo>
                  <a:pt x="352" y="1986"/>
                </a:lnTo>
                <a:lnTo>
                  <a:pt x="394" y="1991"/>
                </a:lnTo>
                <a:lnTo>
                  <a:pt x="436" y="1993"/>
                </a:lnTo>
                <a:lnTo>
                  <a:pt x="5163" y="1993"/>
                </a:lnTo>
                <a:lnTo>
                  <a:pt x="5163" y="1993"/>
                </a:lnTo>
              </a:path>
            </a:pathLst>
          </a:custGeom>
          <a:solidFill>
            <a:srgbClr val="ffffff"/>
          </a:solidFill>
          <a:ln w="31320">
            <a:solidFill>
              <a:srgbClr val="0000ff"/>
            </a:solidFill>
            <a:round/>
          </a:ln>
          <a:effectLst>
            <a:outerShdw dist="102841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2036880"/>
            <a:ext cx="78483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 MODELLO  DI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CHMARKING NELLA SCUOL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3423960" y="43434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gelo Maraschi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DA8-90AC-45E3-B86B-3AF245803E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0492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PROPOSTA DI UNA METODOLOG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80" y="83808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76680" y="1411200"/>
            <a:ext cx="2327400" cy="808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00240" y="2352600"/>
            <a:ext cx="2327040" cy="808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01800" y="3429000"/>
            <a:ext cx="2324160" cy="806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50960" y="4572000"/>
            <a:ext cx="2327400" cy="806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2286000"/>
            <a:ext cx="2327040" cy="806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5520" y="3429000"/>
            <a:ext cx="2324160" cy="806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80040" y="4572000"/>
            <a:ext cx="2324160" cy="806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25720" y="5486400"/>
            <a:ext cx="2327400" cy="806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5480" y="10764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54480" y="2017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19760" y="3160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360" y="4303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400" y="5176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320" y="201132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8320" y="3160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120" y="4303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52467c"/>
                </a:solidFill>
                <a:latin typeface="Times New Roman"/>
                <a:ea typeface="Times New Roman"/>
              </a:rPr>
              <a:t>PASS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7600" y="1639800"/>
            <a:ext cx="136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ff1b1b"/>
                </a:solidFill>
                <a:latin typeface="Arial"/>
                <a:ea typeface="Times New Roman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78480" y="2424240"/>
            <a:ext cx="21020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IDENTIFICAZIONE AREEE DI INTERESSE E DEFINIZIONE CAMPO DI INDA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4920" y="3673440"/>
            <a:ext cx="210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AUTOVALUTAZIONE VITALITA’ PROC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9440" y="4773600"/>
            <a:ext cx="210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ZIONE DEL PROCESSO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78360" y="5715000"/>
            <a:ext cx="2101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IDENTIFIC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RASSI DI QUALIT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08200" y="4816440"/>
            <a:ext cx="210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AUTOVALUTAZIONE MATURITA’ PROC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50840" y="3780000"/>
            <a:ext cx="210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STESURA RAPPO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76200" y="2421000"/>
            <a:ext cx="2175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IANFICAZIONE IMPLEMENTAZIONE PROCESSO TIPO E PRASSI DI QUALIT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038-52DA-4B06-8EDA-97CC07F5DA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1 – LA FORM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73920" y="1143000"/>
            <a:ext cx="525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ODULO 1. IL CONTESTO E LA METOD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00240" y="1568520"/>
            <a:ext cx="675648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IETTIVI DEL BENCHMARKING NELLA SCU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OGGETTO: I  PROCESSI/SERVIZI  DELL’ISTIT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PREREQUISI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METODOLOG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ZIONE DEI PROBL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E OTTENERE I RISULTATI MIGLIORI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27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00240" y="20066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12480" y="3494160"/>
            <a:ext cx="47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ODULO 2. ESPERIENZA SCUOLE PIL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3919680"/>
            <a:ext cx="6299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 ESPERI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VALUTAZIONE DELL’ESPER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IMPLEMENTAZIONE DELLE PRASSI DI QUALITA’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96640" y="5073480"/>
            <a:ext cx="566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ODULO 3. PIANIFICAZIONE DEL BENCHM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5040" y="5511960"/>
            <a:ext cx="6296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HE DELL’ATTIVITA’ DI 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OLI E COMP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IANIFICAZIONE DEL LAVORO DELLE SCUOL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925-F61F-4504-9E72-6382EAD9C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51200" y="1209600"/>
            <a:ext cx="3152880" cy="336600"/>
          </a:xfrm>
          <a:prstGeom prst="rect">
            <a:avLst/>
          </a:prstGeom>
          <a:solidFill>
            <a:srgbClr val="ccffff"/>
          </a:soli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2 – IDENTIFICAZIONE AREE DI INTERES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E DEFINIZIONE DEL CAMPO DI INDAG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65200" y="1278000"/>
            <a:ext cx="240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OSSIBILI 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27280" y="16128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800" y="2016000"/>
            <a:ext cx="7506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53240" y="1747800"/>
            <a:ext cx="316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A. BENCHMARKING MI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52760" y="2219400"/>
            <a:ext cx="540396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 ISTITUTO IDENFIFICA UN PROCESS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ORITARIO SPECIFICO SU CHI H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RESSE A FARE IL 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CERCA, MEDIANTE ACCESSO A PARTICOLA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A BASE DI UNO O PIU’ ISTITU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CON CUI FARE IL 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DUE O PIU’ ISTITUTI, CON IL SUPPO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ENTUALE DI UN TUTOR FACILITAT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ONO IL PROGETTO DI BENCHMARK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44E-564E-471A-9B4B-672B24DB8F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352760" y="1209600"/>
            <a:ext cx="3902400" cy="336600"/>
          </a:xfrm>
          <a:prstGeom prst="rect">
            <a:avLst/>
          </a:prstGeom>
          <a:solidFill>
            <a:srgbClr val="ccffff"/>
          </a:soli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2 – IDENTIFICAZIONE AREE DI INTERES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E DEFINIZIONE DEL CAMPO DI INDAG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31760" y="1278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OSSIBILI APPROCCI (se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27280" y="16128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98800" y="2016000"/>
            <a:ext cx="7506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76200" y="1747800"/>
            <a:ext cx="331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B. BENCHMARKING GUID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2760" y="2219400"/>
            <a:ext cx="540396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BENCHMARKING NETWORK  IDENTIFICA UNO O PIU’ PROCESSI SPECIFICI RITENUTI DI INTERESSE PRIMARIO  O STRATEGICO INTORNO AL QUALE/AI QUALI  AGGREGA LE SCUOLE INTERESSATE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AX 10-1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PROGETTI DI BENCHMARKING VEN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DOTTI CON IL COORDINAMENT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TOR (UNO O PIU’ TUTOR) FACILITA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C2E-110D-4946-BF65-42F41F7CCB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352760" y="1209600"/>
            <a:ext cx="3902400" cy="336600"/>
          </a:xfrm>
          <a:prstGeom prst="rect">
            <a:avLst/>
          </a:prstGeom>
          <a:solidFill>
            <a:srgbClr val="ccffff"/>
          </a:soli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2 – IDENTIFICAZIONE AREE DI INTERES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E DEFINIZIONE DEL CAMPO DI INDAGI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31760" y="1278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OSSIBILI APPROCCI (se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27280" y="16128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8800" y="2016000"/>
            <a:ext cx="7506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8880" y="1747800"/>
            <a:ext cx="463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C. BENCHMARKING DI POSIZIO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78360" y="2084400"/>
            <a:ext cx="5927760" cy="34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EREQUISITO: ESISTENZA DI UN DATA BASE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O CONTENENTE I B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E I BENCHMARK INDICA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’ISTITUTO INSERISCE IL SUO PROCESSO E I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ISULTATI DI PERFORMANCE DEGLI INDICATORI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NEL DATA B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’ISTITUTO RICEVE UN RAPPORTO CONTEN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L POSIZIONAMENTO DEL SUO PROCESSO VER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L MIGLIOR PROCESSO E LA MIGLIOR PERFORMANC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(BENCHMAR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’ISTITUTO PUO’ SUCCESSIVAMENTE PIANIFIC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N BENCHMARKING DI TIPO A (BENCHMARKING  MIRA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910-1817-4CB5-9F8E-15F386EFDF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25960" y="1278000"/>
            <a:ext cx="6305400" cy="550800"/>
          </a:xfrm>
          <a:prstGeom prst="rect">
            <a:avLst/>
          </a:prstGeom>
          <a:solidFill>
            <a:srgbClr val="ccffff"/>
          </a:soli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30040"/>
            <a:ext cx="9906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3 – L’AUTOVALUTAZIONE SULLA VITALITA’ DEL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1371600"/>
            <a:ext cx="6964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  <a:ea typeface="Times New Roman"/>
              </a:rPr>
              <a:t>INDICE DI VITALITA’ DEL PROCESSO = MISURA DEL MIGLIORA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  <a:ea typeface="Times New Roman"/>
              </a:rPr>
              <a:t>CONTINUO DEL PROCES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25600" y="20160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5264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4720" y="2362320"/>
            <a:ext cx="434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12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OBIETTIVI DELL’AUTO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52880" y="2948040"/>
            <a:ext cx="660384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TTERE IN GRADO I PARTECIPANTI DI VALUT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PRIO PROCESSO A FRONTE DI UN 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O DI 4 CRITERI (CIASCUNO DETTAGLIA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N 10 SOTTOCRITERI) CHE INTEGRANO GLI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 I MODELLI PREVALEN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E, COME RISULTATO DELL’AUTOVALUTAZIONE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 PUNTI FORTI E LE AREE DA MIGLIOR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2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OTARE LE SCUOLE DI UN METODO STRUTTURATO P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E, IN FORMA SINTETICA, IL LIVELLO D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VITALITA’ DEL PROCESSO E PER PIANIFICARNE I PROGRES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NEL TEM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07A-F2E0-4AC6-B51F-05EB15F3FC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-65160" y="501120"/>
            <a:ext cx="966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7000"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L'AUTOVALUTAZIONE SULLA "VITALITA' PROCESSO/SERVIZIO"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E' BASATA SU QUATTRO CRITE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480" y="1030320"/>
            <a:ext cx="97628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5680" y="1600200"/>
            <a:ext cx="705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NDICE DI VITALITA’ DEL PROCES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5480" y="2035080"/>
            <a:ext cx="1417680" cy="67644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CRITE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67080" y="2035080"/>
            <a:ext cx="3705120" cy="67644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DESCRI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73720" y="2035080"/>
            <a:ext cx="2073240" cy="67644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PUNTEGG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MASSI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1000 PUN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2730600"/>
            <a:ext cx="1417680" cy="1936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67080" y="2730600"/>
            <a:ext cx="3705120" cy="1936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I DI BASE DEL PROCESSO/SERVIZ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73720" y="2730600"/>
            <a:ext cx="2073240" cy="1936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95480" y="2943360"/>
            <a:ext cx="1417680" cy="1936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67080" y="2943360"/>
            <a:ext cx="3705120" cy="1936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MENTO ALL'UT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73720" y="2943360"/>
            <a:ext cx="2073240" cy="1936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95480" y="3156120"/>
            <a:ext cx="1417680" cy="19512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67080" y="3156120"/>
            <a:ext cx="3705120" cy="19512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E DEL MIGLIORA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73720" y="3156120"/>
            <a:ext cx="2073240" cy="19512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3368520"/>
            <a:ext cx="1417680" cy="20484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67080" y="3368520"/>
            <a:ext cx="3705120" cy="19548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ZO DEL BENCHMARK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886200"/>
            <a:ext cx="42847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VELLO DI VITALITA' DEL PROCES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32080" y="4317840"/>
            <a:ext cx="201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06840" y="4317840"/>
            <a:ext cx="4424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0 -   200       PUNT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- CONSAPEVOLEZZ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201 -   400       PUNT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- INIZI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01 -   600       PUNT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– MATURITA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601 -   800       PUNT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- ECCELLENZ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801 - 1000       PUNT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– BEST IN CLA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1440" y="4440240"/>
            <a:ext cx="771480" cy="0"/>
          </a:xfrm>
          <a:prstGeom prst="line">
            <a:avLst/>
          </a:prstGeom>
          <a:ln w="1872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1440" y="4916520"/>
            <a:ext cx="771480" cy="0"/>
          </a:xfrm>
          <a:prstGeom prst="line">
            <a:avLst/>
          </a:prstGeom>
          <a:ln w="1872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440" y="5165640"/>
            <a:ext cx="771480" cy="0"/>
          </a:xfrm>
          <a:prstGeom prst="line">
            <a:avLst/>
          </a:prstGeom>
          <a:ln w="1872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11440" y="5415120"/>
            <a:ext cx="771480" cy="0"/>
          </a:xfrm>
          <a:prstGeom prst="line">
            <a:avLst/>
          </a:prstGeom>
          <a:ln w="1872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11440" y="4689360"/>
            <a:ext cx="771480" cy="0"/>
          </a:xfrm>
          <a:prstGeom prst="line">
            <a:avLst/>
          </a:prstGeom>
          <a:ln w="1872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73720" y="3352680"/>
            <a:ext cx="2073240" cy="201600"/>
          </a:xfrm>
          <a:prstGeom prst="rect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26E-9EEA-47DD-BAA9-6B04BAF2DFD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100" spc="-1" strike="noStrike">
                <a:solidFill>
                  <a:srgbClr val="0000ff"/>
                </a:solidFill>
                <a:latin typeface="Times New Roman"/>
              </a:rPr>
              <a:t>SCHEDA DI AUTOVALUTAZIONE CRITERIO 1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100" spc="-1" strike="noStrike">
                <a:solidFill>
                  <a:srgbClr val="0000ff"/>
                </a:solidFill>
                <a:latin typeface="Times New Roman"/>
              </a:rPr>
              <a:t>" ELEMENTI DI BASE DEL PROCESSO/SERVIZIO "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38040" y="1120320"/>
            <a:ext cx="9464760" cy="4259520"/>
          </a:xfrm>
          <a:prstGeom prst="roundRect">
            <a:avLst>
              <a:gd name="adj" fmla="val 0"/>
            </a:avLst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29200" y="1120680"/>
            <a:ext cx="0" cy="4254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75280" y="1349280"/>
            <a:ext cx="381492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54680" y="1160640"/>
            <a:ext cx="4145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54680" y="1160640"/>
            <a:ext cx="4145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60640" y="1162080"/>
            <a:ext cx="4155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TTOCRIT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8040" y="1434960"/>
            <a:ext cx="5599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1592280"/>
            <a:ext cx="5345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E' PROGETTATO E DOCUMENT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8040" y="18241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8920" y="1565280"/>
            <a:ext cx="38512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1886040"/>
            <a:ext cx="5307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RUOLI E LE RESPONSABILITA' PER LA PROGET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ECUZIONE E CONTROLLO SONO CHIARAMENTE DEFIN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8040" y="22683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2602080"/>
            <a:ext cx="366228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' CONDIVISO DAI SOGGETTI COINVOL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8040" y="25383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2928960"/>
            <a:ext cx="5570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' ESEGUITO DA TUTTI I SETTORI DELL'ISTITUTO INTERESS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8040" y="285120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3241800"/>
            <a:ext cx="44928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LI INDICATORI DI PERFORMANCE SONO DEFIN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8040" y="316404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3637080"/>
            <a:ext cx="4106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TARGET DI PERFORMANCE SONO DEFINI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8040" y="34783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5920" y="4008600"/>
            <a:ext cx="5840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SUPPORTA IL PIANO DELL'OFFERTA F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8040" y="394344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5920" y="4465800"/>
            <a:ext cx="584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COSTI E INVESTIMENTI NECESSARI SONO RIFLESSI NEL BILANCIO DI ISTIT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8040" y="44067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5920" y="4944960"/>
            <a:ext cx="584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E' INTEGRATO CON GLI ALTRI PROCESSI/SERVIZI DELL'ISTIT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5796000"/>
            <a:ext cx="3089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 AUTOVALUTAZION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98880" y="5796000"/>
            <a:ext cx="18446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- 2 = NON ESI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 - 4 = FAS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2880" y="5796000"/>
            <a:ext cx="23558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 - 6 = PRIMI PROG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 - 8 = FASE PROGREDI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04040" y="5796000"/>
            <a:ext cx="28162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- 10 = COMPLETAATTIV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53040" y="1355760"/>
            <a:ext cx="181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86680" y="1349280"/>
            <a:ext cx="0" cy="40179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91440" y="135576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37320" y="1349280"/>
            <a:ext cx="0" cy="40179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67640" y="1355760"/>
            <a:ext cx="120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88320" y="1349280"/>
            <a:ext cx="0" cy="40179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04240" y="1355760"/>
            <a:ext cx="1234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7520" y="1349280"/>
            <a:ext cx="0" cy="40179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4880" y="1355760"/>
            <a:ext cx="122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88160" y="1349280"/>
            <a:ext cx="0" cy="401004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04080" y="135576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39160" y="1349280"/>
            <a:ext cx="0" cy="403560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135576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75760" y="1349280"/>
            <a:ext cx="0" cy="40179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04280" y="135576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26400" y="1349280"/>
            <a:ext cx="0" cy="400212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854920" y="135576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075600" y="1349280"/>
            <a:ext cx="0" cy="401004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91520" y="135576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426600" y="1349280"/>
            <a:ext cx="0" cy="39927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485280" y="1355760"/>
            <a:ext cx="2383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8040" y="48751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280" y="2322360"/>
            <a:ext cx="5935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E' COMUNICATO AI SOGGETTI COINVOL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1CA-1545-43C3-9CFA-134C09E4E9F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980424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LE PAROLE CHI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5000" y="885960"/>
            <a:ext cx="971244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990720"/>
            <a:ext cx="9277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0666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8280" y="10936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200" y="1752480"/>
            <a:ext cx="50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OCESS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CONTINUO 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8280" y="242244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VALUTAZIONE DI PRODOTTI, SERVIZI E PROC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98840" y="299880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CONFRONTO SISTEMATI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CON 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3608280"/>
            <a:ext cx="44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RICERCA DELLE MIGLIORI PRA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91880" y="5056200"/>
            <a:ext cx="44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MIGLIORARE  L’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2940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E SOLUZIONI ORGANIZZATIVE ECCEL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0760" y="5742000"/>
            <a:ext cx="35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STAZIONE SUPER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CF0-4191-41A7-8363-37F808DE079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-302040" y="356760"/>
            <a:ext cx="104094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48000"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SCHEDA DI AUTOVALUTAZIONE CRITERIO 2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"ORIENTAMENTO ALL'UTENTE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38040" y="911880"/>
            <a:ext cx="9464760" cy="4701960"/>
          </a:xfrm>
          <a:prstGeom prst="roundRect">
            <a:avLst>
              <a:gd name="adj" fmla="val 0"/>
            </a:avLst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38920" y="912960"/>
            <a:ext cx="0" cy="469584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75280" y="1141560"/>
            <a:ext cx="381492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54680" y="952560"/>
            <a:ext cx="4145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54680" y="952560"/>
            <a:ext cx="4145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60640" y="954000"/>
            <a:ext cx="4155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TTOCRIT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8040" y="1227240"/>
            <a:ext cx="5599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5920" y="1219320"/>
            <a:ext cx="5698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TIENE CONTO DEL CONTESTO CULTURALE, SOCIALE ED ECONOMICO DELLA REALTA'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040" y="17035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38920" y="1357200"/>
            <a:ext cx="38512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53040" y="1147680"/>
            <a:ext cx="18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8668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91440" y="114768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3732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7640" y="1147680"/>
            <a:ext cx="120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832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04240" y="1147680"/>
            <a:ext cx="123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3752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4880" y="1147680"/>
            <a:ext cx="122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8816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04080" y="114768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3916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55080" y="114768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7576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504280" y="114768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2640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854920" y="114768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07560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91520" y="114768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426600" y="1146240"/>
            <a:ext cx="0" cy="4443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485280" y="1147680"/>
            <a:ext cx="238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5920" y="1724040"/>
            <a:ext cx="569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CONTO DELLA PROGRAMMAZIONE TERRITORIALE DELL'OFFERTA F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8040" y="20811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5920" y="2109960"/>
            <a:ext cx="5698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CONTO DEL LIVELLO DEGLI STU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8040" y="233028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920" y="2413080"/>
            <a:ext cx="5698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CONTO DELLA DOMANDA DELLE FAMIGL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8040" y="26431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4760" y="2717640"/>
            <a:ext cx="5721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CONTO DI DATI STATISTICI OTTENIBILI AD ES. DA OSSERVATORI DI AREA/DISTRE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8040" y="310824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9440" y="3187800"/>
            <a:ext cx="5711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CONTO DEI RISULTATI DI 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8040" y="34225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9720" y="3494160"/>
            <a:ext cx="5731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ICIPA E IDENTIFICA I MIGLIORAMENTI IN LINEA CON LE ASPET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 I FABBISOGNI FUTURI DEI SOGGETTI COINVOL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8040" y="45133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20" y="3967200"/>
            <a:ext cx="5731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ZA FORME DI FEEDBACK PER DETERMINARE E MIGLIORARE IL LIVELLO DI SODDISFAZIONE DEI SOGGETTI COINVOL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8040" y="388764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8040" y="498960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6840" y="4589640"/>
            <a:ext cx="573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MUOVE E UTILIZZA LA CREATIVITA' E L'INNOVAZIONE NELLA FASE DI PROGET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6840" y="5054760"/>
            <a:ext cx="5738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OTTA APPROCCI PROATTIVI DI COINVOLGIMENTO DI TUTTI I SOGGETTI COINVOLTI PER DISCUTERE E CAPIRE LE LORO NECESSIT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4360" y="5811840"/>
            <a:ext cx="3090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 AUTOVALUTAZION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35160" y="5811840"/>
            <a:ext cx="1841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- 2 = NON ESI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 - 4 = FAS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89520" y="5811840"/>
            <a:ext cx="23558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 - 6 = PRIMI PROG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 - 8 = FASE PROGREDI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240680" y="5811840"/>
            <a:ext cx="2814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- 10 = COMPLETAATTIV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FB2-D96D-4DBD-8780-F63DBD04D0A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-302040" y="304560"/>
            <a:ext cx="104094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49000"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SCHEDA DI AUTOVALUTAZIONE CRITERIO 3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"GESTIONE DEL MIGLIORAMENTO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5000" y="68580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38040" y="761760"/>
            <a:ext cx="9464760" cy="5014800"/>
          </a:xfrm>
          <a:prstGeom prst="roundRect">
            <a:avLst>
              <a:gd name="adj" fmla="val 0"/>
            </a:avLst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38920" y="762120"/>
            <a:ext cx="0" cy="50068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75280" y="988920"/>
            <a:ext cx="381492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4680" y="801720"/>
            <a:ext cx="414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54680" y="801720"/>
            <a:ext cx="414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60640" y="803160"/>
            <a:ext cx="41558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TTOCRIT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8040" y="1076400"/>
            <a:ext cx="5599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5920" y="1143000"/>
            <a:ext cx="598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FORMANCE DEL PROCESSO/SERVIZIO E' REGOLARME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8040" y="155088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38920" y="1204920"/>
            <a:ext cx="38512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53040" y="996840"/>
            <a:ext cx="18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8668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91440" y="99684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3732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67640" y="996840"/>
            <a:ext cx="120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8832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04240" y="996840"/>
            <a:ext cx="123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3752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454880" y="996840"/>
            <a:ext cx="122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8816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04080" y="99684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3916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55080" y="99684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7576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04280" y="99684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72640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854920" y="99684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07560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191520" y="996840"/>
            <a:ext cx="123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426600" y="1011240"/>
            <a:ext cx="0" cy="47386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485280" y="996840"/>
            <a:ext cx="238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5920" y="1571760"/>
            <a:ext cx="5986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RUOLI E LE RESPONSABILITA' PER MONITORARE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SONO CHIARAMENTE DEFINI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8040" y="19177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920" y="1962000"/>
            <a:ext cx="598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RISULTATI DELLE MISURE DI PERFORMANCE SONO ANALIZZATI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ATI PER INTRAPRENDERE AZIONI CORRET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8040" y="233028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2371680"/>
            <a:ext cx="598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RISULTATI SONO UTILIZZATI PER FISSARE TARGET DI MIGLIORAMENTO SEMPRE PIU' AMBIZIOS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8040" y="27511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9440" y="2778120"/>
            <a:ext cx="5995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SOGGETTI COINVOLTI SONO ATTIVATI PER L'ANALISI DE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SULTATI DI PERFORMANCE E LE DECISIONI SULLE A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RRETTIVE E TARGET DI MIGLIO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8040" y="331308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2960" y="3368520"/>
            <a:ext cx="5873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SOGGETTI COINVOLTI SONO ADEGUATAMENTE ADDESTRATI 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GESTIONE DEL MIGLIO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8040" y="373680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2960" y="3811680"/>
            <a:ext cx="5897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CAMBI/MIGLIORAMENTI DI PROCESSO/SERVIZIO SONO CONDIVISI DA SOGGETTI COINVOLTI E INTEGRATI NEL BILA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8040" y="420228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2960" y="4286160"/>
            <a:ext cx="567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RUOLI E LE RESPONSABILITA' PER IMPLEMENTARE CAMBI/MIGLIORAMENTI SONO CHIARAMENTE DEFIN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8040" y="46767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9720" y="4745160"/>
            <a:ext cx="57754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ERSONALE COINVOLTO E' ADDESTRATO PER OPER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O I CAMBI/MIGLIORAMENTO DI PROCESSO/SERVI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IMA DELL'IMPLEM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8040" y="530388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9720" y="5372280"/>
            <a:ext cx="5678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CAMBI/MIGLIORAMENTI SONO MONITORATI PER ASSICU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E I RISULTATI ATTESI SIANO RAGGIU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8040" y="5843520"/>
            <a:ext cx="3090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 AUTOVALUTAZION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4360" y="5843520"/>
            <a:ext cx="18428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- 2 = NON ESI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 - 4 = FAS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5843520"/>
            <a:ext cx="23572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 - 6 = PRIMI PROG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 - 8 = FASE PROGREDI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29520" y="5843520"/>
            <a:ext cx="28162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- 10 = COMPLETA ATTIV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F76-92A3-4391-A8B0-58C995116F2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-225360" y="544320"/>
            <a:ext cx="104076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49000"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SCHEDA DI AUTOVALUTAZIONE CRITERIO 4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1900" spc="-1" strike="noStrike">
                <a:solidFill>
                  <a:srgbClr val="0000ff"/>
                </a:solidFill>
                <a:latin typeface="Times New Roman"/>
              </a:rPr>
              <a:t>"ADOZIONE DEL BENCHMARKING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38040" y="989640"/>
            <a:ext cx="9464760" cy="4392360"/>
          </a:xfrm>
          <a:prstGeom prst="roundRect">
            <a:avLst>
              <a:gd name="adj" fmla="val 0"/>
            </a:avLst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938920" y="990720"/>
            <a:ext cx="0" cy="43732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75280" y="1220760"/>
            <a:ext cx="381492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54680" y="1033560"/>
            <a:ext cx="414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54680" y="1033560"/>
            <a:ext cx="414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60640" y="1035000"/>
            <a:ext cx="4155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TTOCRIT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8040" y="1308240"/>
            <a:ext cx="5599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920" y="1371600"/>
            <a:ext cx="5986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E' SISTEMATICAMENTE CONFRONT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 ALTRI ISTITU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8040" y="17827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38920" y="1436760"/>
            <a:ext cx="38512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53040" y="1227240"/>
            <a:ext cx="181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91440" y="122724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3732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67640" y="1227240"/>
            <a:ext cx="120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832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04240" y="1227240"/>
            <a:ext cx="1234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3752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4880" y="1227240"/>
            <a:ext cx="122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8816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804080" y="122724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3916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55080" y="122724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7576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504280" y="122724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72640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854920" y="122724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07560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91520" y="1227240"/>
            <a:ext cx="12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426600" y="1208160"/>
            <a:ext cx="0" cy="4138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485280" y="1227240"/>
            <a:ext cx="2383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920" y="1801800"/>
            <a:ext cx="5986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RUOLI E LE RESPONSABILITA' PER IL BENCHMARKING S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IARAMENTE DEFIN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8040" y="21495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800" y="2193840"/>
            <a:ext cx="59785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 PRASSI MIGLIORI SONO IDENTIFICATE E PRIORITIZZ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8040" y="240984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5920" y="2473200"/>
            <a:ext cx="5986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NO COMUNICATE ALL'INTERNO E ALL'ESTERNO DELL'ISTIT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DOVE APPLICAB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8040" y="28749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9440" y="2919240"/>
            <a:ext cx="599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NO TRADOTTE IN OBIETTIVI E AZIONI DI MIGLIO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8040" y="318780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8000" y="3243240"/>
            <a:ext cx="5862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LI OBIETTIVI E LE AZIONI SONO CONDIV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8040" y="349236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2960" y="3683160"/>
            <a:ext cx="5897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 SPESE E GLI INVESTIMENTI NECESSARI SONO RIFLESSI NEL BILA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8040" y="396720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2960" y="3998880"/>
            <a:ext cx="567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 AZIONI DI MIGLIORAMENTO SONO MONITORATE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ICURARE CHE I RISULTATI ATTESI SIANO RAGGIU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8040" y="443232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9720" y="4497480"/>
            <a:ext cx="57754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E' RICONOSCIUTO "BEST IN CLAS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38040" y="4748040"/>
            <a:ext cx="94521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040" y="4791240"/>
            <a:ext cx="5688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/SERVIZIO GENERA RISULTATI (CUSTOMER SATISFACTION, SODDISFAZIONE DEGLI OPERATORI, PERFORMANCE) RICONOSCIU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BEST IN CLAS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8040" y="5827680"/>
            <a:ext cx="3090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 AUTOVALUTAZION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59280" y="5827680"/>
            <a:ext cx="1844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- 2 = NON ESI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 - 4 = FAS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15080" y="5827680"/>
            <a:ext cx="23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 - 6 = PRIMI PROG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 - 8 = FASE PROGREDI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65880" y="5827680"/>
            <a:ext cx="28162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- 10 = COMPLETAATTIV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FE1-87D8-482B-9A57-4C02889F31C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5228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E ATTIVITA’ DI DETTAGLIO DELLO STEP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80" y="62244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25360" y="8906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9280" y="12272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320" y="1631880"/>
            <a:ext cx="7506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3800" y="1967040"/>
            <a:ext cx="7524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27160" y="23702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25600" y="1630440"/>
            <a:ext cx="750960" cy="20304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52640" y="12272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25480" y="19670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6560" y="690480"/>
            <a:ext cx="6829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AUTOVALUTAZIONE DELLA VITALITA’ PROC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DA PARTE DI CIASCUN ISTIT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01920" y="1496880"/>
            <a:ext cx="6454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 (0-10) per ciascuno dei 40 sottocrit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 individ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enso a livello del team d’Istit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ve possibile, estendere coinvolgimento all’esterno del 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01920" y="2921040"/>
            <a:ext cx="6454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eve descrizione dei punti forti (mezza pagin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a viene fa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e viene fa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ol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spettive di miglior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01920" y="4334040"/>
            <a:ext cx="64548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zione docum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 schede di auto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lcolo dell’indice di vit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ematizzazione del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eve descrizione punti for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portunità di miglioramento e iniziative in cor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D72-458F-41D1-B32D-C281759A35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E ATTIVITA’ DI DETTAGLIO DELLO STEP 3 (seg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680" y="99072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25600" y="20160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5264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76560" y="1143000"/>
            <a:ext cx="682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3.2 QUESTIONARIO RACCOLTA ULTERIORI ESPERI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1320" y="1523880"/>
            <a:ext cx="6454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zione quest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vio ad altre scu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cc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01920" y="3564000"/>
            <a:ext cx="64548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ppatura scuole/autovalutazione a livello sottocri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mo elenco evidenze punti fo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78240" y="2824200"/>
            <a:ext cx="6829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3.3 CONSOLIDAMENTO AUTOVALUTAZIONI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ISPOSTE A QUESTIONARI  (gruppo di proget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51320" y="4235400"/>
            <a:ext cx="645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3.4 BOZZA PROCESSO TI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(gruppo di progetto con supporto partecipan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25960" y="4973760"/>
            <a:ext cx="6454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mo draft processo gene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plosione in sotto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E93-75FC-4971-9954-1375AF1C58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90360"/>
            <a:ext cx="9680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EMPIO DI PROCESS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ESTIONE DELLA CUSTOMER SATISFACTION (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680" y="8064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71440" y="2189160"/>
            <a:ext cx="15764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ZIONE </a:t>
            </a: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A E PROGETTAZIONE     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9000" y="205416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73480" y="2251080"/>
            <a:ext cx="15746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METODOLOGIA DI FEED BA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71800" y="2054160"/>
            <a:ext cx="976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68760" y="245268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17440" y="2182680"/>
            <a:ext cx="1630440" cy="606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19480" y="2182680"/>
            <a:ext cx="1628640" cy="606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97480" y="2251080"/>
            <a:ext cx="1575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OLTA DEI FEED BACK SOLLECITA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95800" y="205416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75400" y="2251080"/>
            <a:ext cx="15764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OLTA DEI FEED BACK  NON SOLLECITA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97840" y="2054160"/>
            <a:ext cx="974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72480" y="245268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21160" y="2182680"/>
            <a:ext cx="1629000" cy="606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23200" y="2182680"/>
            <a:ext cx="1628640" cy="606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70440" y="245268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71440" y="4873680"/>
            <a:ext cx="1576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ZIONE AI     “CLIENTI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19000" y="467676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73480" y="4873680"/>
            <a:ext cx="15746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LUZIONE PROBLEMATICHE GENERA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71800" y="4676760"/>
            <a:ext cx="976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68760" y="507528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17440" y="4805280"/>
            <a:ext cx="1630440" cy="60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19480" y="4805280"/>
            <a:ext cx="1628640" cy="60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97480" y="4873680"/>
            <a:ext cx="1575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ZIONE  E ANALI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95800" y="467208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75400" y="4873680"/>
            <a:ext cx="15764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OSTA A </a:t>
            </a: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TICHE SPECIFI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97840" y="4676760"/>
            <a:ext cx="974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72480" y="507528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43480" y="4805280"/>
            <a:ext cx="1629000" cy="60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23200" y="4805280"/>
            <a:ext cx="1628640" cy="60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70440" y="507528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818640" y="5075280"/>
            <a:ext cx="29844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819000" y="2452320"/>
            <a:ext cx="0" cy="2622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19000" y="2452680"/>
            <a:ext cx="298440" cy="0"/>
          </a:xfrm>
          <a:prstGeom prst="line">
            <a:avLst/>
          </a:prstGeom>
          <a:ln w="6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9073800" y="5075280"/>
            <a:ext cx="298440" cy="0"/>
          </a:xfrm>
          <a:prstGeom prst="line">
            <a:avLst/>
          </a:prstGeom>
          <a:ln w="6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9372600" y="2452320"/>
            <a:ext cx="0" cy="2622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074160" y="2452680"/>
            <a:ext cx="29844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92080" y="3460680"/>
            <a:ext cx="15782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lio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33B-6ED6-486E-8F9B-E6C20991B6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135000"/>
            <a:ext cx="9680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ESEMPIO SCOMPOSIZIONE SOTTOPROCESSO S3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“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accolta Feedback sollecitat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80" y="8064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25360" y="1344600"/>
          <a:ext cx="9455040" cy="4067280"/>
        </p:xfrm>
        <a:graphic>
          <a:graphicData uri="http://schemas.openxmlformats.org/drawingml/2006/table">
            <a:tbl>
              <a:tblPr/>
              <a:tblGrid>
                <a:gridCol w="1727280"/>
                <a:gridCol w="7727760"/>
              </a:tblGrid>
              <a:tr h="94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MIG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ZIONE OBIET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IONE  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INIST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4127400" y="1681200"/>
            <a:ext cx="1575000" cy="46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7400" y="1747800"/>
            <a:ext cx="157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40200" y="1882800"/>
            <a:ext cx="0" cy="2957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76680" y="4840200"/>
            <a:ext cx="26352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0720" y="1882800"/>
            <a:ext cx="187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02400" y="1882800"/>
            <a:ext cx="20484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27760" y="1882800"/>
            <a:ext cx="0" cy="2957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840200"/>
            <a:ext cx="245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02520" y="4653000"/>
            <a:ext cx="1577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27400" y="2755800"/>
            <a:ext cx="1575000" cy="4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27400" y="2824200"/>
            <a:ext cx="157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51080" y="4572000"/>
            <a:ext cx="1425600" cy="46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7400" y="4638600"/>
            <a:ext cx="1425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174760" y="3564000"/>
            <a:ext cx="1578240" cy="46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51080" y="3630600"/>
            <a:ext cx="1800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VIA IL CICL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O QUESTIONA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52640" y="342900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-A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52640" y="444348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-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25720" y="1546200"/>
            <a:ext cx="978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-A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25720" y="2622600"/>
            <a:ext cx="978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-A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27760" y="4437000"/>
            <a:ext cx="977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-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05520" y="3516480"/>
            <a:ext cx="15750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IS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OSTE NEL  SISTE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29560" y="3294000"/>
            <a:ext cx="974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-A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78720" y="4840200"/>
            <a:ext cx="22536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7804080" y="3966840"/>
            <a:ext cx="0" cy="873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178840" y="3697200"/>
            <a:ext cx="600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629560" y="363708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4760" y="5648400"/>
            <a:ext cx="7956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ore  1: Tempo che intercorre tra attività A1 e A6 (es: target 3 settimane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Percentuale risposte a questionari  (es: target non inferiore a 90%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40200" y="2959200"/>
            <a:ext cx="187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51200" y="4033800"/>
            <a:ext cx="0" cy="538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02400" y="2959200"/>
            <a:ext cx="225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53120" y="4572000"/>
            <a:ext cx="1425600" cy="46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53240" y="3495600"/>
            <a:ext cx="1425600" cy="4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1FE-5515-450A-98BF-C8C4247E56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225360" y="917640"/>
          <a:ext cx="9455040" cy="4763880"/>
        </p:xfrm>
        <a:graphic>
          <a:graphicData uri="http://schemas.openxmlformats.org/drawingml/2006/table">
            <a:tbl>
              <a:tblPr/>
              <a:tblGrid>
                <a:gridCol w="1727280"/>
                <a:gridCol w="7727760"/>
              </a:tblGrid>
              <a:tr h="73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ZIONE OBIET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IG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LA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GIO DOC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ITATO GENI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I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E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76320" y="0"/>
            <a:ext cx="9680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ESEMPIO SCOMPOSIZIONE SOTTOPROCESSO S6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“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Aggregazione e analis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680" y="71604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24000" y="1119240"/>
            <a:ext cx="1629000" cy="4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74760" y="1254240"/>
            <a:ext cx="1578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 E ANALIZZA RISULT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78480" y="3405240"/>
            <a:ext cx="1276560" cy="4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54800" y="3487680"/>
            <a:ext cx="1574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VAZIONE PROPOS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1080" y="1927080"/>
            <a:ext cx="15746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 CAUSE/PROCESSI PRINCIPAL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29440" y="4346640"/>
            <a:ext cx="1425600" cy="4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29440" y="4548240"/>
            <a:ext cx="142560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03720" y="2593800"/>
            <a:ext cx="1650960" cy="47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2760" y="2665440"/>
            <a:ext cx="134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ALIDA PROPOS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2040" y="246384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731000" y="421812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22320" y="985680"/>
            <a:ext cx="95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6320" y="172548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53120" y="327672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03720" y="1792440"/>
            <a:ext cx="1650960" cy="46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76800" y="1859040"/>
            <a:ext cx="1577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NE PROGETTI DI MIGLIORAM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78360" y="1657440"/>
            <a:ext cx="974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01800" y="5892840"/>
            <a:ext cx="79531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ore  3: Indice di soddisfazione medio (es. Target : 75%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Percentuale “insoddisfatti + molto insoddisfatti” (es. Target non superiore a 10%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029440" y="5214960"/>
            <a:ext cx="1425600" cy="4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29440" y="5356080"/>
            <a:ext cx="142560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731000" y="508644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6-A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51200" y="1590840"/>
            <a:ext cx="0" cy="268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3000" y="1994040"/>
            <a:ext cx="45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6920" y="2330280"/>
            <a:ext cx="0" cy="26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54680" y="2800440"/>
            <a:ext cx="298440" cy="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153120" y="2868480"/>
            <a:ext cx="2777760" cy="807840"/>
            <a:chOff x="6153120" y="2868480"/>
            <a:chExt cx="2777760" cy="807840"/>
          </a:xfrm>
        </p:grpSpPr>
        <p:sp>
          <p:nvSpPr>
            <p:cNvPr id="693" name=""/>
            <p:cNvSpPr/>
            <p:nvPr/>
          </p:nvSpPr>
          <p:spPr>
            <a:xfrm>
              <a:off x="6153120" y="2868480"/>
              <a:ext cx="1080" cy="64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53120" y="3613320"/>
              <a:ext cx="225000" cy="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54680" y="3674880"/>
              <a:ext cx="1276200" cy="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804080" y="3679920"/>
            <a:ext cx="225360" cy="1747800"/>
            <a:chOff x="7804080" y="3679920"/>
            <a:chExt cx="225360" cy="1747800"/>
          </a:xfrm>
        </p:grpSpPr>
        <p:sp>
          <p:nvSpPr>
            <p:cNvPr id="697" name=""/>
            <p:cNvSpPr/>
            <p:nvPr/>
          </p:nvSpPr>
          <p:spPr>
            <a:xfrm>
              <a:off x="7804080" y="3679920"/>
              <a:ext cx="0" cy="1747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04080" y="5422320"/>
              <a:ext cx="225360" cy="5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04080" y="4554000"/>
              <a:ext cx="225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8556480" y="3613320"/>
            <a:ext cx="974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24000" y="1859040"/>
            <a:ext cx="1629000" cy="471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42680" y="518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1C2-4510-46C9-94A7-3F10CD8F55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38088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4 – DEFINIZIONE DEL PROCESSO TIP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(best proc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680" y="85104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25360" y="11192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9280" y="14558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20" y="1860480"/>
            <a:ext cx="7506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3800" y="2195640"/>
            <a:ext cx="7524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27160" y="25988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25600" y="18590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52640" y="14558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25480" y="2195640"/>
            <a:ext cx="750960" cy="20304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29080" y="1052640"/>
            <a:ext cx="540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</a:t>
            </a:r>
            <a:r>
              <a:rPr b="1" lang="it-IT" sz="17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4.1 CONDIVISIONE PROCESSO TI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52880" y="2666880"/>
            <a:ext cx="682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</a:t>
            </a:r>
            <a:r>
              <a:rPr b="1" lang="it-IT" sz="17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4.2 IDENTIFICAZIONE INDICATORI CHIAVE DI PRO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25960" y="4078440"/>
            <a:ext cx="682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</a:t>
            </a:r>
            <a:r>
              <a:rPr b="1" lang="it-IT" sz="17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4.3 APPROFONDIMENTI PRASSI DI QUALITA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52880" y="5087880"/>
            <a:ext cx="682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</a:t>
            </a:r>
            <a:r>
              <a:rPr b="1" lang="it-IT" sz="17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4.4 MAPPATURA PRASSI DI QUALITA’ VERSO MODELLO TI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02400" y="1455840"/>
            <a:ext cx="600120" cy="2696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29560" y="1455840"/>
            <a:ext cx="600120" cy="2696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953480" y="1455840"/>
            <a:ext cx="603000" cy="2696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02400" y="1927080"/>
            <a:ext cx="600120" cy="26856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29560" y="1927080"/>
            <a:ext cx="600120" cy="26856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53480" y="1927080"/>
            <a:ext cx="603000" cy="26856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02520" y="1590840"/>
            <a:ext cx="4507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05640" y="1590840"/>
            <a:ext cx="447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7429680" y="2062080"/>
            <a:ext cx="450720" cy="0"/>
          </a:xfrm>
          <a:prstGeom prst="line">
            <a:avLst/>
          </a:prstGeom>
          <a:ln w="64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302520" y="2062080"/>
            <a:ext cx="4507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02400" y="1455840"/>
            <a:ext cx="52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29560" y="1455840"/>
            <a:ext cx="52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953480" y="1455840"/>
            <a:ext cx="52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78360" y="1927080"/>
            <a:ext cx="52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53480" y="1927080"/>
            <a:ext cx="52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29560" y="1927080"/>
            <a:ext cx="52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02280" y="3205080"/>
            <a:ext cx="600120" cy="268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29440" y="3205080"/>
            <a:ext cx="600120" cy="268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53360" y="3205080"/>
            <a:ext cx="600120" cy="268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02280" y="3675240"/>
            <a:ext cx="600120" cy="2696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229440" y="3675240"/>
            <a:ext cx="600120" cy="2696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53360" y="3675240"/>
            <a:ext cx="600120" cy="2696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702400" y="3338640"/>
            <a:ext cx="4507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05520" y="3338640"/>
            <a:ext cx="447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829560" y="3809880"/>
            <a:ext cx="450720" cy="0"/>
          </a:xfrm>
          <a:prstGeom prst="line">
            <a:avLst/>
          </a:prstGeom>
          <a:ln w="64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702400" y="3809880"/>
            <a:ext cx="4507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02280" y="3205080"/>
            <a:ext cx="52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229440" y="3205080"/>
            <a:ext cx="52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353360" y="3205080"/>
            <a:ext cx="52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78600" y="3675240"/>
            <a:ext cx="52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53360" y="3675240"/>
            <a:ext cx="52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29440" y="3675240"/>
            <a:ext cx="52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255160" y="3675240"/>
            <a:ext cx="21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54080" y="2935440"/>
            <a:ext cx="21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10200" y="3622680"/>
            <a:ext cx="21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578480" y="3809880"/>
            <a:ext cx="4507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178840" y="1725480"/>
            <a:ext cx="0" cy="201600"/>
          </a:xfrm>
          <a:prstGeom prst="line">
            <a:avLst/>
          </a:prstGeom>
          <a:ln w="64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55040" y="3473280"/>
            <a:ext cx="0" cy="201960"/>
          </a:xfrm>
          <a:prstGeom prst="line">
            <a:avLst/>
          </a:prstGeom>
          <a:ln w="64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854680" y="3944880"/>
            <a:ext cx="447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25960" y="4557600"/>
            <a:ext cx="64544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mbio materiale a supporto punti fo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18600" y="3029040"/>
            <a:ext cx="16365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(gruppo di proget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con suppor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partecipant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418600" y="4441680"/>
            <a:ext cx="16365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(gruppo di proget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con suppor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partecipant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44080" y="5450040"/>
            <a:ext cx="16380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(gruppo di proget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con suppor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100" spc="-1" strike="noStrike">
                <a:solidFill>
                  <a:srgbClr val="3333cc"/>
                </a:solidFill>
                <a:latin typeface="Arial"/>
                <a:ea typeface="Times New Roman"/>
              </a:rPr>
              <a:t>partecipant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5029200" y="5505480"/>
          <a:ext cx="2851200" cy="820800"/>
        </p:xfrm>
        <a:graphic>
          <a:graphicData uri="http://schemas.openxmlformats.org/drawingml/2006/table">
            <a:tbl>
              <a:tblPr/>
              <a:tblGrid>
                <a:gridCol w="1471680"/>
                <a:gridCol w="1379520"/>
              </a:tblGrid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TTOPROCE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A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ssi a,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ssi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694-C2B0-4C0A-9D48-AAD7316A08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01520" y="423720"/>
            <a:ext cx="1040760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PRASSI DI QUALITA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35000" y="105408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353960"/>
            <a:ext cx="96012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70000"/>
              <a:buFont typeface="Arial"/>
              <a:buChar char="–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ZIONE DI PRASSI </a:t>
            </a:r>
            <a:r>
              <a:rPr b="0" lang="it-IT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I QUALITA’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1108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ARTE DI PROCESSO/SERVIZIO SU CUI ESISTE UN ADEGUATO LIVELLO DI CONSENSO DA PARTE DEI PARTECIPANTI AL PROGETTO DI BENCHMARK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67080" y="2819520"/>
            <a:ext cx="1071720" cy="618840"/>
          </a:xfrm>
          <a:custGeom>
            <a:avLst/>
            <a:gdLst/>
            <a:ahLst/>
            <a:rect l="l" t="t" r="r" b="b"/>
            <a:pathLst>
              <a:path w="686" h="442">
                <a:moveTo>
                  <a:pt x="125" y="0"/>
                </a:moveTo>
                <a:lnTo>
                  <a:pt x="125" y="0"/>
                </a:lnTo>
                <a:lnTo>
                  <a:pt x="125" y="224"/>
                </a:lnTo>
                <a:lnTo>
                  <a:pt x="0" y="224"/>
                </a:lnTo>
                <a:lnTo>
                  <a:pt x="341" y="441"/>
                </a:lnTo>
                <a:lnTo>
                  <a:pt x="685" y="224"/>
                </a:lnTo>
                <a:lnTo>
                  <a:pt x="565" y="224"/>
                </a:lnTo>
                <a:lnTo>
                  <a:pt x="565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e0f1ff"/>
          </a:solidFill>
          <a:ln w="18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9480" y="3657600"/>
            <a:ext cx="87505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NON ESISTE QUASI MAI UN ISTITUTO BEST IN CLASS IN TUTTI 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/SERVIZI: UN ISTITUTO PUO' ESSERE BEST IN CLASS 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N PROCESSO/SERVIZIO O IN UN SOLO CRITERIO O SOTTOCRITE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 VICEVERSA IN UN ALTRO PROCESSO/SERVIZ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8EA-D3B2-41C7-B1C0-FD6BDC2A049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447200" y="1093680"/>
            <a:ext cx="7701840" cy="5047200"/>
            <a:chOff x="1447200" y="1093680"/>
            <a:chExt cx="7701840" cy="5047200"/>
          </a:xfrm>
        </p:grpSpPr>
        <p:sp>
          <p:nvSpPr>
            <p:cNvPr id="74" name=""/>
            <p:cNvSpPr/>
            <p:nvPr/>
          </p:nvSpPr>
          <p:spPr>
            <a:xfrm>
              <a:off x="1448280" y="109368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METO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200" y="1752480"/>
              <a:ext cx="50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PROCESS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CONTINUO E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SISTEMA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48280" y="2422440"/>
              <a:ext cx="645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VALUTAZIONE DI PRODOTTI, SERVIZI E PROCES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8840" y="2998800"/>
              <a:ext cx="74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CONFRONTO SISTEMATIC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CON ALTRE ORGANIZZAZIO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7920" y="3608280"/>
              <a:ext cx="44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RICERCA DELLE MIGLIORI PRAS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91880" y="5056200"/>
              <a:ext cx="446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MIGLIORARE  L’ORGANIZZ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7920" y="4294080"/>
              <a:ext cx="562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E SOLUZIONI ORGANIZZATIVE ECCELL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0760" y="5742000"/>
              <a:ext cx="355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  <a:ea typeface="Times New Roman"/>
                </a:rPr>
                <a:t>PRESTAZIONE SUPERI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6320" y="228600"/>
            <a:ext cx="9804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85800"/>
            <a:ext cx="9712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20" y="1066680"/>
            <a:ext cx="4020480" cy="5047200"/>
            <a:chOff x="720" y="1066680"/>
            <a:chExt cx="4020480" cy="5047200"/>
          </a:xfrm>
        </p:grpSpPr>
        <p:sp>
          <p:nvSpPr>
            <p:cNvPr id="85" name=""/>
            <p:cNvSpPr/>
            <p:nvPr/>
          </p:nvSpPr>
          <p:spPr>
            <a:xfrm>
              <a:off x="2820960" y="10666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AS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600" y="1752480"/>
              <a:ext cx="93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U 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0160" y="24224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0" y="29718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EDI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320" y="364176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PER 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560" y="5029200"/>
              <a:ext cx="148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L FINE 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640" y="5715000"/>
              <a:ext cx="25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ED OTTENERE U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178-701B-429A-879B-BF2BFC566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5 – IDENTIFICAZIONE PRASSI DI QUALITA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325600" y="20160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95264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27280" y="1479600"/>
            <a:ext cx="682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5.1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CONDIVIZIONE PRASSI DI QUAL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01920" y="1882800"/>
            <a:ext cx="6454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zione delle principali prassi di qualità da parte di ciascun istit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01920" y="3503520"/>
            <a:ext cx="64548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IETTIVI DELL’AUTO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utare il processo/sottoprocessi verso il miglior processo e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 buone  prati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e le scoperture/opportunità di miglior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porre di un metodo per comprendere in forma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ntetica il livello di maturità del processo e di pianificar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processi nel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27280" y="2809800"/>
            <a:ext cx="637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DICE DI MATURITA’ DEL PROCESSO = MISURA DEL “GAP” VERSO IL MIGLIOR 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51320" y="2743200"/>
            <a:ext cx="6080040" cy="604800"/>
          </a:xfrm>
          <a:prstGeom prst="rect">
            <a:avLst/>
          </a:pr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FD9-2389-447C-804B-B398F47A5B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2311560" y="1209600"/>
            <a:ext cx="7395840" cy="3630600"/>
            <a:chOff x="2311560" y="1209600"/>
            <a:chExt cx="7395840" cy="3630600"/>
          </a:xfrm>
        </p:grpSpPr>
        <p:sp>
          <p:nvSpPr>
            <p:cNvPr id="782" name=""/>
            <p:cNvSpPr/>
            <p:nvPr/>
          </p:nvSpPr>
          <p:spPr>
            <a:xfrm>
              <a:off x="4538160" y="4289760"/>
              <a:ext cx="2303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11560" y="4289760"/>
              <a:ext cx="2226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V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38160" y="3725280"/>
              <a:ext cx="23036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11560" y="3725280"/>
              <a:ext cx="2226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38160" y="3161880"/>
              <a:ext cx="23036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e,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11560" y="3161880"/>
              <a:ext cx="2226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38160" y="2598840"/>
              <a:ext cx="230364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11560" y="2598840"/>
              <a:ext cx="2226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38160" y="2035800"/>
              <a:ext cx="23036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11560" y="2035800"/>
              <a:ext cx="22266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38160" y="1635480"/>
              <a:ext cx="23036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a,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11560" y="1635480"/>
              <a:ext cx="2226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349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imes New Roman"/>
                </a:rPr>
                <a:t>SOTTOPROCESSO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42160" y="1209600"/>
              <a:ext cx="2864880" cy="36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451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38160" y="1209600"/>
              <a:ext cx="23036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451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PRASSI DI QUAL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1560" y="1209600"/>
              <a:ext cx="22266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451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SOTTO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11560" y="1209600"/>
              <a:ext cx="7395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11560" y="1635480"/>
              <a:ext cx="45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11560" y="2035800"/>
              <a:ext cx="45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11560" y="2598840"/>
              <a:ext cx="45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11560" y="3161880"/>
              <a:ext cx="45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11560" y="3725280"/>
              <a:ext cx="45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11560" y="4289760"/>
              <a:ext cx="45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11560" y="4840200"/>
              <a:ext cx="7395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11560" y="1209600"/>
              <a:ext cx="0" cy="363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38160" y="120960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42160" y="120960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707400" y="1209600"/>
              <a:ext cx="0" cy="363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829560" y="941400"/>
            <a:ext cx="2852280" cy="3898440"/>
            <a:chOff x="6829560" y="941400"/>
            <a:chExt cx="2852280" cy="3898440"/>
          </a:xfrm>
        </p:grpSpPr>
        <p:sp>
          <p:nvSpPr>
            <p:cNvPr id="810" name=""/>
            <p:cNvSpPr/>
            <p:nvPr/>
          </p:nvSpPr>
          <p:spPr>
            <a:xfrm>
              <a:off x="7368120" y="1210320"/>
              <a:ext cx="1800" cy="362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53680" y="1210320"/>
              <a:ext cx="1440" cy="362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15560" y="1210320"/>
              <a:ext cx="1440" cy="362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77800" y="1210320"/>
              <a:ext cx="1440" cy="362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29560" y="1613520"/>
              <a:ext cx="28522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96280" y="941400"/>
              <a:ext cx="1600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13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AUTOVALUT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65720" y="134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527960" y="134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90200" y="134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75040" y="134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370800" y="1210320"/>
              <a:ext cx="1440" cy="362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442800" y="1344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22560" y="1747800"/>
              <a:ext cx="524520" cy="47052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445520" y="2218320"/>
              <a:ext cx="599760" cy="40320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45520" y="2621880"/>
              <a:ext cx="1126440" cy="94068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244000" y="3562920"/>
              <a:ext cx="346680" cy="53784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292600" y="4100760"/>
              <a:ext cx="675360" cy="60480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6320" y="1143000"/>
            <a:ext cx="2098080" cy="1479240"/>
            <a:chOff x="76320" y="1143000"/>
            <a:chExt cx="2098080" cy="1479240"/>
          </a:xfrm>
        </p:grpSpPr>
        <p:sp>
          <p:nvSpPr>
            <p:cNvPr id="828" name=""/>
            <p:cNvSpPr/>
            <p:nvPr/>
          </p:nvSpPr>
          <p:spPr>
            <a:xfrm>
              <a:off x="809640" y="1143000"/>
              <a:ext cx="525600" cy="17856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7320" y="1439640"/>
              <a:ext cx="525600" cy="17820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320" y="1794600"/>
              <a:ext cx="525600" cy="17820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9880" y="2090160"/>
              <a:ext cx="525600" cy="178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10720" y="2444040"/>
              <a:ext cx="525600" cy="17820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648800" y="1793520"/>
              <a:ext cx="525600" cy="17820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87800" y="1439640"/>
              <a:ext cx="525600" cy="17820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29400" y="2089080"/>
              <a:ext cx="525600" cy="178200"/>
            </a:xfrm>
            <a:prstGeom prst="rect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0" y="2016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6 – AUTOVALUTAZIONE MATURITA’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8680" y="6732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5181480"/>
            <a:ext cx="42768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 AUTOVALUT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1680" y="5450040"/>
            <a:ext cx="27748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0 – 2 : NON ESIS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3 – 4 :  PARZIA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00240" y="5450040"/>
            <a:ext cx="31528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5 – 6:  PRIMI PROGRESS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7 – 8 :  FASE PROGREDI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29320" y="5450040"/>
            <a:ext cx="3752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10:  COMPLETA ATTIVA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1520" y="806400"/>
            <a:ext cx="2828880" cy="403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354-A821-48F0-8CDE-90124E9378F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30492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6 – AUTOVALUTAZIONE MATURITA’ PROCESSO (segu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25360" y="12762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271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325600" y="20160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95264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25720" y="1709640"/>
            <a:ext cx="608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ALCOLO DEL LIVELLO MATURITA’ DEL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527280" y="1612800"/>
            <a:ext cx="6229440" cy="471600"/>
          </a:xfrm>
          <a:prstGeom prst="rect">
            <a:avLst/>
          </a:pr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3676680" y="2673360"/>
          <a:ext cx="5705280" cy="2489040"/>
        </p:xfrm>
        <a:graphic>
          <a:graphicData uri="http://schemas.openxmlformats.org/drawingml/2006/table">
            <a:tbl>
              <a:tblPr/>
              <a:tblGrid>
                <a:gridCol w="1952640"/>
                <a:gridCol w="3752640"/>
              </a:tblGrid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LL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 PUNTI (*) - CONSAPEVOLEZ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LL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 - 4 PUNTI - INIZ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LLO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 - 6 PUNTI - INTER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LLO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 - 8 PUNTI – LEADERSHI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LLO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 - 10 PUNTI - BENCH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6" name=""/>
          <p:cNvGrpSpPr/>
          <p:nvPr/>
        </p:nvGrpSpPr>
        <p:grpSpPr>
          <a:xfrm>
            <a:off x="4952880" y="2806560"/>
            <a:ext cx="524160" cy="1747800"/>
            <a:chOff x="4952880" y="2806560"/>
            <a:chExt cx="524160" cy="1747800"/>
          </a:xfrm>
        </p:grpSpPr>
        <p:sp>
          <p:nvSpPr>
            <p:cNvPr id="857" name=""/>
            <p:cNvSpPr/>
            <p:nvPr/>
          </p:nvSpPr>
          <p:spPr>
            <a:xfrm>
              <a:off x="4952880" y="2806560"/>
              <a:ext cx="52416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952880" y="3142440"/>
              <a:ext cx="52416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52880" y="3612960"/>
              <a:ext cx="52416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52880" y="4554360"/>
              <a:ext cx="52416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52880" y="4083840"/>
              <a:ext cx="524160" cy="0"/>
            </a:xfrm>
            <a:prstGeom prst="line">
              <a:avLst/>
            </a:prstGeom>
            <a:ln w="64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450720" y="5334120"/>
            <a:ext cx="915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(*) MEDIA DEI PUNTI ASSEGNATI NELL’ AUTOVALUTAZIONE =  SOMMATORIA PUN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SOTTOPROCESS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5535720"/>
            <a:ext cx="23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C53-1842-47BE-BE55-71C720AEE5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73080" y="30492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6 – AUTOVALUTAZIONE MATURITA’ PROCESS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98440" y="1276200"/>
            <a:ext cx="7542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253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25600" y="20160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5264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051440" y="1612800"/>
            <a:ext cx="555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6.1</a:t>
            </a: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AUTOVALUTAZIONE DELLA MATURITA’ DI PROCESSO DA PARTE DI CIASCUN ISTITUTO (partecipant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27280" y="2622600"/>
            <a:ext cx="63788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tovalutazione (0 -10) verso ciascuno de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ttoprocessi del modello tip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rredato delle  prassi di qu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02040" y="3967200"/>
            <a:ext cx="6229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6.2</a:t>
            </a: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PRESENTAZIONE DOCUMENTO DI AUTO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51320" y="4572000"/>
            <a:ext cx="6454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scheda di auto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lcolo dell’indice di matur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portunità di implementazione del processo tipo e delle buone pra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7E7-B228-401F-80E4-B0A39D353F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53820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7 – STESURA DEL RAPPORTO DI BENCHMA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680" y="10080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98440" y="1276200"/>
            <a:ext cx="7542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928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320" y="2017800"/>
            <a:ext cx="750600" cy="20304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3800" y="2352600"/>
            <a:ext cx="75240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25360" y="2755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25600" y="20160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52640" y="16128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725480" y="235260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51440" y="1279440"/>
            <a:ext cx="555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7.1 </a:t>
            </a: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COSTRUZIONE DEL RAPPORTO DI BENCHMARKING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527280" y="2152800"/>
            <a:ext cx="63788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0" tIns="0" bIns="0" anchor="t">
            <a:spAutoFit/>
          </a:bodyPr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ntesi della metodologia segu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i autovalutazione vitalità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lusso processo gene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zione processo generico e sotto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ppatura prassi di qualità su processo generic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prassi di qu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i autovalutazione maturità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7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utazione dell’esper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38480" y="4648320"/>
            <a:ext cx="6080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7.2</a:t>
            </a: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PRESENTAZIONE E CONDIVISIONE DEL RAP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E48-7176-4583-9786-EA18CB9A47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125360" y="172260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9280" y="2060640"/>
            <a:ext cx="750960" cy="20304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6320" y="2463840"/>
            <a:ext cx="7506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3800" y="2800440"/>
            <a:ext cx="75240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127160" y="320184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325600" y="2462040"/>
            <a:ext cx="750960" cy="2034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52640" y="20606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725480" y="2800440"/>
            <a:ext cx="750960" cy="2030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33520"/>
            <a:ext cx="9680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LO STEP 8 – PIANIFICAZIONE IMPLEMENTAZIONE PROCESSO T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8680" y="132084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54560" y="1752480"/>
            <a:ext cx="6451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8.1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PIANIFICAZIONE IMPLEMENTAZIONE PROCESSO TIPO E PRASSI QUALITA’ NELLE SCUOLE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498-4D8A-4074-90D5-C1ECF53B6C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1160" y="501480"/>
            <a:ext cx="980460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LCUNE RIFLESS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80" y="2581200"/>
            <a:ext cx="9410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LL'APPRENDIMENTO DELL'INDIVID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'APPRENDIMENTO DELL'ORG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5000" y="96840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4724280"/>
            <a:ext cx="9002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L BENCHMARKING: MODA O NECESSITA'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AE2-90F7-48B1-9476-CE578B9087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3960" y="501480"/>
            <a:ext cx="947412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IL BENCHMARKING: MODA O NECESSITÀ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341360"/>
            <a:ext cx="9250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SEMPRE GLI ESSERI UMANI E LE ORGANIZZAZIONI HANNO FATTO "BENCHMARKING" IN FORMA PIU' O MENO STRUTTU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ESSO PIU' CHE MAI È NECESSARIO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RE VELOCITA' DI CAMB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SEGUIRE EFFICIENZA/EF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DDISFARE LE  ASPETTATIVE DEL CLIENTE/U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RE LA DIFFUSIONE DELL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174600">
              <a:lnSpc>
                <a:spcPct val="100000"/>
              </a:lnSpc>
              <a:buClr>
                <a:srgbClr val="0000ff"/>
              </a:buClr>
              <a:buSzPct val="70000"/>
              <a:buFont typeface="Monotype Sorts" charset="2"/>
              <a:buChar char=""/>
              <a:tabLst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IVARE METODI STRUTTURATI DI CONFRONTO COME PAR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174600">
              <a:lnSpc>
                <a:spcPct val="100000"/>
              </a:lnSpc>
              <a:tabLst>
                <a:tab algn="l" pos="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  <a:tab algn="l" pos="82011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NTE DI MODELLI DI GESTIONE DELLA QUALIT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320" y="5562720"/>
            <a:ext cx="9556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2800" spc="-1" strike="noStrike">
                <a:solidFill>
                  <a:srgbClr val="0000a1"/>
                </a:solidFill>
                <a:latin typeface="IBM Helvetica Black"/>
                <a:ea typeface="Times New Roman"/>
              </a:rPr>
              <a:t>APPRENDIMENTO ORGANIZZ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3320" y="5122800"/>
            <a:ext cx="1071360" cy="363600"/>
          </a:xfrm>
          <a:custGeom>
            <a:avLst/>
            <a:gdLst/>
            <a:ahLst/>
            <a:rect l="l" t="t" r="r" b="b"/>
            <a:pathLst>
              <a:path w="686" h="260">
                <a:moveTo>
                  <a:pt x="125" y="0"/>
                </a:moveTo>
                <a:lnTo>
                  <a:pt x="125" y="0"/>
                </a:lnTo>
                <a:lnTo>
                  <a:pt x="125" y="132"/>
                </a:lnTo>
                <a:lnTo>
                  <a:pt x="0" y="132"/>
                </a:lnTo>
                <a:lnTo>
                  <a:pt x="341" y="259"/>
                </a:lnTo>
                <a:lnTo>
                  <a:pt x="685" y="132"/>
                </a:lnTo>
                <a:lnTo>
                  <a:pt x="565" y="132"/>
                </a:lnTo>
                <a:lnTo>
                  <a:pt x="565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e0f1ff"/>
          </a:solidFill>
          <a:ln w="18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5000" y="9349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948-7E91-4529-B911-DD482775C2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1160" y="501480"/>
            <a:ext cx="980460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ENCHMARKING NELLA SCUOLA: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1495440"/>
            <a:ext cx="94294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 algn="ctr">
              <a:lnSpc>
                <a:spcPct val="12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VORIRE L’AUTOFORMAZIONE MEDIANTE IL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ONFRON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COSTRUENDO UNA RETE DI SCUOLE DISPONIBILI A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CAMBIARSI ESPERIENZE IN MODO ORGANIZZ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NCHE ATTRAVERSO L’USO DELLE TECNOLOGIE INFOR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1285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1285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128520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O’ ACCELERERA’ IL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ROCESSO DI MIGLIORAMEN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LLA SCUOLA, RIDUCENDONE ALLO STESSO TEMPO I COSTI PER L’INTRODUZIONE DELL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RASSI MIGL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6800" y="3352680"/>
            <a:ext cx="1073160" cy="538200"/>
          </a:xfrm>
          <a:custGeom>
            <a:avLst/>
            <a:gdLst/>
            <a:ahLst/>
            <a:rect l="l" t="t" r="r" b="b"/>
            <a:pathLst>
              <a:path w="686" h="201">
                <a:moveTo>
                  <a:pt x="125" y="0"/>
                </a:moveTo>
                <a:lnTo>
                  <a:pt x="125" y="0"/>
                </a:lnTo>
                <a:lnTo>
                  <a:pt x="125" y="102"/>
                </a:lnTo>
                <a:lnTo>
                  <a:pt x="0" y="102"/>
                </a:lnTo>
                <a:lnTo>
                  <a:pt x="341" y="200"/>
                </a:lnTo>
                <a:lnTo>
                  <a:pt x="685" y="102"/>
                </a:lnTo>
                <a:lnTo>
                  <a:pt x="566" y="102"/>
                </a:lnTo>
                <a:lnTo>
                  <a:pt x="566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e0f1ff"/>
          </a:solidFill>
          <a:ln w="18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000" y="93492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14F-BC10-4904-B1AB-E505818386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6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ME SI INQUADRA IL BENCHMARKING ALL’INT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EI MODELLI PREVALENTI E DELLE LINEE GUIDA PER L’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5800"/>
            <a:ext cx="9847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360" y="941400"/>
            <a:ext cx="3000600" cy="2689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51320" y="941400"/>
            <a:ext cx="3003480" cy="2689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3240" y="941400"/>
            <a:ext cx="3003480" cy="26892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2395440"/>
            <a:ext cx="26254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7280" y="4313160"/>
            <a:ext cx="2442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760" y="1878120"/>
            <a:ext cx="27493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ndimento contin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glioramento contin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o con le prassi migli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o risultati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i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03600" y="2260440"/>
            <a:ext cx="26258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3600" y="1935000"/>
            <a:ext cx="27972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ccio per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surazioni, analisi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glio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05520" y="1689120"/>
            <a:ext cx="2774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imento nella scuola della cultura per processi, rispetto a quella delle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are modelli di valutazione della scu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mensione europea degli interv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1143000"/>
            <a:ext cx="269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ISO 9001 :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" y="1076400"/>
            <a:ext cx="2698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  <a:ea typeface="Times New Roman"/>
              </a:rPr>
              <a:t>Modello EFQ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  <a:ea typeface="Times New Roman"/>
              </a:rPr>
              <a:t>di autovalutazione della scuo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07320" y="1008000"/>
            <a:ext cx="269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Indirizzi delle Direzioni Scolastiche Reg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5360" y="1681200"/>
            <a:ext cx="300060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51320" y="1681200"/>
            <a:ext cx="30034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53240" y="1681200"/>
            <a:ext cx="30034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360" y="3765600"/>
            <a:ext cx="3000600" cy="24066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51320" y="3765600"/>
            <a:ext cx="3003480" cy="24066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53240" y="3765600"/>
            <a:ext cx="3003480" cy="240660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buClr>
                <a:srgbClr val="3333cc"/>
              </a:buClr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4760" y="5219640"/>
            <a:ext cx="26254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60" y="4702320"/>
            <a:ext cx="26254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utoanalisi de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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izi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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zioni di monitoragg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ru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dic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3600" y="5084640"/>
            <a:ext cx="262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0" y="4757760"/>
            <a:ext cx="26258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t.6 – autonomia di ricerca, sperimentazione e svilu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t. 7 – reti di scu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1 – Iniziative finalizzate all’innovazion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05520" y="4513320"/>
            <a:ext cx="27748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 scuole chiedono di essere supportate per miglior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 propr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Wingdings" charset="2"/>
              <a:buChar char="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 capacità di misurar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50000"/>
              <a:buFont typeface="Monotype Sor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 scuole devono operare secondo processi di qu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0" y="3871800"/>
            <a:ext cx="269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Regolamento autonomia istituzioni scolas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" y="3898800"/>
            <a:ext cx="2698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  <a:ea typeface="Times New Roman"/>
              </a:rPr>
              <a:t>Valutazione dei capi di Istitu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07320" y="3832200"/>
            <a:ext cx="269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inee guida del Minis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5360" y="4505400"/>
            <a:ext cx="300060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51320" y="4505400"/>
            <a:ext cx="30034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53240" y="4505400"/>
            <a:ext cx="30034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E99-AB29-46B3-BE17-BF9470041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950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9000"/>
          </a:bodyPr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IL BENCHMARKING PROMU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104160"/>
              </a:buClr>
              <a:buSzPct val="90000"/>
              <a:buFont typeface="Monotype Sorts" charset="2"/>
              <a:buChar char="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L'ORIENTAMENTO ALL'U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876920"/>
            <a:ext cx="9480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20000"/>
              </a:lnSpc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  <a:ea typeface="Times New Roman"/>
              </a:rPr>
              <a:t>Coerentemente con le finalità e gli obiettivi generali del sistema di istruzione e con l'esigenza di migliorare l'efficacia e l'efficienza dei processi di insegnamento e di apprendimento, il </a:t>
            </a:r>
            <a:r>
              <a:rPr b="1" i="1" lang="en-GB" sz="1500" spc="-1" strike="noStrike">
                <a:solidFill>
                  <a:srgbClr val="ff3300"/>
                </a:solidFill>
                <a:latin typeface="Arial"/>
                <a:ea typeface="Times New Roman"/>
              </a:rPr>
              <a:t>benchmarking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  <a:ea typeface="Times New Roman"/>
              </a:rPr>
              <a:t>promuove la consapevolezza che l'innovazione dei processi/servizi va ORIENTATA  verso il fabbisogno degli utenti, con particolare riferimento allo sviluppo della persona, alla domanda delle famiglie e alle caratteristiche specifiche dei soggetti coinvolti, al fine di garantire loro il successo formativo</a:t>
            </a:r>
            <a:r>
              <a:rPr b="0" lang="en-GB" sz="1500" spc="-1" strike="noStrike">
                <a:solidFill>
                  <a:srgbClr val="ff33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000" y="1214280"/>
            <a:ext cx="971244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1371600"/>
            <a:ext cx="4870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biettivi e finalità del Sistema Istruzio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igenza miglioramento efficacia e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fficienza insegnamento e apprend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2320" y="2690640"/>
            <a:ext cx="2977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igenza sviluppo perso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nda famigl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tteristiche sogget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invol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6160" y="2884320"/>
            <a:ext cx="1503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o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 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971800"/>
            <a:ext cx="577800" cy="533520"/>
          </a:xfrm>
          <a:custGeom>
            <a:avLst/>
            <a:gdLst>
              <a:gd name="textAreaLeft" fmla="*/ 90000 w 577800"/>
              <a:gd name="textAreaRight" fmla="*/ 505800 w 577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394000" y="3962520"/>
            <a:ext cx="4627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benchmarking</a:t>
            </a:r>
            <a:endParaRPr b="0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2971800"/>
            <a:ext cx="577800" cy="533520"/>
          </a:xfrm>
          <a:custGeom>
            <a:avLst/>
            <a:gdLst>
              <a:gd name="textAreaLeft" fmla="*/ 90000 w 577800"/>
              <a:gd name="textAreaRight" fmla="*/ 505800 w 577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GREEK" descr=""/>
          <p:cNvPicPr/>
          <p:nvPr/>
        </p:nvPicPr>
        <p:blipFill>
          <a:blip r:embed="rId1"/>
          <a:stretch/>
        </p:blipFill>
        <p:spPr>
          <a:xfrm>
            <a:off x="7429680" y="2286000"/>
            <a:ext cx="2063520" cy="16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089920" y="3054240"/>
          <a:ext cx="642960" cy="7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89920" y="3054240"/>
                    <a:ext cx="6429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 txBox="1"/>
          <p:nvPr/>
        </p:nvSpPr>
        <p:spPr>
          <a:xfrm>
            <a:off x="6477120" y="1219320"/>
            <a:ext cx="181584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success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formati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517280" y="2263680"/>
            <a:ext cx="533520" cy="577800"/>
          </a:xfrm>
          <a:custGeom>
            <a:avLst/>
            <a:gdLst>
              <a:gd name="textAreaLeft" fmla="*/ 83160 w 533520"/>
              <a:gd name="textAreaRight" fmla="*/ 466920 w 53352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F9D-8F96-43C3-A470-26EBCE3D3E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4:48:30Z</dcterms:created>
  <dc:creator>Paola</dc:creator>
  <dc:description/>
  <dc:language>en-US</dc:language>
  <cp:lastModifiedBy>Utente</cp:lastModifiedBy>
  <dcterms:modified xsi:type="dcterms:W3CDTF">2003-05-30T21:16:08Z</dcterms:modified>
  <cp:revision>49</cp:revision>
  <dc:subject/>
  <dc:title>Presentazione di PowerPoint</dc:title>
</cp:coreProperties>
</file>