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A14-925B-41CB-B222-7FD426D5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8D9-3EA7-4FE2-8280-2931CE64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E20-08CA-40E5-92C0-3585F1FA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FB9-CC10-4FFA-8F8D-387A375E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4F0-D322-4FB0-AC0C-A835D14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170-9D5A-4C9F-A824-852D2622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402-5682-4BCE-BDBB-78EC9C90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14A-6A1B-4340-9A2A-1D7C419C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18A-0DFF-4ABF-995B-EE6BBFB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2FA-551F-4684-93F6-109578B6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5F8-F40B-400E-A7E1-34E2E80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AA2-C61B-447E-9693-95B2A3D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A9FA-7716-430E-8CFF-B569184EE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914400" cy="857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2920" y="2514600"/>
            <a:ext cx="1492200" cy="129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90920" y="914400"/>
            <a:ext cx="167616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800600" y="380880"/>
          <a:ext cx="205740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80880"/>
                    <a:ext cx="2057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029200" y="2057400"/>
          <a:ext cx="1447920" cy="995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2057400"/>
                    <a:ext cx="14479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876920" y="3276720"/>
          <a:ext cx="1904760" cy="99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276720"/>
                    <a:ext cx="190476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457200" y="1523880"/>
            <a:ext cx="1066680" cy="1143000"/>
            <a:chOff x="457200" y="1523880"/>
            <a:chExt cx="1066680" cy="1143000"/>
          </a:xfrm>
        </p:grpSpPr>
        <p:sp>
          <p:nvSpPr>
            <p:cNvPr id="51" name=""/>
            <p:cNvSpPr/>
            <p:nvPr/>
          </p:nvSpPr>
          <p:spPr>
            <a:xfrm>
              <a:off x="457200" y="1828800"/>
              <a:ext cx="6858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1523880"/>
              <a:ext cx="7621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2209680"/>
              <a:ext cx="990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904760" cy="1143000"/>
            <a:chOff x="457200" y="3124080"/>
            <a:chExt cx="1904760" cy="11430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761760" cy="761760"/>
            </a:xfrm>
            <a:prstGeom prst="smileyFace">
              <a:avLst>
                <a:gd name="adj" fmla="val 92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360" y="3504960"/>
              <a:ext cx="762120" cy="762120"/>
            </a:xfrm>
            <a:prstGeom prst="smileyFace">
              <a:avLst>
                <a:gd name="adj" fmla="val 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3124080"/>
              <a:ext cx="761760" cy="761760"/>
            </a:xfrm>
            <a:prstGeom prst="smileyFace">
              <a:avLst>
                <a:gd name="adj" fmla="val -465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7200" y="518148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IS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563868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CIPALI PROBL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5181480"/>
            <a:ext cx="190476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ificazione dei probl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zione delle 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648320"/>
            <a:ext cx="1752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unicazione ai decis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3341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5638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648320"/>
            <a:ext cx="2438280" cy="304560"/>
          </a:xfrm>
          <a:custGeom>
            <a:avLst/>
            <a:gdLst>
              <a:gd name="textAreaLeft" fmla="*/ 304560 w 2438280"/>
              <a:gd name="textAreaRight" fmla="*/ 2133720 w 24382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5715000"/>
            <a:ext cx="304920" cy="304920"/>
          </a:xfrm>
          <a:custGeom>
            <a:avLst/>
            <a:gdLst>
              <a:gd name="textAreaLeft" fmla="*/ 38160 w 304920"/>
              <a:gd name="textAreaRight" fmla="*/ 26712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086600" y="533520"/>
            <a:ext cx="1752480" cy="121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666880" y="4724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CIPALI VAL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3520" y="106668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ALUTAR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62520" y="266688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rchè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65760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s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4952880"/>
            <a:ext cx="304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10666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GARANTIRE IL SUCCESSO FORMATIVO</a:t>
            </a:r>
            <a:endParaRPr b="0" lang="en-US" sz="24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90800" y="4572000"/>
            <a:ext cx="5315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sual"/>
              </a:rPr>
              <a:t>Valutare le caus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sual"/>
              <a:ea typeface="Lucida Casu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sual"/>
              </a:rPr>
              <a:t>degli insuccess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sual"/>
              <a:ea typeface="Lucida Casu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3880" y="274320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sual"/>
              </a:rPr>
              <a:t>Valutare il livello d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sual"/>
              <a:ea typeface="Lucida Casu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sual"/>
              </a:rPr>
              <a:t>padronanza delle competenz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sual"/>
              <a:ea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600200" y="228600"/>
            <a:ext cx="6172200" cy="6251400"/>
            <a:chOff x="1600200" y="228600"/>
            <a:chExt cx="6172200" cy="6251400"/>
          </a:xfrm>
        </p:grpSpPr>
        <p:graphicFrame>
          <p:nvGraphicFramePr>
            <p:cNvPr id="74" name=""/>
            <p:cNvGraphicFramePr/>
            <p:nvPr/>
          </p:nvGraphicFramePr>
          <p:xfrm>
            <a:off x="1600200" y="1371600"/>
            <a:ext cx="6172200" cy="4076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371600"/>
                      <a:ext cx="617220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1600200" y="1371600"/>
              <a:ext cx="6019920" cy="14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9880" y="1371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67280" y="1371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09680" y="3429000"/>
              <a:ext cx="502920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celte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isor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lla Scuo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05040" y="4952880"/>
              <a:ext cx="4343400" cy="1527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PA delle COMPETEN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ofilo Formativ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29280" y="4343400"/>
              <a:ext cx="1143000" cy="533520"/>
            </a:xfrm>
            <a:prstGeom prst="downArrow">
              <a:avLst>
                <a:gd name="adj1" fmla="val 29722"/>
                <a:gd name="adj2" fmla="val 413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28195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10160" y="28195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28195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228600"/>
              <a:ext cx="373392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ISOGNI            DO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7418400">
              <a:off x="2708280" y="919080"/>
              <a:ext cx="533520" cy="35568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88920 h 355680"/>
                <a:gd name="textAreaBottom" fmla="*/ 26676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890200">
              <a:off x="6045480" y="964440"/>
              <a:ext cx="533520" cy="28116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70200 h 281160"/>
                <a:gd name="textAreaBottom" fmla="*/ 21096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391600">
              <a:off x="4685760" y="938160"/>
              <a:ext cx="380880" cy="48564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3276720"/>
              <a:ext cx="5333760" cy="99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6094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ITC Avant Garde Gothic"/>
              </a:rPr>
              <a:t>L’autonomia delle istituzioni scolastiche</a:t>
            </a:r>
            <a:r>
              <a:rPr b="0" lang="en-US" sz="1800" spc="-1" strike="noStrike">
                <a:solidFill>
                  <a:srgbClr val="000000"/>
                </a:solidFill>
                <a:latin typeface="ITC Avant Garde Gothic"/>
              </a:rPr>
              <a:t> è garanzia di libertà di insegnamento e di pluralismo culturale e </a:t>
            </a:r>
            <a:r>
              <a:rPr b="0" lang="en-US" sz="1800" spc="-1" strike="noStrike">
                <a:solidFill>
                  <a:srgbClr val="ff3300"/>
                </a:solidFill>
                <a:latin typeface="ITC Avant Garde Gothic"/>
              </a:rPr>
              <a:t>si sostanzia nella progettazione e nella realizzazione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057400"/>
            <a:ext cx="70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nterventi di educazione, formazione e istruzi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rati allo sviluppo della persona umana, adeguati ai diversi contesti, alla domanda delle famiglie e alle caratteristiche specifiche dei soggetti coinvolti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l fine di garantire loro il successo formativ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oerentemente con le finalità e gli obiettivi generali del sistema di istruzione e con l’esigenza di migliorare l’efficacia del processo di insegnamento e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5486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ench Script MT"/>
              </a:rPr>
              <a:t>Art.1/c.2 Regolamento dell’aut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457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ITC Avant Garde Gothic"/>
              </a:rPr>
              <a:t>Perché l’</a:t>
            </a:r>
            <a:r>
              <a:rPr b="1" lang="it-IT" sz="2400" spc="-1" strike="noStrike">
                <a:solidFill>
                  <a:srgbClr val="3333cc"/>
                </a:solidFill>
                <a:latin typeface="ITC Avant Garde Gothic"/>
              </a:rPr>
              <a:t>AUTO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1160" y="1219320"/>
            <a:ext cx="73915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ITC Avant Garde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valutare per essere in grado di rendere c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ITC Avant Garde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valutare per permettere la scelta delle caratteristiche del servizio da erog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ITC Avant Garde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gli utilizzatori del servizio valutano sempre; occorre supportare tale valutazione fornendo informazioni corrette 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ITC Avant Garde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le aspettative degli utilizzatori crescono al crescere della qualità del servizi, è necessario riprogettare continuamente il miglioramento del serv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ITC Avant Garde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la valutazione non può essere una attività saltuaria, parziale, improvvis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ITC Avant Garde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ITC Avant Garde Gothic"/>
              </a:rPr>
              <a:t>la valutazione non è una attività asettica: determina reazioni e confli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ITC Avant Garde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762120"/>
            <a:ext cx="762012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990720"/>
            <a:ext cx="708660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istituzioni scolastiche concretizzano gli obiettivi nazionali i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ercorsi formativi funzionale alla realizzazione del diritto di apprendere e alla crescita educativa di tutti gli alun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iconoscono e valorizzano le diversità, promuovono le potenzialità di ciascuno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ottando tutte le iniziative utili al raggiungimento del successo format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 rispetto della libertà di insegnamento, della libertà di scelta educativa delle famiglie, delle finalità generali del sistema centralmente de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nch Script MT"/>
              </a:rPr>
              <a:t>art. 4 Regolamento dell’autono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371600"/>
            <a:ext cx="777240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685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valuta  il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GET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la sua re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523880"/>
            <a:ext cx="7543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l ciclo del servizio form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872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definizione dell’offerta formativa che caratterizza l’isti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872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rogettazione del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872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rogettazione dell’organizzazione per realizzare 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872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erogazione ed il controllo del servizio fo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872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valutazione dei risultati prodotti e la riprogettazione del serviz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A PROPOSTA DI UN MODELLO DI AUTOVALUT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73392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1295280"/>
            <a:ext cx="1828800" cy="11430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alità dei 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724280"/>
            <a:ext cx="1904760" cy="17528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fficaci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648320"/>
            <a:ext cx="1981080" cy="12189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ddisfazione dei 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066680"/>
            <a:ext cx="2819160" cy="15242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viduazione 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048120"/>
            <a:ext cx="2514600" cy="83808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isi delle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5029200"/>
            <a:ext cx="2971800" cy="762120"/>
          </a:xfrm>
          <a:prstGeom prst="parallelogram">
            <a:avLst>
              <a:gd name="adj" fmla="val 97485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endCxn id="103" idx="0"/>
          </p:cNvCxnSpPr>
          <p:nvPr/>
        </p:nvCxnSpPr>
        <p:spPr>
          <a:xfrm flipH="1">
            <a:off x="1257120" y="2437920"/>
            <a:ext cx="1334160" cy="22676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09" name=""/>
          <p:cNvCxnSpPr>
            <a:stCxn id="102" idx="2"/>
            <a:endCxn id="104" idx="0"/>
          </p:cNvCxnSpPr>
          <p:nvPr/>
        </p:nvCxnSpPr>
        <p:spPr>
          <a:xfrm>
            <a:off x="2819520" y="2457000"/>
            <a:ext cx="1829520" cy="21726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10" name=""/>
          <p:cNvCxnSpPr>
            <a:stCxn id="103" idx="3"/>
            <a:endCxn id="104" idx="1"/>
          </p:cNvCxnSpPr>
          <p:nvPr/>
        </p:nvCxnSpPr>
        <p:spPr>
          <a:xfrm flipV="1">
            <a:off x="2228760" y="5257080"/>
            <a:ext cx="1410480" cy="3438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11" name=""/>
          <p:cNvCxnSpPr>
            <a:endCxn id="105" idx="3"/>
          </p:cNvCxnSpPr>
          <p:nvPr/>
        </p:nvCxnSpPr>
        <p:spPr>
          <a:xfrm flipV="1">
            <a:off x="3809880" y="2385720"/>
            <a:ext cx="1937520" cy="117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4"/>
          </p:cNvCxnSpPr>
          <p:nvPr/>
        </p:nvCxnSpPr>
        <p:spPr>
          <a:xfrm>
            <a:off x="6743880" y="2609640"/>
            <a:ext cx="419760" cy="438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6" idx="2"/>
            <a:endCxn id="107" idx="1"/>
          </p:cNvCxnSpPr>
          <p:nvPr/>
        </p:nvCxnSpPr>
        <p:spPr>
          <a:xfrm flipH="1">
            <a:off x="7276680" y="3905280"/>
            <a:ext cx="153360" cy="1086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COMPETENZE RICHIESTE ALLO STUDENTE UNIVERSITARIO PER SUPERARE TUTTI GLI ESAMI IN UN TEMPO ADEGUATO ED ACQUISIRE IL MASSIMO POSSIBILE DI COMPETENZE UTILI PER IL PROPRIO SVILUPPO PERSONALE E PROFESSIONALE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48320" y="1066680"/>
          <a:ext cx="4267080" cy="5151600"/>
        </p:xfrm>
        <a:graphic>
          <a:graphicData uri="http://schemas.openxmlformats.org/drawingml/2006/table">
            <a:tbl>
              <a:tblPr/>
              <a:tblGrid>
                <a:gridCol w="457200"/>
                <a:gridCol w="3809880"/>
              </a:tblGrid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rogettare tempestivamente il processo di acquisiz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re ed attuare 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rtament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iù produttivi per il superamento delle pro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r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sia e str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primers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oralmente e per iscritto in modo corret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rre un testo, una relazion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sando canoni linguistici diversific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rre in modo coerente le proprie argomentaz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unicare in modo efficac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utilizzando gli stili e la terminologia in modo appropri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le cause dell’eventuale insucce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zare le ca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ll’insucce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ottare i comportamenti necessari p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muovere le ca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ll’insuccess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rogettare ed attuare il processo di acquisizione delle compete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re ed utilizzare le occasioni e le esperienze per favorire il proprio sviluppo personale e professional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320" y="1066680"/>
          <a:ext cx="4419360" cy="5486400"/>
        </p:xfrm>
        <a:graphic>
          <a:graphicData uri="http://schemas.openxmlformats.org/drawingml/2006/table">
            <a:tbl>
              <a:tblPr/>
              <a:tblGrid>
                <a:gridCol w="380880"/>
                <a:gridCol w="40384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  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e il propri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etto di sviluppo personale e profession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ettivi e risultati at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 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re, acquisire, selezionare, organizzar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z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rontare e risolver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le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 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anificare, progettare, programmare, controllar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onoscere le propri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pettativ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valutare 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ti di forza e di debolezza persona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oscere i propri stili di 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utare le competenz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ossedu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  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re le competenze richies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l termine di uno specifico percorso di 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re e applicare l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e formativ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iù produttiv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uare il percorso formativ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rogrammato; acquisire, organizzare, interpretare il materiale informativo specif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aborare criticamente, operare sintesi, collegamenti e deduz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lare costantemente il process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verificando il grado di raggiungimento degli obietti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  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onoscere le propri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pettativ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valutare 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ti di forza e di debolezza persona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rogettare tempestivamente il processo di acquisiz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re ed attuare i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rtament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iù produttivi per il superamento delle pro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676520" y="289548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ALE SUCCESSO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GARANTIRE IL SUCCESSO FORMATIVO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14600" y="4572000"/>
            <a:ext cx="396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R CHI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30:30Z</dcterms:created>
  <dc:creator>RENZO VANETTI</dc:creator>
  <dc:description/>
  <dc:language>en-US</dc:language>
  <cp:lastModifiedBy>Mariuccia Azzali</cp:lastModifiedBy>
  <cp:lastPrinted>2000-12-28T22:02:03Z</cp:lastPrinted>
  <dcterms:modified xsi:type="dcterms:W3CDTF">2002-10-30T11:25:27Z</dcterms:modified>
  <cp:revision>7</cp:revision>
  <dc:subject/>
  <dc:title>Nessun titolo diapositiva</dc:title>
</cp:coreProperties>
</file>