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888D-46E5-467E-9932-269D984FC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EC4A-5A9D-47B5-8EAE-FD681CB5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2B3B-3498-44DE-8314-3BCD3E365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3549-9042-45C0-80A1-1CB644E5C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41B9-5008-4D92-9B91-B681361F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E2AC-C59F-48F3-A4DC-E17F599E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EC61-E4CB-4ADB-B232-985E5CA9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6FD0-469D-4EEA-81EF-8EE8398D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B882-F088-4FE0-AC76-642E970B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C3CA-D2D7-4239-A737-76BB6424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8BA5-134E-4418-AF75-F5856DC5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D177-7EE2-4BF0-AFF3-6A2AECC0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E9E5-2F4D-4804-9B9D-BF98DE93F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457200"/>
            <a:ext cx="807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MODELLO DI AUTOVALUTAZIONE DELL’ISTITUTO SCOLAS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18288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ANALISI MAC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28954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INCIPALI PROBL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95680" y="3733920"/>
            <a:ext cx="266724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APPROFONDIMENTO DEI PROBL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DENTIFICAZIONE DELLE CA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5334120"/>
            <a:ext cx="35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Times New Roman"/>
              </a:rPr>
              <a:t>COMUNICAZIONE AI DECIS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990720"/>
            <a:ext cx="2514600" cy="13716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4876920"/>
            <a:ext cx="4419720" cy="1295280"/>
          </a:xfrm>
          <a:prstGeom prst="irregularSeal1">
            <a:avLst/>
          </a:pr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2438280"/>
            <a:ext cx="3124440" cy="13716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19720" y="3733920"/>
            <a:ext cx="304776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3133800">
            <a:off x="2319480" y="1377720"/>
            <a:ext cx="1693800" cy="966960"/>
          </a:xfrm>
          <a:custGeom>
            <a:avLst/>
            <a:gdLst>
              <a:gd name="textAreaLeft" fmla="*/ 0 w 1693800"/>
              <a:gd name="textAreaRight" fmla="*/ 1694160 w 1693800"/>
              <a:gd name="textAreaTop" fmla="*/ 0 h 966960"/>
              <a:gd name="textAreaBottom" fmla="*/ 967320 h 966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5400000">
            <a:off x="5067000" y="2857320"/>
            <a:ext cx="1066680" cy="8384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707000">
            <a:off x="5331600" y="5028840"/>
            <a:ext cx="1219320" cy="68580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2362320"/>
            <a:ext cx="152640" cy="2666880"/>
          </a:xfrm>
          <a:prstGeom prst="downArrow">
            <a:avLst>
              <a:gd name="adj1" fmla="val 50000"/>
              <a:gd name="adj2" fmla="val 43679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3809880"/>
            <a:ext cx="152280" cy="1219320"/>
          </a:xfrm>
          <a:prstGeom prst="downArrow">
            <a:avLst>
              <a:gd name="adj1" fmla="val 50000"/>
              <a:gd name="adj2" fmla="val 20017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 rot="4432800">
            <a:off x="-1143000" y="3200040"/>
            <a:ext cx="556236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alutare p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1676520"/>
            <a:ext cx="55623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POTER SCEGLI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ESSERE IN GRADO DI RENDERE CO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SUPPORTARE LA VALUTAZIONE DEI DESTINATARI DEL SERVIZ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MIGLIORARE IL SERVIZ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762120" y="1066680"/>
            <a:ext cx="7238880" cy="472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a VALUTAZIONE non può essere una attività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altuaria, parziale, improvvisat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52480" y="762120"/>
            <a:ext cx="743904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La valutazione non è un'attività asettica: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determina reazioni e conflitti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905120" y="1676520"/>
            <a:ext cx="4570200" cy="304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VALUTARE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              </a:t>
            </a: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PERCHE' 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              </a:t>
            </a: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SA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              </a:t>
            </a: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E  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14400" y="2057400"/>
            <a:ext cx="64198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GARANTIRE IL SUCCESSO FORMATIVO</a:t>
            </a:r>
            <a:endParaRPr b="0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                </a:t>
            </a:r>
            <a:r>
              <a:rPr b="0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QUALE SUCCESSO?</a:t>
            </a:r>
            <a:endParaRPr b="0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219320" y="2514600"/>
            <a:ext cx="6419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GARANTIRE IL SUCCESSO FORMATIVO</a:t>
            </a:r>
            <a:endParaRPr b="0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                   </a:t>
            </a:r>
            <a:r>
              <a:rPr b="0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A CHI?</a:t>
            </a:r>
            <a:endParaRPr b="0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-523800" y="1676520"/>
            <a:ext cx="783900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GARANTIRE 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IL SUCCESSO FORMATIVO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                 </a:t>
            </a: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VALUTARE IL LIVELLO 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DI PADRONANZA 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DELLE COMPETENZE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VALUTARE LE CAUSE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DEGLI INSUCCESSI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457200"/>
            <a:ext cx="78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MACRO ANALI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1447920"/>
            <a:ext cx="1828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eorgia"/>
              </a:rPr>
              <a:t>QUALITA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Georgia"/>
              </a:rPr>
              <a:t>D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Georgia"/>
              </a:rPr>
              <a:t>PROCES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886200"/>
            <a:ext cx="190476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pperplate Gothic Bold"/>
              </a:rPr>
              <a:t>RISULT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pperplate Gothic Bold"/>
              </a:rPr>
              <a:t>(</a:t>
            </a:r>
            <a:r>
              <a:rPr b="0" lang="it-IT" sz="1600" spc="-1" strike="noStrike">
                <a:solidFill>
                  <a:srgbClr val="000000"/>
                </a:solidFill>
                <a:latin typeface="Copperplate Gothic Bold"/>
              </a:rPr>
              <a:t>EFFICACIA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pperplate Gothic Bold"/>
              </a:rPr>
              <a:t>EFFICIENZ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3809880"/>
            <a:ext cx="2438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pperplate Gothic Bold"/>
              </a:rPr>
              <a:t>SODDISFAZIONE DE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pperplate Gothic Bold"/>
              </a:rPr>
              <a:t>CLI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1219320"/>
            <a:ext cx="2209680" cy="17524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657600"/>
            <a:ext cx="2057400" cy="1600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3505320"/>
            <a:ext cx="2819160" cy="152388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828800" y="2819160"/>
            <a:ext cx="99072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14800" y="2819520"/>
            <a:ext cx="609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743200" y="4343040"/>
            <a:ext cx="1447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34320" y="15238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PROBL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2895480"/>
            <a:ext cx="1143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Times New Roman"/>
              </a:rPr>
              <a:t>ANALISI DELLE 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CA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53080" y="1219320"/>
            <a:ext cx="2286000" cy="9144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-1558800" y="6772320"/>
          <a:ext cx="7583400" cy="9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58800" y="6772320"/>
                    <a:ext cx="758340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7238880" y="2666880"/>
            <a:ext cx="990720" cy="106704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9726200">
            <a:off x="3885840" y="2590560"/>
            <a:ext cx="2666880" cy="380880"/>
          </a:xfrm>
          <a:custGeom>
            <a:avLst/>
            <a:gdLst>
              <a:gd name="textAreaLeft" fmla="*/ 333360 w 2666880"/>
              <a:gd name="textAreaRight" fmla="*/ 2333520 w 2666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0120" y="213372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29400" y="5257800"/>
            <a:ext cx="22096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PROGETTAZIO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MIGLIORA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96080" y="3809880"/>
            <a:ext cx="381240" cy="1295640"/>
          </a:xfrm>
          <a:prstGeom prst="downArrow">
            <a:avLst>
              <a:gd name="adj1" fmla="val 50000"/>
              <a:gd name="adj2" fmla="val 849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160020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Andale Mono"/>
              </a:rPr>
              <a:t>Cosa faccia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1371600"/>
            <a:ext cx="2438640" cy="8380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518148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Andale Mono"/>
              </a:rPr>
              <a:t>Cosa ottenia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4876920"/>
            <a:ext cx="1981080" cy="12189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38480" y="5029200"/>
            <a:ext cx="213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Andale Mono"/>
              </a:rPr>
              <a:t>Come viene percepito quello che faccia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4572000"/>
            <a:ext cx="3353040" cy="17524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3520" y="380880"/>
            <a:ext cx="83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 u="sng">
                <a:solidFill>
                  <a:srgbClr val="000000"/>
                </a:solidFill>
                <a:uFillTx/>
                <a:latin typeface="Times New Roman"/>
              </a:rPr>
              <a:t>IL CICLO DEL SERVIZIO SCOLAST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81280" y="1143000"/>
            <a:ext cx="175284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DEFINIZIONE DELL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OF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ORM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362320"/>
            <a:ext cx="243828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OGETT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DELL’OFFE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4120" y="4114800"/>
            <a:ext cx="2438280" cy="16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GETTAZIONE DELL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ORGANIZZ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ER REALIZZARE L’OFFE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4724280"/>
            <a:ext cx="289584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ROG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NT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DEL SERVIZIO FORM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2286000"/>
            <a:ext cx="2362320" cy="17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VALUT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DEI RISULTATI PRODOTTI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RIPROGETTAZIONE DELL’OF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1280" y="990720"/>
            <a:ext cx="182880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72200" y="2133720"/>
            <a:ext cx="22860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3962520"/>
            <a:ext cx="281952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4648320"/>
            <a:ext cx="2819160" cy="16002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209680"/>
            <a:ext cx="23623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385600">
            <a:off x="6168960" y="377640"/>
            <a:ext cx="917640" cy="2286000"/>
          </a:xfrm>
          <a:custGeom>
            <a:avLst/>
            <a:gdLst>
              <a:gd name="textAreaLeft" fmla="*/ 0 w 917640"/>
              <a:gd name="textAreaRight" fmla="*/ 918000 w 91764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3429000"/>
            <a:ext cx="9907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4876920"/>
            <a:ext cx="1295280" cy="838080"/>
          </a:xfrm>
          <a:prstGeom prst="leftArrow">
            <a:avLst>
              <a:gd name="adj1" fmla="val 50000"/>
              <a:gd name="adj2" fmla="val 3863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038480"/>
            <a:ext cx="914400" cy="5335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1143000"/>
            <a:ext cx="1676160" cy="99072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133720" y="30492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Macro anali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838080"/>
            <a:ext cx="6933960" cy="55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ANALISI DELLA QUALITA’ DEI PROCES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cosa FA l’Istituto e cosa NON FA per realizzare l’Offerta dichiar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check up dei Proces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check up dei Serviz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ESAME DEI RISULTATI PRODOT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il livello di efficacia e di efficienza delle attività dell’Istitu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condizioni nelle quali si eroga il servizio (caratteristiche delle strutture, dei fornitori, dei client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risultati scolastici di fine anno e di fine cic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RILEVAZIONE DELLA VALUTAZIONE DEI CLI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il grado di soddisfazione dei diversi clienti per il servizio ricevuto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alutazione del servizio ricevuto da parte di allievi, ex allievi, genitori, agenzie formative, azie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alutazione del servizio da parte dei docen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oddisfazione per i risultati  raggiunti dagli alliev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oddisfazione per le modalità di organizzazione ed erogazione del serviz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 flipV="1">
            <a:off x="1828800" y="913320"/>
            <a:ext cx="6781680" cy="52578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43200" y="228600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320040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86200" y="41148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5029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9144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9144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62320" y="1295280"/>
            <a:ext cx="1828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Dati 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Check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1066680"/>
            <a:ext cx="16761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Dati dell’analisi d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risulta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77120" y="990720"/>
            <a:ext cx="16761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Dati de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soddisf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dei cli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2514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unti di forza - punti di debolez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33526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ROBLE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4267080"/>
            <a:ext cx="1676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roble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riorita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24280" y="5181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A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2133720"/>
            <a:ext cx="1143000" cy="121896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3048120"/>
            <a:ext cx="1143000" cy="114300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4038480"/>
            <a:ext cx="1066680" cy="121932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8080" y="1295280"/>
            <a:ext cx="145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RAPPORTI A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DECISO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2133720"/>
            <a:ext cx="457200" cy="152280"/>
          </a:xfrm>
          <a:prstGeom prst="leftArrow">
            <a:avLst>
              <a:gd name="adj1" fmla="val 50000"/>
              <a:gd name="adj2" fmla="val 750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289548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95480" y="4495680"/>
            <a:ext cx="1067040" cy="228600"/>
          </a:xfrm>
          <a:prstGeom prst="leftArrow">
            <a:avLst>
              <a:gd name="adj1" fmla="val 50000"/>
              <a:gd name="adj2" fmla="val 1166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29000" y="5486400"/>
            <a:ext cx="990720" cy="152280"/>
          </a:xfrm>
          <a:prstGeom prst="leftArrow">
            <a:avLst>
              <a:gd name="adj1" fmla="val 50000"/>
              <a:gd name="adj2" fmla="val 16264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57800" y="5562720"/>
            <a:ext cx="1219320" cy="685800"/>
          </a:xfrm>
          <a:custGeom>
            <a:avLst/>
            <a:gdLst>
              <a:gd name="textAreaLeft" fmla="*/ 152280 w 1219320"/>
              <a:gd name="textAreaRight" fmla="*/ 1067040 w 12193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29400" y="5715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MIGLIOR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5638680"/>
            <a:ext cx="243828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243828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Alle Famigl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3429000"/>
            <a:ext cx="838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C.d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434340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Al Collegio Docen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4800600"/>
            <a:ext cx="1143000" cy="91440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81080" y="50292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Al C.d’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5105520"/>
            <a:ext cx="914400" cy="114300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nzo Vanetti</cp:lastModifiedBy>
  <cp:lastPrinted>2002-10-17T10:10:48Z</cp:lastPrinted>
  <dcterms:modified xsi:type="dcterms:W3CDTF">2002-10-31T13:14:50Z</dcterms:modified>
  <cp:revision>22</cp:revision>
  <dc:subject/>
  <dc:title>Nessun titolo diapositiva</dc:title>
</cp:coreProperties>
</file>