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85C4-1A2C-475E-84BA-C18C9CF8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D10-D6B1-4CFB-AAE0-AD0D3A50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BA8-864A-4208-94B1-5E6263B5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9DD1-B57F-4174-84E6-D3EC7DE6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15C-C589-4574-8221-B2557582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AA88-0371-4FA0-A62C-FA50D56E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D76C-FF3D-4141-B4B3-4F43A22E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EE00-A5FE-44AC-9AFB-E8693EC8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9C6-14A5-43A2-924D-B0FA990A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487-C5BB-40F5-B561-D089B887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85B2-7C41-4CD5-90DE-EA0ADC0D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A99-0C11-4E9A-AE11-61C77A51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4D4F-6FEA-419A-9434-48572C07E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585720"/>
          <a:ext cx="7848720" cy="574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85720"/>
                    <a:ext cx="784872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325440"/>
          <a:ext cx="8381880" cy="632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5440"/>
                    <a:ext cx="8381880" cy="63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52280" y="369720"/>
          <a:ext cx="8839440" cy="611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69720"/>
                    <a:ext cx="8839440" cy="611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28600" y="324000"/>
          <a:ext cx="8610480" cy="61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4000"/>
                    <a:ext cx="8610480" cy="61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5160" y="220680"/>
          <a:ext cx="899136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0" y="220680"/>
                    <a:ext cx="899136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5:08:58Z</dcterms:created>
  <dc:creator>Angelo Maraschiello</dc:creator>
  <dc:description/>
  <dc:language>en-US</dc:language>
  <cp:lastModifiedBy>Angelo Maraschiello</cp:lastModifiedBy>
  <dcterms:modified xsi:type="dcterms:W3CDTF">2002-10-31T15:18:22Z</dcterms:modified>
  <cp:revision>2</cp:revision>
  <dc:subject/>
  <dc:title>Nessun titolo diapositiva</dc:title>
</cp:coreProperties>
</file>