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A77-DEBC-4D20-80E6-6EB6776A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29C-854B-4E7A-BDC2-FA4C0AE2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F2F-BB12-4412-BB3D-64E93D46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A9E-A0C1-4B4C-AFC7-02503E97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D380-7A73-4A18-921D-83B9EEB7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B510-1D0D-4F66-9988-67E7F1C9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E578-7225-4028-8B08-79425649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C8B1-8D3C-4BD2-A032-106E5BC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CFAB-A30A-4DB5-A06B-0992438D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C5A7-9A70-47C5-9AB4-90255751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0520-0643-4A4B-B16A-1833977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E3C-E007-4371-830F-3C6C1E6F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521B-510E-4A20-A4D6-771D9F0A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1AB5-7642-42B2-8D04-2BD199C8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B685-E201-495E-B784-B15D558E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2387-4535-4823-93AC-54A9E6E8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D3A4-4458-48E2-96F6-30CFAF0A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C54-02F4-4B3F-82E2-9F2AA96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70D-0258-47DF-B9DD-C9A31141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889-80BE-4B8C-BA96-8E829D55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268-5E93-49EE-ABF1-1AB83F5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BAE-3698-4AEC-93BE-659BCE71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A67-F571-45A4-A5AA-577DA736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400-FF08-4EFD-A97A-9743DAA5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AAE6-7C3A-4E32-991F-B675CAA099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F9F3-AAAB-43A9-AD82-85517A2C11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4360" y="476280"/>
            <a:ext cx="3095640" cy="129708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7714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M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19051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66ff"/>
                </a:solidFill>
                <a:uFillTx/>
                <a:latin typeface="Comic Sans MS"/>
              </a:rPr>
              <a:t>Compilazione ed invio del question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87964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l si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362320"/>
            <a:ext cx="5029200" cy="15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htpp//progettopilotadue.invalsi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2670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scuola preleva il Quest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14720" y="4937040"/>
            <a:ext cx="57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tro il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31 marzo tutte le scuole di ogni ordine e grad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devono registrare le risposte del questionario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n-lin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ll’apposito modulo in form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a Grazia Guarin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057-3F85-4212-B5C3-3FCCBF92C536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43200" y="3808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9900"/>
                </a:solidFill>
                <a:uFillTx/>
                <a:latin typeface="Comic Sans MS"/>
              </a:rPr>
              <a:t>Somministrazione prove oggettive e registrazione d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95280"/>
            <a:ext cx="63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le date sono stabilite dalla Direzione Scolastica Generale nei periodi fissati dal M.I.U.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36232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4005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c0039"/>
                </a:solidFill>
                <a:latin typeface="Comic Sans MS"/>
              </a:rPr>
              <a:t>ultima data per il </a:t>
            </a:r>
            <a:r>
              <a:rPr b="1" i="1" lang="en-US" sz="2000" spc="-1" strike="noStrike">
                <a:solidFill>
                  <a:srgbClr val="8c0039"/>
                </a:solidFill>
                <a:latin typeface="Comic Sans MS"/>
              </a:rPr>
              <a:t>ritiro dei materiali cartacei, </a:t>
            </a:r>
            <a:r>
              <a:rPr b="1" i="1" lang="en-US" sz="2000" spc="-1" strike="noStrike" u="sng">
                <a:solidFill>
                  <a:srgbClr val="8c0039"/>
                </a:solidFill>
                <a:uFillTx/>
                <a:latin typeface="Comic Sans MS"/>
              </a:rPr>
              <a:t>20/21 marzo</a:t>
            </a:r>
            <a:r>
              <a:rPr b="1" i="1" lang="en-US" sz="2000" spc="-1" strike="noStrike">
                <a:solidFill>
                  <a:srgbClr val="8c0039"/>
                </a:solidFill>
                <a:latin typeface="Comic Sans MS"/>
              </a:rPr>
              <a:t>, sono state stabilite dall’INVa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3718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per contattare tempes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4038480"/>
            <a:ext cx="5943600" cy="2286000"/>
          </a:xfrm>
          <a:prstGeom prst="upArrowCallout">
            <a:avLst>
              <a:gd name="adj1" fmla="val 65006"/>
              <a:gd name="adj2" fmla="val 65000"/>
              <a:gd name="adj3" fmla="val 16667"/>
              <a:gd name="adj4" fmla="val 6666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alSI – Progetto Pilo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6. 94185273 /4 / 5 / 6 / 7 /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a Grazia Guarin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DF3-8B2E-4D66-8FA5-A62F947BBE30}" type="slidenum">
              <a:t>2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04600" y="457200"/>
            <a:ext cx="33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Svolgimento delle pro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7520" y="1371600"/>
            <a:ext cx="7049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le classi devono essere informate qual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giorno prima della somministrazione delle pr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4040" y="2514600"/>
            <a:ext cx="5517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6c03"/>
                </a:solidFill>
                <a:latin typeface="Comic Sans MS"/>
              </a:rPr>
              <a:t>2. le prove devono svolgersi dalle ore 9,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6c03"/>
                </a:solidFill>
                <a:latin typeface="Comic Sans MS"/>
              </a:rPr>
              <a:t>alle ore 11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733920"/>
            <a:ext cx="5333760" cy="2438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È essenziale rispett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esattam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i limiti di tempo indic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a Grazia Guarin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842-34B8-4DA1-A343-3F658563783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5:38:19Z</dcterms:created>
  <dc:creator>.</dc:creator>
  <dc:description/>
  <dc:language>en-US</dc:language>
  <cp:lastModifiedBy>.</cp:lastModifiedBy>
  <dcterms:modified xsi:type="dcterms:W3CDTF">2003-02-21T16:46:06Z</dcterms:modified>
  <cp:revision>7</cp:revision>
  <dc:subject/>
  <dc:title>Diapositiva 1</dc:title>
</cp:coreProperties>
</file>