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75C-9ECF-44EA-9268-63102157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669-0674-4D64-A58B-86430B20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9B8-C906-4D31-B868-960EE3D7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B05-6142-4F10-8F2B-0EC004FE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286-5D45-473C-8956-21139BB4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BCF-4100-4F60-8E4A-519439FB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0E6-CB63-44BB-9AE0-F4117783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D7B-AB36-48FF-8EE1-2A68F16F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72E-E0A4-4E30-92F3-4D9248B8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1DC-A7F2-4EF6-A619-E7D4EC03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616-7C31-41DB-853D-35FDB320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F3F-E634-45CD-8F8C-29B11E91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3D05-886B-4DD1-940D-8EF4A69FC9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65240"/>
            <a:ext cx="9067680" cy="6692760"/>
            <a:chOff x="76320" y="165240"/>
            <a:chExt cx="9067680" cy="6692760"/>
          </a:xfrm>
        </p:grpSpPr>
        <p:sp>
          <p:nvSpPr>
            <p:cNvPr id="42" name=""/>
            <p:cNvSpPr/>
            <p:nvPr/>
          </p:nvSpPr>
          <p:spPr>
            <a:xfrm>
              <a:off x="4686480" y="165240"/>
              <a:ext cx="42289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Tahoma"/>
                </a:rPr>
                <a:t>Diagramma causa/effetto</a:t>
              </a:r>
              <a:br>
                <a:rPr sz="2400"/>
              </a:br>
              <a:r>
                <a:rPr b="1" i="1" lang="it-IT" sz="2400" spc="-1" strike="noStrike">
                  <a:solidFill>
                    <a:srgbClr val="000000"/>
                  </a:solidFill>
                  <a:latin typeface="Tahoma"/>
                </a:rPr>
                <a:t>(Ishikaw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6160" y="3438720"/>
              <a:ext cx="7728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0680" y="1231920"/>
              <a:ext cx="3137040" cy="2206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45040" y="1231920"/>
              <a:ext cx="3136680" cy="2206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490680" y="3419280"/>
              <a:ext cx="3137040" cy="2205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245040" y="3419280"/>
              <a:ext cx="3136680" cy="2205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4320" y="914400"/>
              <a:ext cx="160812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Organizz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86040" y="914400"/>
              <a:ext cx="99540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Pers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4320" y="5619960"/>
              <a:ext cx="114768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Mezz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60640" y="5619960"/>
              <a:ext cx="89712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Meto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74280" y="2784600"/>
              <a:ext cx="1198440" cy="2010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Difet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Non circolarità di esperienze formative e di percorsi educativo-didatti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55680" y="17290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34080" y="17290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4680" y="20782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69040" y="20782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1080" y="2446560"/>
              <a:ext cx="18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05440" y="244656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86040" y="279432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64440" y="279432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5040" y="314352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99400" y="314352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10080" y="40816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64440" y="40816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73320" y="44308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29480" y="4430880"/>
              <a:ext cx="18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14680" y="479772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479772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79720" y="514692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34080" y="514692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2960" y="549612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99120" y="5496120"/>
              <a:ext cx="18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24560" y="1422720"/>
              <a:ext cx="1290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320" y="6613560"/>
              <a:ext cx="906768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flipV="1">
            <a:off x="1143000" y="136908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rcolo Framment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6765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uole ubicate in 10 frazioni distanti tra l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14479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mpanilismo tra le frazio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167652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renza di formazione su metodologie cooperative e relazion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5812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fficoltà di Traspo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41911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ancanza di strutture e servizi nei pl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34290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ancanza di strategie di comunic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4191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enza di una cultura di 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9:20:01Z</dcterms:created>
  <dc:creator>Compaq</dc:creator>
  <dc:description/>
  <dc:language>en-US</dc:language>
  <cp:lastModifiedBy>***</cp:lastModifiedBy>
  <dcterms:modified xsi:type="dcterms:W3CDTF">2003-04-14T11:04:42Z</dcterms:modified>
  <cp:revision>4</cp:revision>
  <dc:subject/>
  <dc:title>PowerPoint Presentation</dc:title>
</cp:coreProperties>
</file>