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088040" y="2776680"/>
            <a:ext cx="2060640" cy="15210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7236000" y="3068640"/>
            <a:ext cx="19080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CANZA DI CONTROLL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1125360"/>
            <a:ext cx="1714680" cy="2289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57880" y="399960"/>
            <a:ext cx="2130120" cy="3029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484960" y="3571920"/>
            <a:ext cx="1172880" cy="322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4365720"/>
            <a:ext cx="2971800" cy="2170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Z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canza di tecniche di conduzione del lavoro di gru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co efficaci procedure per la circolazione della comun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71680" y="3486240"/>
            <a:ext cx="914400" cy="1028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429000" y="4821120"/>
            <a:ext cx="5535720" cy="1847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I: mancano esplicite e chi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zioni delle reg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izzazioni delle reg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izzazioni delle procedure di attuazione delle reg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ghe agli ope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457880" y="57240"/>
            <a:ext cx="4506840" cy="2147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istenza al cont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canza di cultura del lavoro di equi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canza da parte della dirigenza del ruolo decisionale e  di “garante del rispetto delle decisioni pres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57240"/>
            <a:ext cx="4033800" cy="2003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ZAZI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tivo funzionamento degli organi colleg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685800" y="5724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350028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39640" y="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CORSO DI SCELTA DELLE SOLU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9280" y="260280"/>
            <a:ext cx="865440" cy="6889680"/>
            <a:chOff x="179280" y="260280"/>
            <a:chExt cx="865440" cy="6889680"/>
          </a:xfrm>
        </p:grpSpPr>
        <p:sp>
          <p:nvSpPr>
            <p:cNvPr id="53" name=""/>
            <p:cNvSpPr/>
            <p:nvPr/>
          </p:nvSpPr>
          <p:spPr>
            <a:xfrm>
              <a:off x="468360" y="177336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179280" y="260280"/>
              <a:ext cx="433440" cy="688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684360" y="1052640"/>
              <a:ext cx="360360" cy="445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6948360" y="1793880"/>
            <a:ext cx="361800" cy="25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504040" y="399960"/>
            <a:ext cx="1251000" cy="53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ZIO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SA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288040" y="976320"/>
            <a:ext cx="1521000" cy="1054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stione efficace delle ore e delle funzioni previste per i Consigli di Cl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288040" y="2128680"/>
            <a:ext cx="1521000" cy="689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2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icace progettazione dei diparti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59320" y="5369040"/>
            <a:ext cx="1521000" cy="689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mazione adeguata al lavoro di grup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375680" y="615960"/>
            <a:ext cx="1521000" cy="2320920"/>
            <a:chOff x="7375680" y="615960"/>
            <a:chExt cx="1521000" cy="2320920"/>
          </a:xfrm>
        </p:grpSpPr>
        <p:sp>
          <p:nvSpPr>
            <p:cNvPr id="62" name=""/>
            <p:cNvSpPr txBox="1"/>
            <p:nvPr/>
          </p:nvSpPr>
          <p:spPr>
            <a:xfrm>
              <a:off x="7520040" y="615960"/>
              <a:ext cx="1289160" cy="53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UZION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CEL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7375680" y="1336680"/>
              <a:ext cx="1521000" cy="160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1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1" lang="en-US" sz="1400" spc="-1" strike="noStrike">
                  <a:solidFill>
                    <a:srgbClr val="ff6600"/>
                  </a:solidFill>
                  <a:latin typeface="Arial"/>
                  <a:ea typeface="Arial"/>
                </a:rPr>
                <a:t>Gestione efficace delle ore e delle funzioni previste per i Consigli di Clas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 txBox="1"/>
          <p:nvPr/>
        </p:nvSpPr>
        <p:spPr>
          <a:xfrm>
            <a:off x="3198960" y="399960"/>
            <a:ext cx="1498680" cy="53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ZIO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SIDE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98960" y="976320"/>
            <a:ext cx="1521000" cy="1054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stione efficace delle ore e delle funzioni previste per i Consigli di Cl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198960" y="2128680"/>
            <a:ext cx="1521000" cy="689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2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icace progettazione dei diparti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198960" y="3711600"/>
            <a:ext cx="1521000" cy="689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4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retta circolazione delle informaz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98960" y="5369040"/>
            <a:ext cx="1521000" cy="689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mazione adeguata al lavoro di grup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88000" y="234936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16360" y="1484280"/>
            <a:ext cx="503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5877000"/>
            <a:ext cx="576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7080" y="155736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971640" y="399960"/>
            <a:ext cx="2452680" cy="6458040"/>
            <a:chOff x="971640" y="399960"/>
            <a:chExt cx="2452680" cy="6458040"/>
          </a:xfrm>
        </p:grpSpPr>
        <p:sp>
          <p:nvSpPr>
            <p:cNvPr id="74" name=""/>
            <p:cNvSpPr/>
            <p:nvPr/>
          </p:nvSpPr>
          <p:spPr>
            <a:xfrm>
              <a:off x="971640" y="620640"/>
              <a:ext cx="0" cy="623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00360" y="40766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00360" y="58770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71640" y="148428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71640" y="227664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1254240" y="399960"/>
              <a:ext cx="1219320" cy="53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UZION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C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1109520" y="976320"/>
              <a:ext cx="1521000" cy="1054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1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stione efficace delle ore e delle funzioni previste per i Consigli di Clas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1111320" y="2128680"/>
              <a:ext cx="1521000" cy="68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2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fficace progettazione dei dipartime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1111320" y="2921040"/>
              <a:ext cx="1521000" cy="68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3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eguata motivazione al cambia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1111320" y="3713040"/>
              <a:ext cx="1521000" cy="68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4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retta circolazione delle informazio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1111320" y="4503600"/>
              <a:ext cx="1521000" cy="87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5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anificazione comune dei test di verific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1111320" y="5440320"/>
              <a:ext cx="1521000" cy="68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6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zione adeguata al lavoro di grup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1111320" y="6168960"/>
              <a:ext cx="2313000" cy="68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7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involgimento della dirigenza a sostegno e supporto delle decisioni pre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ote</dc:creator>
  <dc:description/>
  <dc:language>en-US</dc:language>
  <cp:lastModifiedBy>isiss manzoni</cp:lastModifiedBy>
  <cp:revision>0</cp:revision>
  <dc:subject/>
  <dc:title>PERCORSO DI SCELTA DELLE SOLUZIONI</dc:title>
</cp:coreProperties>
</file>