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951-2AB3-4289-A3C7-722BE2E5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366-F537-42EA-9D2E-F0A844B0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24F-0CC0-41C7-8C0D-BEC44FD1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E10-AFA2-44CF-92C4-927C186A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F3B1-2569-4092-8530-F9461934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398-35EA-42CC-959A-487C68BD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BD1-7792-4322-A63E-98DC9BD5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85D-2CF0-46A6-8AD8-25D815BA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9FA-BF20-4813-991A-29555106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444-644B-4B0B-A858-1D3C6916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4E5-E873-4B0E-B294-637F10C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FB2-CFE3-4D55-9933-6999F7F6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F173-A515-45AB-83F5-F6FCCCE85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0"/>
            <a:ext cx="9067680" cy="6692760"/>
            <a:chOff x="76320" y="0"/>
            <a:chExt cx="9067680" cy="6692760"/>
          </a:xfrm>
        </p:grpSpPr>
        <p:sp>
          <p:nvSpPr>
            <p:cNvPr id="42" name=""/>
            <p:cNvSpPr/>
            <p:nvPr/>
          </p:nvSpPr>
          <p:spPr>
            <a:xfrm>
              <a:off x="4686480" y="0"/>
              <a:ext cx="42289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Tahoma"/>
                </a:rPr>
                <a:t>Diagramma causa/effetto</a:t>
              </a:r>
              <a:br>
                <a:rPr sz="2400"/>
              </a:br>
              <a:r>
                <a:rPr b="1" i="1" lang="it-IT" sz="2400" spc="-1" strike="noStrike">
                  <a:solidFill>
                    <a:srgbClr val="000000"/>
                  </a:solidFill>
                  <a:latin typeface="Tahoma"/>
                </a:rPr>
                <a:t>(Ishikaw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6160" y="3273480"/>
              <a:ext cx="7728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0680" y="1066680"/>
              <a:ext cx="3137040" cy="2206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45040" y="1066680"/>
              <a:ext cx="3136680" cy="2206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490680" y="3254040"/>
              <a:ext cx="3137040" cy="2205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245040" y="3254040"/>
              <a:ext cx="3136680" cy="2205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4320" y="749160"/>
              <a:ext cx="160812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Organizza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86040" y="749160"/>
              <a:ext cx="99540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Pers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4320" y="5454720"/>
              <a:ext cx="114768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Mezz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60640" y="5454720"/>
              <a:ext cx="897120" cy="307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Meto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74280" y="2619360"/>
              <a:ext cx="1198440" cy="2225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ahoma"/>
                </a:rPr>
                <a:t>Difetto: Mancanza di un sistema di autovalutazione d’istitu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55680" y="156384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34080" y="156384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14680" y="191304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69040" y="191304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1080" y="2281320"/>
              <a:ext cx="18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05440" y="228132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86040" y="26290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64440" y="26290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5040" y="29782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99400" y="29782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10080" y="391644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64440" y="391644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73320" y="426564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29480" y="4265640"/>
              <a:ext cx="18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14680" y="46324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46324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79720" y="49816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34080" y="49816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2960" y="5330880"/>
              <a:ext cx="18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99120" y="5330880"/>
              <a:ext cx="18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24560" y="1257480"/>
              <a:ext cx="1290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320" y="6448320"/>
              <a:ext cx="906768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1557360"/>
            <a:ext cx="208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84920" y="32004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126828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 DIFFICOLTA’ NEL COORDINAMENTO DELLE INIZI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27280" y="206064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MODESTA CONDIV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IONE DELLA PRATICA AUTOVALUT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68360" y="3429000"/>
            <a:ext cx="2951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 DIFFICOLTA’ AD  INDIVIDUARE GLI STRUMENTI DI RILEVAZIONE DA CALIBRARE    ALLA SPECIFICITA’ DELLA SCUO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1052640"/>
            <a:ext cx="4425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  RESISTENZA AL CAMBIA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OVUTO AL CONTINUO PROLIFERARE DELLE DISPOSIZIONI NORMATIVE NON ACCOMPAGNATO AD UN ADEGUATO RICONOSCIMENTO  ECONOM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2205000"/>
            <a:ext cx="27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 INSUFFICIENTE CULTURA DEL LAVORO IN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3500280"/>
            <a:ext cx="23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 RESISTENZA A METTERE IN DISCU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IONE RUOLI E METODI CONSOLID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 rot="10800000">
            <a:off x="4065120" y="4722480"/>
            <a:ext cx="3891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 SFIDUCIA NELL’ATTENDIBILITA’ DEI RISULTATI DOVUTA A UNA SCARSA FORMAZIONE DI INDAGINE STATIS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9:20:01Z</dcterms:created>
  <dc:creator>Compaq</dc:creator>
  <dc:description/>
  <dc:language>en-US</dc:language>
  <cp:lastModifiedBy>cax</cp:lastModifiedBy>
  <dcterms:modified xsi:type="dcterms:W3CDTF">2003-04-07T16:37:22Z</dcterms:modified>
  <cp:revision>7</cp:revision>
  <dc:subject/>
  <dc:title>PowerPoint Presentation</dc:title>
</cp:coreProperties>
</file>