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F39-0C66-4288-99B3-A0729FDB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977-746E-4EE3-928B-E34E7B03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973-0832-4536-B9D9-FA93F7A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8EC-EBBC-406E-B065-F18C0132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783-A74A-4823-98A8-A407AE9B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945-0852-4995-9F5C-0674866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CD0-A483-4D61-BFC2-867C944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A55-B6ED-4F91-84C6-1A7E7ABB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F1C-21E2-4C09-BE25-2E2F6517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D8E-FE2C-478C-8F91-C9680BDB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72C-189F-4EA3-B5BC-6C42049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FE2-5DB3-4A98-AC41-C52B68C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7996-D4BF-43B0-B997-D2626D3D9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49720" y="343440"/>
            <a:ext cx="8043120" cy="28598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uola Media Statale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Giacomo Vitale</a:t>
            </a:r>
            <a:br>
              <a:rPr sz="40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iedimonte Matese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cuola capofila della rete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.Qual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6400" y="4128120"/>
            <a:ext cx="8106120" cy="22737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ordinamento e dire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 Seminario di for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rigente Scolastico prof.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Gin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T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41600" y="360360"/>
            <a:ext cx="7660800" cy="103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Ricadu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1760" y="1904760"/>
            <a:ext cx="7544160" cy="37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aborazione di un percorso di miglioramento della comunicazione e della condivisione delle scelte all’interno dei Consigli di classe e di intercla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3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Controllo dei risultat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33"/>
                </a:solidFill>
                <a:latin typeface="Times New Roman"/>
              </a:rPr>
              <a:t>Riproposizione del check up di Istitu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33"/>
                </a:solidFill>
                <a:latin typeface="Times New Roman"/>
              </a:rPr>
              <a:t>Confronto con gli esiti preced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33"/>
                </a:solidFill>
                <a:latin typeface="Times New Roman"/>
              </a:rPr>
              <a:t>Schede di autocontrollo al termine delle sedute di Consiglio di classe/intercla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4941720"/>
            <a:ext cx="6981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Times New Roman"/>
              </a:rPr>
              <a:t>Testi 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Times New Roman"/>
              </a:rPr>
              <a:t>Isalba Balducci  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~   Maria Emilia Sagg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Scuola Media “G. Vital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Piedimonte Mat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0080" y="189000"/>
            <a:ext cx="42242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1" lang="en-US" sz="10600" spc="-1" strike="noStrike">
                <a:solidFill>
                  <a:srgbClr val="3333cc"/>
                </a:solidFill>
                <a:latin typeface="TimeScrDMed"/>
              </a:rPr>
              <a:t>Re.Qual.10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666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crDMed"/>
              </a:rPr>
              <a:t>10 scuole in re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crDMed"/>
              </a:rPr>
              <a:t>nei percorsi di miglioramen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crDMed"/>
              </a:rPr>
              <a:t>L’idea della rete  nasce dall’esigenza di mettere in comune esperienze e risor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crDMed"/>
              </a:rPr>
              <a:t>Le scuole in re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066680"/>
          <a:ext cx="83818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81880" cy="57913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Un protocollo di intesa per…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oordinare le iniziative delle singole s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romuovere la formazione iniziale del personale alla cultura, alle procedure, alle metodologie e agli strumenti della qu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sollecitare la costituzione di gruppi di rife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raticare il monitoraggio degli interventi, delle informazioni, delle iniziative concernenti la qu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vviare l’attività di cantieri  per la sperimentazione di soluzione di gestione in qualità anche in ambiti ristretti, individuati in seno al progetto di 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crDMed"/>
              </a:rPr>
              <a:t>Il percor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e scuole si analizz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1676520"/>
            <a:ext cx="1066680" cy="3045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13716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heck up di istit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e scuole si confron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1066680" cy="3049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743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Le criticità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mu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e scuole proget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267080"/>
            <a:ext cx="1067040" cy="30492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1148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Un seminano di formazion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crDMed"/>
              </a:rPr>
              <a:t>La form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3657600" cy="1905120"/>
          </a:xfrm>
          <a:prstGeom prst="rect">
            <a:avLst/>
          </a:prstGeom>
          <a:noFill/>
          <a:ln w="76320">
            <a:solidFill>
              <a:srgbClr val="99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municazion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divisione 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ecisioni e delle scel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nel lavoro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91120" y="1143000"/>
            <a:ext cx="4572000" cy="2743200"/>
          </a:xfrm>
          <a:prstGeom prst="rect">
            <a:avLst/>
          </a:prstGeom>
          <a:noFill/>
          <a:ln w="76320">
            <a:solidFill>
              <a:srgbClr val="99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33"/>
                </a:solidFill>
                <a:latin typeface="Times New Roman"/>
              </a:rPr>
              <a:t>Ivana Su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0033"/>
                </a:solidFill>
                <a:latin typeface="Times New Roman"/>
              </a:rPr>
              <a:t>Dirigente, distaccata pr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0033"/>
                </a:solidFill>
                <a:latin typeface="Times New Roman"/>
              </a:rPr>
              <a:t>l’IRRE Emilia Roma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33"/>
                </a:solidFill>
                <a:latin typeface="Times New Roman"/>
              </a:rPr>
              <a:t>Anna A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0033"/>
                </a:solidFill>
                <a:latin typeface="Times New Roman"/>
              </a:rPr>
              <a:t>docente Scuola Superiore della Pubblica Amminis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9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971800"/>
            <a:ext cx="3581280" cy="3210480"/>
          </a:xfrm>
          <a:prstGeom prst="rect">
            <a:avLst/>
          </a:prstGeom>
          <a:noFill/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Elevare il tasso di condivisione delle scelte e delle decisioni tra i docenti e migliorare i livelli di comunicazione tra gli operatori della 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4038480"/>
            <a:ext cx="4648320" cy="2478960"/>
          </a:xfrm>
          <a:prstGeom prst="rect">
            <a:avLst/>
          </a:prstGeom>
          <a:noFill/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 docenti delle scuole in rete sono stati formati alla condivisione delle scelte, ai metodi della comunicazione, alle strategie comunic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3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3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3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3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3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160" y="1600200"/>
            <a:ext cx="33750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1854360"/>
            <a:ext cx="5559480" cy="168444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ormazione allargat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8 or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0"/>
            <a:ext cx="4724280" cy="152388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truttura del cor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9040" y="4092480"/>
            <a:ext cx="7845480" cy="225684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Incontri seminariali    12 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Dirigenti, direttori amministrativi, referenti e gruppi qu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190000">
            <a:off x="1033200" y="88560"/>
            <a:ext cx="966600" cy="1676520"/>
          </a:xfrm>
          <a:custGeom>
            <a:avLst/>
            <a:gdLst>
              <a:gd name="textAreaLeft" fmla="*/ 129240 w 966600"/>
              <a:gd name="textAreaRight" fmla="*/ 837360 w 9666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967718"/>
                <a:lnTo>
                  <a:pt x="15406" y="21283"/>
                </a:lnTo>
                <a:lnTo>
                  <a:pt x="21600" y="17280"/>
                </a:lnTo>
                <a:lnTo>
                  <a:pt x="15406" y="12643"/>
                </a:lnTo>
                <a:lnTo>
                  <a:pt x="15406" y="14803"/>
                </a:lnTo>
                <a:arcTo wR="21600" hR="7560" stAng="7832282" swAng="261028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239800">
            <a:off x="7464600" y="985680"/>
            <a:ext cx="1280880" cy="3364200"/>
          </a:xfrm>
          <a:custGeom>
            <a:avLst/>
            <a:gdLst>
              <a:gd name="textAreaLeft" fmla="*/ 171360 w 1280880"/>
              <a:gd name="textAreaRight" fmla="*/ 1109520 w 1280880"/>
              <a:gd name="textAreaTop" fmla="*/ 588600 h 3364200"/>
              <a:gd name="textAreaBottom" fmla="*/ 2439000 h 336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475604"/>
                <a:lnTo>
                  <a:pt x="8004" y="21062"/>
                </a:lnTo>
                <a:lnTo>
                  <a:pt x="0" y="17280"/>
                </a:lnTo>
                <a:lnTo>
                  <a:pt x="8004" y="12422"/>
                </a:lnTo>
                <a:lnTo>
                  <a:pt x="8004" y="14582"/>
                </a:lnTo>
                <a:arcTo wR="21600" hR="7560" stAng="2475604" swAng="-21181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2:19:54Z</dcterms:created>
  <dc:creator>Emilia Saggese</dc:creator>
  <dc:description/>
  <dc:language>en-US</dc:language>
  <cp:lastModifiedBy>Fernando Occhibove</cp:lastModifiedBy>
  <dcterms:modified xsi:type="dcterms:W3CDTF">2003-05-31T13:32:08Z</dcterms:modified>
  <cp:revision>13</cp:revision>
  <dc:subject/>
  <dc:title>Re.Qual.10 </dc:title>
</cp:coreProperties>
</file>