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838-5AC0-4205-9759-7E8ECC38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6E0-C334-4CE3-BA5F-343B7F72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189-63F0-4A44-A456-57729A27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071-04B4-4C21-871C-1746F4D7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6FE-C06F-4FAD-8658-DF294F97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CFD-08F7-4C3A-B2DB-59950F0E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032-6BE8-4236-8510-2B9645F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B28-9DE3-43FF-91E1-7F95B51B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79C-28FA-4B01-ADE6-8102AE17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4B4-C6DF-44C6-8B68-70A1264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340-D7AB-421F-AFAC-FF67201D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C35-AB32-4AEE-A09C-B4E92E22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6A54-665A-4C47-AFEB-460381D07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ahoma"/>
              </a:rPr>
              <a:t>Consorzio di Scuole per la Qualità dei servizi scolastici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4495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1 maggio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Verdana"/>
              </a:rPr>
              <a:t>Le fasi ope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3300"/>
                </a:solidFill>
                <a:latin typeface="Verdana"/>
              </a:rPr>
              <a:t>della rete di scuole del distretto 0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71800" y="609480"/>
            <a:ext cx="3581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 S Q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Punti critici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27428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visione e compartecipazione del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gruppo dir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i strumenti e i parametri di documentazione e controllo devono essere </a:t>
            </a: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semplic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d effic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cc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Verdana"/>
              </a:rPr>
              <a:t>I meriti vanno riconosciut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con ampliamento di aree decisionali o di responsabilità e con incentiv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Verdana"/>
              </a:rPr>
              <a:t>I vantaggi del percorso formativo progettato dalla rete CSQ</a:t>
            </a: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09120" y="25142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innovazione viene integrata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gradualmen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nei diversi proc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 esegue la routine è lo stesso che 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osserva, riflette, immagin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 propon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iformulazioni di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osti della formazione vengono condivisi tra le scuole consorz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Come è stato organizzato il percorso di miglioramento?</a:t>
            </a: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124080"/>
            <a:ext cx="73152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È stato formalizzato con regolare statut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È stato organizzato un percorso formativo con fasi operative nella logica dell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icerca-az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Formazione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l percorso preve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corsi formativi comu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menti di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fron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menti formativi individualizzati per ogni scuo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Q - Distretto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Organizzazione del percorso di miglioramento?</a:t>
            </a: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Focus group: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forniscono impressioni e orienta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ircoli della qualità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: danno le linee strategiche e, validati i processi, standardizz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Gruppi di progett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: progettano i proces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Metodologia PDCA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80880" y="259092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8000"/>
                </a:solidFill>
                <a:latin typeface="Verdana"/>
              </a:rPr>
              <a:t>Plan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pianifica, progetta, individua obiettivi e met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0000"/>
                </a:solidFill>
                <a:latin typeface="Verdana"/>
              </a:rPr>
              <a:t>D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= fai,  pr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Verdana"/>
              </a:rPr>
              <a:t>Check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 contro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cc"/>
                </a:solidFill>
                <a:latin typeface="Verdana"/>
              </a:rPr>
              <a:t>Act</a:t>
            </a:r>
            <a:r>
              <a:rPr b="1" lang="it-IT" sz="28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 intervieni sul processo correggend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Perché i gruppi di miglioramento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ltre alla risoluzione dei problemi assegnati contribuiscon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rire occasioni di </a:t>
            </a:r>
            <a:r>
              <a:rPr b="1" lang="en-US" sz="2800" spc="-1" strike="noStrike">
                <a:solidFill>
                  <a:srgbClr val="993300"/>
                </a:solidFill>
                <a:latin typeface="Verdana"/>
              </a:rPr>
              <a:t>Formazione in servizi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basso prez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gliorare il </a:t>
            </a:r>
            <a:r>
              <a:rPr b="1" lang="en-US" sz="2800" spc="-1" strike="noStrike">
                <a:solidFill>
                  <a:srgbClr val="993300"/>
                </a:solidFill>
                <a:latin typeface="Verdana"/>
              </a:rPr>
              <a:t>“clima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terno: l’obiettivo comune porta a superare gli individualis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quisire un </a:t>
            </a:r>
            <a:r>
              <a:rPr b="1" lang="en-US" sz="2800" spc="-1" strike="noStrike">
                <a:solidFill>
                  <a:srgbClr val="993300"/>
                </a:solidFill>
                <a:latin typeface="Verdana"/>
              </a:rPr>
              <a:t>metodo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icace di trattare e risolvere proble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Gruppi di progetto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12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89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stano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nuov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ocessi, nuovi modelli, nuovi supporti, per esemp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zione di nuovi strumenti di 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colazione di procedure di misurazione dell’efficacia didat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levazione delle attese degli stu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involgimento delle famig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I gruppi di progetto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76280" indent="-476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efiniscono inizialmente i termini del problema (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problem finding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evedono le possibili combinazioni causa-eff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tervengono strutturando un proces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potizzano degli indicatori numer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tabiliscono metodo e tempi di rile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Valutano, eventualmente corregg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tandardizz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I circoli della qualità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3680" indent="-19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no gruppi ristretti di docenti guidati da un responsabile, che lavorano su obiettivi s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nno costituiti dopo una capillare e ripetuta campagna di informazione–sensibi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leader vanno adeguatamente form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gruppo sceglie autonomamente l’obiettivo sf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ircolo, al raggiungimento dell’obiettivo,  cambia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Inizio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 seguito al primo convegno provinciale (Castelvolturn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- 5 - 9 febbraio 200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  i docenti referenti dell’ITC De Franchis e dell’IC N.Ventriglia, avvalendosi della consulenza dell’ingegnere gestionale Nicola Borrelli,  hanno avviato una fase di informazione-formazione dei docenti organizzando diversi seminari tenuti presso l’ITC di Piedimonte Mat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Q - Distretto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I circoli della qualità </a:t>
            </a:r>
            <a:br>
              <a:rPr sz="4400"/>
            </a:b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ancora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58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ntribuiscono a </a:t>
            </a:r>
            <a:r>
              <a:rPr b="0" lang="en-US" sz="4000" spc="-1" strike="noStrike">
                <a:solidFill>
                  <a:srgbClr val="339933"/>
                </a:solidFill>
                <a:latin typeface="Verdana"/>
              </a:rPr>
              <a:t>migliora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-371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 rapporti interperson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-371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0" lang="en-US" sz="4000" spc="-1" strike="noStrike">
                <a:solidFill>
                  <a:srgbClr val="339933"/>
                </a:solidFill>
                <a:latin typeface="Verdana"/>
              </a:rPr>
              <a:t>coinvolgimento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gli operatori scolasti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Tempi e funzioni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2600" indent="-282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l primo anno lo scopo del consorzio è stato quello di coinvolgere nel “gioco” della qu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i successivi 2 anni si migliorerà la capacità di analisi dei proble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 l’analisi si sposterà sui risultati e sugli interventi corret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Gestione dei processi </a:t>
            </a:r>
            <a:br>
              <a:rPr sz="4400"/>
            </a:b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e delle priorità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3680" indent="-193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viduazione process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ribuzione priorità d’interv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icazione obiettivo sfida sul processo prioritario (circoli qualità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alisi e strutturazione processo (gruppo proget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Verdana"/>
              </a:rPr>
              <a:t>Matrice valutazione processi</a:t>
            </a:r>
            <a:endParaRPr b="0" lang="en-US" sz="4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28800" y="990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empio: Unità segre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828800"/>
          <a:ext cx="8229600" cy="49291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tori valut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o insoddisfazione cl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.clienti interess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ico di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e pes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IONE ANAGRA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I ENTI ESTER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I CON FORNI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IONE INFORMAZIONI AL P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.AMM. PERS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762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2743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ORIENTAMENTO AL CLIENTE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22856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A VOLTA INDIVIDUATO IL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ROCESSO PRIOR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 INDIVIDUANO I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ODOTTI SERVIZI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EL PROCESSO 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1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 RAPPORTANO ALL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SPETTATIVE DEI CL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Verdana"/>
              </a:rPr>
              <a:t>Principali processi della scuola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gettazione curri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grammazione didat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ccoglienza stu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utoring stu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alutazione stu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lezione testi e materiali didat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unicazione con le famig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rapporti con enti ester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unicazione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rapporti con rappresentanti studenti e ge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Verdana"/>
              </a:rPr>
              <a:t>Principali processi della scuola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12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dell’immagine della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ntivazione del pers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ormazione pers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ganizzazione e gestione degli organi colleg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servizi complementari (viaggi, stage, scambi est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bibliote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servizi segreta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bilan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amminist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Manutenzione macchine e ar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Gestione sito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Concludendo…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ianificare un sistema di qualità signif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nire linee guida chi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licitare l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miss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in coerenza con l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vis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l’idea di ciò che diverrà la scuola nel futu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dividuare le prior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mare e responsabilizz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mi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Percorso formativo 2002-2003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Fase preliminar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I materiali della rete CSQ sono on line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6405" t="0" r="4710" b="4710"/>
          <a:stretch/>
        </p:blipFill>
        <p:spPr>
          <a:xfrm>
            <a:off x="2209680" y="1828800"/>
            <a:ext cx="4496040" cy="4073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1981080"/>
            <a:ext cx="76201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space.virgilio.it/itcdefranchis@virgilio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Q - Distretto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Formalizzazione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rt.  4   –  Riferimenti norma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li Istituti scolastici di cui all’art. 1, costituiscono un consorzio di servizio operante nel settore scolastico,  quale struttura per una stabile e continua collaborazione per realizzare le finalità di comune interesse di cui all’art. 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utte le attività del consorzio saranno programmate e attuate nel rispetto delle norme riguardanti gli Enti Locali (DECRETO LEGISLATIVO 18 agosto 2000, n. 267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o unico delle leggi sull'ordinamento degli enti local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e la stipula di accordi (Legge 449/97), di quelle relative all’ordinamento sull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tonomia scolastica D.P.R. 275/99 – art. 7 e gli art.11 e 15 della legge 241/90 (Accordi di Rete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nonché del regolamento di amministrazione e contabilità delle istituzioni scolastiche (Decreto interministeriale n. 44 del 1 febbraio 2001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l funzionamento del consorzio avverrà, per quanto non stabilito nel presente statuto, nel rispetto degli articoli del Codice Civile 2602 e seguenti (Libro quinto, titolo X, Capo II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 Dei Consorzi per il coordinamento della produzione e degli scamb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Q - Distretto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Verdana"/>
              </a:rPr>
              <a:t>Le scuole consorziate</a:t>
            </a:r>
            <a:endParaRPr b="0" lang="en-US" sz="4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° Circolo Didattico di Piedimonte Matese (ds N.Ginocch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° Circolo Didattico di Piedimonte Matese (ds M.Gambel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rcolo Didattico di Alvigna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s A.Ricc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ituto Comprensivo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cola Ventr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(ds A.Cirio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tituto Tecnico Commerciale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ncenzo De Franch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(ds G.Goli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25780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idente del Consiglio di amministrazione: D.S. Anna Ciri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gretario della rete: prof. Enrico Gr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Q - Distretto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Impact"/>
              </a:rPr>
              <a:t>L’idea di fondo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qualità è una </a:t>
            </a: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metodologia concret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 tend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gliorare un processo produttiv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iminare gli errori grazie </a:t>
            </a: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all’intervento atti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creati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egli oper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Cosa si intende per errore nei processi scolastici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informazioni di partenza  (territorio-bisogni formativi) non vengono raccolte in modo sistem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POF non risponde ai bisogni form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581280"/>
            <a:ext cx="1523880" cy="1219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Q - Distretto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Domande di partenza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320" y="2590560"/>
            <a:ext cx="7086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e coinvolgere tutto il persona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e miglior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Verdana"/>
              </a:rPr>
              <a:t>La prospettiva</a:t>
            </a: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3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Le procedure di qual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otenziano e </a:t>
            </a:r>
            <a:r>
              <a:rPr b="1" lang="it-IT" sz="2400" spc="-1" strike="noStrike">
                <a:solidFill>
                  <a:srgbClr val="339933"/>
                </a:solidFill>
                <a:latin typeface="Verdana"/>
              </a:rPr>
              <a:t>moltiplicano le utilità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dei prodotti-serviz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umentano la </a:t>
            </a:r>
            <a:r>
              <a:rPr b="1" lang="it-IT" sz="2400" spc="-1" strike="noStrike">
                <a:solidFill>
                  <a:srgbClr val="339933"/>
                </a:solidFill>
                <a:latin typeface="Verdana"/>
              </a:rPr>
              <a:t>competitività dell’azienda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solidano la sua posizione nel merc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li operatori ricev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iduzione della micronconflittu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33"/>
                </a:solidFill>
                <a:latin typeface="Verdana"/>
              </a:rPr>
              <a:t>riconoscimento dei mer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Verdana"/>
              </a:rPr>
              <a:t>L’utilità 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440" y="25909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a qualità valoriz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l processo produttiv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 risorse um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8:36:39Z</dcterms:created>
  <dc:creator>enrico</dc:creator>
  <dc:description/>
  <dc:language>en-US</dc:language>
  <cp:lastModifiedBy>LABORATORIO 1B</cp:lastModifiedBy>
  <dcterms:modified xsi:type="dcterms:W3CDTF">2003-05-31T06:07:33Z</dcterms:modified>
  <cp:revision>24</cp:revision>
  <dc:subject/>
  <dc:title>Presentazione di PowerPoint</dc:title>
</cp:coreProperties>
</file>