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56F-C5A4-4CF6-BC6A-2FC97ED2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9AE-4B2F-4A57-9C39-11FD5BC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2EB-F930-4064-B9D1-FD8ED8DC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602-5D05-4B2D-9C78-5B36C948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43D-51B1-43D1-BB4E-CE9C8DA4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5EC-4415-454B-88D2-223CC2D4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A01-CD9C-4B76-8568-20CB8C94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B8B-FF81-4C6C-A378-CE8A7DDC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3D7-9571-4700-A828-A2E25F6C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066-F4C8-47DC-9E7B-DAEB619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3D5-7C48-401C-AD2E-AD47992E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4A6-800E-4D28-B4FA-06AB517F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CB97-4746-4E29-9FE9-0AC05A6B7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48720" y="4343400"/>
            <a:ext cx="23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 cura di Angelo Maraschi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2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vveditorato agli Studi di Cas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7-8-9 novembr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625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LEVAZIONE DELL’EFFICACIA E DELL’EFFICI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429680" y="6224760"/>
            <a:ext cx="171288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85800"/>
            <a:ext cx="9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1295280"/>
            <a:ext cx="7925040" cy="1371600"/>
            <a:chOff x="609480" y="1295280"/>
            <a:chExt cx="7925040" cy="1371600"/>
          </a:xfrm>
        </p:grpSpPr>
        <p:sp>
          <p:nvSpPr>
            <p:cNvPr id="47" name=""/>
            <p:cNvSpPr/>
            <p:nvPr/>
          </p:nvSpPr>
          <p:spPr>
            <a:xfrm>
              <a:off x="609480" y="1295280"/>
              <a:ext cx="7925040" cy="1371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914400" y="1600200"/>
              <a:ext cx="73152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Valutazione di percorso e valutazione </a:t>
              </a:r>
              <a:endPara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i sistema per la qualità del servizio scolastico</a:t>
              </a:r>
              <a:endPara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9" name=""/>
          <p:cNvSpPr txBox="1"/>
          <p:nvPr/>
        </p:nvSpPr>
        <p:spPr>
          <a:xfrm>
            <a:off x="914400" y="2743200"/>
            <a:ext cx="731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GLI STRUMENTI</a:t>
            </a:r>
            <a:endParaRPr b="1" lang="en-US" sz="12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43200" y="4191120"/>
            <a:ext cx="1892160" cy="1282680"/>
          </a:xfrm>
          <a:custGeom>
            <a:avLst/>
            <a:gdLst>
              <a:gd name="textAreaLeft" fmla="*/ 432000 w 1892160"/>
              <a:gd name="textAreaRight" fmla="*/ 1460160 w 1892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fde9e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89800" y="4044960"/>
            <a:ext cx="1434960" cy="901800"/>
          </a:xfrm>
          <a:custGeom>
            <a:avLst/>
            <a:gdLst>
              <a:gd name="textAreaLeft" fmla="*/ 327600 w 1434960"/>
              <a:gd name="textAreaRight" fmla="*/ 1107360 w 1434960"/>
              <a:gd name="textAreaTop" fmla="*/ 205920 h 901800"/>
              <a:gd name="textAreaBottom" fmla="*/ 695880 h 90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b9ec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666880"/>
            <a:ext cx="1739880" cy="978120"/>
          </a:xfrm>
          <a:prstGeom prst="parallelogram">
            <a:avLst>
              <a:gd name="adj" fmla="val 44462"/>
            </a:avLst>
          </a:prstGeom>
          <a:gradFill rotWithShape="0">
            <a:gsLst>
              <a:gs pos="0">
                <a:srgbClr val="ffff99"/>
              </a:gs>
              <a:gs pos="100000">
                <a:srgbClr val="fefec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8560" y="2819520"/>
            <a:ext cx="1194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ement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79560" y="2673360"/>
            <a:ext cx="21211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2040" y="2895480"/>
            <a:ext cx="2072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cesso di gene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ll’inform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2590920"/>
            <a:ext cx="1968480" cy="1206360"/>
          </a:xfrm>
          <a:prstGeom prst="roundRect">
            <a:avLst>
              <a:gd name="adj" fmla="val 12495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4280" y="3048120"/>
            <a:ext cx="1947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IN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65560" y="3054240"/>
            <a:ext cx="520920" cy="216000"/>
          </a:xfrm>
          <a:prstGeom prst="rightArrow">
            <a:avLst>
              <a:gd name="adj1" fmla="val 50000"/>
              <a:gd name="adj2" fmla="val 1205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641920" y="4433760"/>
          <a:ext cx="109224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1920" y="4433760"/>
                    <a:ext cx="10922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857640" y="4343400"/>
            <a:ext cx="100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SCO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36760" y="4419720"/>
            <a:ext cx="946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uog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m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01520" y="592128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tilizz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124080"/>
            <a:ext cx="444600" cy="216000"/>
          </a:xfrm>
          <a:prstGeom prst="rightArrow">
            <a:avLst>
              <a:gd name="adj1" fmla="val 50000"/>
              <a:gd name="adj2" fmla="val 10292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3540600" y="3816360"/>
            <a:ext cx="368280" cy="215640"/>
          </a:xfrm>
          <a:prstGeom prst="rightArrow">
            <a:avLst>
              <a:gd name="adj1" fmla="val 50000"/>
              <a:gd name="adj2" fmla="val 854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066680" y="533520"/>
            <a:ext cx="1451160" cy="1828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rot="20977800">
            <a:off x="1218960" y="1447920"/>
            <a:ext cx="1143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orgente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16200000">
            <a:off x="1560960" y="232416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rot="16200000">
            <a:off x="6019560" y="4038480"/>
            <a:ext cx="368280" cy="216000"/>
          </a:xfrm>
          <a:prstGeom prst="rightArrow">
            <a:avLst>
              <a:gd name="adj1" fmla="val 50000"/>
              <a:gd name="adj2" fmla="val 8525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1371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Times New Roman"/>
              </a:rPr>
              <a:t>SISTEMA INFORM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2590920"/>
            <a:ext cx="6867360" cy="1917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e0f6e0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sieme di elementi, anche molto diversi, che raccolgono, elaborano, scambiano e archiviano dati, con lo scopo di produrre e distribuire le informazioni alle persone che ne hanno bisogno, nel momento e nel luogo ada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90240" y="4595760"/>
            <a:ext cx="495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 Camussone, Il sistema  informativo, pag. 28, Milano,19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65280" y="1571760"/>
            <a:ext cx="7493040" cy="200916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fdfdf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uso dell’informazione  è finalizzato all’attività decisionale che si può definire come il processo di conversione di informazioni in azioni. Ciò richie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sia nota la situazione che si vuole raggiung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sia nota la situazione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sia determinabile un’azione da compiersi in  conformità ad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itica stabil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685800"/>
            <a:ext cx="4956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c0128"/>
                </a:solidFill>
                <a:latin typeface="Arial"/>
              </a:rPr>
              <a:t>ALCUNE ATTEN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98560" y="4572000"/>
            <a:ext cx="7483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038480"/>
            <a:ext cx="7400880" cy="200916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fdfdf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olte organizzazioni sono così ricche di dati da esserne sommerse e contribuiscono, motu proprio, ad accrescerne il numero con zelo burocratico; ciononostante risultano spesso povere di informazion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sporre di grossi volumi di dati non significa  disporre anche di valide 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057400" y="1219320"/>
            <a:ext cx="1295280" cy="4406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1219320"/>
            <a:ext cx="1295280" cy="4419360"/>
          </a:xfrm>
          <a:prstGeom prst="triangle">
            <a:avLst>
              <a:gd name="adj" fmla="val 49995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219320"/>
            <a:ext cx="1282680" cy="4406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762120"/>
            <a:ext cx="242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ff"/>
                </a:solidFill>
                <a:latin typeface="Arial"/>
              </a:rPr>
              <a:t>strutture del serv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77320" y="733320"/>
            <a:ext cx="233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99"/>
                </a:solidFill>
                <a:latin typeface="Arial"/>
              </a:rPr>
              <a:t>sistema inform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0240" y="1523880"/>
            <a:ext cx="120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c0128"/>
                </a:solidFill>
                <a:latin typeface="Arial"/>
              </a:rPr>
              <a:t>direz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9000" y="3124080"/>
            <a:ext cx="105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c0128"/>
                </a:solidFill>
                <a:latin typeface="Arial"/>
              </a:rPr>
              <a:t>colleg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1440" y="4648320"/>
            <a:ext cx="111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c0128"/>
                </a:solidFill>
                <a:latin typeface="Arial"/>
              </a:rPr>
              <a:t>ope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29360" y="1495440"/>
            <a:ext cx="54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29360" y="2666880"/>
            <a:ext cx="54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29360" y="4390920"/>
            <a:ext cx="54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90840" y="182880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297180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352680" y="4724280"/>
            <a:ext cx="25020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98800" y="2028960"/>
            <a:ext cx="140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98800" y="3276720"/>
            <a:ext cx="140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98800" y="4952880"/>
            <a:ext cx="140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1308240"/>
            <a:ext cx="1282680" cy="4330440"/>
          </a:xfrm>
          <a:prstGeom prst="triangle">
            <a:avLst>
              <a:gd name="adj" fmla="val 4999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962520"/>
            <a:ext cx="7391520" cy="0"/>
          </a:xfrm>
          <a:prstGeom prst="line">
            <a:avLst/>
          </a:prstGeom>
          <a:ln w="12600">
            <a:solidFill>
              <a:srgbClr val="33cc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38080" y="2514600"/>
            <a:ext cx="7391520" cy="76320"/>
          </a:xfrm>
          <a:prstGeom prst="line">
            <a:avLst/>
          </a:prstGeom>
          <a:ln w="12600">
            <a:solidFill>
              <a:srgbClr val="33cc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666520" y="2362320"/>
            <a:ext cx="3886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666520" y="3581280"/>
            <a:ext cx="3886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666520" y="5257800"/>
            <a:ext cx="3886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191120" y="2743200"/>
            <a:ext cx="118908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4114800"/>
            <a:ext cx="1189080" cy="36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eedb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251460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nfr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2209680"/>
            <a:ext cx="1113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2819520"/>
            <a:ext cx="11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eci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2819520"/>
            <a:ext cx="838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rite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86600" y="2819520"/>
            <a:ext cx="79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895480"/>
            <a:ext cx="928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4120" y="0"/>
            <a:ext cx="821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’indicatore è un’informazione scelta  fra le molte possi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 sottoposta ad osservazione; esso permette di conoscere lo st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el processo controllato al fine di prendere una decision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ndizionerà lo stato futuro del siste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ndicatore perciò è un feed-back informativo che cons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controllare un  proc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2895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2895480"/>
            <a:ext cx="1219320" cy="5335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3124080"/>
            <a:ext cx="1066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dic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895480"/>
            <a:ext cx="1218960" cy="5335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89548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31240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dica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100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562720" y="4343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133720" y="42670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337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1986480" y="1676520"/>
            <a:ext cx="5975640" cy="4604040"/>
            <a:chOff x="1986480" y="1676520"/>
            <a:chExt cx="5975640" cy="4604040"/>
          </a:xfrm>
        </p:grpSpPr>
        <p:sp>
          <p:nvSpPr>
            <p:cNvPr id="268" name=""/>
            <p:cNvSpPr/>
            <p:nvPr/>
          </p:nvSpPr>
          <p:spPr>
            <a:xfrm>
              <a:off x="3124080" y="1981080"/>
              <a:ext cx="4330800" cy="4025880"/>
            </a:xfrm>
            <a:prstGeom prst="ellipse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6480" y="1676520"/>
              <a:ext cx="11005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ccff"/>
                  </a:solidFill>
                  <a:latin typeface="Arial"/>
                </a:rPr>
                <a:t>SCO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24080" y="19051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6880" y="21337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00600" y="5029200"/>
              <a:ext cx="11430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fc0128"/>
                  </a:solidFill>
                  <a:latin typeface="Arial"/>
                </a:rPr>
                <a:t>Attuazione degl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fc0128"/>
                  </a:solidFill>
                  <a:latin typeface="Arial"/>
                </a:rPr>
                <a:t>interventi di orientamen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4080" y="1981080"/>
              <a:ext cx="4330800" cy="4025880"/>
            </a:xfrm>
            <a:prstGeom prst="ellipse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0400" y="5581800"/>
              <a:ext cx="1796760" cy="69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Arial"/>
                </a:rPr>
                <a:t>effett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Arial"/>
                </a:rPr>
                <a:t>sull'amb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90320" y="3657600"/>
              <a:ext cx="176472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ccff"/>
                  </a:solidFill>
                  <a:latin typeface="Arial"/>
                </a:rPr>
                <a:t>inform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26360" y="1847880"/>
              <a:ext cx="135504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Arial"/>
                </a:rPr>
                <a:t>decis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88320" y="3753000"/>
              <a:ext cx="97380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Arial"/>
                </a:rPr>
                <a:t>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6480" y="1676520"/>
              <a:ext cx="11005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ccff"/>
                  </a:solidFill>
                  <a:latin typeface="Arial"/>
                </a:rPr>
                <a:t>SCO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24080" y="19051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6880" y="21337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052800" y="457200"/>
            <a:ext cx="31561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Allargare il bacino d’ut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2730600"/>
            <a:ext cx="939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c0128"/>
                </a:solidFill>
                <a:latin typeface="Arial"/>
              </a:rPr>
              <a:t>Valutazione dell’esito e decisione corretti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2730600"/>
            <a:ext cx="1066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c0128"/>
                </a:solidFill>
                <a:latin typeface="Arial"/>
              </a:rPr>
              <a:t>Decisione di avviare un intervento di miglior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38480" y="4343400"/>
            <a:ext cx="114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c0128"/>
                </a:solidFill>
                <a:latin typeface="Arial"/>
              </a:rPr>
              <a:t>Lettura dell’indicat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c0128"/>
                </a:solidFill>
                <a:latin typeface="Arial"/>
              </a:rPr>
              <a:t>bacino d’uten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4114800"/>
            <a:ext cx="1143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c0128"/>
                </a:solidFill>
                <a:latin typeface="Arial"/>
              </a:rPr>
              <a:t>Programmazione orientamento su un n° maggiore di scuole in altri comun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986480" y="1676520"/>
            <a:ext cx="5975640" cy="4604040"/>
            <a:chOff x="1986480" y="1676520"/>
            <a:chExt cx="5975640" cy="4604040"/>
          </a:xfrm>
        </p:grpSpPr>
        <p:sp>
          <p:nvSpPr>
            <p:cNvPr id="287" name=""/>
            <p:cNvSpPr/>
            <p:nvPr/>
          </p:nvSpPr>
          <p:spPr>
            <a:xfrm>
              <a:off x="3124080" y="1981080"/>
              <a:ext cx="4330800" cy="4025880"/>
            </a:xfrm>
            <a:prstGeom prst="ellipse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86480" y="1676520"/>
              <a:ext cx="11005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ccff"/>
                  </a:solidFill>
                  <a:latin typeface="Arial"/>
                </a:rPr>
                <a:t>SCO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24080" y="19051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6880" y="21337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00600" y="5029200"/>
              <a:ext cx="11430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fc0128"/>
                  </a:solidFill>
                  <a:latin typeface="Arial"/>
                </a:rPr>
                <a:t>Attuazione degl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fc0128"/>
                  </a:solidFill>
                  <a:latin typeface="Arial"/>
                </a:rPr>
                <a:t>interventi di orientamen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24080" y="1981080"/>
              <a:ext cx="4330800" cy="4025880"/>
            </a:xfrm>
            <a:prstGeom prst="ellipse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50400" y="5581800"/>
              <a:ext cx="1796760" cy="69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Arial"/>
                </a:rPr>
                <a:t>effett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Arial"/>
                </a:rPr>
                <a:t>sull'amb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90320" y="3657600"/>
              <a:ext cx="176472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ccff"/>
                  </a:solidFill>
                  <a:latin typeface="Arial"/>
                </a:rPr>
                <a:t>inform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26360" y="1847880"/>
              <a:ext cx="135504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Arial"/>
                </a:rPr>
                <a:t>decis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88320" y="3753000"/>
              <a:ext cx="97380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Arial"/>
                </a:rPr>
                <a:t>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6480" y="1676520"/>
              <a:ext cx="11005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ccff"/>
                  </a:solidFill>
                  <a:latin typeface="Arial"/>
                </a:rPr>
                <a:t>SCO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24080" y="19051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66880" y="21337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519720" y="609480"/>
            <a:ext cx="302832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Migliorare l’attegg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degli studenti in ingr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590920"/>
            <a:ext cx="1066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c0128"/>
                </a:solidFill>
                <a:latin typeface="Arial"/>
              </a:rPr>
              <a:t>Decisione di avviare un intervento di miglior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2720" y="3886200"/>
            <a:ext cx="1143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c0128"/>
                </a:solidFill>
                <a:latin typeface="Arial"/>
              </a:rPr>
              <a:t>Progetto- intervento di accoglienza orientamento in ingres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00600" y="5029200"/>
            <a:ext cx="1143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c0128"/>
                </a:solidFill>
                <a:latin typeface="Arial"/>
              </a:rPr>
              <a:t>Attuazione del progetto accoglienz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114800"/>
            <a:ext cx="114300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c0128"/>
                </a:solidFill>
                <a:latin typeface="Arial"/>
              </a:rPr>
              <a:t>Lettura  dell’indicat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c0128"/>
                </a:solidFill>
                <a:latin typeface="Arial"/>
              </a:rPr>
              <a:t>Questionari rivolti ai docenti, studenti e famigl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939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c0128"/>
                </a:solidFill>
                <a:latin typeface="Arial"/>
              </a:rPr>
              <a:t>Valutazione dell’esito e decisione corretti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7760" y="380520"/>
            <a:ext cx="3809880" cy="381240"/>
          </a:xfrm>
          <a:prstGeom prst="rect">
            <a:avLst/>
          </a:prstGeom>
          <a:noFill/>
          <a:ln w="9360">
            <a:solidFill>
              <a:srgbClr val="fc012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rametri di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1066680"/>
            <a:ext cx="0" cy="4724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219320" y="5791320"/>
            <a:ext cx="7315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487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3962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3505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34560" y="5595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440" y="5105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440" y="4648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440" y="4191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440" y="3733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440" y="3276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440" y="2819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2133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440" y="2362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440" y="18669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440" y="1371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2133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1676520"/>
            <a:ext cx="716292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53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485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06440" y="601992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uol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280" y="601992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uol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36680" y="601992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uola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51080" y="601992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uola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65480" y="601992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uola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79880" y="601992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uola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94280" y="601992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uola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579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1676520"/>
            <a:ext cx="0" cy="4343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708680" y="601992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uola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53352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asso  di occupazione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st-dipl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3657600"/>
            <a:ext cx="68580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2743200"/>
            <a:ext cx="6781680" cy="0"/>
          </a:xfrm>
          <a:prstGeom prst="line">
            <a:avLst/>
          </a:prstGeom>
          <a:ln cap="rnd" w="255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4572000"/>
            <a:ext cx="685800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162920" y="1676520"/>
            <a:ext cx="0" cy="4343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1676520"/>
            <a:ext cx="0" cy="4343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1676520"/>
            <a:ext cx="0" cy="4343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1676520"/>
            <a:ext cx="0" cy="4343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1676520"/>
            <a:ext cx="0" cy="4343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76520" y="1676520"/>
            <a:ext cx="0" cy="4343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2133720"/>
            <a:ext cx="716292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2590920"/>
            <a:ext cx="716292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3048120"/>
            <a:ext cx="716292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3505320"/>
            <a:ext cx="716292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3962520"/>
            <a:ext cx="716292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4419720"/>
            <a:ext cx="716292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4876920"/>
            <a:ext cx="716292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5334120"/>
            <a:ext cx="716292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676520" y="396252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0920" y="3962520"/>
            <a:ext cx="9144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505320" y="3048120"/>
            <a:ext cx="91440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048120"/>
            <a:ext cx="9144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334120" y="259092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590920"/>
            <a:ext cx="914400" cy="27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162920" y="1676520"/>
            <a:ext cx="91440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48006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43434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86600" y="52578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29718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38862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34290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25146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01000" y="16002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2040" y="3276720"/>
            <a:ext cx="188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dia di sistema = 46,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1880" y="2362320"/>
            <a:ext cx="183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dia superiore = 67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3080" y="434340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dia inferiore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14400" y="1295280"/>
            <a:ext cx="595440" cy="257400"/>
          </a:xfrm>
          <a:prstGeom prst="rightArrow">
            <a:avLst>
              <a:gd name="adj1" fmla="val 50000"/>
              <a:gd name="adj2" fmla="val 578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114800"/>
            <a:ext cx="595440" cy="257040"/>
          </a:xfrm>
          <a:prstGeom prst="rightArrow">
            <a:avLst>
              <a:gd name="adj1" fmla="val 50000"/>
              <a:gd name="adj2" fmla="val 579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31160" y="5335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676520" y="1295280"/>
          <a:ext cx="6068880" cy="23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606888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1676520" y="4076640"/>
          <a:ext cx="6068880" cy="1562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076640"/>
                    <a:ext cx="60688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1523880" y="1371600"/>
          <a:ext cx="6069240" cy="161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60692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1523880" y="3657600"/>
          <a:ext cx="6069240" cy="201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657600"/>
                    <a:ext cx="606924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914400" y="3733920"/>
            <a:ext cx="595440" cy="257040"/>
          </a:xfrm>
          <a:prstGeom prst="rightArrow">
            <a:avLst>
              <a:gd name="adj1" fmla="val 50000"/>
              <a:gd name="adj2" fmla="val 579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1523880"/>
            <a:ext cx="595440" cy="257400"/>
          </a:xfrm>
          <a:prstGeom prst="rightArrow">
            <a:avLst>
              <a:gd name="adj1" fmla="val 50000"/>
              <a:gd name="adj2" fmla="val 578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31160" y="5335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4080" y="1981080"/>
            <a:ext cx="4330800" cy="4025880"/>
          </a:xfrm>
          <a:prstGeom prst="ellipse">
            <a:avLst/>
          </a:prstGeom>
          <a:gradFill rotWithShape="0">
            <a:gsLst>
              <a:gs pos="0">
                <a:srgbClr val="fcfeb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0400" y="5581800"/>
            <a:ext cx="1796760" cy="6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effet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sull'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63320" y="3753000"/>
            <a:ext cx="176472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ccff"/>
                </a:solidFill>
                <a:latin typeface="Arial"/>
              </a:rPr>
              <a:t>in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26360" y="1847880"/>
            <a:ext cx="135504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deci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88320" y="3753000"/>
            <a:ext cx="97380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cc99"/>
                </a:solidFill>
                <a:latin typeface="Arial"/>
              </a:rPr>
              <a:t>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464160" y="5257800"/>
            <a:ext cx="31752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276720" y="4266720"/>
            <a:ext cx="16488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101840" y="547380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149600" y="4267080"/>
            <a:ext cx="24156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3200400"/>
            <a:ext cx="13968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209680"/>
            <a:ext cx="292320" cy="13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038480" y="2209320"/>
            <a:ext cx="520920" cy="24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76720" y="3276360"/>
            <a:ext cx="13968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6480" y="1676520"/>
            <a:ext cx="11005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ccff"/>
                </a:solidFill>
                <a:latin typeface="Arial"/>
              </a:rPr>
              <a:t>SC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1905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21337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7480" y="609480"/>
            <a:ext cx="301752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se non è chiaro lo sco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risulta difficile individ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le informazioni ut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971800"/>
            <a:ext cx="2463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c0128"/>
                </a:solidFill>
                <a:latin typeface="Arial"/>
              </a:rPr>
              <a:t>L'informazione è utile quando è precis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0" y="685800"/>
            <a:ext cx="4072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Arial"/>
              </a:rPr>
              <a:t>PROCESSO DECIS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114800"/>
            <a:ext cx="2463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cc99"/>
                </a:solidFill>
                <a:latin typeface="Arial"/>
              </a:rPr>
              <a:t>l'informazione seleziona, prende in  considerazione della realtà solo ciò che è utile per l’utilizza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1523880" y="1447920"/>
          <a:ext cx="6069240" cy="413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47920"/>
                    <a:ext cx="606924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838080" y="1447920"/>
            <a:ext cx="595440" cy="257040"/>
          </a:xfrm>
          <a:prstGeom prst="rightArrow">
            <a:avLst>
              <a:gd name="adj1" fmla="val 50000"/>
              <a:gd name="adj2" fmla="val 579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31160" y="5335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3124080"/>
            <a:ext cx="7686720" cy="266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Una descrizione originaria, non interpretata di un ev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I dati sono la materia prima  del processo di costruzione dell’informazione e sono costituiti da simboli che rappresentano quantità, azioni, c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I dati  vengono convertiti per effetto di un’elaborazione in informazioni significative e comprensibili per il destina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76360" y="1142640"/>
            <a:ext cx="2111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Times New Roman"/>
              </a:rPr>
              <a:t>D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248520" y="609480"/>
            <a:ext cx="1981080" cy="1532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1600200" cy="155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18288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36196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8120" y="990360"/>
            <a:ext cx="361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c0128"/>
                </a:solidFill>
                <a:latin typeface="Times New Roman"/>
              </a:rPr>
              <a:t>INFOR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858080" cy="41274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e2fe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5640" indent="-485640" algn="just">
              <a:spcBef>
                <a:spcPts val="15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Insieme di uno o più dati, memorizzati, classificati, organizzati, messi in relazione o interpretati nell’ambito di un contesto in modo d’avere un signific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spcBef>
                <a:spcPts val="15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Pertanto l’informazione  non è altro che un dato che è stato sottoposto ad un processo che lo ha reso significativo per il destinatario e realmente importante per il suo processo decisionale presente o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spcBef>
                <a:spcPts val="15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L’informazione sussiste solo se è destinata a qualcuno per qualche scopo: ad esempio come elemento di controllo o per attivare il processo decisi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15238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c0128"/>
                </a:solidFill>
                <a:latin typeface="Times New Roman"/>
              </a:rPr>
              <a:t>INFORM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3124080"/>
            <a:ext cx="1702080" cy="673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edfefe"/>
              </a:gs>
            </a:gsLst>
            <a:lin ang="5400000"/>
          </a:gra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99"/>
                </a:solidFill>
                <a:latin typeface="Times New Roman"/>
              </a:rPr>
              <a:t>conten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11440" y="3130560"/>
            <a:ext cx="2273400" cy="6732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dceda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stina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40520" y="3130560"/>
            <a:ext cx="1701720" cy="67320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fdfde6"/>
              </a:gs>
            </a:gsLst>
            <a:lin ang="5400000"/>
          </a:gra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99"/>
                </a:solidFill>
                <a:latin typeface="Times New Roman"/>
              </a:rPr>
              <a:t>mo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11440" y="3816360"/>
            <a:ext cx="2273400" cy="6732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dceda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ine /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40520" y="3816360"/>
            <a:ext cx="1701720" cy="67320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fdfde6"/>
              </a:gs>
            </a:gsLst>
            <a:lin ang="5400000"/>
          </a:gra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99"/>
                </a:solidFill>
                <a:latin typeface="Times New Roman"/>
              </a:rPr>
              <a:t>luog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0520" y="4502160"/>
            <a:ext cx="1701720" cy="67320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fdfde6"/>
              </a:gs>
            </a:gsLst>
            <a:lin ang="5400000"/>
          </a:gra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99"/>
                </a:solidFill>
                <a:latin typeface="Times New Roman"/>
              </a:rPr>
              <a:t>tem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rot="16200000">
            <a:off x="2100600" y="2558880"/>
            <a:ext cx="520560" cy="291960"/>
          </a:xfrm>
          <a:prstGeom prst="rightArrow">
            <a:avLst>
              <a:gd name="adj1" fmla="val 50000"/>
              <a:gd name="adj2" fmla="val 89157"/>
            </a:avLst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rot="16200000">
            <a:off x="4311720" y="2558880"/>
            <a:ext cx="520560" cy="292320"/>
          </a:xfrm>
          <a:prstGeom prst="rightArrow">
            <a:avLst>
              <a:gd name="adj1" fmla="val 50000"/>
              <a:gd name="adj2" fmla="val 89047"/>
            </a:avLst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16200000">
            <a:off x="6826320" y="2558880"/>
            <a:ext cx="520560" cy="292320"/>
          </a:xfrm>
          <a:prstGeom prst="rightArrow">
            <a:avLst>
              <a:gd name="adj1" fmla="val 50000"/>
              <a:gd name="adj2" fmla="val 89047"/>
            </a:avLst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0812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05320" y="1600200"/>
            <a:ext cx="4521240" cy="7592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3fee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5640" indent="-48564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c0128"/>
                </a:solidFill>
                <a:latin typeface="Times New Roman"/>
              </a:rPr>
              <a:t>CONTEN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505320"/>
            <a:ext cx="6715080" cy="2473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3fee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5640" indent="-485640" algn="just">
              <a:spcBef>
                <a:spcPts val="15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Identifica  i dati da cui l’informazione è costruita o trae ori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spcBef>
                <a:spcPts val="15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Il contenuto può essere comune a più informazioni che si differenziano in uno degli elementi successivi ad esempio nei destinatari o nei modi e tempi della pres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2362320" cy="1101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 rot="16200000">
            <a:off x="5333760" y="2590560"/>
            <a:ext cx="685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8120" y="685800"/>
            <a:ext cx="3644640" cy="596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ESTINAT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133720"/>
            <a:ext cx="7236000" cy="2274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5640" indent="-485640" algn="just">
              <a:spcBef>
                <a:spcPts val="15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Ogni utente, attraverso le informazioni che richiede, si aspetta di conoscere il fenomeno che gli interessa nella forma più completa  e significativa dal suo punto di vis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c0128"/>
                </a:solidFill>
                <a:latin typeface="Times New Roman"/>
              </a:rPr>
              <a:t>(Attenzione perciò alla logica fornitore/cliente. E’ cioè importante conoscere il punto di vista del “cliente” dell’informazi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4572000"/>
            <a:ext cx="1455480" cy="171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90920" y="4648320"/>
            <a:ext cx="1657080" cy="139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8320" y="4572000"/>
            <a:ext cx="1449360" cy="163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248520" y="4800600"/>
            <a:ext cx="2047680" cy="1177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 rot="16200000">
            <a:off x="4342320" y="1295280"/>
            <a:ext cx="685800" cy="8384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76720" y="533520"/>
            <a:ext cx="2577960" cy="596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FINE / U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752480"/>
            <a:ext cx="7312320" cy="2108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5640" indent="-485640" algn="just">
              <a:spcBef>
                <a:spcPts val="15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Il fine rappresenta un elemento importante nel processo di verif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spcBef>
                <a:spcPts val="15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Conoscere l’uso dell’informazione consente l’operazione di standardizzazione delle richieste avanzate dai destinata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4114800"/>
            <a:ext cx="2437920" cy="2058840"/>
            <a:chOff x="838080" y="4114800"/>
            <a:chExt cx="2437920" cy="20588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838080" y="4115880"/>
              <a:ext cx="171900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1570320" y="4866480"/>
              <a:ext cx="540000" cy="563040"/>
              <a:chOff x="1570320" y="4866480"/>
              <a:chExt cx="540000" cy="563040"/>
            </a:xfrm>
          </p:grpSpPr>
          <p:sp>
            <p:nvSpPr>
              <p:cNvPr id="106" name=""/>
              <p:cNvSpPr/>
              <p:nvPr/>
            </p:nvSpPr>
            <p:spPr>
              <a:xfrm>
                <a:off x="1719000" y="4883760"/>
                <a:ext cx="391320" cy="545760"/>
              </a:xfrm>
              <a:custGeom>
                <a:avLst/>
                <a:gdLst/>
                <a:ahLst/>
                <a:rect l="l" t="t" r="r" b="b"/>
                <a:pathLst>
                  <a:path w="678" h="858">
                    <a:moveTo>
                      <a:pt x="0" y="629"/>
                    </a:moveTo>
                    <a:lnTo>
                      <a:pt x="26" y="589"/>
                    </a:lnTo>
                    <a:lnTo>
                      <a:pt x="17" y="523"/>
                    </a:lnTo>
                    <a:lnTo>
                      <a:pt x="4" y="377"/>
                    </a:lnTo>
                    <a:lnTo>
                      <a:pt x="22" y="226"/>
                    </a:lnTo>
                    <a:lnTo>
                      <a:pt x="66" y="111"/>
                    </a:lnTo>
                    <a:lnTo>
                      <a:pt x="137" y="44"/>
                    </a:lnTo>
                    <a:lnTo>
                      <a:pt x="248" y="13"/>
                    </a:lnTo>
                    <a:lnTo>
                      <a:pt x="376" y="0"/>
                    </a:lnTo>
                    <a:lnTo>
                      <a:pt x="474" y="13"/>
                    </a:lnTo>
                    <a:lnTo>
                      <a:pt x="576" y="75"/>
                    </a:lnTo>
                    <a:lnTo>
                      <a:pt x="620" y="160"/>
                    </a:lnTo>
                    <a:lnTo>
                      <a:pt x="660" y="261"/>
                    </a:lnTo>
                    <a:lnTo>
                      <a:pt x="678" y="412"/>
                    </a:lnTo>
                    <a:lnTo>
                      <a:pt x="655" y="448"/>
                    </a:lnTo>
                    <a:lnTo>
                      <a:pt x="664" y="487"/>
                    </a:lnTo>
                    <a:lnTo>
                      <a:pt x="660" y="567"/>
                    </a:lnTo>
                    <a:lnTo>
                      <a:pt x="638" y="647"/>
                    </a:lnTo>
                    <a:lnTo>
                      <a:pt x="531" y="784"/>
                    </a:lnTo>
                    <a:lnTo>
                      <a:pt x="456" y="815"/>
                    </a:lnTo>
                    <a:lnTo>
                      <a:pt x="367" y="838"/>
                    </a:lnTo>
                    <a:lnTo>
                      <a:pt x="295" y="858"/>
                    </a:lnTo>
                    <a:lnTo>
                      <a:pt x="0" y="629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98120" y="4866480"/>
                <a:ext cx="387000" cy="442440"/>
              </a:xfrm>
              <a:custGeom>
                <a:avLst/>
                <a:gdLst/>
                <a:ahLst/>
                <a:rect l="l" t="t" r="r" b="b"/>
                <a:pathLst>
                  <a:path w="669" h="696">
                    <a:moveTo>
                      <a:pt x="31" y="603"/>
                    </a:moveTo>
                    <a:lnTo>
                      <a:pt x="5" y="435"/>
                    </a:lnTo>
                    <a:lnTo>
                      <a:pt x="0" y="342"/>
                    </a:lnTo>
                    <a:lnTo>
                      <a:pt x="22" y="209"/>
                    </a:lnTo>
                    <a:lnTo>
                      <a:pt x="58" y="107"/>
                    </a:lnTo>
                    <a:lnTo>
                      <a:pt x="142" y="27"/>
                    </a:lnTo>
                    <a:lnTo>
                      <a:pt x="244" y="5"/>
                    </a:lnTo>
                    <a:lnTo>
                      <a:pt x="372" y="0"/>
                    </a:lnTo>
                    <a:lnTo>
                      <a:pt x="443" y="9"/>
                    </a:lnTo>
                    <a:lnTo>
                      <a:pt x="514" y="36"/>
                    </a:lnTo>
                    <a:lnTo>
                      <a:pt x="576" y="67"/>
                    </a:lnTo>
                    <a:lnTo>
                      <a:pt x="634" y="111"/>
                    </a:lnTo>
                    <a:lnTo>
                      <a:pt x="652" y="151"/>
                    </a:lnTo>
                    <a:lnTo>
                      <a:pt x="585" y="111"/>
                    </a:lnTo>
                    <a:lnTo>
                      <a:pt x="523" y="107"/>
                    </a:lnTo>
                    <a:lnTo>
                      <a:pt x="501" y="102"/>
                    </a:lnTo>
                    <a:lnTo>
                      <a:pt x="554" y="142"/>
                    </a:lnTo>
                    <a:lnTo>
                      <a:pt x="585" y="187"/>
                    </a:lnTo>
                    <a:lnTo>
                      <a:pt x="603" y="231"/>
                    </a:lnTo>
                    <a:lnTo>
                      <a:pt x="629" y="262"/>
                    </a:lnTo>
                    <a:lnTo>
                      <a:pt x="656" y="302"/>
                    </a:lnTo>
                    <a:lnTo>
                      <a:pt x="665" y="342"/>
                    </a:lnTo>
                    <a:lnTo>
                      <a:pt x="669" y="386"/>
                    </a:lnTo>
                    <a:lnTo>
                      <a:pt x="643" y="470"/>
                    </a:lnTo>
                    <a:lnTo>
                      <a:pt x="616" y="528"/>
                    </a:lnTo>
                    <a:lnTo>
                      <a:pt x="581" y="510"/>
                    </a:lnTo>
                    <a:lnTo>
                      <a:pt x="590" y="488"/>
                    </a:lnTo>
                    <a:lnTo>
                      <a:pt x="594" y="457"/>
                    </a:lnTo>
                    <a:lnTo>
                      <a:pt x="572" y="430"/>
                    </a:lnTo>
                    <a:lnTo>
                      <a:pt x="519" y="444"/>
                    </a:lnTo>
                    <a:lnTo>
                      <a:pt x="452" y="483"/>
                    </a:lnTo>
                    <a:lnTo>
                      <a:pt x="426" y="563"/>
                    </a:lnTo>
                    <a:lnTo>
                      <a:pt x="412" y="599"/>
                    </a:lnTo>
                    <a:lnTo>
                      <a:pt x="426" y="625"/>
                    </a:lnTo>
                    <a:lnTo>
                      <a:pt x="452" y="639"/>
                    </a:lnTo>
                    <a:lnTo>
                      <a:pt x="341" y="674"/>
                    </a:lnTo>
                    <a:lnTo>
                      <a:pt x="253" y="687"/>
                    </a:lnTo>
                    <a:lnTo>
                      <a:pt x="182" y="696"/>
                    </a:lnTo>
                    <a:lnTo>
                      <a:pt x="98" y="647"/>
                    </a:lnTo>
                    <a:lnTo>
                      <a:pt x="31" y="60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70320" y="5269680"/>
                <a:ext cx="321840" cy="159840"/>
              </a:xfrm>
              <a:custGeom>
                <a:avLst/>
                <a:gdLst/>
                <a:ahLst/>
                <a:rect l="l" t="t" r="r" b="b"/>
                <a:pathLst>
                  <a:path w="558" h="253">
                    <a:moveTo>
                      <a:pt x="0" y="177"/>
                    </a:moveTo>
                    <a:lnTo>
                      <a:pt x="128" y="120"/>
                    </a:lnTo>
                    <a:lnTo>
                      <a:pt x="230" y="0"/>
                    </a:lnTo>
                    <a:lnTo>
                      <a:pt x="558" y="2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339640" y="4114800"/>
              <a:ext cx="936360" cy="2028960"/>
              <a:chOff x="2339640" y="4114800"/>
              <a:chExt cx="936360" cy="2028960"/>
            </a:xfrm>
          </p:grpSpPr>
          <p:sp>
            <p:nvSpPr>
              <p:cNvPr id="110" name=""/>
              <p:cNvSpPr/>
              <p:nvPr/>
            </p:nvSpPr>
            <p:spPr>
              <a:xfrm>
                <a:off x="2407680" y="5646600"/>
                <a:ext cx="685800" cy="497160"/>
              </a:xfrm>
              <a:custGeom>
                <a:avLst/>
                <a:gdLst/>
                <a:ahLst/>
                <a:rect l="l" t="t" r="r" b="b"/>
                <a:pathLst>
                  <a:path w="1188" h="782">
                    <a:moveTo>
                      <a:pt x="97" y="0"/>
                    </a:moveTo>
                    <a:lnTo>
                      <a:pt x="0" y="782"/>
                    </a:lnTo>
                    <a:lnTo>
                      <a:pt x="1188" y="782"/>
                    </a:lnTo>
                    <a:lnTo>
                      <a:pt x="1144" y="9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339640" y="4114800"/>
                <a:ext cx="806040" cy="1572840"/>
                <a:chOff x="2339640" y="4114800"/>
                <a:chExt cx="806040" cy="157284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625840" y="4605840"/>
                  <a:ext cx="300240" cy="380160"/>
                  <a:chOff x="2625840" y="4605840"/>
                  <a:chExt cx="300240" cy="3801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2625840" y="4605840"/>
                    <a:ext cx="300240" cy="38016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598">
                        <a:moveTo>
                          <a:pt x="96" y="0"/>
                        </a:moveTo>
                        <a:lnTo>
                          <a:pt x="68" y="159"/>
                        </a:lnTo>
                        <a:lnTo>
                          <a:pt x="53" y="174"/>
                        </a:lnTo>
                        <a:lnTo>
                          <a:pt x="28" y="190"/>
                        </a:lnTo>
                        <a:lnTo>
                          <a:pt x="0" y="199"/>
                        </a:lnTo>
                        <a:lnTo>
                          <a:pt x="32" y="354"/>
                        </a:lnTo>
                        <a:lnTo>
                          <a:pt x="45" y="430"/>
                        </a:lnTo>
                        <a:lnTo>
                          <a:pt x="59" y="475"/>
                        </a:lnTo>
                        <a:lnTo>
                          <a:pt x="78" y="515"/>
                        </a:lnTo>
                        <a:lnTo>
                          <a:pt x="116" y="540"/>
                        </a:lnTo>
                        <a:lnTo>
                          <a:pt x="178" y="567"/>
                        </a:lnTo>
                        <a:lnTo>
                          <a:pt x="254" y="591"/>
                        </a:lnTo>
                        <a:lnTo>
                          <a:pt x="308" y="598"/>
                        </a:lnTo>
                        <a:lnTo>
                          <a:pt x="357" y="591"/>
                        </a:lnTo>
                        <a:lnTo>
                          <a:pt x="415" y="576"/>
                        </a:lnTo>
                        <a:lnTo>
                          <a:pt x="453" y="551"/>
                        </a:lnTo>
                        <a:lnTo>
                          <a:pt x="506" y="478"/>
                        </a:lnTo>
                        <a:lnTo>
                          <a:pt x="520" y="413"/>
                        </a:lnTo>
                        <a:lnTo>
                          <a:pt x="512" y="323"/>
                        </a:lnTo>
                        <a:lnTo>
                          <a:pt x="493" y="289"/>
                        </a:lnTo>
                        <a:lnTo>
                          <a:pt x="432" y="227"/>
                        </a:lnTo>
                        <a:lnTo>
                          <a:pt x="413" y="208"/>
                        </a:lnTo>
                        <a:lnTo>
                          <a:pt x="410" y="121"/>
                        </a:lnTo>
                        <a:lnTo>
                          <a:pt x="422" y="62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626920" y="4605840"/>
                    <a:ext cx="243360" cy="32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515">
                        <a:moveTo>
                          <a:pt x="96" y="0"/>
                        </a:moveTo>
                        <a:lnTo>
                          <a:pt x="68" y="159"/>
                        </a:lnTo>
                        <a:lnTo>
                          <a:pt x="53" y="174"/>
                        </a:lnTo>
                        <a:lnTo>
                          <a:pt x="28" y="190"/>
                        </a:lnTo>
                        <a:lnTo>
                          <a:pt x="0" y="199"/>
                        </a:lnTo>
                        <a:lnTo>
                          <a:pt x="33" y="354"/>
                        </a:lnTo>
                        <a:lnTo>
                          <a:pt x="46" y="430"/>
                        </a:lnTo>
                        <a:lnTo>
                          <a:pt x="59" y="475"/>
                        </a:lnTo>
                        <a:lnTo>
                          <a:pt x="78" y="515"/>
                        </a:lnTo>
                        <a:lnTo>
                          <a:pt x="83" y="481"/>
                        </a:lnTo>
                        <a:lnTo>
                          <a:pt x="83" y="452"/>
                        </a:lnTo>
                        <a:lnTo>
                          <a:pt x="93" y="424"/>
                        </a:lnTo>
                        <a:lnTo>
                          <a:pt x="96" y="403"/>
                        </a:lnTo>
                        <a:lnTo>
                          <a:pt x="103" y="365"/>
                        </a:lnTo>
                        <a:lnTo>
                          <a:pt x="108" y="335"/>
                        </a:lnTo>
                        <a:lnTo>
                          <a:pt x="121" y="289"/>
                        </a:lnTo>
                        <a:lnTo>
                          <a:pt x="137" y="260"/>
                        </a:lnTo>
                        <a:lnTo>
                          <a:pt x="163" y="236"/>
                        </a:lnTo>
                        <a:lnTo>
                          <a:pt x="188" y="214"/>
                        </a:lnTo>
                        <a:lnTo>
                          <a:pt x="219" y="186"/>
                        </a:lnTo>
                        <a:lnTo>
                          <a:pt x="260" y="161"/>
                        </a:lnTo>
                        <a:lnTo>
                          <a:pt x="423" y="62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625840" y="4605840"/>
                    <a:ext cx="24372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430">
                        <a:moveTo>
                          <a:pt x="96" y="0"/>
                        </a:moveTo>
                        <a:lnTo>
                          <a:pt x="68" y="159"/>
                        </a:lnTo>
                        <a:lnTo>
                          <a:pt x="53" y="174"/>
                        </a:lnTo>
                        <a:lnTo>
                          <a:pt x="28" y="190"/>
                        </a:lnTo>
                        <a:lnTo>
                          <a:pt x="0" y="199"/>
                        </a:lnTo>
                        <a:lnTo>
                          <a:pt x="32" y="354"/>
                        </a:lnTo>
                        <a:lnTo>
                          <a:pt x="45" y="430"/>
                        </a:lnTo>
                        <a:lnTo>
                          <a:pt x="50" y="390"/>
                        </a:lnTo>
                        <a:lnTo>
                          <a:pt x="56" y="350"/>
                        </a:lnTo>
                        <a:lnTo>
                          <a:pt x="66" y="314"/>
                        </a:lnTo>
                        <a:lnTo>
                          <a:pt x="68" y="285"/>
                        </a:lnTo>
                        <a:lnTo>
                          <a:pt x="78" y="258"/>
                        </a:lnTo>
                        <a:lnTo>
                          <a:pt x="97" y="232"/>
                        </a:lnTo>
                        <a:lnTo>
                          <a:pt x="119" y="215"/>
                        </a:lnTo>
                        <a:lnTo>
                          <a:pt x="149" y="204"/>
                        </a:lnTo>
                        <a:lnTo>
                          <a:pt x="172" y="192"/>
                        </a:lnTo>
                        <a:lnTo>
                          <a:pt x="214" y="170"/>
                        </a:lnTo>
                        <a:lnTo>
                          <a:pt x="251" y="152"/>
                        </a:lnTo>
                        <a:lnTo>
                          <a:pt x="422" y="62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2586600" y="4114800"/>
                  <a:ext cx="464040" cy="583560"/>
                  <a:chOff x="2586600" y="4114800"/>
                  <a:chExt cx="464040" cy="58356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616480" y="4206240"/>
                    <a:ext cx="338040" cy="492120"/>
                    <a:chOff x="2616480" y="4206240"/>
                    <a:chExt cx="338040" cy="492120"/>
                  </a:xfrm>
                </p:grpSpPr>
                <p:grpSp>
                  <p:nvGrpSpPr>
                    <p:cNvPr id="118" name=""/>
                    <p:cNvGrpSpPr/>
                    <p:nvPr/>
                  </p:nvGrpSpPr>
                  <p:grpSpPr>
                    <a:xfrm>
                      <a:off x="2616480" y="4206240"/>
                      <a:ext cx="338040" cy="492120"/>
                      <a:chOff x="2616480" y="4206240"/>
                      <a:chExt cx="338040" cy="492120"/>
                    </a:xfrm>
                  </p:grpSpPr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2684520" y="4618440"/>
                        <a:ext cx="176400" cy="7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7" h="126">
                            <a:moveTo>
                              <a:pt x="0" y="0"/>
                            </a:moveTo>
                            <a:lnTo>
                              <a:pt x="5" y="21"/>
                            </a:lnTo>
                            <a:lnTo>
                              <a:pt x="14" y="37"/>
                            </a:lnTo>
                            <a:lnTo>
                              <a:pt x="25" y="52"/>
                            </a:lnTo>
                            <a:lnTo>
                              <a:pt x="42" y="71"/>
                            </a:lnTo>
                            <a:lnTo>
                              <a:pt x="60" y="84"/>
                            </a:lnTo>
                            <a:lnTo>
                              <a:pt x="81" y="97"/>
                            </a:lnTo>
                            <a:lnTo>
                              <a:pt x="106" y="111"/>
                            </a:lnTo>
                            <a:lnTo>
                              <a:pt x="128" y="117"/>
                            </a:lnTo>
                            <a:lnTo>
                              <a:pt x="161" y="124"/>
                            </a:lnTo>
                            <a:lnTo>
                              <a:pt x="186" y="126"/>
                            </a:lnTo>
                            <a:lnTo>
                              <a:pt x="227" y="124"/>
                            </a:lnTo>
                            <a:lnTo>
                              <a:pt x="249" y="118"/>
                            </a:lnTo>
                            <a:lnTo>
                              <a:pt x="267" y="111"/>
                            </a:lnTo>
                            <a:lnTo>
                              <a:pt x="285" y="97"/>
                            </a:lnTo>
                            <a:lnTo>
                              <a:pt x="307" y="7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9360">
                        <a:solidFill>
                          <a:srgbClr val="7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2616480" y="4206240"/>
                        <a:ext cx="338040" cy="49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5" h="773">
                            <a:moveTo>
                              <a:pt x="434" y="708"/>
                            </a:moveTo>
                            <a:lnTo>
                              <a:pt x="449" y="685"/>
                            </a:lnTo>
                            <a:lnTo>
                              <a:pt x="462" y="662"/>
                            </a:lnTo>
                            <a:lnTo>
                              <a:pt x="493" y="597"/>
                            </a:lnTo>
                            <a:lnTo>
                              <a:pt x="535" y="495"/>
                            </a:lnTo>
                            <a:lnTo>
                              <a:pt x="557" y="414"/>
                            </a:lnTo>
                            <a:lnTo>
                              <a:pt x="570" y="340"/>
                            </a:lnTo>
                            <a:lnTo>
                              <a:pt x="585" y="236"/>
                            </a:lnTo>
                            <a:lnTo>
                              <a:pt x="580" y="143"/>
                            </a:lnTo>
                            <a:lnTo>
                              <a:pt x="561" y="92"/>
                            </a:lnTo>
                            <a:lnTo>
                              <a:pt x="518" y="52"/>
                            </a:lnTo>
                            <a:lnTo>
                              <a:pt x="455" y="18"/>
                            </a:lnTo>
                            <a:lnTo>
                              <a:pt x="393" y="4"/>
                            </a:lnTo>
                            <a:lnTo>
                              <a:pt x="332" y="0"/>
                            </a:lnTo>
                            <a:lnTo>
                              <a:pt x="273" y="6"/>
                            </a:lnTo>
                            <a:lnTo>
                              <a:pt x="215" y="15"/>
                            </a:lnTo>
                            <a:lnTo>
                              <a:pt x="174" y="30"/>
                            </a:lnTo>
                            <a:lnTo>
                              <a:pt x="134" y="58"/>
                            </a:lnTo>
                            <a:lnTo>
                              <a:pt x="102" y="95"/>
                            </a:lnTo>
                            <a:lnTo>
                              <a:pt x="74" y="145"/>
                            </a:lnTo>
                            <a:lnTo>
                              <a:pt x="56" y="192"/>
                            </a:lnTo>
                            <a:lnTo>
                              <a:pt x="41" y="242"/>
                            </a:lnTo>
                            <a:lnTo>
                              <a:pt x="38" y="301"/>
                            </a:lnTo>
                            <a:lnTo>
                              <a:pt x="34" y="338"/>
                            </a:lnTo>
                            <a:lnTo>
                              <a:pt x="37" y="365"/>
                            </a:lnTo>
                            <a:lnTo>
                              <a:pt x="16" y="368"/>
                            </a:lnTo>
                            <a:lnTo>
                              <a:pt x="3" y="381"/>
                            </a:lnTo>
                            <a:lnTo>
                              <a:pt x="0" y="396"/>
                            </a:lnTo>
                            <a:lnTo>
                              <a:pt x="12" y="430"/>
                            </a:lnTo>
                            <a:lnTo>
                              <a:pt x="28" y="446"/>
                            </a:lnTo>
                            <a:lnTo>
                              <a:pt x="41" y="468"/>
                            </a:lnTo>
                            <a:lnTo>
                              <a:pt x="62" y="483"/>
                            </a:lnTo>
                            <a:lnTo>
                              <a:pt x="88" y="483"/>
                            </a:lnTo>
                            <a:lnTo>
                              <a:pt x="83" y="524"/>
                            </a:lnTo>
                            <a:lnTo>
                              <a:pt x="91" y="570"/>
                            </a:lnTo>
                            <a:lnTo>
                              <a:pt x="105" y="613"/>
                            </a:lnTo>
                            <a:lnTo>
                              <a:pt x="114" y="646"/>
                            </a:lnTo>
                            <a:lnTo>
                              <a:pt x="124" y="669"/>
                            </a:lnTo>
                            <a:lnTo>
                              <a:pt x="136" y="687"/>
                            </a:lnTo>
                            <a:lnTo>
                              <a:pt x="151" y="705"/>
                            </a:lnTo>
                            <a:lnTo>
                              <a:pt x="167" y="724"/>
                            </a:lnTo>
                            <a:lnTo>
                              <a:pt x="190" y="740"/>
                            </a:lnTo>
                            <a:lnTo>
                              <a:pt x="210" y="750"/>
                            </a:lnTo>
                            <a:lnTo>
                              <a:pt x="230" y="759"/>
                            </a:lnTo>
                            <a:lnTo>
                              <a:pt x="251" y="764"/>
                            </a:lnTo>
                            <a:lnTo>
                              <a:pt x="272" y="768"/>
                            </a:lnTo>
                            <a:lnTo>
                              <a:pt x="295" y="771"/>
                            </a:lnTo>
                            <a:lnTo>
                              <a:pt x="320" y="773"/>
                            </a:lnTo>
                            <a:lnTo>
                              <a:pt x="348" y="770"/>
                            </a:lnTo>
                            <a:lnTo>
                              <a:pt x="374" y="762"/>
                            </a:lnTo>
                            <a:lnTo>
                              <a:pt x="393" y="752"/>
                            </a:lnTo>
                            <a:lnTo>
                              <a:pt x="415" y="731"/>
                            </a:lnTo>
                            <a:lnTo>
                              <a:pt x="434" y="708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2761920" y="4521600"/>
                        <a:ext cx="163800" cy="17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4" h="278">
                            <a:moveTo>
                              <a:pt x="183" y="213"/>
                            </a:moveTo>
                            <a:lnTo>
                              <a:pt x="198" y="191"/>
                            </a:lnTo>
                            <a:lnTo>
                              <a:pt x="211" y="167"/>
                            </a:lnTo>
                            <a:lnTo>
                              <a:pt x="242" y="102"/>
                            </a:lnTo>
                            <a:lnTo>
                              <a:pt x="284" y="0"/>
                            </a:lnTo>
                            <a:lnTo>
                              <a:pt x="254" y="43"/>
                            </a:lnTo>
                            <a:lnTo>
                              <a:pt x="226" y="85"/>
                            </a:lnTo>
                            <a:lnTo>
                              <a:pt x="211" y="114"/>
                            </a:lnTo>
                            <a:lnTo>
                              <a:pt x="205" y="139"/>
                            </a:lnTo>
                            <a:lnTo>
                              <a:pt x="190" y="172"/>
                            </a:lnTo>
                            <a:lnTo>
                              <a:pt x="176" y="200"/>
                            </a:lnTo>
                            <a:lnTo>
                              <a:pt x="158" y="216"/>
                            </a:lnTo>
                            <a:lnTo>
                              <a:pt x="143" y="231"/>
                            </a:lnTo>
                            <a:lnTo>
                              <a:pt x="125" y="241"/>
                            </a:lnTo>
                            <a:lnTo>
                              <a:pt x="99" y="232"/>
                            </a:lnTo>
                            <a:lnTo>
                              <a:pt x="93" y="216"/>
                            </a:lnTo>
                            <a:lnTo>
                              <a:pt x="72" y="197"/>
                            </a:lnTo>
                            <a:lnTo>
                              <a:pt x="78" y="231"/>
                            </a:lnTo>
                            <a:lnTo>
                              <a:pt x="63" y="253"/>
                            </a:lnTo>
                            <a:lnTo>
                              <a:pt x="47" y="263"/>
                            </a:lnTo>
                            <a:lnTo>
                              <a:pt x="0" y="269"/>
                            </a:lnTo>
                            <a:lnTo>
                              <a:pt x="21" y="274"/>
                            </a:lnTo>
                            <a:lnTo>
                              <a:pt x="44" y="277"/>
                            </a:lnTo>
                            <a:lnTo>
                              <a:pt x="69" y="278"/>
                            </a:lnTo>
                            <a:lnTo>
                              <a:pt x="97" y="275"/>
                            </a:lnTo>
                            <a:lnTo>
                              <a:pt x="123" y="268"/>
                            </a:lnTo>
                            <a:lnTo>
                              <a:pt x="142" y="257"/>
                            </a:lnTo>
                            <a:lnTo>
                              <a:pt x="164" y="237"/>
                            </a:lnTo>
                            <a:lnTo>
                              <a:pt x="183" y="213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617200" y="4450320"/>
                      <a:ext cx="7020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264">
                          <a:moveTo>
                            <a:pt x="114" y="216"/>
                          </a:moveTo>
                          <a:lnTo>
                            <a:pt x="107" y="198"/>
                          </a:lnTo>
                          <a:lnTo>
                            <a:pt x="107" y="177"/>
                          </a:lnTo>
                          <a:lnTo>
                            <a:pt x="110" y="161"/>
                          </a:lnTo>
                          <a:lnTo>
                            <a:pt x="114" y="142"/>
                          </a:lnTo>
                          <a:lnTo>
                            <a:pt x="118" y="121"/>
                          </a:lnTo>
                          <a:lnTo>
                            <a:pt x="118" y="105"/>
                          </a:lnTo>
                          <a:lnTo>
                            <a:pt x="118" y="89"/>
                          </a:lnTo>
                          <a:lnTo>
                            <a:pt x="123" y="68"/>
                          </a:lnTo>
                          <a:lnTo>
                            <a:pt x="116" y="62"/>
                          </a:lnTo>
                          <a:lnTo>
                            <a:pt x="105" y="50"/>
                          </a:lnTo>
                          <a:lnTo>
                            <a:pt x="98" y="36"/>
                          </a:lnTo>
                          <a:lnTo>
                            <a:pt x="93" y="28"/>
                          </a:lnTo>
                          <a:lnTo>
                            <a:pt x="90" y="16"/>
                          </a:lnTo>
                          <a:lnTo>
                            <a:pt x="80" y="6"/>
                          </a:lnTo>
                          <a:lnTo>
                            <a:pt x="70" y="10"/>
                          </a:lnTo>
                          <a:lnTo>
                            <a:pt x="3" y="0"/>
                          </a:lnTo>
                          <a:lnTo>
                            <a:pt x="0" y="15"/>
                          </a:lnTo>
                          <a:lnTo>
                            <a:pt x="12" y="49"/>
                          </a:lnTo>
                          <a:lnTo>
                            <a:pt x="28" y="65"/>
                          </a:lnTo>
                          <a:lnTo>
                            <a:pt x="42" y="87"/>
                          </a:lnTo>
                          <a:lnTo>
                            <a:pt x="62" y="102"/>
                          </a:lnTo>
                          <a:lnTo>
                            <a:pt x="89" y="102"/>
                          </a:lnTo>
                          <a:lnTo>
                            <a:pt x="83" y="143"/>
                          </a:lnTo>
                          <a:lnTo>
                            <a:pt x="92" y="189"/>
                          </a:lnTo>
                          <a:lnTo>
                            <a:pt x="105" y="232"/>
                          </a:lnTo>
                          <a:lnTo>
                            <a:pt x="114" y="264"/>
                          </a:lnTo>
                          <a:lnTo>
                            <a:pt x="114" y="216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2698560" y="4368960"/>
                    <a:ext cx="208440" cy="257760"/>
                    <a:chOff x="2698560" y="4368960"/>
                    <a:chExt cx="208440" cy="257760"/>
                  </a:xfrm>
                </p:grpSpPr>
                <p:grpSp>
                  <p:nvGrpSpPr>
                    <p:cNvPr id="124" name=""/>
                    <p:cNvGrpSpPr/>
                    <p:nvPr/>
                  </p:nvGrpSpPr>
                  <p:grpSpPr>
                    <a:xfrm>
                      <a:off x="2745720" y="4574880"/>
                      <a:ext cx="84240" cy="51840"/>
                      <a:chOff x="2745720" y="4574880"/>
                      <a:chExt cx="84240" cy="51840"/>
                    </a:xfrm>
                  </p:grpSpPr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2754720" y="4591080"/>
                        <a:ext cx="59760" cy="21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2745720" y="4574880"/>
                        <a:ext cx="842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52">
                            <a:moveTo>
                              <a:pt x="0" y="30"/>
                            </a:moveTo>
                            <a:lnTo>
                              <a:pt x="12" y="19"/>
                            </a:lnTo>
                            <a:lnTo>
                              <a:pt x="22" y="13"/>
                            </a:lnTo>
                            <a:lnTo>
                              <a:pt x="31" y="7"/>
                            </a:lnTo>
                            <a:lnTo>
                              <a:pt x="41" y="2"/>
                            </a:lnTo>
                            <a:lnTo>
                              <a:pt x="55" y="0"/>
                            </a:lnTo>
                            <a:lnTo>
                              <a:pt x="68" y="3"/>
                            </a:lnTo>
                            <a:lnTo>
                              <a:pt x="77" y="10"/>
                            </a:lnTo>
                            <a:lnTo>
                              <a:pt x="86" y="10"/>
                            </a:lnTo>
                            <a:lnTo>
                              <a:pt x="94" y="9"/>
                            </a:lnTo>
                            <a:lnTo>
                              <a:pt x="108" y="10"/>
                            </a:lnTo>
                            <a:lnTo>
                              <a:pt x="120" y="16"/>
                            </a:lnTo>
                            <a:lnTo>
                              <a:pt x="127" y="27"/>
                            </a:lnTo>
                            <a:lnTo>
                              <a:pt x="131" y="36"/>
                            </a:lnTo>
                            <a:lnTo>
                              <a:pt x="139" y="44"/>
                            </a:lnTo>
                            <a:lnTo>
                              <a:pt x="146" y="52"/>
                            </a:lnTo>
                            <a:lnTo>
                              <a:pt x="106" y="46"/>
                            </a:lnTo>
                            <a:lnTo>
                              <a:pt x="91" y="43"/>
                            </a:lnTo>
                            <a:lnTo>
                              <a:pt x="80" y="38"/>
                            </a:lnTo>
                            <a:lnTo>
                              <a:pt x="69" y="34"/>
                            </a:lnTo>
                            <a:lnTo>
                              <a:pt x="60" y="36"/>
                            </a:lnTo>
                            <a:lnTo>
                              <a:pt x="50" y="34"/>
                            </a:lnTo>
                            <a:lnTo>
                              <a:pt x="32" y="36"/>
                            </a:lnTo>
                            <a:lnTo>
                              <a:pt x="19" y="34"/>
                            </a:lnTo>
                            <a:lnTo>
                              <a:pt x="0" y="3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2745720" y="4592520"/>
                        <a:ext cx="8280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" h="53">
                            <a:moveTo>
                              <a:pt x="0" y="0"/>
                            </a:moveTo>
                            <a:lnTo>
                              <a:pt x="15" y="3"/>
                            </a:lnTo>
                            <a:lnTo>
                              <a:pt x="28" y="7"/>
                            </a:lnTo>
                            <a:lnTo>
                              <a:pt x="38" y="7"/>
                            </a:lnTo>
                            <a:lnTo>
                              <a:pt x="47" y="8"/>
                            </a:lnTo>
                            <a:lnTo>
                              <a:pt x="57" y="10"/>
                            </a:lnTo>
                            <a:lnTo>
                              <a:pt x="66" y="14"/>
                            </a:lnTo>
                            <a:lnTo>
                              <a:pt x="77" y="14"/>
                            </a:lnTo>
                            <a:lnTo>
                              <a:pt x="87" y="14"/>
                            </a:lnTo>
                            <a:lnTo>
                              <a:pt x="102" y="16"/>
                            </a:lnTo>
                            <a:lnTo>
                              <a:pt x="115" y="17"/>
                            </a:lnTo>
                            <a:lnTo>
                              <a:pt x="130" y="19"/>
                            </a:lnTo>
                            <a:lnTo>
                              <a:pt x="145" y="22"/>
                            </a:lnTo>
                            <a:lnTo>
                              <a:pt x="134" y="32"/>
                            </a:lnTo>
                            <a:lnTo>
                              <a:pt x="117" y="44"/>
                            </a:lnTo>
                            <a:lnTo>
                              <a:pt x="102" y="51"/>
                            </a:lnTo>
                            <a:lnTo>
                              <a:pt x="90" y="53"/>
                            </a:lnTo>
                            <a:lnTo>
                              <a:pt x="77" y="53"/>
                            </a:lnTo>
                            <a:lnTo>
                              <a:pt x="63" y="53"/>
                            </a:lnTo>
                            <a:lnTo>
                              <a:pt x="50" y="48"/>
                            </a:lnTo>
                            <a:lnTo>
                              <a:pt x="37" y="41"/>
                            </a:lnTo>
                            <a:lnTo>
                              <a:pt x="26" y="32"/>
                            </a:lnTo>
                            <a:lnTo>
                              <a:pt x="18" y="20"/>
                            </a:lnTo>
                            <a:lnTo>
                              <a:pt x="10" y="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" name=""/>
                    <p:cNvGrpSpPr/>
                    <p:nvPr/>
                  </p:nvGrpSpPr>
                  <p:grpSpPr>
                    <a:xfrm>
                      <a:off x="2698560" y="4368960"/>
                      <a:ext cx="208440" cy="97920"/>
                      <a:chOff x="2698560" y="4368960"/>
                      <a:chExt cx="208440" cy="97920"/>
                    </a:xfrm>
                  </p:grpSpPr>
                  <p:grpSp>
                    <p:nvGrpSpPr>
                      <p:cNvPr id="129" name=""/>
                      <p:cNvGrpSpPr/>
                      <p:nvPr/>
                    </p:nvGrpSpPr>
                    <p:grpSpPr>
                      <a:xfrm>
                        <a:off x="2698560" y="4368960"/>
                        <a:ext cx="86040" cy="64080"/>
                        <a:chOff x="2698560" y="4368960"/>
                        <a:chExt cx="86040" cy="64080"/>
                      </a:xfrm>
                    </p:grpSpPr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705400" y="4368960"/>
                          <a:ext cx="79200" cy="46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8" h="73">
                              <a:moveTo>
                                <a:pt x="5" y="16"/>
                              </a:moveTo>
                              <a:lnTo>
                                <a:pt x="36" y="1"/>
                              </a:lnTo>
                              <a:lnTo>
                                <a:pt x="52" y="0"/>
                              </a:lnTo>
                              <a:lnTo>
                                <a:pt x="64" y="0"/>
                              </a:lnTo>
                              <a:lnTo>
                                <a:pt x="86" y="4"/>
                              </a:lnTo>
                              <a:lnTo>
                                <a:pt x="102" y="13"/>
                              </a:lnTo>
                              <a:lnTo>
                                <a:pt x="114" y="25"/>
                              </a:lnTo>
                              <a:lnTo>
                                <a:pt x="126" y="39"/>
                              </a:lnTo>
                              <a:lnTo>
                                <a:pt x="133" y="56"/>
                              </a:lnTo>
                              <a:lnTo>
                                <a:pt x="138" y="73"/>
                              </a:lnTo>
                              <a:lnTo>
                                <a:pt x="114" y="56"/>
                              </a:lnTo>
                              <a:lnTo>
                                <a:pt x="99" y="38"/>
                              </a:lnTo>
                              <a:lnTo>
                                <a:pt x="86" y="23"/>
                              </a:lnTo>
                              <a:lnTo>
                                <a:pt x="70" y="13"/>
                              </a:lnTo>
                              <a:lnTo>
                                <a:pt x="48" y="8"/>
                              </a:lnTo>
                              <a:lnTo>
                                <a:pt x="31" y="11"/>
                              </a:lnTo>
                              <a:lnTo>
                                <a:pt x="0" y="23"/>
                              </a:lnTo>
                              <a:lnTo>
                                <a:pt x="5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98560" y="4397760"/>
                          <a:ext cx="77040" cy="3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3" h="55">
                              <a:moveTo>
                                <a:pt x="0" y="17"/>
                              </a:moveTo>
                              <a:lnTo>
                                <a:pt x="20" y="17"/>
                              </a:lnTo>
                              <a:lnTo>
                                <a:pt x="31" y="11"/>
                              </a:lnTo>
                              <a:lnTo>
                                <a:pt x="42" y="5"/>
                              </a:lnTo>
                              <a:lnTo>
                                <a:pt x="60" y="0"/>
                              </a:lnTo>
                              <a:lnTo>
                                <a:pt x="75" y="2"/>
                              </a:lnTo>
                              <a:lnTo>
                                <a:pt x="91" y="6"/>
                              </a:lnTo>
                              <a:lnTo>
                                <a:pt x="100" y="12"/>
                              </a:lnTo>
                              <a:lnTo>
                                <a:pt x="115" y="23"/>
                              </a:lnTo>
                              <a:lnTo>
                                <a:pt x="124" y="34"/>
                              </a:lnTo>
                              <a:lnTo>
                                <a:pt x="133" y="48"/>
                              </a:lnTo>
                              <a:lnTo>
                                <a:pt x="130" y="54"/>
                              </a:lnTo>
                              <a:lnTo>
                                <a:pt x="119" y="55"/>
                              </a:lnTo>
                              <a:lnTo>
                                <a:pt x="106" y="36"/>
                              </a:lnTo>
                              <a:lnTo>
                                <a:pt x="97" y="30"/>
                              </a:lnTo>
                              <a:lnTo>
                                <a:pt x="90" y="40"/>
                              </a:lnTo>
                              <a:lnTo>
                                <a:pt x="81" y="43"/>
                              </a:lnTo>
                              <a:lnTo>
                                <a:pt x="71" y="43"/>
                              </a:lnTo>
                              <a:lnTo>
                                <a:pt x="60" y="40"/>
                              </a:lnTo>
                              <a:lnTo>
                                <a:pt x="54" y="34"/>
                              </a:lnTo>
                              <a:lnTo>
                                <a:pt x="51" y="25"/>
                              </a:lnTo>
                              <a:lnTo>
                                <a:pt x="38" y="30"/>
                              </a:lnTo>
                              <a:lnTo>
                                <a:pt x="22" y="28"/>
                              </a:lnTo>
                              <a:lnTo>
                                <a:pt x="10" y="28"/>
                              </a:lnTo>
                              <a:lnTo>
                                <a:pt x="0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714760" y="4419360"/>
                          <a:ext cx="356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22">
                              <a:moveTo>
                                <a:pt x="0" y="0"/>
                              </a:moveTo>
                              <a:lnTo>
                                <a:pt x="10" y="3"/>
                              </a:lnTo>
                              <a:lnTo>
                                <a:pt x="17" y="9"/>
                              </a:lnTo>
                              <a:lnTo>
                                <a:pt x="28" y="15"/>
                              </a:lnTo>
                              <a:lnTo>
                                <a:pt x="38" y="18"/>
                              </a:lnTo>
                              <a:lnTo>
                                <a:pt x="48" y="18"/>
                              </a:lnTo>
                              <a:lnTo>
                                <a:pt x="60" y="15"/>
                              </a:lnTo>
                              <a:lnTo>
                                <a:pt x="47" y="19"/>
                              </a:lnTo>
                              <a:lnTo>
                                <a:pt x="40" y="22"/>
                              </a:lnTo>
                              <a:lnTo>
                                <a:pt x="29" y="20"/>
                              </a:lnTo>
                              <a:lnTo>
                                <a:pt x="13" y="1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3" name=""/>
                      <p:cNvGrpSpPr/>
                      <p:nvPr/>
                    </p:nvGrpSpPr>
                    <p:grpSpPr>
                      <a:xfrm>
                        <a:off x="2825280" y="4400280"/>
                        <a:ext cx="81720" cy="66600"/>
                        <a:chOff x="2825280" y="4400280"/>
                        <a:chExt cx="81720" cy="66600"/>
                      </a:xfrm>
                    </p:grpSpPr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825280" y="4400280"/>
                          <a:ext cx="81720" cy="4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1" h="72">
                              <a:moveTo>
                                <a:pt x="1" y="72"/>
                              </a:moveTo>
                              <a:lnTo>
                                <a:pt x="0" y="63"/>
                              </a:lnTo>
                              <a:lnTo>
                                <a:pt x="7" y="41"/>
                              </a:lnTo>
                              <a:lnTo>
                                <a:pt x="20" y="23"/>
                              </a:lnTo>
                              <a:lnTo>
                                <a:pt x="32" y="15"/>
                              </a:lnTo>
                              <a:lnTo>
                                <a:pt x="50" y="6"/>
                              </a:lnTo>
                              <a:lnTo>
                                <a:pt x="77" y="0"/>
                              </a:lnTo>
                              <a:lnTo>
                                <a:pt x="100" y="0"/>
                              </a:lnTo>
                              <a:lnTo>
                                <a:pt x="121" y="0"/>
                              </a:lnTo>
                              <a:lnTo>
                                <a:pt x="137" y="10"/>
                              </a:lnTo>
                              <a:lnTo>
                                <a:pt x="141" y="20"/>
                              </a:lnTo>
                              <a:lnTo>
                                <a:pt x="133" y="15"/>
                              </a:lnTo>
                              <a:lnTo>
                                <a:pt x="115" y="10"/>
                              </a:lnTo>
                              <a:lnTo>
                                <a:pt x="90" y="10"/>
                              </a:lnTo>
                              <a:lnTo>
                                <a:pt x="71" y="15"/>
                              </a:lnTo>
                              <a:lnTo>
                                <a:pt x="54" y="22"/>
                              </a:lnTo>
                              <a:lnTo>
                                <a:pt x="40" y="28"/>
                              </a:lnTo>
                              <a:lnTo>
                                <a:pt x="29" y="37"/>
                              </a:lnTo>
                              <a:lnTo>
                                <a:pt x="20" y="49"/>
                              </a:lnTo>
                              <a:lnTo>
                                <a:pt x="13" y="63"/>
                              </a:lnTo>
                              <a:lnTo>
                                <a:pt x="1" y="7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" bIns="-1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842200" y="4426560"/>
                          <a:ext cx="64440" cy="40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2" h="63">
                              <a:moveTo>
                                <a:pt x="0" y="31"/>
                              </a:moveTo>
                              <a:lnTo>
                                <a:pt x="2" y="17"/>
                              </a:lnTo>
                              <a:lnTo>
                                <a:pt x="18" y="7"/>
                              </a:lnTo>
                              <a:lnTo>
                                <a:pt x="31" y="3"/>
                              </a:lnTo>
                              <a:lnTo>
                                <a:pt x="50" y="0"/>
                              </a:lnTo>
                              <a:lnTo>
                                <a:pt x="68" y="3"/>
                              </a:lnTo>
                              <a:lnTo>
                                <a:pt x="81" y="7"/>
                              </a:lnTo>
                              <a:lnTo>
                                <a:pt x="98" y="7"/>
                              </a:lnTo>
                              <a:lnTo>
                                <a:pt x="90" y="13"/>
                              </a:lnTo>
                              <a:lnTo>
                                <a:pt x="102" y="25"/>
                              </a:lnTo>
                              <a:lnTo>
                                <a:pt x="104" y="38"/>
                              </a:lnTo>
                              <a:lnTo>
                                <a:pt x="108" y="50"/>
                              </a:lnTo>
                              <a:lnTo>
                                <a:pt x="112" y="53"/>
                              </a:lnTo>
                              <a:lnTo>
                                <a:pt x="108" y="63"/>
                              </a:lnTo>
                              <a:lnTo>
                                <a:pt x="93" y="56"/>
                              </a:lnTo>
                              <a:lnTo>
                                <a:pt x="87" y="44"/>
                              </a:lnTo>
                              <a:lnTo>
                                <a:pt x="84" y="37"/>
                              </a:lnTo>
                              <a:lnTo>
                                <a:pt x="74" y="35"/>
                              </a:lnTo>
                              <a:lnTo>
                                <a:pt x="68" y="40"/>
                              </a:lnTo>
                              <a:lnTo>
                                <a:pt x="56" y="42"/>
                              </a:lnTo>
                              <a:lnTo>
                                <a:pt x="43" y="42"/>
                              </a:lnTo>
                              <a:lnTo>
                                <a:pt x="33" y="37"/>
                              </a:lnTo>
                              <a:lnTo>
                                <a:pt x="28" y="29"/>
                              </a:lnTo>
                              <a:lnTo>
                                <a:pt x="27" y="20"/>
                              </a:lnTo>
                              <a:lnTo>
                                <a:pt x="12" y="25"/>
                              </a:lnTo>
                              <a:lnTo>
                                <a:pt x="0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480" bIns="-6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837880" y="4448160"/>
                          <a:ext cx="432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6">
                              <a:moveTo>
                                <a:pt x="9" y="0"/>
                              </a:moveTo>
                              <a:lnTo>
                                <a:pt x="2" y="7"/>
                              </a:lnTo>
                              <a:lnTo>
                                <a:pt x="0" y="13"/>
                              </a:lnTo>
                              <a:lnTo>
                                <a:pt x="5" y="16"/>
                              </a:lnTo>
                              <a:lnTo>
                                <a:pt x="6" y="3"/>
                              </a:lnTo>
                              <a:lnTo>
                                <a:pt x="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2766600" y="4498200"/>
                      <a:ext cx="6228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61">
                          <a:moveTo>
                            <a:pt x="28" y="0"/>
                          </a:moveTo>
                          <a:lnTo>
                            <a:pt x="18" y="6"/>
                          </a:lnTo>
                          <a:lnTo>
                            <a:pt x="9" y="11"/>
                          </a:lnTo>
                          <a:lnTo>
                            <a:pt x="2" y="20"/>
                          </a:lnTo>
                          <a:lnTo>
                            <a:pt x="0" y="28"/>
                          </a:lnTo>
                          <a:lnTo>
                            <a:pt x="5" y="39"/>
                          </a:lnTo>
                          <a:lnTo>
                            <a:pt x="20" y="40"/>
                          </a:lnTo>
                          <a:lnTo>
                            <a:pt x="33" y="46"/>
                          </a:lnTo>
                          <a:lnTo>
                            <a:pt x="42" y="55"/>
                          </a:lnTo>
                          <a:lnTo>
                            <a:pt x="55" y="61"/>
                          </a:lnTo>
                          <a:lnTo>
                            <a:pt x="71" y="58"/>
                          </a:lnTo>
                          <a:lnTo>
                            <a:pt x="82" y="52"/>
                          </a:lnTo>
                          <a:lnTo>
                            <a:pt x="98" y="46"/>
                          </a:lnTo>
                          <a:lnTo>
                            <a:pt x="110" y="48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ff7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586600" y="4114800"/>
                    <a:ext cx="464040" cy="499680"/>
                    <a:chOff x="2586600" y="4114800"/>
                    <a:chExt cx="464040" cy="49968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586600" y="4114800"/>
                      <a:ext cx="464040" cy="49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5" h="784">
                          <a:moveTo>
                            <a:pt x="153" y="738"/>
                          </a:moveTo>
                          <a:lnTo>
                            <a:pt x="122" y="721"/>
                          </a:lnTo>
                          <a:lnTo>
                            <a:pt x="105" y="703"/>
                          </a:lnTo>
                          <a:lnTo>
                            <a:pt x="99" y="687"/>
                          </a:lnTo>
                          <a:lnTo>
                            <a:pt x="91" y="651"/>
                          </a:lnTo>
                          <a:lnTo>
                            <a:pt x="72" y="642"/>
                          </a:lnTo>
                          <a:lnTo>
                            <a:pt x="65" y="610"/>
                          </a:lnTo>
                          <a:lnTo>
                            <a:pt x="56" y="594"/>
                          </a:lnTo>
                          <a:lnTo>
                            <a:pt x="50" y="585"/>
                          </a:lnTo>
                          <a:lnTo>
                            <a:pt x="41" y="557"/>
                          </a:lnTo>
                          <a:lnTo>
                            <a:pt x="10" y="508"/>
                          </a:lnTo>
                          <a:lnTo>
                            <a:pt x="28" y="425"/>
                          </a:lnTo>
                          <a:lnTo>
                            <a:pt x="10" y="415"/>
                          </a:lnTo>
                          <a:lnTo>
                            <a:pt x="0" y="366"/>
                          </a:lnTo>
                          <a:lnTo>
                            <a:pt x="1" y="332"/>
                          </a:lnTo>
                          <a:lnTo>
                            <a:pt x="4" y="294"/>
                          </a:lnTo>
                          <a:lnTo>
                            <a:pt x="23" y="252"/>
                          </a:lnTo>
                          <a:lnTo>
                            <a:pt x="69" y="229"/>
                          </a:lnTo>
                          <a:lnTo>
                            <a:pt x="65" y="186"/>
                          </a:lnTo>
                          <a:lnTo>
                            <a:pt x="105" y="136"/>
                          </a:lnTo>
                          <a:lnTo>
                            <a:pt x="124" y="115"/>
                          </a:lnTo>
                          <a:lnTo>
                            <a:pt x="144" y="82"/>
                          </a:lnTo>
                          <a:lnTo>
                            <a:pt x="177" y="60"/>
                          </a:lnTo>
                          <a:lnTo>
                            <a:pt x="211" y="60"/>
                          </a:lnTo>
                          <a:lnTo>
                            <a:pt x="264" y="13"/>
                          </a:lnTo>
                          <a:lnTo>
                            <a:pt x="308" y="9"/>
                          </a:lnTo>
                          <a:lnTo>
                            <a:pt x="341" y="0"/>
                          </a:lnTo>
                          <a:lnTo>
                            <a:pt x="372" y="4"/>
                          </a:lnTo>
                          <a:lnTo>
                            <a:pt x="401" y="9"/>
                          </a:lnTo>
                          <a:lnTo>
                            <a:pt x="434" y="9"/>
                          </a:lnTo>
                          <a:lnTo>
                            <a:pt x="477" y="13"/>
                          </a:lnTo>
                          <a:lnTo>
                            <a:pt x="523" y="34"/>
                          </a:lnTo>
                          <a:lnTo>
                            <a:pt x="549" y="49"/>
                          </a:lnTo>
                          <a:lnTo>
                            <a:pt x="605" y="65"/>
                          </a:lnTo>
                          <a:lnTo>
                            <a:pt x="642" y="102"/>
                          </a:lnTo>
                          <a:lnTo>
                            <a:pt x="663" y="128"/>
                          </a:lnTo>
                          <a:lnTo>
                            <a:pt x="682" y="159"/>
                          </a:lnTo>
                          <a:lnTo>
                            <a:pt x="691" y="190"/>
                          </a:lnTo>
                          <a:lnTo>
                            <a:pt x="707" y="217"/>
                          </a:lnTo>
                          <a:lnTo>
                            <a:pt x="726" y="242"/>
                          </a:lnTo>
                          <a:lnTo>
                            <a:pt x="756" y="275"/>
                          </a:lnTo>
                          <a:lnTo>
                            <a:pt x="775" y="332"/>
                          </a:lnTo>
                          <a:lnTo>
                            <a:pt x="791" y="379"/>
                          </a:lnTo>
                          <a:lnTo>
                            <a:pt x="805" y="412"/>
                          </a:lnTo>
                          <a:lnTo>
                            <a:pt x="800" y="434"/>
                          </a:lnTo>
                          <a:lnTo>
                            <a:pt x="787" y="481"/>
                          </a:lnTo>
                          <a:lnTo>
                            <a:pt x="769" y="508"/>
                          </a:lnTo>
                          <a:lnTo>
                            <a:pt x="774" y="549"/>
                          </a:lnTo>
                          <a:lnTo>
                            <a:pt x="762" y="574"/>
                          </a:lnTo>
                          <a:lnTo>
                            <a:pt x="722" y="601"/>
                          </a:lnTo>
                          <a:lnTo>
                            <a:pt x="709" y="629"/>
                          </a:lnTo>
                          <a:lnTo>
                            <a:pt x="638" y="687"/>
                          </a:lnTo>
                          <a:lnTo>
                            <a:pt x="638" y="712"/>
                          </a:lnTo>
                          <a:lnTo>
                            <a:pt x="607" y="743"/>
                          </a:lnTo>
                          <a:lnTo>
                            <a:pt x="554" y="771"/>
                          </a:lnTo>
                          <a:lnTo>
                            <a:pt x="525" y="784"/>
                          </a:lnTo>
                          <a:lnTo>
                            <a:pt x="558" y="712"/>
                          </a:lnTo>
                          <a:lnTo>
                            <a:pt x="589" y="633"/>
                          </a:lnTo>
                          <a:lnTo>
                            <a:pt x="607" y="571"/>
                          </a:lnTo>
                          <a:lnTo>
                            <a:pt x="619" y="505"/>
                          </a:lnTo>
                          <a:lnTo>
                            <a:pt x="619" y="472"/>
                          </a:lnTo>
                          <a:lnTo>
                            <a:pt x="610" y="437"/>
                          </a:lnTo>
                          <a:lnTo>
                            <a:pt x="614" y="368"/>
                          </a:lnTo>
                          <a:lnTo>
                            <a:pt x="605" y="345"/>
                          </a:lnTo>
                          <a:lnTo>
                            <a:pt x="589" y="331"/>
                          </a:lnTo>
                          <a:lnTo>
                            <a:pt x="527" y="363"/>
                          </a:lnTo>
                          <a:lnTo>
                            <a:pt x="494" y="379"/>
                          </a:lnTo>
                          <a:lnTo>
                            <a:pt x="446" y="385"/>
                          </a:lnTo>
                          <a:lnTo>
                            <a:pt x="381" y="385"/>
                          </a:lnTo>
                          <a:lnTo>
                            <a:pt x="331" y="382"/>
                          </a:lnTo>
                          <a:lnTo>
                            <a:pt x="304" y="375"/>
                          </a:lnTo>
                          <a:lnTo>
                            <a:pt x="279" y="362"/>
                          </a:lnTo>
                          <a:lnTo>
                            <a:pt x="248" y="362"/>
                          </a:lnTo>
                          <a:lnTo>
                            <a:pt x="217" y="372"/>
                          </a:lnTo>
                          <a:lnTo>
                            <a:pt x="204" y="393"/>
                          </a:lnTo>
                          <a:lnTo>
                            <a:pt x="198" y="421"/>
                          </a:lnTo>
                          <a:lnTo>
                            <a:pt x="184" y="446"/>
                          </a:lnTo>
                          <a:lnTo>
                            <a:pt x="164" y="450"/>
                          </a:lnTo>
                          <a:lnTo>
                            <a:pt x="147" y="481"/>
                          </a:lnTo>
                          <a:lnTo>
                            <a:pt x="141" y="530"/>
                          </a:lnTo>
                          <a:lnTo>
                            <a:pt x="131" y="542"/>
                          </a:lnTo>
                          <a:lnTo>
                            <a:pt x="118" y="548"/>
                          </a:lnTo>
                          <a:lnTo>
                            <a:pt x="103" y="549"/>
                          </a:lnTo>
                          <a:lnTo>
                            <a:pt x="91" y="555"/>
                          </a:lnTo>
                          <a:lnTo>
                            <a:pt x="85" y="565"/>
                          </a:lnTo>
                          <a:lnTo>
                            <a:pt x="82" y="577"/>
                          </a:lnTo>
                          <a:lnTo>
                            <a:pt x="85" y="597"/>
                          </a:lnTo>
                          <a:lnTo>
                            <a:pt x="96" y="613"/>
                          </a:lnTo>
                          <a:lnTo>
                            <a:pt x="115" y="626"/>
                          </a:lnTo>
                          <a:lnTo>
                            <a:pt x="139" y="626"/>
                          </a:lnTo>
                          <a:lnTo>
                            <a:pt x="146" y="691"/>
                          </a:lnTo>
                          <a:lnTo>
                            <a:pt x="153" y="738"/>
                          </a:lnTo>
                          <a:close/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0" name=""/>
                    <p:cNvGrpSpPr/>
                    <p:nvPr/>
                  </p:nvGrpSpPr>
                  <p:grpSpPr>
                    <a:xfrm>
                      <a:off x="2601720" y="4133520"/>
                      <a:ext cx="434520" cy="348840"/>
                      <a:chOff x="2601720" y="4133520"/>
                      <a:chExt cx="434520" cy="348840"/>
                    </a:xfrm>
                  </p:grpSpPr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2601720" y="4265280"/>
                        <a:ext cx="183240" cy="13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8" h="218">
                            <a:moveTo>
                              <a:pt x="11" y="218"/>
                            </a:moveTo>
                            <a:lnTo>
                              <a:pt x="67" y="218"/>
                            </a:lnTo>
                            <a:lnTo>
                              <a:pt x="158" y="169"/>
                            </a:lnTo>
                            <a:lnTo>
                              <a:pt x="90" y="164"/>
                            </a:lnTo>
                            <a:lnTo>
                              <a:pt x="40" y="156"/>
                            </a:lnTo>
                            <a:lnTo>
                              <a:pt x="18" y="147"/>
                            </a:lnTo>
                            <a:lnTo>
                              <a:pt x="0" y="121"/>
                            </a:lnTo>
                            <a:lnTo>
                              <a:pt x="2" y="70"/>
                            </a:lnTo>
                            <a:lnTo>
                              <a:pt x="40" y="90"/>
                            </a:lnTo>
                            <a:lnTo>
                              <a:pt x="68" y="101"/>
                            </a:lnTo>
                            <a:lnTo>
                              <a:pt x="113" y="107"/>
                            </a:lnTo>
                            <a:lnTo>
                              <a:pt x="144" y="112"/>
                            </a:lnTo>
                            <a:lnTo>
                              <a:pt x="189" y="130"/>
                            </a:lnTo>
                            <a:lnTo>
                              <a:pt x="157" y="93"/>
                            </a:lnTo>
                            <a:lnTo>
                              <a:pt x="132" y="72"/>
                            </a:lnTo>
                            <a:lnTo>
                              <a:pt x="95" y="54"/>
                            </a:lnTo>
                            <a:lnTo>
                              <a:pt x="99" y="13"/>
                            </a:lnTo>
                            <a:lnTo>
                              <a:pt x="95" y="0"/>
                            </a:lnTo>
                            <a:lnTo>
                              <a:pt x="144" y="1"/>
                            </a:lnTo>
                            <a:lnTo>
                              <a:pt x="145" y="35"/>
                            </a:lnTo>
                            <a:lnTo>
                              <a:pt x="152" y="62"/>
                            </a:lnTo>
                            <a:lnTo>
                              <a:pt x="167" y="79"/>
                            </a:lnTo>
                            <a:lnTo>
                              <a:pt x="197" y="94"/>
                            </a:lnTo>
                            <a:lnTo>
                              <a:pt x="241" y="112"/>
                            </a:lnTo>
                            <a:lnTo>
                              <a:pt x="294" y="130"/>
                            </a:lnTo>
                            <a:lnTo>
                              <a:pt x="318" y="134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630160" y="4201920"/>
                        <a:ext cx="35424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3" h="182">
                            <a:moveTo>
                              <a:pt x="0" y="83"/>
                            </a:moveTo>
                            <a:lnTo>
                              <a:pt x="43" y="71"/>
                            </a:lnTo>
                            <a:lnTo>
                              <a:pt x="102" y="74"/>
                            </a:lnTo>
                            <a:lnTo>
                              <a:pt x="144" y="67"/>
                            </a:lnTo>
                            <a:lnTo>
                              <a:pt x="129" y="106"/>
                            </a:lnTo>
                            <a:lnTo>
                              <a:pt x="148" y="138"/>
                            </a:lnTo>
                            <a:lnTo>
                              <a:pt x="188" y="105"/>
                            </a:lnTo>
                            <a:lnTo>
                              <a:pt x="226" y="67"/>
                            </a:lnTo>
                            <a:lnTo>
                              <a:pt x="271" y="40"/>
                            </a:lnTo>
                            <a:lnTo>
                              <a:pt x="328" y="8"/>
                            </a:lnTo>
                            <a:lnTo>
                              <a:pt x="346" y="0"/>
                            </a:lnTo>
                            <a:lnTo>
                              <a:pt x="479" y="36"/>
                            </a:lnTo>
                            <a:lnTo>
                              <a:pt x="525" y="93"/>
                            </a:lnTo>
                            <a:lnTo>
                              <a:pt x="538" y="109"/>
                            </a:lnTo>
                            <a:lnTo>
                              <a:pt x="537" y="177"/>
                            </a:lnTo>
                            <a:lnTo>
                              <a:pt x="565" y="182"/>
                            </a:lnTo>
                            <a:lnTo>
                              <a:pt x="603" y="136"/>
                            </a:lnTo>
                            <a:lnTo>
                              <a:pt x="613" y="101"/>
                            </a:lnTo>
                            <a:lnTo>
                              <a:pt x="612" y="61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2651040" y="4133520"/>
                        <a:ext cx="310320" cy="14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8" h="223">
                            <a:moveTo>
                              <a:pt x="188" y="151"/>
                            </a:moveTo>
                            <a:lnTo>
                              <a:pt x="143" y="133"/>
                            </a:lnTo>
                            <a:lnTo>
                              <a:pt x="72" y="133"/>
                            </a:lnTo>
                            <a:lnTo>
                              <a:pt x="0" y="144"/>
                            </a:lnTo>
                            <a:lnTo>
                              <a:pt x="112" y="102"/>
                            </a:lnTo>
                            <a:lnTo>
                              <a:pt x="204" y="99"/>
                            </a:lnTo>
                            <a:lnTo>
                              <a:pt x="170" y="77"/>
                            </a:lnTo>
                            <a:lnTo>
                              <a:pt x="102" y="58"/>
                            </a:lnTo>
                            <a:lnTo>
                              <a:pt x="190" y="53"/>
                            </a:lnTo>
                            <a:lnTo>
                              <a:pt x="223" y="71"/>
                            </a:lnTo>
                            <a:lnTo>
                              <a:pt x="266" y="90"/>
                            </a:lnTo>
                            <a:lnTo>
                              <a:pt x="294" y="64"/>
                            </a:lnTo>
                            <a:lnTo>
                              <a:pt x="241" y="9"/>
                            </a:lnTo>
                            <a:lnTo>
                              <a:pt x="279" y="0"/>
                            </a:lnTo>
                            <a:lnTo>
                              <a:pt x="310" y="0"/>
                            </a:lnTo>
                            <a:lnTo>
                              <a:pt x="337" y="73"/>
                            </a:lnTo>
                            <a:lnTo>
                              <a:pt x="363" y="46"/>
                            </a:lnTo>
                            <a:lnTo>
                              <a:pt x="372" y="20"/>
                            </a:lnTo>
                            <a:lnTo>
                              <a:pt x="399" y="49"/>
                            </a:lnTo>
                            <a:lnTo>
                              <a:pt x="418" y="80"/>
                            </a:lnTo>
                            <a:lnTo>
                              <a:pt x="427" y="95"/>
                            </a:lnTo>
                            <a:lnTo>
                              <a:pt x="436" y="113"/>
                            </a:lnTo>
                            <a:lnTo>
                              <a:pt x="456" y="120"/>
                            </a:lnTo>
                            <a:lnTo>
                              <a:pt x="465" y="64"/>
                            </a:lnTo>
                            <a:lnTo>
                              <a:pt x="498" y="76"/>
                            </a:lnTo>
                            <a:lnTo>
                              <a:pt x="492" y="121"/>
                            </a:lnTo>
                            <a:lnTo>
                              <a:pt x="487" y="142"/>
                            </a:lnTo>
                            <a:lnTo>
                              <a:pt x="511" y="169"/>
                            </a:lnTo>
                            <a:lnTo>
                              <a:pt x="538" y="22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2949840" y="4266720"/>
                        <a:ext cx="8640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1" h="340">
                            <a:moveTo>
                              <a:pt x="80" y="0"/>
                            </a:moveTo>
                            <a:lnTo>
                              <a:pt x="117" y="80"/>
                            </a:lnTo>
                            <a:lnTo>
                              <a:pt x="135" y="123"/>
                            </a:lnTo>
                            <a:lnTo>
                              <a:pt x="148" y="164"/>
                            </a:lnTo>
                            <a:lnTo>
                              <a:pt x="151" y="195"/>
                            </a:lnTo>
                            <a:lnTo>
                              <a:pt x="142" y="233"/>
                            </a:lnTo>
                            <a:lnTo>
                              <a:pt x="130" y="251"/>
                            </a:lnTo>
                            <a:lnTo>
                              <a:pt x="117" y="198"/>
                            </a:lnTo>
                            <a:lnTo>
                              <a:pt x="102" y="154"/>
                            </a:lnTo>
                            <a:lnTo>
                              <a:pt x="73" y="100"/>
                            </a:lnTo>
                            <a:lnTo>
                              <a:pt x="46" y="61"/>
                            </a:lnTo>
                            <a:lnTo>
                              <a:pt x="28" y="149"/>
                            </a:lnTo>
                            <a:lnTo>
                              <a:pt x="67" y="199"/>
                            </a:lnTo>
                            <a:lnTo>
                              <a:pt x="86" y="226"/>
                            </a:lnTo>
                            <a:lnTo>
                              <a:pt x="98" y="340"/>
                            </a:lnTo>
                            <a:lnTo>
                              <a:pt x="33" y="313"/>
                            </a:lnTo>
                            <a:lnTo>
                              <a:pt x="20" y="269"/>
                            </a:lnTo>
                            <a:lnTo>
                              <a:pt x="0" y="216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5" name=""/>
                  <p:cNvSpPr/>
                  <p:nvPr/>
                </p:nvSpPr>
                <p:spPr>
                  <a:xfrm>
                    <a:off x="2649960" y="4498560"/>
                    <a:ext cx="20520" cy="25560"/>
                  </a:xfrm>
                  <a:prstGeom prst="ellipse">
                    <a:avLst/>
                  </a:prstGeom>
                  <a:solidFill>
                    <a:srgbClr val="ff5fbf"/>
                  </a:solidFill>
                  <a:ln w="9360">
                    <a:solidFill>
                      <a:srgbClr val="ff00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339640" y="4596840"/>
                  <a:ext cx="806040" cy="1090800"/>
                  <a:chOff x="2339640" y="4596840"/>
                  <a:chExt cx="806040" cy="10908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2718000" y="4596840"/>
                    <a:ext cx="7380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536">
                        <a:moveTo>
                          <a:pt x="127" y="7"/>
                        </a:moveTo>
                        <a:lnTo>
                          <a:pt x="25" y="518"/>
                        </a:lnTo>
                        <a:lnTo>
                          <a:pt x="0" y="536"/>
                        </a:lnTo>
                        <a:lnTo>
                          <a:pt x="107" y="4"/>
                        </a:lnTo>
                        <a:lnTo>
                          <a:pt x="113" y="0"/>
                        </a:lnTo>
                        <a:lnTo>
                          <a:pt x="122" y="0"/>
                        </a:lnTo>
                        <a:lnTo>
                          <a:pt x="127" y="7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339640" y="4723920"/>
                    <a:ext cx="806040" cy="963720"/>
                    <a:chOff x="2339640" y="4723920"/>
                    <a:chExt cx="806040" cy="96372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339640" y="4723920"/>
                      <a:ext cx="806040" cy="9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6" h="1517">
                          <a:moveTo>
                            <a:pt x="507" y="7"/>
                          </a:moveTo>
                          <a:lnTo>
                            <a:pt x="483" y="15"/>
                          </a:lnTo>
                          <a:lnTo>
                            <a:pt x="448" y="24"/>
                          </a:lnTo>
                          <a:lnTo>
                            <a:pt x="415" y="31"/>
                          </a:lnTo>
                          <a:lnTo>
                            <a:pt x="377" y="40"/>
                          </a:lnTo>
                          <a:lnTo>
                            <a:pt x="342" y="47"/>
                          </a:lnTo>
                          <a:lnTo>
                            <a:pt x="311" y="56"/>
                          </a:lnTo>
                          <a:lnTo>
                            <a:pt x="288" y="63"/>
                          </a:lnTo>
                          <a:lnTo>
                            <a:pt x="268" y="74"/>
                          </a:lnTo>
                          <a:lnTo>
                            <a:pt x="244" y="87"/>
                          </a:lnTo>
                          <a:lnTo>
                            <a:pt x="225" y="102"/>
                          </a:lnTo>
                          <a:lnTo>
                            <a:pt x="207" y="117"/>
                          </a:lnTo>
                          <a:lnTo>
                            <a:pt x="189" y="133"/>
                          </a:lnTo>
                          <a:lnTo>
                            <a:pt x="170" y="154"/>
                          </a:lnTo>
                          <a:lnTo>
                            <a:pt x="151" y="180"/>
                          </a:lnTo>
                          <a:lnTo>
                            <a:pt x="119" y="230"/>
                          </a:lnTo>
                          <a:lnTo>
                            <a:pt x="65" y="322"/>
                          </a:lnTo>
                          <a:lnTo>
                            <a:pt x="0" y="434"/>
                          </a:lnTo>
                          <a:lnTo>
                            <a:pt x="8" y="450"/>
                          </a:lnTo>
                          <a:lnTo>
                            <a:pt x="33" y="468"/>
                          </a:lnTo>
                          <a:lnTo>
                            <a:pt x="331" y="580"/>
                          </a:lnTo>
                          <a:lnTo>
                            <a:pt x="342" y="614"/>
                          </a:lnTo>
                          <a:lnTo>
                            <a:pt x="345" y="750"/>
                          </a:lnTo>
                          <a:lnTo>
                            <a:pt x="331" y="935"/>
                          </a:lnTo>
                          <a:lnTo>
                            <a:pt x="318" y="1077"/>
                          </a:lnTo>
                          <a:lnTo>
                            <a:pt x="303" y="1168"/>
                          </a:lnTo>
                          <a:lnTo>
                            <a:pt x="272" y="1292"/>
                          </a:lnTo>
                          <a:lnTo>
                            <a:pt x="223" y="1394"/>
                          </a:lnTo>
                          <a:lnTo>
                            <a:pt x="158" y="1517"/>
                          </a:lnTo>
                          <a:lnTo>
                            <a:pt x="1315" y="1517"/>
                          </a:lnTo>
                          <a:lnTo>
                            <a:pt x="1192" y="1208"/>
                          </a:lnTo>
                          <a:lnTo>
                            <a:pt x="1139" y="944"/>
                          </a:lnTo>
                          <a:lnTo>
                            <a:pt x="1166" y="920"/>
                          </a:lnTo>
                          <a:lnTo>
                            <a:pt x="1197" y="886"/>
                          </a:lnTo>
                          <a:lnTo>
                            <a:pt x="1216" y="845"/>
                          </a:lnTo>
                          <a:lnTo>
                            <a:pt x="1228" y="795"/>
                          </a:lnTo>
                          <a:lnTo>
                            <a:pt x="1229" y="749"/>
                          </a:lnTo>
                          <a:lnTo>
                            <a:pt x="1231" y="704"/>
                          </a:lnTo>
                          <a:lnTo>
                            <a:pt x="1232" y="671"/>
                          </a:lnTo>
                          <a:lnTo>
                            <a:pt x="1237" y="625"/>
                          </a:lnTo>
                          <a:lnTo>
                            <a:pt x="1396" y="492"/>
                          </a:lnTo>
                          <a:lnTo>
                            <a:pt x="1294" y="199"/>
                          </a:lnTo>
                          <a:lnTo>
                            <a:pt x="1278" y="156"/>
                          </a:lnTo>
                          <a:lnTo>
                            <a:pt x="1254" y="125"/>
                          </a:lnTo>
                          <a:lnTo>
                            <a:pt x="1225" y="100"/>
                          </a:lnTo>
                          <a:lnTo>
                            <a:pt x="1186" y="83"/>
                          </a:lnTo>
                          <a:lnTo>
                            <a:pt x="1012" y="29"/>
                          </a:lnTo>
                          <a:lnTo>
                            <a:pt x="983" y="19"/>
                          </a:lnTo>
                          <a:lnTo>
                            <a:pt x="962" y="12"/>
                          </a:lnTo>
                          <a:lnTo>
                            <a:pt x="944" y="7"/>
                          </a:lnTo>
                          <a:lnTo>
                            <a:pt x="926" y="3"/>
                          </a:lnTo>
                          <a:lnTo>
                            <a:pt x="909" y="0"/>
                          </a:lnTo>
                          <a:lnTo>
                            <a:pt x="909" y="25"/>
                          </a:lnTo>
                          <a:lnTo>
                            <a:pt x="919" y="41"/>
                          </a:lnTo>
                          <a:lnTo>
                            <a:pt x="929" y="60"/>
                          </a:lnTo>
                          <a:lnTo>
                            <a:pt x="944" y="83"/>
                          </a:lnTo>
                          <a:lnTo>
                            <a:pt x="957" y="103"/>
                          </a:lnTo>
                          <a:lnTo>
                            <a:pt x="971" y="130"/>
                          </a:lnTo>
                          <a:lnTo>
                            <a:pt x="978" y="151"/>
                          </a:lnTo>
                          <a:lnTo>
                            <a:pt x="984" y="168"/>
                          </a:lnTo>
                          <a:lnTo>
                            <a:pt x="987" y="192"/>
                          </a:lnTo>
                          <a:lnTo>
                            <a:pt x="987" y="219"/>
                          </a:lnTo>
                          <a:lnTo>
                            <a:pt x="981" y="242"/>
                          </a:lnTo>
                          <a:lnTo>
                            <a:pt x="972" y="267"/>
                          </a:lnTo>
                          <a:lnTo>
                            <a:pt x="959" y="288"/>
                          </a:lnTo>
                          <a:lnTo>
                            <a:pt x="940" y="304"/>
                          </a:lnTo>
                          <a:lnTo>
                            <a:pt x="913" y="322"/>
                          </a:lnTo>
                          <a:lnTo>
                            <a:pt x="887" y="334"/>
                          </a:lnTo>
                          <a:lnTo>
                            <a:pt x="858" y="346"/>
                          </a:lnTo>
                          <a:lnTo>
                            <a:pt x="829" y="353"/>
                          </a:lnTo>
                          <a:lnTo>
                            <a:pt x="801" y="357"/>
                          </a:lnTo>
                          <a:lnTo>
                            <a:pt x="764" y="353"/>
                          </a:lnTo>
                          <a:lnTo>
                            <a:pt x="734" y="344"/>
                          </a:lnTo>
                          <a:lnTo>
                            <a:pt x="703" y="334"/>
                          </a:lnTo>
                          <a:lnTo>
                            <a:pt x="669" y="316"/>
                          </a:lnTo>
                          <a:lnTo>
                            <a:pt x="630" y="294"/>
                          </a:lnTo>
                          <a:lnTo>
                            <a:pt x="607" y="279"/>
                          </a:lnTo>
                          <a:lnTo>
                            <a:pt x="581" y="250"/>
                          </a:lnTo>
                          <a:lnTo>
                            <a:pt x="570" y="221"/>
                          </a:lnTo>
                          <a:lnTo>
                            <a:pt x="556" y="192"/>
                          </a:lnTo>
                          <a:lnTo>
                            <a:pt x="544" y="161"/>
                          </a:lnTo>
                          <a:lnTo>
                            <a:pt x="534" y="125"/>
                          </a:lnTo>
                          <a:lnTo>
                            <a:pt x="525" y="93"/>
                          </a:lnTo>
                          <a:lnTo>
                            <a:pt x="511" y="52"/>
                          </a:lnTo>
                          <a:lnTo>
                            <a:pt x="505" y="22"/>
                          </a:lnTo>
                          <a:lnTo>
                            <a:pt x="507" y="7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2365920" y="4880160"/>
                      <a:ext cx="436320" cy="707040"/>
                      <a:chOff x="2365920" y="4880160"/>
                      <a:chExt cx="436320" cy="70704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2365920" y="4880160"/>
                        <a:ext cx="436320" cy="707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4" h="1112">
                            <a:moveTo>
                              <a:pt x="26" y="190"/>
                            </a:moveTo>
                            <a:lnTo>
                              <a:pt x="7" y="260"/>
                            </a:lnTo>
                            <a:lnTo>
                              <a:pt x="4" y="310"/>
                            </a:lnTo>
                            <a:lnTo>
                              <a:pt x="0" y="407"/>
                            </a:lnTo>
                            <a:lnTo>
                              <a:pt x="13" y="527"/>
                            </a:lnTo>
                            <a:lnTo>
                              <a:pt x="13" y="676"/>
                            </a:lnTo>
                            <a:lnTo>
                              <a:pt x="6" y="751"/>
                            </a:lnTo>
                            <a:lnTo>
                              <a:pt x="1" y="818"/>
                            </a:lnTo>
                            <a:lnTo>
                              <a:pt x="4" y="899"/>
                            </a:lnTo>
                            <a:lnTo>
                              <a:pt x="17" y="974"/>
                            </a:lnTo>
                            <a:lnTo>
                              <a:pt x="35" y="1050"/>
                            </a:lnTo>
                            <a:lnTo>
                              <a:pt x="72" y="1112"/>
                            </a:lnTo>
                            <a:lnTo>
                              <a:pt x="146" y="1104"/>
                            </a:lnTo>
                            <a:lnTo>
                              <a:pt x="212" y="1096"/>
                            </a:lnTo>
                            <a:lnTo>
                              <a:pt x="301" y="1068"/>
                            </a:lnTo>
                            <a:lnTo>
                              <a:pt x="375" y="986"/>
                            </a:lnTo>
                            <a:lnTo>
                              <a:pt x="425" y="917"/>
                            </a:lnTo>
                            <a:lnTo>
                              <a:pt x="641" y="585"/>
                            </a:lnTo>
                            <a:lnTo>
                              <a:pt x="686" y="522"/>
                            </a:lnTo>
                            <a:lnTo>
                              <a:pt x="695" y="503"/>
                            </a:lnTo>
                            <a:lnTo>
                              <a:pt x="703" y="481"/>
                            </a:lnTo>
                            <a:lnTo>
                              <a:pt x="712" y="460"/>
                            </a:lnTo>
                            <a:lnTo>
                              <a:pt x="717" y="437"/>
                            </a:lnTo>
                            <a:lnTo>
                              <a:pt x="737" y="375"/>
                            </a:lnTo>
                            <a:lnTo>
                              <a:pt x="740" y="361"/>
                            </a:lnTo>
                            <a:lnTo>
                              <a:pt x="737" y="345"/>
                            </a:lnTo>
                            <a:lnTo>
                              <a:pt x="729" y="330"/>
                            </a:lnTo>
                            <a:lnTo>
                              <a:pt x="720" y="316"/>
                            </a:lnTo>
                            <a:lnTo>
                              <a:pt x="710" y="299"/>
                            </a:lnTo>
                            <a:lnTo>
                              <a:pt x="695" y="283"/>
                            </a:lnTo>
                            <a:lnTo>
                              <a:pt x="691" y="268"/>
                            </a:lnTo>
                            <a:lnTo>
                              <a:pt x="681" y="257"/>
                            </a:lnTo>
                            <a:lnTo>
                              <a:pt x="660" y="240"/>
                            </a:lnTo>
                            <a:lnTo>
                              <a:pt x="682" y="230"/>
                            </a:lnTo>
                            <a:lnTo>
                              <a:pt x="701" y="226"/>
                            </a:lnTo>
                            <a:lnTo>
                              <a:pt x="712" y="239"/>
                            </a:lnTo>
                            <a:lnTo>
                              <a:pt x="723" y="258"/>
                            </a:lnTo>
                            <a:lnTo>
                              <a:pt x="728" y="273"/>
                            </a:lnTo>
                            <a:lnTo>
                              <a:pt x="732" y="283"/>
                            </a:lnTo>
                            <a:lnTo>
                              <a:pt x="740" y="292"/>
                            </a:lnTo>
                            <a:lnTo>
                              <a:pt x="750" y="296"/>
                            </a:lnTo>
                            <a:lnTo>
                              <a:pt x="754" y="286"/>
                            </a:lnTo>
                            <a:lnTo>
                              <a:pt x="753" y="271"/>
                            </a:lnTo>
                            <a:lnTo>
                              <a:pt x="751" y="251"/>
                            </a:lnTo>
                            <a:lnTo>
                              <a:pt x="747" y="217"/>
                            </a:lnTo>
                            <a:lnTo>
                              <a:pt x="743" y="183"/>
                            </a:lnTo>
                            <a:lnTo>
                              <a:pt x="735" y="175"/>
                            </a:lnTo>
                            <a:lnTo>
                              <a:pt x="734" y="149"/>
                            </a:lnTo>
                            <a:lnTo>
                              <a:pt x="731" y="140"/>
                            </a:lnTo>
                            <a:lnTo>
                              <a:pt x="713" y="133"/>
                            </a:lnTo>
                            <a:lnTo>
                              <a:pt x="701" y="97"/>
                            </a:lnTo>
                            <a:lnTo>
                              <a:pt x="692" y="72"/>
                            </a:lnTo>
                            <a:lnTo>
                              <a:pt x="683" y="50"/>
                            </a:lnTo>
                            <a:lnTo>
                              <a:pt x="681" y="31"/>
                            </a:lnTo>
                            <a:lnTo>
                              <a:pt x="679" y="17"/>
                            </a:lnTo>
                            <a:lnTo>
                              <a:pt x="672" y="4"/>
                            </a:lnTo>
                            <a:lnTo>
                              <a:pt x="660" y="0"/>
                            </a:lnTo>
                            <a:lnTo>
                              <a:pt x="648" y="0"/>
                            </a:lnTo>
                            <a:lnTo>
                              <a:pt x="638" y="45"/>
                            </a:lnTo>
                            <a:lnTo>
                              <a:pt x="551" y="143"/>
                            </a:lnTo>
                            <a:lnTo>
                              <a:pt x="533" y="169"/>
                            </a:lnTo>
                            <a:lnTo>
                              <a:pt x="524" y="183"/>
                            </a:lnTo>
                            <a:lnTo>
                              <a:pt x="520" y="196"/>
                            </a:lnTo>
                            <a:lnTo>
                              <a:pt x="518" y="208"/>
                            </a:lnTo>
                            <a:lnTo>
                              <a:pt x="533" y="252"/>
                            </a:lnTo>
                            <a:lnTo>
                              <a:pt x="552" y="327"/>
                            </a:lnTo>
                            <a:lnTo>
                              <a:pt x="571" y="372"/>
                            </a:lnTo>
                            <a:lnTo>
                              <a:pt x="586" y="438"/>
                            </a:lnTo>
                            <a:lnTo>
                              <a:pt x="456" y="540"/>
                            </a:lnTo>
                            <a:lnTo>
                              <a:pt x="292" y="679"/>
                            </a:lnTo>
                            <a:lnTo>
                              <a:pt x="298" y="514"/>
                            </a:lnTo>
                            <a:lnTo>
                              <a:pt x="292" y="336"/>
                            </a:lnTo>
                            <a:lnTo>
                              <a:pt x="26" y="19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936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2715480" y="4968000"/>
                        <a:ext cx="612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21">
                            <a:moveTo>
                              <a:pt x="0" y="21"/>
                            </a:moveTo>
                            <a:lnTo>
                              <a:pt x="70" y="0"/>
                            </a:lnTo>
                            <a:lnTo>
                              <a:pt x="107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2707560" y="4997160"/>
                        <a:ext cx="806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29">
                            <a:moveTo>
                              <a:pt x="0" y="29"/>
                            </a:moveTo>
                            <a:lnTo>
                              <a:pt x="82" y="6"/>
                            </a:lnTo>
                            <a:lnTo>
                              <a:pt x="141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2714400" y="4953960"/>
                        <a:ext cx="3564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41">
                            <a:moveTo>
                              <a:pt x="0" y="41"/>
                            </a:moveTo>
                            <a:lnTo>
                              <a:pt x="50" y="0"/>
                            </a:lnTo>
                            <a:lnTo>
                              <a:pt x="60" y="22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 flipH="1" flipV="1">
                        <a:off x="2740680" y="4907520"/>
                        <a:ext cx="16920" cy="7560"/>
                      </a:xfrm>
                      <a:prstGeom prst="line">
                        <a:avLst/>
                      </a:prstGeom>
                      <a:ln w="9360">
                        <a:solidFill>
                          <a:srgbClr val="b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339640" y="4962960"/>
                      <a:ext cx="20556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220">
                          <a:moveTo>
                            <a:pt x="163" y="81"/>
                          </a:moveTo>
                          <a:lnTo>
                            <a:pt x="30" y="0"/>
                          </a:lnTo>
                          <a:lnTo>
                            <a:pt x="0" y="59"/>
                          </a:lnTo>
                          <a:lnTo>
                            <a:pt x="8" y="75"/>
                          </a:lnTo>
                          <a:lnTo>
                            <a:pt x="33" y="93"/>
                          </a:lnTo>
                          <a:lnTo>
                            <a:pt x="356" y="220"/>
                          </a:lnTo>
                          <a:lnTo>
                            <a:pt x="356" y="191"/>
                          </a:lnTo>
                          <a:lnTo>
                            <a:pt x="163" y="8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2677680" y="4807800"/>
                    <a:ext cx="81720" cy="163440"/>
                    <a:chOff x="2677680" y="4807800"/>
                    <a:chExt cx="81720" cy="16344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2677680" y="4811400"/>
                      <a:ext cx="78120" cy="15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253">
                          <a:moveTo>
                            <a:pt x="130" y="0"/>
                          </a:moveTo>
                          <a:lnTo>
                            <a:pt x="85" y="17"/>
                          </a:lnTo>
                          <a:lnTo>
                            <a:pt x="47" y="37"/>
                          </a:lnTo>
                          <a:lnTo>
                            <a:pt x="20" y="80"/>
                          </a:lnTo>
                          <a:lnTo>
                            <a:pt x="0" y="111"/>
                          </a:lnTo>
                          <a:lnTo>
                            <a:pt x="4" y="145"/>
                          </a:lnTo>
                          <a:lnTo>
                            <a:pt x="7" y="212"/>
                          </a:lnTo>
                          <a:lnTo>
                            <a:pt x="16" y="253"/>
                          </a:lnTo>
                          <a:lnTo>
                            <a:pt x="60" y="206"/>
                          </a:lnTo>
                          <a:lnTo>
                            <a:pt x="62" y="164"/>
                          </a:lnTo>
                          <a:lnTo>
                            <a:pt x="59" y="145"/>
                          </a:lnTo>
                          <a:lnTo>
                            <a:pt x="53" y="132"/>
                          </a:lnTo>
                          <a:lnTo>
                            <a:pt x="62" y="126"/>
                          </a:lnTo>
                          <a:lnTo>
                            <a:pt x="69" y="115"/>
                          </a:lnTo>
                          <a:lnTo>
                            <a:pt x="79" y="99"/>
                          </a:lnTo>
                          <a:lnTo>
                            <a:pt x="84" y="82"/>
                          </a:lnTo>
                          <a:lnTo>
                            <a:pt x="88" y="65"/>
                          </a:lnTo>
                          <a:lnTo>
                            <a:pt x="103" y="62"/>
                          </a:lnTo>
                          <a:lnTo>
                            <a:pt x="116" y="55"/>
                          </a:lnTo>
                          <a:lnTo>
                            <a:pt x="127" y="46"/>
                          </a:lnTo>
                          <a:lnTo>
                            <a:pt x="134" y="33"/>
                          </a:lnTo>
                          <a:lnTo>
                            <a:pt x="136" y="15"/>
                          </a:lnTo>
                          <a:lnTo>
                            <a:pt x="130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936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727000" y="4807800"/>
                      <a:ext cx="3240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6">
                          <a:moveTo>
                            <a:pt x="0" y="21"/>
                          </a:moveTo>
                          <a:lnTo>
                            <a:pt x="57" y="0"/>
                          </a:lnTo>
                          <a:lnTo>
                            <a:pt x="58" y="7"/>
                          </a:lnTo>
                          <a:lnTo>
                            <a:pt x="52" y="16"/>
                          </a:lnTo>
                          <a:lnTo>
                            <a:pt x="23" y="25"/>
                          </a:lnTo>
                          <a:lnTo>
                            <a:pt x="15" y="26"/>
                          </a:lnTo>
                          <a:lnTo>
                            <a:pt x="6" y="25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9360">
                      <a:solidFill>
                        <a:srgbClr val="ff00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0" name=""/>
              <p:cNvSpPr/>
              <p:nvPr/>
            </p:nvSpPr>
            <p:spPr>
              <a:xfrm>
                <a:off x="2748240" y="4723920"/>
                <a:ext cx="527760" cy="695880"/>
              </a:xfrm>
              <a:custGeom>
                <a:avLst/>
                <a:gdLst/>
                <a:ahLst/>
                <a:rect l="l" t="t" r="r" b="b"/>
                <a:pathLst>
                  <a:path w="915" h="1094">
                    <a:moveTo>
                      <a:pt x="355" y="0"/>
                    </a:moveTo>
                    <a:lnTo>
                      <a:pt x="886" y="106"/>
                    </a:lnTo>
                    <a:lnTo>
                      <a:pt x="847" y="120"/>
                    </a:lnTo>
                    <a:lnTo>
                      <a:pt x="915" y="151"/>
                    </a:lnTo>
                    <a:lnTo>
                      <a:pt x="612" y="1094"/>
                    </a:lnTo>
                    <a:lnTo>
                      <a:pt x="226" y="1050"/>
                    </a:lnTo>
                    <a:lnTo>
                      <a:pt x="0" y="926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668320" y="5158080"/>
                <a:ext cx="549720" cy="339480"/>
              </a:xfrm>
              <a:custGeom>
                <a:avLst/>
                <a:gdLst/>
                <a:ahLst/>
                <a:rect l="l" t="t" r="r" b="b"/>
                <a:pathLst>
                  <a:path w="953" h="534">
                    <a:moveTo>
                      <a:pt x="866" y="0"/>
                    </a:moveTo>
                    <a:lnTo>
                      <a:pt x="878" y="37"/>
                    </a:lnTo>
                    <a:lnTo>
                      <a:pt x="898" y="142"/>
                    </a:lnTo>
                    <a:lnTo>
                      <a:pt x="909" y="215"/>
                    </a:lnTo>
                    <a:lnTo>
                      <a:pt x="925" y="321"/>
                    </a:lnTo>
                    <a:lnTo>
                      <a:pt x="938" y="365"/>
                    </a:lnTo>
                    <a:lnTo>
                      <a:pt x="949" y="409"/>
                    </a:lnTo>
                    <a:lnTo>
                      <a:pt x="953" y="448"/>
                    </a:lnTo>
                    <a:lnTo>
                      <a:pt x="949" y="470"/>
                    </a:lnTo>
                    <a:lnTo>
                      <a:pt x="935" y="497"/>
                    </a:lnTo>
                    <a:lnTo>
                      <a:pt x="907" y="514"/>
                    </a:lnTo>
                    <a:lnTo>
                      <a:pt x="794" y="528"/>
                    </a:lnTo>
                    <a:lnTo>
                      <a:pt x="655" y="528"/>
                    </a:lnTo>
                    <a:lnTo>
                      <a:pt x="506" y="511"/>
                    </a:lnTo>
                    <a:lnTo>
                      <a:pt x="415" y="529"/>
                    </a:lnTo>
                    <a:lnTo>
                      <a:pt x="358" y="534"/>
                    </a:lnTo>
                    <a:lnTo>
                      <a:pt x="300" y="528"/>
                    </a:lnTo>
                    <a:lnTo>
                      <a:pt x="244" y="519"/>
                    </a:lnTo>
                    <a:lnTo>
                      <a:pt x="200" y="516"/>
                    </a:lnTo>
                    <a:lnTo>
                      <a:pt x="96" y="505"/>
                    </a:lnTo>
                    <a:lnTo>
                      <a:pt x="60" y="476"/>
                    </a:lnTo>
                    <a:lnTo>
                      <a:pt x="57" y="443"/>
                    </a:lnTo>
                    <a:lnTo>
                      <a:pt x="34" y="414"/>
                    </a:lnTo>
                    <a:lnTo>
                      <a:pt x="27" y="390"/>
                    </a:lnTo>
                    <a:lnTo>
                      <a:pt x="27" y="352"/>
                    </a:lnTo>
                    <a:lnTo>
                      <a:pt x="8" y="321"/>
                    </a:lnTo>
                    <a:lnTo>
                      <a:pt x="0" y="293"/>
                    </a:lnTo>
                    <a:lnTo>
                      <a:pt x="3" y="279"/>
                    </a:lnTo>
                    <a:lnTo>
                      <a:pt x="12" y="268"/>
                    </a:lnTo>
                    <a:lnTo>
                      <a:pt x="26" y="266"/>
                    </a:lnTo>
                    <a:lnTo>
                      <a:pt x="36" y="272"/>
                    </a:lnTo>
                    <a:lnTo>
                      <a:pt x="49" y="288"/>
                    </a:lnTo>
                    <a:lnTo>
                      <a:pt x="67" y="302"/>
                    </a:lnTo>
                    <a:lnTo>
                      <a:pt x="105" y="315"/>
                    </a:lnTo>
                    <a:lnTo>
                      <a:pt x="83" y="297"/>
                    </a:lnTo>
                    <a:lnTo>
                      <a:pt x="76" y="277"/>
                    </a:lnTo>
                    <a:lnTo>
                      <a:pt x="89" y="263"/>
                    </a:lnTo>
                    <a:lnTo>
                      <a:pt x="119" y="253"/>
                    </a:lnTo>
                    <a:lnTo>
                      <a:pt x="154" y="253"/>
                    </a:lnTo>
                    <a:lnTo>
                      <a:pt x="204" y="244"/>
                    </a:lnTo>
                    <a:lnTo>
                      <a:pt x="262" y="244"/>
                    </a:lnTo>
                    <a:lnTo>
                      <a:pt x="280" y="244"/>
                    </a:lnTo>
                    <a:lnTo>
                      <a:pt x="252" y="232"/>
                    </a:lnTo>
                    <a:lnTo>
                      <a:pt x="209" y="235"/>
                    </a:lnTo>
                    <a:lnTo>
                      <a:pt x="190" y="235"/>
                    </a:lnTo>
                    <a:lnTo>
                      <a:pt x="163" y="235"/>
                    </a:lnTo>
                    <a:lnTo>
                      <a:pt x="136" y="226"/>
                    </a:lnTo>
                    <a:lnTo>
                      <a:pt x="127" y="215"/>
                    </a:lnTo>
                    <a:lnTo>
                      <a:pt x="123" y="197"/>
                    </a:lnTo>
                    <a:lnTo>
                      <a:pt x="173" y="188"/>
                    </a:lnTo>
                    <a:lnTo>
                      <a:pt x="243" y="182"/>
                    </a:lnTo>
                    <a:lnTo>
                      <a:pt x="293" y="178"/>
                    </a:lnTo>
                    <a:lnTo>
                      <a:pt x="333" y="188"/>
                    </a:lnTo>
                    <a:lnTo>
                      <a:pt x="364" y="201"/>
                    </a:lnTo>
                    <a:lnTo>
                      <a:pt x="389" y="237"/>
                    </a:lnTo>
                    <a:lnTo>
                      <a:pt x="407" y="263"/>
                    </a:lnTo>
                    <a:lnTo>
                      <a:pt x="444" y="287"/>
                    </a:lnTo>
                    <a:lnTo>
                      <a:pt x="488" y="306"/>
                    </a:lnTo>
                    <a:lnTo>
                      <a:pt x="545" y="315"/>
                    </a:lnTo>
                    <a:lnTo>
                      <a:pt x="607" y="312"/>
                    </a:lnTo>
                    <a:lnTo>
                      <a:pt x="730" y="279"/>
                    </a:lnTo>
                    <a:lnTo>
                      <a:pt x="749" y="279"/>
                    </a:lnTo>
                    <a:lnTo>
                      <a:pt x="797" y="206"/>
                    </a:lnTo>
                    <a:lnTo>
                      <a:pt x="813" y="124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ff9f7f"/>
              </a:solidFill>
              <a:ln w="9360">
                <a:solidFill>
                  <a:srgbClr val="b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099080" y="5222880"/>
              <a:ext cx="605160" cy="760320"/>
              <a:chOff x="1099080" y="5222880"/>
              <a:chExt cx="605160" cy="7603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70360" y="5321880"/>
                <a:ext cx="468720" cy="604080"/>
              </a:xfrm>
              <a:custGeom>
                <a:avLst/>
                <a:gdLst/>
                <a:ahLst/>
                <a:rect l="l" t="t" r="r" b="b"/>
                <a:pathLst>
                  <a:path w="812" h="950">
                    <a:moveTo>
                      <a:pt x="0" y="702"/>
                    </a:moveTo>
                    <a:lnTo>
                      <a:pt x="18" y="653"/>
                    </a:lnTo>
                    <a:lnTo>
                      <a:pt x="0" y="538"/>
                    </a:lnTo>
                    <a:lnTo>
                      <a:pt x="0" y="461"/>
                    </a:lnTo>
                    <a:lnTo>
                      <a:pt x="13" y="337"/>
                    </a:lnTo>
                    <a:lnTo>
                      <a:pt x="44" y="248"/>
                    </a:lnTo>
                    <a:lnTo>
                      <a:pt x="80" y="178"/>
                    </a:lnTo>
                    <a:lnTo>
                      <a:pt x="128" y="107"/>
                    </a:lnTo>
                    <a:lnTo>
                      <a:pt x="208" y="54"/>
                    </a:lnTo>
                    <a:lnTo>
                      <a:pt x="301" y="14"/>
                    </a:lnTo>
                    <a:lnTo>
                      <a:pt x="421" y="0"/>
                    </a:lnTo>
                    <a:lnTo>
                      <a:pt x="564" y="36"/>
                    </a:lnTo>
                    <a:lnTo>
                      <a:pt x="697" y="111"/>
                    </a:lnTo>
                    <a:lnTo>
                      <a:pt x="768" y="182"/>
                    </a:lnTo>
                    <a:lnTo>
                      <a:pt x="812" y="271"/>
                    </a:lnTo>
                    <a:lnTo>
                      <a:pt x="808" y="368"/>
                    </a:lnTo>
                    <a:lnTo>
                      <a:pt x="790" y="461"/>
                    </a:lnTo>
                    <a:lnTo>
                      <a:pt x="737" y="568"/>
                    </a:lnTo>
                    <a:lnTo>
                      <a:pt x="733" y="640"/>
                    </a:lnTo>
                    <a:lnTo>
                      <a:pt x="727" y="671"/>
                    </a:lnTo>
                    <a:lnTo>
                      <a:pt x="719" y="702"/>
                    </a:lnTo>
                    <a:lnTo>
                      <a:pt x="653" y="799"/>
                    </a:lnTo>
                    <a:lnTo>
                      <a:pt x="617" y="839"/>
                    </a:lnTo>
                    <a:lnTo>
                      <a:pt x="586" y="882"/>
                    </a:lnTo>
                    <a:lnTo>
                      <a:pt x="572" y="900"/>
                    </a:lnTo>
                    <a:lnTo>
                      <a:pt x="558" y="910"/>
                    </a:lnTo>
                    <a:lnTo>
                      <a:pt x="545" y="916"/>
                    </a:lnTo>
                    <a:lnTo>
                      <a:pt x="526" y="916"/>
                    </a:lnTo>
                    <a:lnTo>
                      <a:pt x="495" y="907"/>
                    </a:lnTo>
                    <a:lnTo>
                      <a:pt x="476" y="904"/>
                    </a:lnTo>
                    <a:lnTo>
                      <a:pt x="456" y="906"/>
                    </a:lnTo>
                    <a:lnTo>
                      <a:pt x="400" y="950"/>
                    </a:lnTo>
                    <a:lnTo>
                      <a:pt x="0" y="702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36040" y="5795280"/>
                <a:ext cx="58680" cy="75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27040" y="5715000"/>
                <a:ext cx="55440" cy="11700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5" y="0"/>
                    </a:moveTo>
                    <a:lnTo>
                      <a:pt x="0" y="28"/>
                    </a:lnTo>
                    <a:lnTo>
                      <a:pt x="0" y="58"/>
                    </a:lnTo>
                    <a:lnTo>
                      <a:pt x="17" y="120"/>
                    </a:lnTo>
                    <a:lnTo>
                      <a:pt x="42" y="175"/>
                    </a:lnTo>
                    <a:lnTo>
                      <a:pt x="73" y="183"/>
                    </a:lnTo>
                    <a:lnTo>
                      <a:pt x="96" y="175"/>
                    </a:lnTo>
                  </a:path>
                </a:pathLst>
              </a:custGeom>
              <a:noFill/>
              <a:ln w="9360">
                <a:solidFill>
                  <a:srgbClr val="f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35800" y="5733000"/>
                <a:ext cx="301320" cy="250200"/>
              </a:xfrm>
              <a:custGeom>
                <a:avLst/>
                <a:gdLst/>
                <a:ahLst/>
                <a:rect l="l" t="t" r="r" b="b"/>
                <a:pathLst>
                  <a:path w="523" h="395">
                    <a:moveTo>
                      <a:pt x="89" y="0"/>
                    </a:moveTo>
                    <a:lnTo>
                      <a:pt x="321" y="107"/>
                    </a:lnTo>
                    <a:lnTo>
                      <a:pt x="404" y="157"/>
                    </a:lnTo>
                    <a:lnTo>
                      <a:pt x="449" y="192"/>
                    </a:lnTo>
                    <a:lnTo>
                      <a:pt x="479" y="222"/>
                    </a:lnTo>
                    <a:lnTo>
                      <a:pt x="498" y="248"/>
                    </a:lnTo>
                    <a:lnTo>
                      <a:pt x="514" y="277"/>
                    </a:lnTo>
                    <a:lnTo>
                      <a:pt x="523" y="302"/>
                    </a:lnTo>
                    <a:lnTo>
                      <a:pt x="457" y="395"/>
                    </a:lnTo>
                    <a:lnTo>
                      <a:pt x="0" y="6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1099080" y="5222880"/>
                <a:ext cx="605160" cy="558360"/>
                <a:chOff x="1099080" y="5222880"/>
                <a:chExt cx="605160" cy="55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099080" y="5222880"/>
                  <a:ext cx="605160" cy="558360"/>
                </a:xfrm>
                <a:custGeom>
                  <a:avLst/>
                  <a:gdLst/>
                  <a:ahLst/>
                  <a:rect l="l" t="t" r="r" b="b"/>
                  <a:pathLst>
                    <a:path w="1047" h="878">
                      <a:moveTo>
                        <a:pt x="489" y="28"/>
                      </a:moveTo>
                      <a:lnTo>
                        <a:pt x="533" y="0"/>
                      </a:lnTo>
                      <a:lnTo>
                        <a:pt x="623" y="43"/>
                      </a:lnTo>
                      <a:lnTo>
                        <a:pt x="746" y="108"/>
                      </a:lnTo>
                      <a:lnTo>
                        <a:pt x="991" y="384"/>
                      </a:lnTo>
                      <a:lnTo>
                        <a:pt x="1029" y="430"/>
                      </a:lnTo>
                      <a:lnTo>
                        <a:pt x="1041" y="476"/>
                      </a:lnTo>
                      <a:lnTo>
                        <a:pt x="1047" y="523"/>
                      </a:lnTo>
                      <a:lnTo>
                        <a:pt x="1043" y="563"/>
                      </a:lnTo>
                      <a:lnTo>
                        <a:pt x="1032" y="600"/>
                      </a:lnTo>
                      <a:lnTo>
                        <a:pt x="1015" y="634"/>
                      </a:lnTo>
                      <a:lnTo>
                        <a:pt x="989" y="659"/>
                      </a:lnTo>
                      <a:lnTo>
                        <a:pt x="865" y="733"/>
                      </a:lnTo>
                      <a:lnTo>
                        <a:pt x="833" y="746"/>
                      </a:lnTo>
                      <a:lnTo>
                        <a:pt x="802" y="748"/>
                      </a:lnTo>
                      <a:lnTo>
                        <a:pt x="749" y="783"/>
                      </a:lnTo>
                      <a:lnTo>
                        <a:pt x="668" y="786"/>
                      </a:lnTo>
                      <a:lnTo>
                        <a:pt x="641" y="793"/>
                      </a:lnTo>
                      <a:lnTo>
                        <a:pt x="626" y="762"/>
                      </a:lnTo>
                      <a:lnTo>
                        <a:pt x="598" y="758"/>
                      </a:lnTo>
                      <a:lnTo>
                        <a:pt x="572" y="764"/>
                      </a:lnTo>
                      <a:lnTo>
                        <a:pt x="558" y="783"/>
                      </a:lnTo>
                      <a:lnTo>
                        <a:pt x="551" y="802"/>
                      </a:lnTo>
                      <a:lnTo>
                        <a:pt x="554" y="816"/>
                      </a:lnTo>
                      <a:lnTo>
                        <a:pt x="514" y="827"/>
                      </a:lnTo>
                      <a:lnTo>
                        <a:pt x="467" y="853"/>
                      </a:lnTo>
                      <a:lnTo>
                        <a:pt x="405" y="855"/>
                      </a:lnTo>
                      <a:lnTo>
                        <a:pt x="335" y="869"/>
                      </a:lnTo>
                      <a:lnTo>
                        <a:pt x="255" y="878"/>
                      </a:lnTo>
                      <a:lnTo>
                        <a:pt x="149" y="853"/>
                      </a:lnTo>
                      <a:lnTo>
                        <a:pt x="65" y="816"/>
                      </a:lnTo>
                      <a:lnTo>
                        <a:pt x="52" y="786"/>
                      </a:lnTo>
                      <a:lnTo>
                        <a:pt x="37" y="759"/>
                      </a:lnTo>
                      <a:lnTo>
                        <a:pt x="28" y="706"/>
                      </a:lnTo>
                      <a:lnTo>
                        <a:pt x="9" y="612"/>
                      </a:lnTo>
                      <a:lnTo>
                        <a:pt x="4" y="564"/>
                      </a:lnTo>
                      <a:lnTo>
                        <a:pt x="0" y="520"/>
                      </a:lnTo>
                      <a:lnTo>
                        <a:pt x="6" y="482"/>
                      </a:lnTo>
                      <a:lnTo>
                        <a:pt x="28" y="435"/>
                      </a:lnTo>
                      <a:lnTo>
                        <a:pt x="52" y="377"/>
                      </a:lnTo>
                      <a:lnTo>
                        <a:pt x="97" y="299"/>
                      </a:lnTo>
                      <a:lnTo>
                        <a:pt x="185" y="185"/>
                      </a:lnTo>
                      <a:lnTo>
                        <a:pt x="258" y="121"/>
                      </a:lnTo>
                      <a:lnTo>
                        <a:pt x="368" y="58"/>
                      </a:lnTo>
                      <a:lnTo>
                        <a:pt x="437" y="43"/>
                      </a:lnTo>
                      <a:lnTo>
                        <a:pt x="489" y="28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564560" y="5662800"/>
                  <a:ext cx="87480" cy="101520"/>
                </a:xfrm>
                <a:custGeom>
                  <a:avLst/>
                  <a:gdLst/>
                  <a:ahLst/>
                  <a:rect l="l" t="t" r="r" b="b"/>
                  <a:pathLst>
                    <a:path w="152" h="159">
                      <a:moveTo>
                        <a:pt x="28" y="19"/>
                      </a:moveTo>
                      <a:lnTo>
                        <a:pt x="120" y="19"/>
                      </a:lnTo>
                      <a:lnTo>
                        <a:pt x="110" y="1"/>
                      </a:lnTo>
                      <a:lnTo>
                        <a:pt x="127" y="0"/>
                      </a:lnTo>
                      <a:lnTo>
                        <a:pt x="152" y="22"/>
                      </a:lnTo>
                      <a:lnTo>
                        <a:pt x="152" y="39"/>
                      </a:lnTo>
                      <a:lnTo>
                        <a:pt x="136" y="41"/>
                      </a:lnTo>
                      <a:lnTo>
                        <a:pt x="132" y="66"/>
                      </a:lnTo>
                      <a:lnTo>
                        <a:pt x="126" y="91"/>
                      </a:lnTo>
                      <a:lnTo>
                        <a:pt x="117" y="113"/>
                      </a:lnTo>
                      <a:lnTo>
                        <a:pt x="110" y="127"/>
                      </a:lnTo>
                      <a:lnTo>
                        <a:pt x="102" y="135"/>
                      </a:lnTo>
                      <a:lnTo>
                        <a:pt x="90" y="144"/>
                      </a:lnTo>
                      <a:lnTo>
                        <a:pt x="77" y="152"/>
                      </a:lnTo>
                      <a:lnTo>
                        <a:pt x="64" y="156"/>
                      </a:lnTo>
                      <a:lnTo>
                        <a:pt x="49" y="158"/>
                      </a:lnTo>
                      <a:lnTo>
                        <a:pt x="39" y="159"/>
                      </a:lnTo>
                      <a:lnTo>
                        <a:pt x="51" y="143"/>
                      </a:lnTo>
                      <a:lnTo>
                        <a:pt x="64" y="140"/>
                      </a:lnTo>
                      <a:lnTo>
                        <a:pt x="80" y="132"/>
                      </a:lnTo>
                      <a:lnTo>
                        <a:pt x="93" y="124"/>
                      </a:lnTo>
                      <a:lnTo>
                        <a:pt x="101" y="113"/>
                      </a:lnTo>
                      <a:lnTo>
                        <a:pt x="107" y="101"/>
                      </a:lnTo>
                      <a:lnTo>
                        <a:pt x="113" y="82"/>
                      </a:lnTo>
                      <a:lnTo>
                        <a:pt x="117" y="62"/>
                      </a:lnTo>
                      <a:lnTo>
                        <a:pt x="120" y="41"/>
                      </a:lnTo>
                      <a:lnTo>
                        <a:pt x="0" y="53"/>
                      </a:lnTo>
                      <a:lnTo>
                        <a:pt x="28" y="19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1772280" y="5351400"/>
              <a:ext cx="588960" cy="744120"/>
              <a:chOff x="1772280" y="5351400"/>
              <a:chExt cx="588960" cy="74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772280" y="5351400"/>
                <a:ext cx="559800" cy="744120"/>
                <a:chOff x="1772280" y="5351400"/>
                <a:chExt cx="559800" cy="744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812600" y="5384160"/>
                  <a:ext cx="519480" cy="711360"/>
                </a:xfrm>
                <a:custGeom>
                  <a:avLst/>
                  <a:gdLst/>
                  <a:ahLst/>
                  <a:rect l="l" t="t" r="r" b="b"/>
                  <a:pathLst>
                    <a:path w="900" h="1118">
                      <a:moveTo>
                        <a:pt x="776" y="160"/>
                      </a:moveTo>
                      <a:lnTo>
                        <a:pt x="838" y="319"/>
                      </a:lnTo>
                      <a:lnTo>
                        <a:pt x="842" y="373"/>
                      </a:lnTo>
                      <a:lnTo>
                        <a:pt x="829" y="427"/>
                      </a:lnTo>
                      <a:lnTo>
                        <a:pt x="838" y="507"/>
                      </a:lnTo>
                      <a:lnTo>
                        <a:pt x="900" y="631"/>
                      </a:lnTo>
                      <a:lnTo>
                        <a:pt x="855" y="689"/>
                      </a:lnTo>
                      <a:lnTo>
                        <a:pt x="873" y="720"/>
                      </a:lnTo>
                      <a:lnTo>
                        <a:pt x="860" y="791"/>
                      </a:lnTo>
                      <a:lnTo>
                        <a:pt x="846" y="848"/>
                      </a:lnTo>
                      <a:lnTo>
                        <a:pt x="842" y="888"/>
                      </a:lnTo>
                      <a:lnTo>
                        <a:pt x="846" y="941"/>
                      </a:lnTo>
                      <a:lnTo>
                        <a:pt x="829" y="990"/>
                      </a:lnTo>
                      <a:lnTo>
                        <a:pt x="789" y="1008"/>
                      </a:lnTo>
                      <a:lnTo>
                        <a:pt x="727" y="1021"/>
                      </a:lnTo>
                      <a:lnTo>
                        <a:pt x="554" y="1118"/>
                      </a:lnTo>
                      <a:lnTo>
                        <a:pt x="62" y="808"/>
                      </a:lnTo>
                      <a:lnTo>
                        <a:pt x="53" y="689"/>
                      </a:lnTo>
                      <a:lnTo>
                        <a:pt x="22" y="600"/>
                      </a:lnTo>
                      <a:lnTo>
                        <a:pt x="13" y="542"/>
                      </a:lnTo>
                      <a:lnTo>
                        <a:pt x="0" y="463"/>
                      </a:lnTo>
                      <a:lnTo>
                        <a:pt x="13" y="359"/>
                      </a:lnTo>
                      <a:lnTo>
                        <a:pt x="40" y="253"/>
                      </a:lnTo>
                      <a:lnTo>
                        <a:pt x="71" y="178"/>
                      </a:lnTo>
                      <a:lnTo>
                        <a:pt x="124" y="120"/>
                      </a:lnTo>
                      <a:lnTo>
                        <a:pt x="191" y="58"/>
                      </a:lnTo>
                      <a:lnTo>
                        <a:pt x="270" y="22"/>
                      </a:lnTo>
                      <a:lnTo>
                        <a:pt x="368" y="5"/>
                      </a:lnTo>
                      <a:lnTo>
                        <a:pt x="443" y="0"/>
                      </a:lnTo>
                      <a:lnTo>
                        <a:pt x="532" y="5"/>
                      </a:lnTo>
                      <a:lnTo>
                        <a:pt x="634" y="27"/>
                      </a:lnTo>
                      <a:lnTo>
                        <a:pt x="709" y="71"/>
                      </a:lnTo>
                      <a:lnTo>
                        <a:pt x="776" y="16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72280" y="5351400"/>
                  <a:ext cx="531360" cy="600480"/>
                </a:xfrm>
                <a:custGeom>
                  <a:avLst/>
                  <a:gdLst/>
                  <a:ahLst/>
                  <a:rect l="l" t="t" r="r" b="b"/>
                  <a:pathLst>
                    <a:path w="922" h="945">
                      <a:moveTo>
                        <a:pt x="76" y="835"/>
                      </a:moveTo>
                      <a:lnTo>
                        <a:pt x="58" y="719"/>
                      </a:lnTo>
                      <a:lnTo>
                        <a:pt x="40" y="671"/>
                      </a:lnTo>
                      <a:lnTo>
                        <a:pt x="9" y="595"/>
                      </a:lnTo>
                      <a:lnTo>
                        <a:pt x="0" y="533"/>
                      </a:lnTo>
                      <a:lnTo>
                        <a:pt x="0" y="457"/>
                      </a:lnTo>
                      <a:lnTo>
                        <a:pt x="14" y="359"/>
                      </a:lnTo>
                      <a:lnTo>
                        <a:pt x="49" y="262"/>
                      </a:lnTo>
                      <a:lnTo>
                        <a:pt x="93" y="173"/>
                      </a:lnTo>
                      <a:lnTo>
                        <a:pt x="151" y="102"/>
                      </a:lnTo>
                      <a:lnTo>
                        <a:pt x="204" y="58"/>
                      </a:lnTo>
                      <a:lnTo>
                        <a:pt x="275" y="18"/>
                      </a:lnTo>
                      <a:lnTo>
                        <a:pt x="350" y="0"/>
                      </a:lnTo>
                      <a:lnTo>
                        <a:pt x="465" y="0"/>
                      </a:lnTo>
                      <a:lnTo>
                        <a:pt x="590" y="18"/>
                      </a:lnTo>
                      <a:lnTo>
                        <a:pt x="683" y="18"/>
                      </a:lnTo>
                      <a:lnTo>
                        <a:pt x="767" y="27"/>
                      </a:lnTo>
                      <a:lnTo>
                        <a:pt x="802" y="36"/>
                      </a:lnTo>
                      <a:lnTo>
                        <a:pt x="838" y="62"/>
                      </a:lnTo>
                      <a:lnTo>
                        <a:pt x="869" y="120"/>
                      </a:lnTo>
                      <a:lnTo>
                        <a:pt x="891" y="160"/>
                      </a:lnTo>
                      <a:lnTo>
                        <a:pt x="922" y="204"/>
                      </a:lnTo>
                      <a:lnTo>
                        <a:pt x="900" y="270"/>
                      </a:lnTo>
                      <a:lnTo>
                        <a:pt x="873" y="332"/>
                      </a:lnTo>
                      <a:lnTo>
                        <a:pt x="873" y="363"/>
                      </a:lnTo>
                      <a:lnTo>
                        <a:pt x="860" y="403"/>
                      </a:lnTo>
                      <a:lnTo>
                        <a:pt x="855" y="452"/>
                      </a:lnTo>
                      <a:lnTo>
                        <a:pt x="829" y="474"/>
                      </a:lnTo>
                      <a:lnTo>
                        <a:pt x="811" y="622"/>
                      </a:lnTo>
                      <a:lnTo>
                        <a:pt x="784" y="649"/>
                      </a:lnTo>
                      <a:lnTo>
                        <a:pt x="758" y="644"/>
                      </a:lnTo>
                      <a:lnTo>
                        <a:pt x="740" y="609"/>
                      </a:lnTo>
                      <a:lnTo>
                        <a:pt x="714" y="569"/>
                      </a:lnTo>
                      <a:lnTo>
                        <a:pt x="678" y="569"/>
                      </a:lnTo>
                      <a:lnTo>
                        <a:pt x="660" y="622"/>
                      </a:lnTo>
                      <a:lnTo>
                        <a:pt x="652" y="697"/>
                      </a:lnTo>
                      <a:lnTo>
                        <a:pt x="660" y="759"/>
                      </a:lnTo>
                      <a:lnTo>
                        <a:pt x="674" y="795"/>
                      </a:lnTo>
                      <a:lnTo>
                        <a:pt x="700" y="821"/>
                      </a:lnTo>
                      <a:lnTo>
                        <a:pt x="749" y="852"/>
                      </a:lnTo>
                      <a:lnTo>
                        <a:pt x="678" y="839"/>
                      </a:lnTo>
                      <a:lnTo>
                        <a:pt x="643" y="839"/>
                      </a:lnTo>
                      <a:lnTo>
                        <a:pt x="634" y="852"/>
                      </a:lnTo>
                      <a:lnTo>
                        <a:pt x="581" y="910"/>
                      </a:lnTo>
                      <a:lnTo>
                        <a:pt x="545" y="919"/>
                      </a:lnTo>
                      <a:lnTo>
                        <a:pt x="501" y="937"/>
                      </a:lnTo>
                      <a:lnTo>
                        <a:pt x="465" y="945"/>
                      </a:lnTo>
                      <a:lnTo>
                        <a:pt x="324" y="928"/>
                      </a:lnTo>
                      <a:lnTo>
                        <a:pt x="262" y="923"/>
                      </a:lnTo>
                      <a:lnTo>
                        <a:pt x="253" y="906"/>
                      </a:lnTo>
                      <a:lnTo>
                        <a:pt x="177" y="879"/>
                      </a:lnTo>
                      <a:lnTo>
                        <a:pt x="124" y="870"/>
                      </a:lnTo>
                      <a:lnTo>
                        <a:pt x="76" y="835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2224080" y="5601960"/>
                <a:ext cx="137160" cy="180360"/>
              </a:xfrm>
              <a:custGeom>
                <a:avLst/>
                <a:gdLst/>
                <a:ahLst/>
                <a:rect l="l" t="t" r="r" b="b"/>
                <a:pathLst>
                  <a:path w="238" h="284">
                    <a:moveTo>
                      <a:pt x="25" y="89"/>
                    </a:moveTo>
                    <a:lnTo>
                      <a:pt x="173" y="22"/>
                    </a:lnTo>
                    <a:lnTo>
                      <a:pt x="123" y="22"/>
                    </a:lnTo>
                    <a:lnTo>
                      <a:pt x="127" y="0"/>
                    </a:lnTo>
                    <a:lnTo>
                      <a:pt x="233" y="3"/>
                    </a:lnTo>
                    <a:lnTo>
                      <a:pt x="238" y="22"/>
                    </a:lnTo>
                    <a:lnTo>
                      <a:pt x="217" y="52"/>
                    </a:lnTo>
                    <a:lnTo>
                      <a:pt x="222" y="103"/>
                    </a:lnTo>
                    <a:lnTo>
                      <a:pt x="222" y="160"/>
                    </a:lnTo>
                    <a:lnTo>
                      <a:pt x="220" y="196"/>
                    </a:lnTo>
                    <a:lnTo>
                      <a:pt x="208" y="232"/>
                    </a:lnTo>
                    <a:lnTo>
                      <a:pt x="193" y="253"/>
                    </a:lnTo>
                    <a:lnTo>
                      <a:pt x="176" y="272"/>
                    </a:lnTo>
                    <a:lnTo>
                      <a:pt x="154" y="279"/>
                    </a:lnTo>
                    <a:lnTo>
                      <a:pt x="131" y="284"/>
                    </a:lnTo>
                    <a:lnTo>
                      <a:pt x="131" y="270"/>
                    </a:lnTo>
                    <a:lnTo>
                      <a:pt x="162" y="253"/>
                    </a:lnTo>
                    <a:lnTo>
                      <a:pt x="185" y="226"/>
                    </a:lnTo>
                    <a:lnTo>
                      <a:pt x="202" y="165"/>
                    </a:lnTo>
                    <a:lnTo>
                      <a:pt x="204" y="120"/>
                    </a:lnTo>
                    <a:lnTo>
                      <a:pt x="195" y="75"/>
                    </a:lnTo>
                    <a:lnTo>
                      <a:pt x="0" y="183"/>
                    </a:lnTo>
                    <a:lnTo>
                      <a:pt x="25" y="89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790000" y="5174640"/>
              <a:ext cx="25200" cy="22680"/>
            </a:xfrm>
            <a:prstGeom prst="rect">
              <a:avLst/>
            </a:prstGeom>
            <a:solidFill>
              <a:srgbClr val="fad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1960" y="4841280"/>
              <a:ext cx="27720" cy="8388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0" y="133"/>
                  </a:moveTo>
                  <a:lnTo>
                    <a:pt x="24" y="18"/>
                  </a:lnTo>
                  <a:lnTo>
                    <a:pt x="33" y="9"/>
                  </a:lnTo>
                  <a:lnTo>
                    <a:pt x="49" y="0"/>
                  </a:lnTo>
                  <a:lnTo>
                    <a:pt x="28" y="114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e56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09560" y="5653080"/>
              <a:ext cx="23040" cy="216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0" y="34"/>
                  </a:moveTo>
                  <a:lnTo>
                    <a:pt x="36" y="0"/>
                  </a:lnTo>
                  <a:lnTo>
                    <a:pt x="40" y="3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8200" y="5351400"/>
              <a:ext cx="68040" cy="149760"/>
            </a:xfrm>
            <a:custGeom>
              <a:avLst/>
              <a:gdLst/>
              <a:ahLst/>
              <a:rect l="l" t="t" r="r" b="b"/>
              <a:pathLst>
                <a:path w="118" h="238">
                  <a:moveTo>
                    <a:pt x="35" y="13"/>
                  </a:moveTo>
                  <a:lnTo>
                    <a:pt x="44" y="36"/>
                  </a:lnTo>
                  <a:lnTo>
                    <a:pt x="52" y="64"/>
                  </a:lnTo>
                  <a:lnTo>
                    <a:pt x="55" y="89"/>
                  </a:lnTo>
                  <a:lnTo>
                    <a:pt x="53" y="114"/>
                  </a:lnTo>
                  <a:lnTo>
                    <a:pt x="47" y="149"/>
                  </a:lnTo>
                  <a:lnTo>
                    <a:pt x="35" y="169"/>
                  </a:lnTo>
                  <a:lnTo>
                    <a:pt x="19" y="194"/>
                  </a:lnTo>
                  <a:lnTo>
                    <a:pt x="0" y="213"/>
                  </a:lnTo>
                  <a:lnTo>
                    <a:pt x="12" y="226"/>
                  </a:lnTo>
                  <a:lnTo>
                    <a:pt x="21" y="231"/>
                  </a:lnTo>
                  <a:lnTo>
                    <a:pt x="29" y="231"/>
                  </a:lnTo>
                  <a:lnTo>
                    <a:pt x="38" y="231"/>
                  </a:lnTo>
                  <a:lnTo>
                    <a:pt x="47" y="226"/>
                  </a:lnTo>
                  <a:lnTo>
                    <a:pt x="56" y="225"/>
                  </a:lnTo>
                  <a:lnTo>
                    <a:pt x="69" y="225"/>
                  </a:lnTo>
                  <a:lnTo>
                    <a:pt x="74" y="228"/>
                  </a:lnTo>
                  <a:lnTo>
                    <a:pt x="78" y="234"/>
                  </a:lnTo>
                  <a:lnTo>
                    <a:pt x="90" y="238"/>
                  </a:lnTo>
                  <a:lnTo>
                    <a:pt x="102" y="232"/>
                  </a:lnTo>
                  <a:lnTo>
                    <a:pt x="109" y="213"/>
                  </a:lnTo>
                  <a:lnTo>
                    <a:pt x="115" y="176"/>
                  </a:lnTo>
                  <a:lnTo>
                    <a:pt x="118" y="137"/>
                  </a:lnTo>
                  <a:lnTo>
                    <a:pt x="117" y="95"/>
                  </a:lnTo>
                  <a:lnTo>
                    <a:pt x="112" y="65"/>
                  </a:lnTo>
                  <a:lnTo>
                    <a:pt x="100" y="27"/>
                  </a:lnTo>
                  <a:lnTo>
                    <a:pt x="94" y="13"/>
                  </a:lnTo>
                  <a:lnTo>
                    <a:pt x="87" y="5"/>
                  </a:lnTo>
                  <a:lnTo>
                    <a:pt x="74" y="0"/>
                  </a:lnTo>
                  <a:lnTo>
                    <a:pt x="60" y="0"/>
                  </a:lnTo>
                  <a:lnTo>
                    <a:pt x="46" y="5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5f3f"/>
            </a:solidFill>
            <a:ln w="936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24680" y="5270040"/>
              <a:ext cx="515160" cy="773280"/>
              <a:chOff x="2524680" y="5270040"/>
              <a:chExt cx="515160" cy="773280"/>
            </a:xfrm>
          </p:grpSpPr>
          <p:sp>
            <p:nvSpPr>
              <p:cNvPr id="180" name=""/>
              <p:cNvSpPr/>
              <p:nvPr/>
            </p:nvSpPr>
            <p:spPr>
              <a:xfrm>
                <a:off x="2524680" y="5297760"/>
                <a:ext cx="492120" cy="745560"/>
              </a:xfrm>
              <a:custGeom>
                <a:avLst/>
                <a:gdLst/>
                <a:ahLst/>
                <a:rect l="l" t="t" r="r" b="b"/>
                <a:pathLst>
                  <a:path w="852" h="1172">
                    <a:moveTo>
                      <a:pt x="84" y="297"/>
                    </a:moveTo>
                    <a:lnTo>
                      <a:pt x="44" y="448"/>
                    </a:lnTo>
                    <a:lnTo>
                      <a:pt x="26" y="537"/>
                    </a:lnTo>
                    <a:lnTo>
                      <a:pt x="4" y="627"/>
                    </a:lnTo>
                    <a:lnTo>
                      <a:pt x="0" y="724"/>
                    </a:lnTo>
                    <a:lnTo>
                      <a:pt x="9" y="795"/>
                    </a:lnTo>
                    <a:lnTo>
                      <a:pt x="22" y="839"/>
                    </a:lnTo>
                    <a:lnTo>
                      <a:pt x="26" y="910"/>
                    </a:lnTo>
                    <a:lnTo>
                      <a:pt x="66" y="955"/>
                    </a:lnTo>
                    <a:lnTo>
                      <a:pt x="97" y="1021"/>
                    </a:lnTo>
                    <a:lnTo>
                      <a:pt x="168" y="1172"/>
                    </a:lnTo>
                    <a:lnTo>
                      <a:pt x="772" y="1043"/>
                    </a:lnTo>
                    <a:lnTo>
                      <a:pt x="746" y="928"/>
                    </a:lnTo>
                    <a:lnTo>
                      <a:pt x="786" y="835"/>
                    </a:lnTo>
                    <a:lnTo>
                      <a:pt x="821" y="711"/>
                    </a:lnTo>
                    <a:lnTo>
                      <a:pt x="848" y="569"/>
                    </a:lnTo>
                    <a:lnTo>
                      <a:pt x="852" y="439"/>
                    </a:lnTo>
                    <a:lnTo>
                      <a:pt x="834" y="311"/>
                    </a:lnTo>
                    <a:lnTo>
                      <a:pt x="799" y="209"/>
                    </a:lnTo>
                    <a:lnTo>
                      <a:pt x="724" y="107"/>
                    </a:lnTo>
                    <a:lnTo>
                      <a:pt x="648" y="45"/>
                    </a:lnTo>
                    <a:lnTo>
                      <a:pt x="577" y="18"/>
                    </a:lnTo>
                    <a:lnTo>
                      <a:pt x="484" y="5"/>
                    </a:lnTo>
                    <a:lnTo>
                      <a:pt x="374" y="0"/>
                    </a:lnTo>
                    <a:lnTo>
                      <a:pt x="289" y="18"/>
                    </a:lnTo>
                    <a:lnTo>
                      <a:pt x="226" y="58"/>
                    </a:lnTo>
                    <a:lnTo>
                      <a:pt x="159" y="111"/>
                    </a:lnTo>
                    <a:lnTo>
                      <a:pt x="124" y="169"/>
                    </a:lnTo>
                    <a:lnTo>
                      <a:pt x="93" y="240"/>
                    </a:lnTo>
                    <a:lnTo>
                      <a:pt x="84" y="297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24680" y="5270040"/>
                <a:ext cx="515160" cy="674280"/>
              </a:xfrm>
              <a:custGeom>
                <a:avLst/>
                <a:gdLst/>
                <a:ahLst/>
                <a:rect l="l" t="t" r="r" b="b"/>
                <a:pathLst>
                  <a:path w="892" h="1061">
                    <a:moveTo>
                      <a:pt x="111" y="204"/>
                    </a:moveTo>
                    <a:lnTo>
                      <a:pt x="128" y="137"/>
                    </a:lnTo>
                    <a:lnTo>
                      <a:pt x="164" y="71"/>
                    </a:lnTo>
                    <a:lnTo>
                      <a:pt x="208" y="40"/>
                    </a:lnTo>
                    <a:lnTo>
                      <a:pt x="258" y="18"/>
                    </a:lnTo>
                    <a:lnTo>
                      <a:pt x="347" y="0"/>
                    </a:lnTo>
                    <a:lnTo>
                      <a:pt x="413" y="0"/>
                    </a:lnTo>
                    <a:lnTo>
                      <a:pt x="498" y="0"/>
                    </a:lnTo>
                    <a:lnTo>
                      <a:pt x="564" y="13"/>
                    </a:lnTo>
                    <a:lnTo>
                      <a:pt x="608" y="36"/>
                    </a:lnTo>
                    <a:lnTo>
                      <a:pt x="644" y="53"/>
                    </a:lnTo>
                    <a:lnTo>
                      <a:pt x="693" y="93"/>
                    </a:lnTo>
                    <a:lnTo>
                      <a:pt x="737" y="133"/>
                    </a:lnTo>
                    <a:lnTo>
                      <a:pt x="772" y="164"/>
                    </a:lnTo>
                    <a:lnTo>
                      <a:pt x="808" y="204"/>
                    </a:lnTo>
                    <a:lnTo>
                      <a:pt x="843" y="266"/>
                    </a:lnTo>
                    <a:lnTo>
                      <a:pt x="861" y="332"/>
                    </a:lnTo>
                    <a:lnTo>
                      <a:pt x="883" y="425"/>
                    </a:lnTo>
                    <a:lnTo>
                      <a:pt x="892" y="496"/>
                    </a:lnTo>
                    <a:lnTo>
                      <a:pt x="888" y="572"/>
                    </a:lnTo>
                    <a:lnTo>
                      <a:pt x="883" y="649"/>
                    </a:lnTo>
                    <a:lnTo>
                      <a:pt x="861" y="733"/>
                    </a:lnTo>
                    <a:lnTo>
                      <a:pt x="839" y="821"/>
                    </a:lnTo>
                    <a:lnTo>
                      <a:pt x="821" y="906"/>
                    </a:lnTo>
                    <a:lnTo>
                      <a:pt x="786" y="968"/>
                    </a:lnTo>
                    <a:lnTo>
                      <a:pt x="746" y="994"/>
                    </a:lnTo>
                    <a:lnTo>
                      <a:pt x="697" y="1016"/>
                    </a:lnTo>
                    <a:lnTo>
                      <a:pt x="644" y="1034"/>
                    </a:lnTo>
                    <a:lnTo>
                      <a:pt x="608" y="1052"/>
                    </a:lnTo>
                    <a:lnTo>
                      <a:pt x="560" y="1061"/>
                    </a:lnTo>
                    <a:lnTo>
                      <a:pt x="515" y="1056"/>
                    </a:lnTo>
                    <a:lnTo>
                      <a:pt x="449" y="1038"/>
                    </a:lnTo>
                    <a:lnTo>
                      <a:pt x="397" y="1036"/>
                    </a:lnTo>
                    <a:lnTo>
                      <a:pt x="372" y="1030"/>
                    </a:lnTo>
                    <a:lnTo>
                      <a:pt x="376" y="1047"/>
                    </a:lnTo>
                    <a:lnTo>
                      <a:pt x="226" y="1021"/>
                    </a:lnTo>
                    <a:lnTo>
                      <a:pt x="244" y="968"/>
                    </a:lnTo>
                    <a:lnTo>
                      <a:pt x="241" y="942"/>
                    </a:lnTo>
                    <a:lnTo>
                      <a:pt x="239" y="919"/>
                    </a:lnTo>
                    <a:lnTo>
                      <a:pt x="233" y="891"/>
                    </a:lnTo>
                    <a:lnTo>
                      <a:pt x="226" y="876"/>
                    </a:lnTo>
                    <a:lnTo>
                      <a:pt x="211" y="857"/>
                    </a:lnTo>
                    <a:lnTo>
                      <a:pt x="229" y="836"/>
                    </a:lnTo>
                    <a:lnTo>
                      <a:pt x="245" y="811"/>
                    </a:lnTo>
                    <a:lnTo>
                      <a:pt x="251" y="789"/>
                    </a:lnTo>
                    <a:lnTo>
                      <a:pt x="239" y="737"/>
                    </a:lnTo>
                    <a:lnTo>
                      <a:pt x="235" y="671"/>
                    </a:lnTo>
                    <a:lnTo>
                      <a:pt x="204" y="631"/>
                    </a:lnTo>
                    <a:lnTo>
                      <a:pt x="159" y="618"/>
                    </a:lnTo>
                    <a:lnTo>
                      <a:pt x="115" y="581"/>
                    </a:lnTo>
                    <a:lnTo>
                      <a:pt x="84" y="581"/>
                    </a:lnTo>
                    <a:lnTo>
                      <a:pt x="53" y="618"/>
                    </a:lnTo>
                    <a:lnTo>
                      <a:pt x="53" y="671"/>
                    </a:lnTo>
                    <a:lnTo>
                      <a:pt x="74" y="712"/>
                    </a:lnTo>
                    <a:lnTo>
                      <a:pt x="78" y="774"/>
                    </a:lnTo>
                    <a:lnTo>
                      <a:pt x="62" y="770"/>
                    </a:lnTo>
                    <a:lnTo>
                      <a:pt x="46" y="758"/>
                    </a:lnTo>
                    <a:lnTo>
                      <a:pt x="26" y="622"/>
                    </a:lnTo>
                    <a:lnTo>
                      <a:pt x="0" y="532"/>
                    </a:lnTo>
                    <a:lnTo>
                      <a:pt x="18" y="461"/>
                    </a:lnTo>
                    <a:lnTo>
                      <a:pt x="31" y="381"/>
                    </a:lnTo>
                    <a:lnTo>
                      <a:pt x="44" y="297"/>
                    </a:lnTo>
                    <a:lnTo>
                      <a:pt x="44" y="257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811520" y="5848920"/>
              <a:ext cx="361440" cy="174240"/>
            </a:xfrm>
            <a:custGeom>
              <a:avLst/>
              <a:gdLst/>
              <a:ahLst/>
              <a:rect l="l" t="t" r="r" b="b"/>
              <a:pathLst>
                <a:path w="624" h="275">
                  <a:moveTo>
                    <a:pt x="0" y="32"/>
                  </a:moveTo>
                  <a:lnTo>
                    <a:pt x="13" y="0"/>
                  </a:lnTo>
                  <a:lnTo>
                    <a:pt x="90" y="4"/>
                  </a:lnTo>
                  <a:lnTo>
                    <a:pt x="174" y="19"/>
                  </a:lnTo>
                  <a:lnTo>
                    <a:pt x="301" y="62"/>
                  </a:lnTo>
                  <a:lnTo>
                    <a:pt x="367" y="90"/>
                  </a:lnTo>
                  <a:lnTo>
                    <a:pt x="443" y="124"/>
                  </a:lnTo>
                  <a:lnTo>
                    <a:pt x="524" y="161"/>
                  </a:lnTo>
                  <a:lnTo>
                    <a:pt x="593" y="199"/>
                  </a:lnTo>
                  <a:lnTo>
                    <a:pt x="617" y="226"/>
                  </a:lnTo>
                  <a:lnTo>
                    <a:pt x="624" y="27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080" y="5743440"/>
              <a:ext cx="2399400" cy="430200"/>
            </a:xfrm>
            <a:custGeom>
              <a:avLst/>
              <a:gdLst/>
              <a:ahLst/>
              <a:rect l="l" t="t" r="r" b="b"/>
              <a:pathLst>
                <a:path w="4155" h="675">
                  <a:moveTo>
                    <a:pt x="18" y="487"/>
                  </a:moveTo>
                  <a:lnTo>
                    <a:pt x="177" y="291"/>
                  </a:lnTo>
                  <a:lnTo>
                    <a:pt x="266" y="205"/>
                  </a:lnTo>
                  <a:lnTo>
                    <a:pt x="344" y="140"/>
                  </a:lnTo>
                  <a:lnTo>
                    <a:pt x="468" y="38"/>
                  </a:lnTo>
                  <a:lnTo>
                    <a:pt x="521" y="0"/>
                  </a:lnTo>
                  <a:lnTo>
                    <a:pt x="883" y="177"/>
                  </a:lnTo>
                  <a:lnTo>
                    <a:pt x="963" y="271"/>
                  </a:lnTo>
                  <a:lnTo>
                    <a:pt x="1025" y="347"/>
                  </a:lnTo>
                  <a:lnTo>
                    <a:pt x="1097" y="431"/>
                  </a:lnTo>
                  <a:lnTo>
                    <a:pt x="1133" y="487"/>
                  </a:lnTo>
                  <a:lnTo>
                    <a:pt x="1353" y="366"/>
                  </a:lnTo>
                  <a:lnTo>
                    <a:pt x="1450" y="310"/>
                  </a:lnTo>
                  <a:lnTo>
                    <a:pt x="1582" y="262"/>
                  </a:lnTo>
                  <a:lnTo>
                    <a:pt x="1688" y="177"/>
                  </a:lnTo>
                  <a:lnTo>
                    <a:pt x="1856" y="224"/>
                  </a:lnTo>
                  <a:lnTo>
                    <a:pt x="1997" y="280"/>
                  </a:lnTo>
                  <a:lnTo>
                    <a:pt x="2139" y="338"/>
                  </a:lnTo>
                  <a:lnTo>
                    <a:pt x="2156" y="347"/>
                  </a:lnTo>
                  <a:lnTo>
                    <a:pt x="2263" y="366"/>
                  </a:lnTo>
                  <a:lnTo>
                    <a:pt x="2378" y="487"/>
                  </a:lnTo>
                  <a:lnTo>
                    <a:pt x="2440" y="561"/>
                  </a:lnTo>
                  <a:lnTo>
                    <a:pt x="2589" y="638"/>
                  </a:lnTo>
                  <a:lnTo>
                    <a:pt x="3014" y="413"/>
                  </a:lnTo>
                  <a:lnTo>
                    <a:pt x="3633" y="271"/>
                  </a:lnTo>
                  <a:lnTo>
                    <a:pt x="3864" y="347"/>
                  </a:lnTo>
                  <a:lnTo>
                    <a:pt x="4093" y="496"/>
                  </a:lnTo>
                  <a:lnTo>
                    <a:pt x="4155" y="675"/>
                  </a:lnTo>
                  <a:lnTo>
                    <a:pt x="0" y="675"/>
                  </a:lnTo>
                  <a:lnTo>
                    <a:pt x="18" y="48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00160" y="5864040"/>
              <a:ext cx="302400" cy="237960"/>
            </a:xfrm>
            <a:custGeom>
              <a:avLst/>
              <a:gdLst/>
              <a:ahLst/>
              <a:rect l="l" t="t" r="r" b="b"/>
              <a:pathLst>
                <a:path w="525" h="375">
                  <a:moveTo>
                    <a:pt x="0" y="0"/>
                  </a:moveTo>
                  <a:lnTo>
                    <a:pt x="254" y="60"/>
                  </a:lnTo>
                  <a:lnTo>
                    <a:pt x="342" y="93"/>
                  </a:lnTo>
                  <a:lnTo>
                    <a:pt x="387" y="119"/>
                  </a:lnTo>
                  <a:lnTo>
                    <a:pt x="435" y="158"/>
                  </a:lnTo>
                  <a:lnTo>
                    <a:pt x="476" y="208"/>
                  </a:lnTo>
                  <a:lnTo>
                    <a:pt x="503" y="260"/>
                  </a:lnTo>
                  <a:lnTo>
                    <a:pt x="525" y="314"/>
                  </a:lnTo>
                  <a:lnTo>
                    <a:pt x="485" y="375"/>
                  </a:lnTo>
                  <a:lnTo>
                    <a:pt x="466" y="310"/>
                  </a:lnTo>
                  <a:lnTo>
                    <a:pt x="432" y="252"/>
                  </a:lnTo>
                  <a:lnTo>
                    <a:pt x="401" y="212"/>
                  </a:lnTo>
                  <a:lnTo>
                    <a:pt x="373" y="184"/>
                  </a:lnTo>
                  <a:lnTo>
                    <a:pt x="321" y="153"/>
                  </a:lnTo>
                  <a:lnTo>
                    <a:pt x="262" y="124"/>
                  </a:lnTo>
                  <a:lnTo>
                    <a:pt x="179" y="88"/>
                  </a:lnTo>
                  <a:lnTo>
                    <a:pt x="99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1455840" cy="1716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62520" y="4038480"/>
            <a:ext cx="2046240" cy="2210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 rot="16200000">
            <a:off x="4456440" y="1181160"/>
            <a:ext cx="457200" cy="533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0080" y="695160"/>
            <a:ext cx="1702080" cy="673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imes New Roman"/>
              </a:rPr>
              <a:t>M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0080" y="2448000"/>
            <a:ext cx="2159280" cy="673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imes New Roman"/>
              </a:rPr>
              <a:t>LUOGH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0080" y="4276800"/>
            <a:ext cx="1702080" cy="673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imes New Roman"/>
              </a:rPr>
              <a:t>TEM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7240" y="3201840"/>
            <a:ext cx="7845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Times New Roman"/>
              </a:rPr>
              <a:t>I luoghi in cui l’informazione deve essere fornita, insieme </a:t>
            </a:r>
            <a:r>
              <a:rPr b="1" lang="it-IT" sz="1800" spc="-1" strike="noStrike" u="sng">
                <a:solidFill>
                  <a:srgbClr val="808080"/>
                </a:solidFill>
                <a:uFillTx/>
                <a:latin typeface="Times New Roman"/>
              </a:rPr>
              <a:t>all’ubicazione delle sorgenti dei dati</a:t>
            </a:r>
            <a:r>
              <a:rPr b="1" lang="it-IT" sz="18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0" lang="it-IT" sz="1800" spc="-1" strike="noStrike">
                <a:solidFill>
                  <a:srgbClr val="808080"/>
                </a:solidFill>
                <a:latin typeface="Times New Roman"/>
              </a:rPr>
              <a:t>sono un elemento fondamentale per definire la logistica  del processo di produzione delle informazioni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7240" y="1452600"/>
            <a:ext cx="7921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Times New Roman"/>
              </a:rPr>
              <a:t>I modi rappresentano l’aspetto e le modalità di presentazione dell’informazione, per esempio il supporto sul quale viene fornita, il formato (grafico, relazione, tabella) l’evento attivatore della sua diffusione (riunione, pubblicazione, video, ec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560" y="5030640"/>
            <a:ext cx="769320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Times New Roman"/>
              </a:rPr>
              <a:t>I tempi secondo cui l’informazione deve essere fornita sono determinanti per stabilire la tempificazione con cui essa va prodot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Times New Roman"/>
              </a:rPr>
              <a:t>Es.: deve essere fornita su richiesta  oppure con scadenze prestabili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09:35:03Z</dcterms:created>
  <dc:creator>Standard</dc:creator>
  <dc:description/>
  <dc:language>en-US</dc:language>
  <cp:lastModifiedBy>Marino Marino</cp:lastModifiedBy>
  <dcterms:modified xsi:type="dcterms:W3CDTF">2002-11-07T22:36:38Z</dcterms:modified>
  <cp:revision>12</cp:revision>
  <dc:subject/>
  <dc:title>Nessun titolo diapositiva</dc:title>
</cp:coreProperties>
</file>