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F12-30F9-42F6-8D11-17536F9B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045-9454-414F-BCEF-EE5B76E7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8F0-5394-44DF-A17D-7DCF1EC3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282-3A33-4D5E-BB2F-622BAF4C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99-B01E-48C4-B4E3-EB610E2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119-7F69-4F7B-B42C-3BA8563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679-E733-447D-92BF-5C4DFB77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D34-2E5E-4480-8FAD-BA20122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E09-FBF0-4E00-BD46-C1690BF2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AC9-702A-4981-ADD9-4689951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483-C0B2-43EC-A394-AF5F56B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18C-F911-41DB-B14E-1078699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3D16-347C-4612-9045-93B121FF9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cuol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410080"/>
            <a:ext cx="9144000" cy="4777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ff33"/>
                </a:solidFill>
                <a:latin typeface="Tahoma"/>
              </a:rPr>
              <a:t>La valutazione dei risult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4480" y="64911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720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66ff33"/>
                </a:solidFill>
                <a:latin typeface="Tahoma"/>
              </a:rPr>
              <a:t>SCUO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791320"/>
            <a:ext cx="9144000" cy="642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ff33"/>
                </a:solidFill>
                <a:latin typeface="Tahoma"/>
              </a:rPr>
              <a:t>e il miglioramento del serviz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28600" y="946080"/>
            <a:ext cx="1752480" cy="1904760"/>
            <a:chOff x="228600" y="946080"/>
            <a:chExt cx="1752480" cy="1904760"/>
          </a:xfrm>
        </p:grpSpPr>
        <p:sp>
          <p:nvSpPr>
            <p:cNvPr id="166" name=""/>
            <p:cNvSpPr/>
            <p:nvPr/>
          </p:nvSpPr>
          <p:spPr>
            <a:xfrm>
              <a:off x="228600" y="946080"/>
              <a:ext cx="1752480" cy="5331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poli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8600" y="2317680"/>
              <a:ext cx="1752480" cy="5331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leader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1631880"/>
              <a:ext cx="1752480" cy="53316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trateg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858000" y="946080"/>
            <a:ext cx="1981080" cy="3353040"/>
            <a:chOff x="6858000" y="946080"/>
            <a:chExt cx="1981080" cy="3353040"/>
          </a:xfrm>
        </p:grpSpPr>
        <p:sp>
          <p:nvSpPr>
            <p:cNvPr id="170" name=""/>
            <p:cNvSpPr/>
            <p:nvPr/>
          </p:nvSpPr>
          <p:spPr>
            <a:xfrm>
              <a:off x="6858000" y="3384720"/>
              <a:ext cx="1981080" cy="914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oddisfazione domanda collet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0" y="2394000"/>
              <a:ext cx="198108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oddisfazione domanda individu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0" y="1631880"/>
              <a:ext cx="1981080" cy="533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Output de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0" y="946080"/>
              <a:ext cx="1981080" cy="5335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Output di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362320" y="557280"/>
            <a:ext cx="1752480" cy="2293920"/>
            <a:chOff x="2362320" y="557280"/>
            <a:chExt cx="1752480" cy="2293920"/>
          </a:xfrm>
        </p:grpSpPr>
        <p:grpSp>
          <p:nvGrpSpPr>
            <p:cNvPr id="178" name=""/>
            <p:cNvGrpSpPr/>
            <p:nvPr/>
          </p:nvGrpSpPr>
          <p:grpSpPr>
            <a:xfrm>
              <a:off x="2362320" y="946080"/>
              <a:ext cx="1752480" cy="1905120"/>
              <a:chOff x="2362320" y="946080"/>
              <a:chExt cx="1752480" cy="1905120"/>
            </a:xfrm>
          </p:grpSpPr>
          <p:sp>
            <p:nvSpPr>
              <p:cNvPr id="179" name=""/>
              <p:cNvSpPr/>
              <p:nvPr/>
            </p:nvSpPr>
            <p:spPr>
              <a:xfrm>
                <a:off x="2362320" y="2317680"/>
                <a:ext cx="1752480" cy="533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valut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62320" y="1631880"/>
                <a:ext cx="1752480" cy="533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organizz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62320" y="946080"/>
                <a:ext cx="1752480" cy="533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decis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362320" y="55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direzio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72000" y="565200"/>
            <a:ext cx="2057400" cy="2971440"/>
            <a:chOff x="4572000" y="565200"/>
            <a:chExt cx="2057400" cy="2971440"/>
          </a:xfrm>
        </p:grpSpPr>
        <p:grpSp>
          <p:nvGrpSpPr>
            <p:cNvPr id="184" name=""/>
            <p:cNvGrpSpPr/>
            <p:nvPr/>
          </p:nvGrpSpPr>
          <p:grpSpPr>
            <a:xfrm>
              <a:off x="4572000" y="946080"/>
              <a:ext cx="2057400" cy="2590560"/>
              <a:chOff x="4572000" y="946080"/>
              <a:chExt cx="2057400" cy="259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4572000" y="3003480"/>
                <a:ext cx="2057400" cy="53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Servizi di suppor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72000" y="2317680"/>
                <a:ext cx="2057400" cy="5331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Servizi tecnic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572000" y="1631880"/>
                <a:ext cx="175248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Servizi accessor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72000" y="946080"/>
                <a:ext cx="1752480" cy="5331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Servizi primar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72000" y="5652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di erog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72000" y="3581280"/>
            <a:ext cx="1828800" cy="2285640"/>
            <a:chOff x="4572000" y="3581280"/>
            <a:chExt cx="1828800" cy="2285640"/>
          </a:xfrm>
        </p:grpSpPr>
        <p:grpSp>
          <p:nvGrpSpPr>
            <p:cNvPr id="191" name=""/>
            <p:cNvGrpSpPr/>
            <p:nvPr/>
          </p:nvGrpSpPr>
          <p:grpSpPr>
            <a:xfrm>
              <a:off x="4572000" y="3962520"/>
              <a:ext cx="1828800" cy="1904400"/>
              <a:chOff x="4572000" y="3962520"/>
              <a:chExt cx="1828800" cy="1904400"/>
            </a:xfrm>
          </p:grpSpPr>
          <p:sp>
            <p:nvSpPr>
              <p:cNvPr id="192" name=""/>
              <p:cNvSpPr/>
              <p:nvPr/>
            </p:nvSpPr>
            <p:spPr>
              <a:xfrm>
                <a:off x="4572000" y="4647960"/>
                <a:ext cx="1828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Controllo risor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2000" y="5333760"/>
                <a:ext cx="1828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Controllo risultat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72000" y="3962520"/>
                <a:ext cx="1828800" cy="5331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Controllo proce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572000" y="3581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di contro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362320" y="3505320"/>
            <a:ext cx="1752480" cy="2361600"/>
            <a:chOff x="2362320" y="3505320"/>
            <a:chExt cx="1752480" cy="2361600"/>
          </a:xfrm>
        </p:grpSpPr>
        <p:grpSp>
          <p:nvGrpSpPr>
            <p:cNvPr id="197" name=""/>
            <p:cNvGrpSpPr/>
            <p:nvPr/>
          </p:nvGrpSpPr>
          <p:grpSpPr>
            <a:xfrm>
              <a:off x="2362320" y="3962520"/>
              <a:ext cx="1752480" cy="1904400"/>
              <a:chOff x="2362320" y="3962520"/>
              <a:chExt cx="1752480" cy="1904400"/>
            </a:xfrm>
          </p:grpSpPr>
          <p:sp>
            <p:nvSpPr>
              <p:cNvPr id="198" name=""/>
              <p:cNvSpPr/>
              <p:nvPr/>
            </p:nvSpPr>
            <p:spPr>
              <a:xfrm>
                <a:off x="2362320" y="4647960"/>
                <a:ext cx="1752480" cy="53316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Gestione fluss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62320" y="3962520"/>
                <a:ext cx="1752480" cy="53316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Gestione client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62320" y="5333760"/>
                <a:ext cx="1752480" cy="533160"/>
              </a:xfrm>
              <a:prstGeom prst="rect">
                <a:avLst/>
              </a:prstGeom>
              <a:solidFill>
                <a:srgbClr val="00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ahoma"/>
                  </a:rPr>
                  <a:t>Gestione risor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362320" y="35053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di gest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133720" y="228600"/>
            <a:ext cx="0" cy="60958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228600"/>
            <a:ext cx="0" cy="60199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01992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li elementi della valutazione dell’organizzazione scola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19051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1905120"/>
            <a:ext cx="17524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0" y="1219320"/>
            <a:ext cx="2057400" cy="2590560"/>
            <a:chOff x="4572000" y="1219320"/>
            <a:chExt cx="2057400" cy="2590560"/>
          </a:xfrm>
        </p:grpSpPr>
        <p:sp>
          <p:nvSpPr>
            <p:cNvPr id="209" name=""/>
            <p:cNvSpPr/>
            <p:nvPr/>
          </p:nvSpPr>
          <p:spPr>
            <a:xfrm>
              <a:off x="4572000" y="3276720"/>
              <a:ext cx="205740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rvizi di sup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2590920"/>
              <a:ext cx="2057400" cy="533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rvizi tec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1905120"/>
              <a:ext cx="1752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rvizi access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0" y="1219320"/>
              <a:ext cx="1752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Servizi prima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858000" y="1219320"/>
            <a:ext cx="19810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utput di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830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erog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28600"/>
            <a:ext cx="0" cy="38098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228600"/>
            <a:ext cx="0" cy="38098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114800"/>
            <a:ext cx="8305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risultati dei processi di erogazione (per ciascun servizio); i servizi primari producono “insegnamento” (forma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 di erogazione, della funzionalità dell’organizzazione, dell’efficacia della 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, dell’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01992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pplicazione della valutazione ai risultati di pro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12193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9051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17524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1219320"/>
            <a:ext cx="17524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9051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access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12193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prim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1219320"/>
            <a:ext cx="19810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utput del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830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erog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2860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228600"/>
            <a:ext cx="0" cy="28954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581280"/>
            <a:ext cx="83059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risultati dei processi di produzione dei servizi finali; i servizi primari e accessori producono “apprendimento” (competen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 di erogazione, della coerenza delle decisioni, della funzionalità dell’organizzazione, dell’efficacia della strategia e della 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, dell’organizzazione, della politica e della 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594360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pplicazione della valutazione ai risultati di prodotto (serviz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12193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19051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2438280"/>
            <a:ext cx="1752480" cy="533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estione cli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1219320"/>
            <a:ext cx="17524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19051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access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12193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prim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1295280"/>
            <a:ext cx="1981080" cy="8384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ddisfazione domanda individ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830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erog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1981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28600"/>
            <a:ext cx="0" cy="32004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28600"/>
            <a:ext cx="0" cy="31240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3657600"/>
            <a:ext cx="8305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risultati di soddisfazione del cliente per i servizi finali; i servizi primari e accessori producono risposta alla domanda di apprendimento individuale e di 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 di erogazione, della capacità di governo  dell’organizzazione, dell’efficacia della 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, della politica e della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586728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pplicazione della valutazione ai risultati di soddisfazione del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2193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o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905120"/>
            <a:ext cx="1752480" cy="533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2209680"/>
            <a:ext cx="1752480" cy="533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estion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1219320"/>
            <a:ext cx="1752480" cy="5331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19051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access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219320"/>
            <a:ext cx="175248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prim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1219320"/>
            <a:ext cx="19810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ddisfazione domanda col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830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erog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828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228600"/>
            <a:ext cx="0" cy="31240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228600"/>
            <a:ext cx="0" cy="30481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200400"/>
            <a:ext cx="8305920" cy="31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risultati di soddisfazione del sistema cliente (esterno) per i servizi finali e per la valorizzazione delle risorse assegnate all’organizzazione scolastica; i servizi primari e accessori producono risposta alla domanda di produzione delle competenze richieste dallo sviluppo del sistema es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 di erogazione, della capacità di governo  dell’organizzazione, della gestione delle risorse, dell’efficacia della politica e della 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, della gestione organizzativa, della politica e della 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601992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pplicazione della valutazione ai risultati per il sistema es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28600" y="1752480"/>
            <a:ext cx="175248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1066680"/>
            <a:ext cx="1752480" cy="533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2209680"/>
            <a:ext cx="1752480" cy="533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estione flu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2895480"/>
            <a:ext cx="1752480" cy="533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Gestion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1066680"/>
            <a:ext cx="175248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752480"/>
            <a:ext cx="2057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di supp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1066680"/>
            <a:ext cx="20574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zi tec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0" y="2514600"/>
            <a:ext cx="1981080" cy="838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ddisfazione domanda </a:t>
            </a:r>
            <a:r>
              <a:rPr b="1" i="1" lang="it-IT" sz="1800" spc="-1" strike="noStrike">
                <a:solidFill>
                  <a:srgbClr val="ff3300"/>
                </a:solidFill>
                <a:latin typeface="Tahoma"/>
              </a:rPr>
              <a:t>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1752480"/>
            <a:ext cx="19810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utput del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1066680"/>
            <a:ext cx="19810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utput di pro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228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677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re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erog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1752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33720" y="228600"/>
            <a:ext cx="0" cy="327672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228600"/>
            <a:ext cx="0" cy="320040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3505320"/>
            <a:ext cx="83059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gli output di processo e servizio, dei risultati di soddisfazione del cliente interno per il servizio; i servizi tecnici e di supporto producono risposta alle esigenze della funzione di produzione dei servizi fi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 e dei servizi di staff, della capacità di gestione dell’organizzazione, della gestione delle risorse e dei flussi, dell’efficacia della politica e della 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dei processi, della gestione organizzativa, della strategia e della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6019920"/>
            <a:ext cx="84582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pplicazione della valutazione ai risultati per il sistema in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1905120" y="1066680"/>
            <a:ext cx="5333760" cy="3429000"/>
            <a:chOff x="1905120" y="1066680"/>
            <a:chExt cx="5333760" cy="3429000"/>
          </a:xfrm>
        </p:grpSpPr>
        <p:sp>
          <p:nvSpPr>
            <p:cNvPr id="299" name=""/>
            <p:cNvSpPr/>
            <p:nvPr/>
          </p:nvSpPr>
          <p:spPr>
            <a:xfrm>
              <a:off x="1905120" y="1066680"/>
              <a:ext cx="5333760" cy="3429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55800">
              <a:off x="6285960" y="1409760"/>
              <a:ext cx="380880" cy="456840"/>
            </a:xfrm>
            <a:prstGeom prst="triangle">
              <a:avLst>
                <a:gd name="adj" fmla="val 50000"/>
              </a:avLst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7111200">
              <a:off x="2399400" y="3695760"/>
              <a:ext cx="380880" cy="456840"/>
            </a:xfrm>
            <a:prstGeom prst="triangle">
              <a:avLst>
                <a:gd name="adj" fmla="val 50000"/>
              </a:avLst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3884600">
              <a:off x="2399400" y="1409760"/>
              <a:ext cx="380880" cy="456840"/>
            </a:xfrm>
            <a:prstGeom prst="triangle">
              <a:avLst>
                <a:gd name="adj" fmla="val 50000"/>
              </a:avLst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3112800">
              <a:off x="6361920" y="3695760"/>
              <a:ext cx="380880" cy="456840"/>
            </a:xfrm>
            <a:prstGeom prst="triangle">
              <a:avLst>
                <a:gd name="adj" fmla="val 50000"/>
              </a:avLst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62120" y="2209680"/>
            <a:ext cx="22096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erifica degli appro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533520"/>
            <a:ext cx="2209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Valutazione de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209680"/>
            <a:ext cx="220968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iagnosi dei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429000" y="3962520"/>
            <a:ext cx="2209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Miglioramento de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"/>
          <p:cNvCxnSpPr>
            <a:stCxn id="305" idx="2"/>
            <a:endCxn id="307" idx="0"/>
          </p:cNvCxnSpPr>
          <p:nvPr/>
        </p:nvCxnSpPr>
        <p:spPr>
          <a:xfrm flipV="1" rot="10800000">
            <a:off x="4533120" y="1447560"/>
            <a:ext cx="1080" cy="2515320"/>
          </a:xfrm>
          <a:prstGeom prst="bentConnector2">
            <a:avLst/>
          </a:prstGeom>
          <a:ln w="57240">
            <a:solidFill>
              <a:srgbClr val="9900cc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80880" y="5943600"/>
            <a:ext cx="84582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l processo di valutazione/miglior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Tahoma"/>
              </a:rPr>
              <a:t>Conclusione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(?)</a:t>
            </a:r>
            <a:r>
              <a:rPr b="0" lang="it-IT" sz="2400" spc="-1" strike="noStrike">
                <a:solidFill>
                  <a:srgbClr val="006600"/>
                </a:solidFill>
                <a:latin typeface="Tahoma"/>
              </a:rPr>
              <a:t>: diagnosi e valutazione: cosa deve fare la scu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1447920"/>
            <a:ext cx="2057400" cy="14475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diag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8120" y="1295280"/>
            <a:ext cx="563868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costruire un sistema informativo (stabile) sulle aspettative e sui bisogni (domand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rilevare e elaborare sistematicamente i risultati (a breve e medio termin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99"/>
                </a:solidFill>
                <a:latin typeface="Tahoma"/>
              </a:rPr>
              <a:t>rilevare sistematicamnete il grado di soddisfazione dei clienti e degli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3200400"/>
            <a:ext cx="2057400" cy="1447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3048120"/>
            <a:ext cx="5486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riesaminare periodicamente la politica e gli obiettivi (Piano dell’Offerta Forma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controllare sistematicamente 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a50021"/>
                </a:solidFill>
                <a:latin typeface="Tahoma"/>
              </a:rPr>
              <a:t>verificare la qualità dei fattori di produzione (risorse professionali e strumentali, approc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4800600"/>
            <a:ext cx="2362320" cy="1447920"/>
          </a:xfrm>
          <a:prstGeom prst="ellipse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migli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952880"/>
            <a:ext cx="5639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diversificare o innovare l’of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riqualificare i proc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6600"/>
                </a:solidFill>
                <a:latin typeface="Tahoma"/>
              </a:rPr>
              <a:t>mantenere, valorizzare, sviluppare le ris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Tahoma"/>
              </a:rPr>
              <a:t>i risultati dell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447920"/>
            <a:ext cx="2819520" cy="9144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pprend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00400"/>
            <a:ext cx="2819520" cy="9144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etenze profess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29200"/>
            <a:ext cx="2819520" cy="9144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etenze so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447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noscenze, capacità e comportament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di cui lo studente si è appropriato e che è in grado di utilizzare all’occorr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8195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apacità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individuare e riconosce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i compiti richiesti da un processo di lavoro e di eseguirli fornendo una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prest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adeguata mediante l’applicazione delle proprie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conoscenz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 l’adozione di un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porta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funzion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876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apacità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prende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i meccanismi della vita sociale e di adottare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portamenti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funzionali al raggiungimento dei propri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7" idx="2"/>
            <a:endCxn id="48" idx="1"/>
          </p:cNvCxnSpPr>
          <p:nvPr/>
        </p:nvCxnSpPr>
        <p:spPr>
          <a:xfrm rot="5400000">
            <a:off x="742320" y="2305080"/>
            <a:ext cx="1296000" cy="1410480"/>
          </a:xfrm>
          <a:prstGeom prst="bentConnector4">
            <a:avLst>
              <a:gd name="adj1" fmla="val 32342"/>
              <a:gd name="adj2" fmla="val 11621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7" idx="2"/>
            <a:endCxn id="49" idx="1"/>
          </p:cNvCxnSpPr>
          <p:nvPr/>
        </p:nvCxnSpPr>
        <p:spPr>
          <a:xfrm rot="5400000">
            <a:off x="-172080" y="3219480"/>
            <a:ext cx="3124800" cy="1410480"/>
          </a:xfrm>
          <a:prstGeom prst="bentConnector4">
            <a:avLst>
              <a:gd name="adj1" fmla="val 13964"/>
              <a:gd name="adj2" fmla="val 116211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Tahoma"/>
              </a:rPr>
              <a:t>criteri di valutazione dei risultati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066680"/>
            <a:ext cx="518148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Tahoma"/>
              </a:rPr>
              <a:t>UTILITA’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e relazioni interpers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a fruizione dei serv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a partecipazione alla vita col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124080"/>
            <a:ext cx="53341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SPENDIBILITA’ PROFES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’attività lavo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a prosecuzione degli stu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4724280"/>
            <a:ext cx="541008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ahoma"/>
              </a:rPr>
              <a:t>SODDISFAZIONE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 successo scolastico e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a vita 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nella vita priv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480" y="1219320"/>
            <a:ext cx="55627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UTILITA’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ahoma"/>
              </a:rPr>
              <a:t>SPENDIBILITA’ PROFESS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6600"/>
                </a:solidFill>
                <a:latin typeface="Tahoma"/>
              </a:rPr>
              <a:t>SODDISFAZIONE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57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Tahoma"/>
              </a:rPr>
              <a:t>domanda di form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91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99"/>
                </a:solidFill>
                <a:latin typeface="Tahoma"/>
              </a:rPr>
              <a:t>offerta f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419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DISCIPLINE, PROGRAMMI DI ATTIVITA’, REGOLE, ESPER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lavori%20in%20corso" descr=""/>
          <p:cNvPicPr/>
          <p:nvPr/>
        </p:nvPicPr>
        <p:blipFill>
          <a:blip r:embed="rId1"/>
          <a:stretch/>
        </p:blipFill>
        <p:spPr>
          <a:xfrm>
            <a:off x="3336840" y="2604960"/>
            <a:ext cx="2468520" cy="164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33720" y="2590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ahoma"/>
              </a:rPr>
              <a:t>DISCIPLINE, PROGRAMMI DI ATTIVITA’, REGOLE, ESPERI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371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cuola valuta gli apprendimenti in relazione alla propria 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04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scuola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valuta gli apprendimenti in relazione a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4038480"/>
            <a:ext cx="7696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acquisizione di livelli standard nelle conoscenze disciplin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partecipazione ai programmi di attività definiti dall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rispetto delle regole di comportamento dell’istituzione scola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993366"/>
                </a:solidFill>
                <a:latin typeface="Tahoma"/>
              </a:rPr>
              <a:t>accettazione delle modalità di relazione correnti: con gli insegnanti, con i compag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" y="533520"/>
            <a:ext cx="8686800" cy="6250680"/>
            <a:chOff x="228600" y="533520"/>
            <a:chExt cx="8686800" cy="6250680"/>
          </a:xfrm>
        </p:grpSpPr>
        <p:sp>
          <p:nvSpPr>
            <p:cNvPr id="73" name=""/>
            <p:cNvSpPr/>
            <p:nvPr/>
          </p:nvSpPr>
          <p:spPr>
            <a:xfrm>
              <a:off x="4495680" y="114300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8800" y="33526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280" y="1600200"/>
              <a:ext cx="419112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438280" y="1447560"/>
              <a:ext cx="426744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86200" y="2743200"/>
              <a:ext cx="12193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5320" y="2362320"/>
              <a:ext cx="1981080" cy="198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4080" y="1981080"/>
              <a:ext cx="274320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1600200"/>
              <a:ext cx="3505320" cy="350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53352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Analizzare la situazione di parte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24480" y="29718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Prevedere i risult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33526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Verificare gli es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52578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Programmare le attivit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" y="11430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Monitorare l’attività de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400" y="58672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Conoscere i contenuti disciplina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52578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Comunicare con chiarezza i comp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72200" y="10666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ahoma"/>
                </a:rPr>
                <a:t>Concordare gli obiettivi con 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358128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38862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4267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51814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976360"/>
            <a:chOff x="228600" y="533520"/>
            <a:chExt cx="8686800" cy="5976360"/>
          </a:xfrm>
        </p:grpSpPr>
        <p:sp>
          <p:nvSpPr>
            <p:cNvPr id="97" name=""/>
            <p:cNvSpPr/>
            <p:nvPr/>
          </p:nvSpPr>
          <p:spPr>
            <a:xfrm>
              <a:off x="4495680" y="114300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33526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38280" y="1600200"/>
              <a:ext cx="419112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438280" y="1447560"/>
              <a:ext cx="426744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6200" y="2743200"/>
              <a:ext cx="12193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5320" y="2362320"/>
              <a:ext cx="1981080" cy="198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4080" y="1981080"/>
              <a:ext cx="274320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1600200"/>
              <a:ext cx="3505320" cy="350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00400" y="5335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nalizzare la situazione di parte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24480" y="29718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Prevedere i risult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600" y="33526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Verificare gli es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52578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Programmare le attivit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" y="11430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onitorare l’attività de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00400" y="58672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oscere i contenuti disciplina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52578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municare con chiarezza i comp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10666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cordare gli obiettivi con 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4080" y="1981080"/>
            <a:ext cx="2667240" cy="3124440"/>
            <a:chOff x="3124080" y="1981080"/>
            <a:chExt cx="2667240" cy="3124440"/>
          </a:xfrm>
        </p:grpSpPr>
        <p:sp>
          <p:nvSpPr>
            <p:cNvPr id="115" name=""/>
            <p:cNvSpPr/>
            <p:nvPr/>
          </p:nvSpPr>
          <p:spPr>
            <a:xfrm flipH="1">
              <a:off x="3733920" y="1981080"/>
              <a:ext cx="7617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124080" y="2666880"/>
              <a:ext cx="60984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24080" y="3352680"/>
              <a:ext cx="38124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5320" y="4267080"/>
              <a:ext cx="990360" cy="83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95680" y="4495680"/>
              <a:ext cx="129564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486040" y="3352320"/>
              <a:ext cx="30492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952880" y="2971800"/>
              <a:ext cx="53352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1981080"/>
              <a:ext cx="45720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4495680" y="3352680"/>
            <a:ext cx="3810240" cy="2438640"/>
            <a:chOff x="4495680" y="3352680"/>
            <a:chExt cx="3810240" cy="2438640"/>
          </a:xfrm>
        </p:grpSpPr>
        <p:sp>
          <p:nvSpPr>
            <p:cNvPr id="125" name=""/>
            <p:cNvSpPr/>
            <p:nvPr/>
          </p:nvSpPr>
          <p:spPr>
            <a:xfrm flipV="1">
              <a:off x="4495680" y="3352680"/>
              <a:ext cx="2743200" cy="2438640"/>
            </a:xfrm>
            <a:prstGeom prst="rtTriangle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3886200"/>
              <a:ext cx="350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Scuola della programm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838080" y="3352680"/>
            <a:ext cx="3657600" cy="2438640"/>
            <a:chOff x="838080" y="3352680"/>
            <a:chExt cx="3657600" cy="2438640"/>
          </a:xfrm>
        </p:grpSpPr>
        <p:sp>
          <p:nvSpPr>
            <p:cNvPr id="128" name=""/>
            <p:cNvSpPr/>
            <p:nvPr/>
          </p:nvSpPr>
          <p:spPr>
            <a:xfrm flipH="1" flipV="1">
              <a:off x="1752480" y="3352680"/>
              <a:ext cx="2743200" cy="2438640"/>
            </a:xfrm>
            <a:prstGeom prst="rtTriangl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19112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Scuola dell’insegn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5800" y="914400"/>
            <a:ext cx="3809880" cy="2438280"/>
            <a:chOff x="685800" y="914400"/>
            <a:chExt cx="3809880" cy="2438280"/>
          </a:xfrm>
        </p:grpSpPr>
        <p:sp>
          <p:nvSpPr>
            <p:cNvPr id="131" name=""/>
            <p:cNvSpPr/>
            <p:nvPr/>
          </p:nvSpPr>
          <p:spPr>
            <a:xfrm flipH="1">
              <a:off x="1752480" y="914400"/>
              <a:ext cx="2743200" cy="2438280"/>
            </a:xfrm>
            <a:prstGeom prst="rtTriangl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" y="2133720"/>
              <a:ext cx="350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Scuola dell’apprendi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495680" y="914400"/>
            <a:ext cx="3962520" cy="2438280"/>
            <a:chOff x="4495680" y="914400"/>
            <a:chExt cx="3962520" cy="2438280"/>
          </a:xfrm>
        </p:grpSpPr>
        <p:sp>
          <p:nvSpPr>
            <p:cNvPr id="134" name=""/>
            <p:cNvSpPr/>
            <p:nvPr/>
          </p:nvSpPr>
          <p:spPr>
            <a:xfrm>
              <a:off x="4495680" y="914400"/>
              <a:ext cx="2743200" cy="2438280"/>
            </a:xfrm>
            <a:prstGeom prst="rtTriangle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2057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Scuola del proget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28600" y="533520"/>
            <a:ext cx="8686800" cy="5976360"/>
            <a:chOff x="228600" y="533520"/>
            <a:chExt cx="8686800" cy="5976360"/>
          </a:xfrm>
        </p:grpSpPr>
        <p:sp>
          <p:nvSpPr>
            <p:cNvPr id="137" name=""/>
            <p:cNvSpPr/>
            <p:nvPr/>
          </p:nvSpPr>
          <p:spPr>
            <a:xfrm>
              <a:off x="1828800" y="33526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1143000"/>
              <a:ext cx="0" cy="46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38280" y="1600200"/>
              <a:ext cx="419112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2438280" y="1447560"/>
              <a:ext cx="426744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70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86200" y="2743200"/>
              <a:ext cx="1219320" cy="1219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2362320"/>
              <a:ext cx="1981080" cy="198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080" y="1981080"/>
              <a:ext cx="2743200" cy="2743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43200" y="1600200"/>
              <a:ext cx="3505320" cy="350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0400" y="53352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Analizzare la situazione di partenz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9718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Prevedere i risult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" y="33526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Verificare gli es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52578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Programmare le attivit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58672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oscere i contenuti disciplina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525780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municare con chiarezza i comp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2200" y="10666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Concordare gli obiettivi con 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9907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Monitorare l’attività degli stude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5256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Tahoma"/>
              </a:rPr>
              <a:t>partire da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295280"/>
            <a:ext cx="3047760" cy="7621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ultati di app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13716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serimento professionale, regolarità degli studi, inserimento 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304776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isultati complessivi de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3623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ntinuità e regolarità della prestazione offerta, diversificazione/integrazione delle attività, % di copertura della domanda (% utenti, tempo scuola, personalizzazion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886200"/>
            <a:ext cx="3047760" cy="7621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ddisfazione di studenti e fam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3809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rrispondenza rispetto alle aspettative delle diverse caratteristiche del servizio ero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952880"/>
            <a:ext cx="3047760" cy="7621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ddisfazione degli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876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Corrispondenza rispetto alle aspettative delle diverse caratteristiche del “prodotto” off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63244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mberto Vairetti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09:52:06Z</dcterms:created>
  <dc:creator>Umberto</dc:creator>
  <dc:description/>
  <dc:language>en-US</dc:language>
  <cp:lastModifiedBy>Umberto</cp:lastModifiedBy>
  <dcterms:modified xsi:type="dcterms:W3CDTF">2002-11-02T16:35:04Z</dcterms:modified>
  <cp:revision>5</cp:revision>
  <dc:subject/>
  <dc:title>PowerPoint Presentation</dc:title>
</cp:coreProperties>
</file>