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B9F-D50F-45A8-A560-0997FE08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7E7-8522-4B66-AF79-85D25A76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1D6-2631-4425-8F2E-90E18827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A6E-CB9D-4B83-8CE4-9D834B65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7DB-0D10-4430-8DB6-B2D64333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F38-A067-46DA-AD63-FC35F329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C4B-1E44-4DA9-BC16-3A39305D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603-E7A7-493F-97FB-E44F35F3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1659-29C5-4829-9C3E-48FD1E08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7F8-2306-4E16-BDA7-73FE34F0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EA01-EA7B-4EED-93F8-1252C9A1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5F7-A1B9-4B72-814D-7300430B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6778-96DB-43C9-97B3-E50D9748A3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05720" y="6029280"/>
            <a:ext cx="175248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3200400" cy="533520"/>
            <a:chOff x="0" y="0"/>
            <a:chExt cx="3200400" cy="533520"/>
          </a:xfrm>
        </p:grpSpPr>
        <p:sp>
          <p:nvSpPr>
            <p:cNvPr id="43" name=""/>
            <p:cNvSpPr/>
            <p:nvPr/>
          </p:nvSpPr>
          <p:spPr>
            <a:xfrm rot="5400000">
              <a:off x="1333440" y="-1333440"/>
              <a:ext cx="53352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680" y="38160"/>
              <a:ext cx="304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 Comunicazi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757840" y="6067440"/>
            <a:ext cx="3200400" cy="609480"/>
            <a:chOff x="5757840" y="6067440"/>
            <a:chExt cx="3200400" cy="609480"/>
          </a:xfrm>
        </p:grpSpPr>
        <p:sp>
          <p:nvSpPr>
            <p:cNvPr id="46" name=""/>
            <p:cNvSpPr/>
            <p:nvPr/>
          </p:nvSpPr>
          <p:spPr>
            <a:xfrm>
              <a:off x="5757840" y="606744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834160" y="6157800"/>
              <a:ext cx="2971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 rot="20126400">
            <a:off x="1365120" y="2166480"/>
            <a:ext cx="586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l processo di miglioramento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ll’analisi delle cause di un problema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alla scelta della sol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6705720"/>
            <a:ext cx="10744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895480"/>
            <a:ext cx="2895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97180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Ostacoli all’introduzione di un servizio valu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43920" y="212760"/>
            <a:ext cx="9423360" cy="6645240"/>
            <a:chOff x="43920" y="212760"/>
            <a:chExt cx="9423360" cy="6645240"/>
          </a:xfrm>
        </p:grpSpPr>
        <p:sp>
          <p:nvSpPr>
            <p:cNvPr id="155" name=""/>
            <p:cNvSpPr/>
            <p:nvPr/>
          </p:nvSpPr>
          <p:spPr>
            <a:xfrm>
              <a:off x="381240" y="2237040"/>
              <a:ext cx="8153280" cy="19047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35160" y="1466280"/>
              <a:ext cx="3448440" cy="496440"/>
            </a:xfrm>
            <a:prstGeom prst="flowChartAlternateProcess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erare i problem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73720" y="1997280"/>
              <a:ext cx="552600" cy="35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95040" y="2442600"/>
              <a:ext cx="7517520" cy="496440"/>
            </a:xfrm>
            <a:prstGeom prst="flowChartAlternateProcess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cegliere 6 problemi e ordinarli per importan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73720" y="2973600"/>
              <a:ext cx="552600" cy="35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97120" y="3393360"/>
              <a:ext cx="7720200" cy="496440"/>
            </a:xfrm>
            <a:prstGeom prst="flowChartAlternateProcess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ttribuire un punteggio ad ogni problema (1 ÷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73720" y="3922920"/>
              <a:ext cx="552600" cy="35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920" y="4336560"/>
              <a:ext cx="9423360" cy="496440"/>
            </a:xfrm>
            <a:prstGeom prst="flowChartAlternateProcess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iportare tutti i problemi selezionati su una scheda comu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73720" y="4869000"/>
              <a:ext cx="552600" cy="358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5640" y="212760"/>
              <a:ext cx="77724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cnica di classificazione di grupp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9560" y="2237040"/>
              <a:ext cx="30492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5280" y="5292000"/>
              <a:ext cx="7792200" cy="496440"/>
            </a:xfrm>
            <a:prstGeom prst="flowChartAlternateProcess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Visualizzare i 9 problemi con il punteggio più al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320" y="6613560"/>
              <a:ext cx="906768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6477120"/>
            <a:ext cx="9144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-228600"/>
            <a:ext cx="9144000" cy="6799320"/>
            <a:chOff x="0" y="-228600"/>
            <a:chExt cx="9144000" cy="6799320"/>
          </a:xfrm>
        </p:grpSpPr>
        <p:grpSp>
          <p:nvGrpSpPr>
            <p:cNvPr id="50" name=""/>
            <p:cNvGrpSpPr/>
            <p:nvPr/>
          </p:nvGrpSpPr>
          <p:grpSpPr>
            <a:xfrm>
              <a:off x="205560" y="834480"/>
              <a:ext cx="8899920" cy="5302440"/>
              <a:chOff x="205560" y="834480"/>
              <a:chExt cx="8899920" cy="5302440"/>
            </a:xfrm>
          </p:grpSpPr>
          <p:sp>
            <p:nvSpPr>
              <p:cNvPr id="51" name=""/>
              <p:cNvSpPr/>
              <p:nvPr/>
            </p:nvSpPr>
            <p:spPr>
              <a:xfrm>
                <a:off x="2610360" y="834480"/>
                <a:ext cx="4084200" cy="496440"/>
              </a:xfrm>
              <a:prstGeom prst="flowChartAlternateProcess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Individuare  i  nodi  critic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205560" y="1361880"/>
                <a:ext cx="8899920" cy="4775040"/>
                <a:chOff x="205560" y="1361880"/>
                <a:chExt cx="8899920" cy="477504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4379760" y="1361880"/>
                  <a:ext cx="552600" cy="3585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noFill/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205560" y="1829160"/>
                  <a:ext cx="8899920" cy="4307760"/>
                  <a:chOff x="205560" y="1829160"/>
                  <a:chExt cx="8899920" cy="430776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>
                    <a:off x="3108960" y="1829160"/>
                    <a:ext cx="3094920" cy="496440"/>
                  </a:xfrm>
                  <a:prstGeom prst="flowChartAlternateProcess">
                    <a:avLst/>
                  </a:prstGeom>
                  <a:noFill/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Risalire  alle  caus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" name=""/>
                  <p:cNvGrpSpPr/>
                  <p:nvPr/>
                </p:nvGrpSpPr>
                <p:grpSpPr>
                  <a:xfrm>
                    <a:off x="205560" y="2360160"/>
                    <a:ext cx="8899920" cy="3776760"/>
                    <a:chOff x="205560" y="2360160"/>
                    <a:chExt cx="8899920" cy="3776760"/>
                  </a:xfrm>
                </p:grpSpPr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4379760" y="2360160"/>
                      <a:ext cx="552600" cy="358560"/>
                    </a:xfrm>
                    <a:prstGeom prst="downArrow">
                      <a:avLst>
                        <a:gd name="adj1" fmla="val 50000"/>
                        <a:gd name="adj2" fmla="val 25000"/>
                      </a:avLst>
                    </a:prstGeom>
                    <a:noFill/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8" name=""/>
                    <p:cNvGrpSpPr/>
                    <p:nvPr/>
                  </p:nvGrpSpPr>
                  <p:grpSpPr>
                    <a:xfrm>
                      <a:off x="205560" y="2805480"/>
                      <a:ext cx="8899920" cy="3331440"/>
                      <a:chOff x="205560" y="2805480"/>
                      <a:chExt cx="8899920" cy="3331440"/>
                    </a:xfrm>
                  </p:grpSpPr>
                  <p:sp>
                    <p:nvSpPr>
                      <p:cNvPr id="59" name=""/>
                      <p:cNvSpPr/>
                      <p:nvPr/>
                    </p:nvSpPr>
                    <p:spPr>
                      <a:xfrm>
                        <a:off x="2144520" y="2805480"/>
                        <a:ext cx="5023800" cy="496440"/>
                      </a:xfrm>
                      <a:prstGeom prst="flowChartAlternateProcess">
                        <a:avLst/>
                      </a:prstGeom>
                      <a:noFill/>
                      <a:ln w="763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Tahoma"/>
                            <a:ea typeface="Times New Roman"/>
                          </a:rPr>
                          <a:t>Misurare  la  loro  significatività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560" y="3336120"/>
                        <a:ext cx="8899920" cy="2800800"/>
                        <a:chOff x="205560" y="3336120"/>
                        <a:chExt cx="8899920" cy="280080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4379760" y="3336120"/>
                          <a:ext cx="552600" cy="358920"/>
                        </a:xfrm>
                        <a:prstGeom prst="downArrow">
                          <a:avLst>
                            <a:gd name="adj1" fmla="val 50000"/>
                            <a:gd name="adj2" fmla="val 25000"/>
                          </a:avLst>
                        </a:prstGeom>
                        <a:noFill/>
                        <a:ln w="7632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2" name=""/>
                        <p:cNvGrpSpPr/>
                        <p:nvPr/>
                      </p:nvGrpSpPr>
                      <p:grpSpPr>
                        <a:xfrm>
                          <a:off x="205560" y="3756240"/>
                          <a:ext cx="8899920" cy="2380680"/>
                          <a:chOff x="205560" y="3756240"/>
                          <a:chExt cx="8899920" cy="2380680"/>
                        </a:xfrm>
                      </p:grpSpPr>
                      <p:sp>
                        <p:nvSpPr>
                          <p:cNvPr id="63" name=""/>
                          <p:cNvSpPr/>
                          <p:nvPr/>
                        </p:nvSpPr>
                        <p:spPr>
                          <a:xfrm>
                            <a:off x="205560" y="3756240"/>
                            <a:ext cx="8899920" cy="496440"/>
                          </a:xfrm>
                          <a:prstGeom prst="flowChartAlternateProcess">
                            <a:avLst/>
                          </a:prstGeom>
                          <a:noFill/>
                          <a:ln w="7632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  <a:ea typeface="Times New Roman"/>
                              </a:rPr>
                              <a:t>Isolare  le  cause  modificabili  con  le  risorse  disponibili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4" name=""/>
                          <p:cNvSpPr/>
                          <p:nvPr/>
                        </p:nvSpPr>
                        <p:spPr>
                          <a:xfrm>
                            <a:off x="4379760" y="4285440"/>
                            <a:ext cx="552600" cy="358920"/>
                          </a:xfrm>
                          <a:prstGeom prst="downArrow">
                            <a:avLst>
                              <a:gd name="adj1" fmla="val 50000"/>
                              <a:gd name="adj2" fmla="val 25000"/>
                            </a:avLst>
                          </a:prstGeom>
                          <a:noFill/>
                          <a:ln w="7632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65" name=""/>
                          <p:cNvGrpSpPr/>
                          <p:nvPr/>
                        </p:nvGrpSpPr>
                        <p:grpSpPr>
                          <a:xfrm>
                            <a:off x="1571040" y="4699080"/>
                            <a:ext cx="6153480" cy="1437840"/>
                            <a:chOff x="1571040" y="4699080"/>
                            <a:chExt cx="6153480" cy="1437840"/>
                          </a:xfrm>
                        </p:grpSpPr>
                        <p:sp>
                          <p:nvSpPr>
                            <p:cNvPr id="66" name=""/>
                            <p:cNvSpPr/>
                            <p:nvPr/>
                          </p:nvSpPr>
                          <p:spPr>
                            <a:xfrm>
                              <a:off x="2810160" y="4699080"/>
                              <a:ext cx="3690720" cy="496440"/>
                            </a:xfrm>
                            <a:prstGeom prst="flowChartAlternateProcess">
                              <a:avLst/>
                            </a:prstGeom>
                            <a:noFill/>
                            <a:ln w="7632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sp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  <a:ea typeface="Times New Roman"/>
                                </a:rPr>
                                <a:t>Scegliere  la  soluzione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67" name=""/>
                            <p:cNvGrpSpPr/>
                            <p:nvPr/>
                          </p:nvGrpSpPr>
                          <p:grpSpPr>
                            <a:xfrm>
                              <a:off x="1571040" y="5231880"/>
                              <a:ext cx="6153480" cy="905040"/>
                              <a:chOff x="1571040" y="5231880"/>
                              <a:chExt cx="6153480" cy="905040"/>
                            </a:xfrm>
                          </p:grpSpPr>
                          <p:sp>
                            <p:nvSpPr>
                              <p:cNvPr id="68" name=""/>
                              <p:cNvSpPr/>
                              <p:nvPr/>
                            </p:nvSpPr>
                            <p:spPr>
                              <a:xfrm>
                                <a:off x="1571040" y="5640480"/>
                                <a:ext cx="6153480" cy="496440"/>
                              </a:xfrm>
                              <a:prstGeom prst="flowChartAlternateProcess">
                                <a:avLst/>
                              </a:prstGeom>
                              <a:noFill/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sp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  <a:ea typeface="Times New Roman"/>
                                  </a:rPr>
                                  <a:t>Predisporre  un  progetto  di  massima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" name=""/>
                              <p:cNvSpPr/>
                              <p:nvPr/>
                            </p:nvSpPr>
                            <p:spPr>
                              <a:xfrm>
                                <a:off x="4379760" y="5231880"/>
                                <a:ext cx="552600" cy="358560"/>
                              </a:xfrm>
                              <a:prstGeom prst="downArrow">
                                <a:avLst>
                                  <a:gd name="adj1" fmla="val 50000"/>
                                  <a:gd name="adj2" fmla="val 25000"/>
                                </a:avLst>
                              </a:prstGeom>
                              <a:noFill/>
                              <a:ln w="7632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</p:grpSp>
        <p:sp>
          <p:nvSpPr>
            <p:cNvPr id="70" name=""/>
            <p:cNvSpPr/>
            <p:nvPr/>
          </p:nvSpPr>
          <p:spPr>
            <a:xfrm>
              <a:off x="1219320" y="-7632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l processo di miglioramen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>
              <a:hlinkClick r:id="" action="ppaction://hlinkshowjump?jump=previousslide"/>
            </p:cNvPr>
            <p:cNvSpPr/>
            <p:nvPr/>
          </p:nvSpPr>
          <p:spPr>
            <a:xfrm>
              <a:off x="7467480" y="-228600"/>
              <a:ext cx="1676520" cy="914400"/>
            </a:xfrm>
            <a:custGeom>
              <a:avLst/>
              <a:gdLst>
                <a:gd name="textAreaLeft" fmla="*/ 59040 w 1676520"/>
                <a:gd name="textAreaRight" fmla="*/ 1617480 w 1676520"/>
                <a:gd name="textAreaTop" fmla="*/ 59040 h 914400"/>
                <a:gd name="textAreaBottom" fmla="*/ 855360 h 914400"/>
              </a:gdLst>
              <a:ahLst/>
              <a:rect l="textAreaLeft" t="textAreaTop" r="textAreaRight" b="textAreaBottom"/>
              <a:pathLst>
                <a:path w="39596" h="21600">
                  <a:moveTo>
                    <a:pt x="0" y="0"/>
                  </a:moveTo>
                  <a:lnTo>
                    <a:pt x="39596" y="0"/>
                  </a:lnTo>
                  <a:lnTo>
                    <a:pt x="39596" y="21600"/>
                  </a:lnTo>
                  <a:lnTo>
                    <a:pt x="0" y="21600"/>
                  </a:lnTo>
                  <a:close/>
                </a:path>
                <a:path fill="lightenLess" w="39596" h="21600">
                  <a:moveTo>
                    <a:pt x="0" y="0"/>
                  </a:moveTo>
                  <a:lnTo>
                    <a:pt x="39596" y="0"/>
                  </a:lnTo>
                  <a:lnTo>
                    <a:pt x="38196" y="1400"/>
                  </a:lnTo>
                  <a:lnTo>
                    <a:pt x="1400" y="1400"/>
                  </a:lnTo>
                  <a:close/>
                </a:path>
                <a:path fill="darken" w="39596" h="21600">
                  <a:moveTo>
                    <a:pt x="39596" y="0"/>
                  </a:moveTo>
                  <a:lnTo>
                    <a:pt x="39596" y="21600"/>
                  </a:lnTo>
                  <a:lnTo>
                    <a:pt x="38196" y="20200"/>
                  </a:lnTo>
                  <a:lnTo>
                    <a:pt x="38196" y="1400"/>
                  </a:lnTo>
                  <a:close/>
                </a:path>
                <a:path fill="darkenLess" w="39596" h="21600">
                  <a:moveTo>
                    <a:pt x="395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196" y="20200"/>
                  </a:lnTo>
                  <a:close/>
                </a:path>
                <a:path fill="lighten" w="395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596" h="21600">
                  <a:moveTo>
                    <a:pt x="12791" y="10800"/>
                  </a:moveTo>
                  <a:lnTo>
                    <a:pt x="26804" y="3794"/>
                  </a:lnTo>
                  <a:lnTo>
                    <a:pt x="2680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324480"/>
              <a:ext cx="90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–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2133720"/>
            <a:ext cx="1096920" cy="2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PPORTO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3276720"/>
            <a:ext cx="109692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PPORTO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495680"/>
            <a:ext cx="109692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PPORTO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143000"/>
            <a:ext cx="1600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appor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er gli specifici deciso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famiglie, docenti, C.d.C.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048120" y="1219320"/>
            <a:ext cx="4398840" cy="4155840"/>
            <a:chOff x="3048120" y="1219320"/>
            <a:chExt cx="4398840" cy="4155840"/>
          </a:xfrm>
        </p:grpSpPr>
        <p:sp>
          <p:nvSpPr>
            <p:cNvPr id="78" name=""/>
            <p:cNvSpPr/>
            <p:nvPr/>
          </p:nvSpPr>
          <p:spPr>
            <a:xfrm flipV="1">
              <a:off x="3048120" y="1218960"/>
              <a:ext cx="4398840" cy="4155840"/>
            </a:xfrm>
            <a:prstGeom prst="triangle">
              <a:avLst>
                <a:gd name="adj" fmla="val 49912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3429000" y="1219320"/>
              <a:ext cx="3657600" cy="625320"/>
              <a:chOff x="3429000" y="1219320"/>
              <a:chExt cx="3657600" cy="625320"/>
            </a:xfrm>
          </p:grpSpPr>
          <p:sp>
            <p:nvSpPr>
              <p:cNvPr id="80" name=""/>
              <p:cNvSpPr/>
              <p:nvPr/>
            </p:nvSpPr>
            <p:spPr>
              <a:xfrm>
                <a:off x="3429000" y="182880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343400" y="1219320"/>
                <a:ext cx="1440" cy="62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867280" y="1219320"/>
                <a:ext cx="0" cy="62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657600" y="2438280"/>
              <a:ext cx="316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19720" y="3809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24280" y="42670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14800" y="32004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352680" y="1219320"/>
            <a:ext cx="4403880" cy="3657600"/>
            <a:chOff x="3352680" y="1219320"/>
            <a:chExt cx="4403880" cy="3657600"/>
          </a:xfrm>
        </p:grpSpPr>
        <p:grpSp>
          <p:nvGrpSpPr>
            <p:cNvPr id="88" name=""/>
            <p:cNvGrpSpPr/>
            <p:nvPr/>
          </p:nvGrpSpPr>
          <p:grpSpPr>
            <a:xfrm>
              <a:off x="3352680" y="1219320"/>
              <a:ext cx="4403880" cy="3657600"/>
              <a:chOff x="3352680" y="1219320"/>
              <a:chExt cx="4403880" cy="365760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3505320" y="1219320"/>
                <a:ext cx="4251240" cy="685800"/>
                <a:chOff x="3505320" y="1219320"/>
                <a:chExt cx="4251240" cy="6858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3505320" y="1295280"/>
                  <a:ext cx="944280" cy="4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i de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check-u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495680" y="1295280"/>
                  <a:ext cx="1219320" cy="4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i dall’analisi dei risultat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019920" y="1219320"/>
                  <a:ext cx="1736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i della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oddisfazion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ei client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3581280" y="1905120"/>
                <a:ext cx="3276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UNTI DI FORZA – PUNTI DI  DEBOLEZZ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114800" y="2743200"/>
                <a:ext cx="2286000" cy="31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OBLEMI IMPORTANT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352680" y="3200400"/>
                <a:ext cx="373392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IORIT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RA I PROBLEM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876920" y="3886200"/>
                <a:ext cx="838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OD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876920" y="4572000"/>
                <a:ext cx="838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U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181480" y="2209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81480" y="3581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81480" y="411480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343400" y="5715000"/>
            <a:ext cx="183996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5829480"/>
            <a:ext cx="18288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MIGLIOR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86000" y="1523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286000" y="2286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28564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85640" y="4572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2160" y="152280"/>
            <a:ext cx="49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STEMA DI AUTOVAL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990720"/>
            <a:ext cx="1447920" cy="914400"/>
          </a:xfrm>
          <a:prstGeom prst="ellipse">
            <a:avLst/>
          </a:prstGeom>
          <a:noFill/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30720" y="5397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613560"/>
            <a:ext cx="9067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467480" y="6000840"/>
            <a:ext cx="1067040" cy="399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553080" y="6248520"/>
            <a:ext cx="19814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067680" cy="6797520"/>
            <a:chOff x="0" y="0"/>
            <a:chExt cx="9067680" cy="6797520"/>
          </a:xfrm>
        </p:grpSpPr>
        <p:sp>
          <p:nvSpPr>
            <p:cNvPr id="114" name=""/>
            <p:cNvSpPr/>
            <p:nvPr/>
          </p:nvSpPr>
          <p:spPr>
            <a:xfrm>
              <a:off x="1903320" y="939600"/>
              <a:ext cx="5340600" cy="1483200"/>
            </a:xfrm>
            <a:prstGeom prst="flowChartAlternateProcess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endere l’elenco dei problemi individuati per ciascuna fa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44520" y="2239920"/>
              <a:ext cx="8458200" cy="2205000"/>
              <a:chOff x="344520" y="2239920"/>
              <a:chExt cx="8458200" cy="2205000"/>
            </a:xfrm>
          </p:grpSpPr>
          <p:sp>
            <p:nvSpPr>
              <p:cNvPr id="116" name=""/>
              <p:cNvSpPr/>
              <p:nvPr/>
            </p:nvSpPr>
            <p:spPr>
              <a:xfrm>
                <a:off x="4297320" y="2239920"/>
                <a:ext cx="552600" cy="3589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44520" y="2500920"/>
                <a:ext cx="8458200" cy="1944000"/>
              </a:xfrm>
              <a:prstGeom prst="flowChartAlternateProcess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Rileggere sia in verticale sia in orizzontale</a:t>
                </a:r>
                <a:br>
                  <a:rPr sz="2800"/>
                </a:b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l’elenco di tutti i problemi individuati per identificare eventuali tipologie di problemi ricorrenti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809640" y="4240080"/>
              <a:ext cx="7527960" cy="2205000"/>
              <a:chOff x="809640" y="4240080"/>
              <a:chExt cx="7527960" cy="2205000"/>
            </a:xfrm>
          </p:grpSpPr>
          <p:sp>
            <p:nvSpPr>
              <p:cNvPr id="119" name=""/>
              <p:cNvSpPr/>
              <p:nvPr/>
            </p:nvSpPr>
            <p:spPr>
              <a:xfrm>
                <a:off x="4297320" y="4240080"/>
                <a:ext cx="552600" cy="3589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09640" y="4501080"/>
                <a:ext cx="7527960" cy="1944000"/>
              </a:xfrm>
              <a:prstGeom prst="flowChartAlternateProcess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Compilare una scheda problemi per ciascuna fase assegnando a problemi simili</a:t>
                </a:r>
                <a:br>
                  <a:rPr sz="2800"/>
                </a:b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un identico simbolo (#, *, $, &amp;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420840" y="152280"/>
              <a:ext cx="84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rocedura  per  l’individuazione  dei  problem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>
              <a:hlinkClick r:id="" action="ppaction://hlinkshowjump?jump=previousslide"/>
            </p:cNvPr>
            <p:cNvSpPr/>
            <p:nvPr/>
          </p:nvSpPr>
          <p:spPr>
            <a:xfrm>
              <a:off x="7354800" y="0"/>
              <a:ext cx="1676520" cy="914400"/>
            </a:xfrm>
            <a:custGeom>
              <a:avLst/>
              <a:gdLst>
                <a:gd name="textAreaLeft" fmla="*/ 59040 w 1676520"/>
                <a:gd name="textAreaRight" fmla="*/ 1617480 w 1676520"/>
                <a:gd name="textAreaTop" fmla="*/ 59040 h 914400"/>
                <a:gd name="textAreaBottom" fmla="*/ 855360 h 914400"/>
              </a:gdLst>
              <a:ahLst/>
              <a:rect l="textAreaLeft" t="textAreaTop" r="textAreaRight" b="textAreaBottom"/>
              <a:pathLst>
                <a:path w="39596" h="21600">
                  <a:moveTo>
                    <a:pt x="0" y="0"/>
                  </a:moveTo>
                  <a:lnTo>
                    <a:pt x="39596" y="0"/>
                  </a:lnTo>
                  <a:lnTo>
                    <a:pt x="39596" y="21600"/>
                  </a:lnTo>
                  <a:lnTo>
                    <a:pt x="0" y="21600"/>
                  </a:lnTo>
                  <a:close/>
                </a:path>
                <a:path fill="lightenLess" w="39596" h="21600">
                  <a:moveTo>
                    <a:pt x="0" y="0"/>
                  </a:moveTo>
                  <a:lnTo>
                    <a:pt x="39596" y="0"/>
                  </a:lnTo>
                  <a:lnTo>
                    <a:pt x="38196" y="1400"/>
                  </a:lnTo>
                  <a:lnTo>
                    <a:pt x="1400" y="1400"/>
                  </a:lnTo>
                  <a:close/>
                </a:path>
                <a:path fill="darken" w="39596" h="21600">
                  <a:moveTo>
                    <a:pt x="39596" y="0"/>
                  </a:moveTo>
                  <a:lnTo>
                    <a:pt x="39596" y="21600"/>
                  </a:lnTo>
                  <a:lnTo>
                    <a:pt x="38196" y="20200"/>
                  </a:lnTo>
                  <a:lnTo>
                    <a:pt x="38196" y="1400"/>
                  </a:lnTo>
                  <a:close/>
                </a:path>
                <a:path fill="darkenLess" w="39596" h="21600">
                  <a:moveTo>
                    <a:pt x="3959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8196" y="20200"/>
                  </a:lnTo>
                  <a:close/>
                </a:path>
                <a:path fill="lighten" w="3959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596" h="21600">
                  <a:moveTo>
                    <a:pt x="12791" y="10800"/>
                  </a:moveTo>
                  <a:lnTo>
                    <a:pt x="26804" y="3794"/>
                  </a:lnTo>
                  <a:lnTo>
                    <a:pt x="2680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6553080"/>
              <a:ext cx="9067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ROBLE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8610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carsa informazione verso le famiglie e il terri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carsa efficienza dei servizi di segrete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anca un piano sistematico di utilizzazione dei labora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 servizi logistici sono poco cur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anca un raccordo tra analisi dei bisogni-risorse disponibili-attività didatt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anca la verifica di conformità tra programmazione ed erog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ancano strumenti comuni di ver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Gli interventi di recupero non sono tempestivi e differenzi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73160" y="1714320"/>
            <a:ext cx="38610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Times New Roman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Non esistono interventi strutturati a sostegno dello sviluppo personale dell’alun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Times New Roman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a biblioteca non supporta le attività formative della scu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Times New Roman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artecipazione non produttiva dei genitori nelle attività della scu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Times New Roman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carsa efficacia delle attività di orientam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Times New Roman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Non esiste un piano organico di rapporti con il territo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Times New Roman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Manca l’anagrafe delle competenze del personale della scu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Times New Roman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carsa chiarezza dei ruoli e dei compiti dei responsabili di funzioni e di proget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82040" y="6095880"/>
            <a:ext cx="1066680" cy="400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05720" y="6019920"/>
            <a:ext cx="1600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ruppo C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49200" y="1981080"/>
          <a:ext cx="8489880" cy="4267080"/>
        </p:xfrm>
        <a:graphic>
          <a:graphicData uri="http://schemas.openxmlformats.org/drawingml/2006/table">
            <a:tbl>
              <a:tblPr/>
              <a:tblGrid>
                <a:gridCol w="4245480"/>
                <a:gridCol w="4244400"/>
              </a:tblGrid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ietti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alit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ocare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l  problema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nel  contest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viduare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  relazioni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  altri  problem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sificare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  problem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comporre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l  problema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  sottoproblem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0" y="152280"/>
            <a:ext cx="9067680" cy="6645240"/>
            <a:chOff x="0" y="152280"/>
            <a:chExt cx="9067680" cy="6645240"/>
          </a:xfrm>
        </p:grpSpPr>
        <p:grpSp>
          <p:nvGrpSpPr>
            <p:cNvPr id="133" name=""/>
            <p:cNvGrpSpPr/>
            <p:nvPr/>
          </p:nvGrpSpPr>
          <p:grpSpPr>
            <a:xfrm>
              <a:off x="352440" y="152280"/>
              <a:ext cx="8464680" cy="1800000"/>
              <a:chOff x="352440" y="152280"/>
              <a:chExt cx="8464680" cy="1800000"/>
            </a:xfrm>
          </p:grpSpPr>
          <p:sp>
            <p:nvSpPr>
              <p:cNvPr id="134" name=""/>
              <p:cNvSpPr/>
              <p:nvPr/>
            </p:nvSpPr>
            <p:spPr>
              <a:xfrm>
                <a:off x="1044720" y="152280"/>
                <a:ext cx="7772400" cy="70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Il processo di miglioramento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2440" y="1309680"/>
                <a:ext cx="5761080" cy="6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Individuare  i  nodi  critici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0" y="6553080"/>
              <a:ext cx="906768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561960"/>
            <a:ext cx="9067680" cy="6235560"/>
            <a:chOff x="0" y="561960"/>
            <a:chExt cx="9067680" cy="6235560"/>
          </a:xfrm>
        </p:grpSpPr>
        <p:sp>
          <p:nvSpPr>
            <p:cNvPr id="138" name=""/>
            <p:cNvSpPr/>
            <p:nvPr/>
          </p:nvSpPr>
          <p:spPr>
            <a:xfrm>
              <a:off x="1523880" y="561960"/>
              <a:ext cx="5943600" cy="165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Diagramma  delle  relazion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1600" y="2525760"/>
              <a:ext cx="8229600" cy="189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ahoma"/>
                </a:rPr>
                <a:t>Consente d’individuare i problemi più critici perché causa di altr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1600" y="4676760"/>
              <a:ext cx="8229600" cy="146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ahoma"/>
                </a:rPr>
                <a:t>I  problemi effetto di altri sono secondar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6553080"/>
              <a:ext cx="9067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533520"/>
            <a:ext cx="9067680" cy="6264000"/>
            <a:chOff x="0" y="533520"/>
            <a:chExt cx="9067680" cy="6264000"/>
          </a:xfrm>
        </p:grpSpPr>
        <p:sp>
          <p:nvSpPr>
            <p:cNvPr id="143" name=""/>
            <p:cNvSpPr/>
            <p:nvPr/>
          </p:nvSpPr>
          <p:spPr>
            <a:xfrm>
              <a:off x="1309680" y="533520"/>
              <a:ext cx="6005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Diagramma  delle  relazion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1447920"/>
              <a:ext cx="7858080" cy="26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ahoma"/>
                </a:rPr>
                <a:t>Costruzione  di  un  diagramma  delle  relazioni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it-IT" sz="2800" spc="-1" strike="noStrike">
                  <a:solidFill>
                    <a:srgbClr val="000000"/>
                  </a:solidFill>
                  <a:latin typeface="Tahoma"/>
                </a:rPr>
                <a:t>Scrivere i problemi in un’unica sched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it-IT" sz="2800" spc="-1" strike="noStrike">
                  <a:solidFill>
                    <a:srgbClr val="000000"/>
                  </a:solidFill>
                  <a:latin typeface="Tahoma"/>
                </a:rPr>
                <a:t>Collegare i problemi, quando possibile,</a:t>
              </a:r>
              <a:br>
                <a:rPr sz="2800"/>
              </a:br>
              <a:r>
                <a:rPr b="1" lang="it-IT" sz="2800" spc="-1" strike="noStrike">
                  <a:solidFill>
                    <a:srgbClr val="000000"/>
                  </a:solidFill>
                  <a:latin typeface="Tahoma"/>
                </a:rPr>
                <a:t>    con delle  frecc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57200" y="4343400"/>
              <a:ext cx="8238960" cy="2113200"/>
              <a:chOff x="457200" y="4343400"/>
              <a:chExt cx="8238960" cy="2113200"/>
            </a:xfrm>
          </p:grpSpPr>
          <p:sp>
            <p:nvSpPr>
              <p:cNvPr id="146" name=""/>
              <p:cNvSpPr/>
              <p:nvPr/>
            </p:nvSpPr>
            <p:spPr>
              <a:xfrm>
                <a:off x="457200" y="4343400"/>
                <a:ext cx="8238960" cy="21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La freccia in uscita da un problema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ahoma"/>
                  </a:rPr>
                  <a:t>(</a:t>
                </a:r>
                <a:r>
                  <a:rPr b="1" i="1" lang="en-US" sz="2400" spc="-1" strike="noStrike">
                    <a:solidFill>
                      <a:srgbClr val="ff3300"/>
                    </a:solidFill>
                    <a:latin typeface="Tahoma"/>
                  </a:rPr>
                  <a:t>P 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ahoma"/>
                  </a:rPr>
                  <a:t>)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 indica che esso è causa di altri problemi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La freccia in entrata indica che il problema è effetto di altri problemi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ahoma"/>
                  </a:rPr>
                  <a:t>( </a:t>
                </a:r>
                <a:r>
                  <a:rPr b="1" i="1" lang="en-US" sz="2400" spc="-1" strike="noStrike">
                    <a:solidFill>
                      <a:srgbClr val="ff3300"/>
                    </a:solidFill>
                    <a:latin typeface="Tahoma"/>
                  </a:rPr>
                  <a:t>      P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ahoma"/>
                  </a:rPr>
                  <a:t>):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 problemi effetto di altri sono secondar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424560" y="4600440"/>
                <a:ext cx="385920" cy="18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48000" y="5867280"/>
                <a:ext cx="385920" cy="18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0" y="6553080"/>
              <a:ext cx="9067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3T09:59:57Z</dcterms:created>
  <dc:creator/>
  <dc:description/>
  <dc:language>en-US</dc:language>
  <cp:lastModifiedBy>.</cp:lastModifiedBy>
  <dcterms:modified xsi:type="dcterms:W3CDTF">2003-01-17T08:39:03Z</dcterms:modified>
  <cp:revision>66</cp:revision>
  <dc:subject/>
  <dc:title>Presentazione di PowerPoint</dc:title>
</cp:coreProperties>
</file>